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D21-9AE9-4B89-AB18-0DC7A424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D02-DD4E-4E4B-9BB7-A47366A5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B35-1D4E-4228-8E53-42D52D4C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13A-336E-48E3-B11B-70844FDE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E418-0D05-4B3D-847F-DC821FBF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D946-536F-469C-B032-167F401C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035F-ED8B-4BF0-B412-656CC1F4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477E-5115-4CC5-A28C-529C2AC5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6721-6E7C-4449-BA94-24972D9D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5F0A-F629-48F5-850C-1CCF24FE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EC90-B6C3-4F7C-BC88-552BC1A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DAC-BC4F-4FBB-A019-11BDAC9E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6FBB-9390-4BCB-A9AB-51C0BFF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9BD8-2029-4776-9E0F-3D1BC3D6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F995-77E4-4E31-A9E3-1ED2B314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5076-05AC-4F7A-AB9C-50013C14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1224-3427-4C1F-994C-7818AFE0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B885-7405-4CB2-B986-FB0BDB39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8C9A-A25C-4188-81B4-DE306C20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93A7-4AC8-481A-BA52-385B45B1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B356-5C29-48F2-BF7D-ABC590EF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9ED9-3E5E-46A5-B6D3-B58A84D6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7CE-44AB-4A4B-9560-B3AA69FE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FE6B-A179-4566-873C-57EF4BE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D92C-ACB8-4FFE-A796-C84BE7B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4139-F84D-4480-8007-A074B5E7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BB29-200B-4A01-9E87-31DAFFF1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2F55-C0FC-4F79-B4EC-B6279E0B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AD1B-8A3E-4B75-AC60-F91D532B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9C5F-70A4-4318-84AE-486CBC24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DFDB-895D-4E24-8EE4-EC705F63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9FE64-3146-45F3-8581-9641AE2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C0AD-C0C2-4F50-A156-095578D0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42B-6DE8-443D-80CA-2C6AC159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5EDF-F01B-4F76-A9D6-6300AB89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BD85-253C-4AAF-BED2-7B84C78E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7BBA-4A86-41CA-A428-FECB921A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5053-FEA4-4E98-A0DC-ABF57BC8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D960-11A6-4309-A270-828E16C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E5AD-E636-4265-8C8A-0173C37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A5D2-7267-4D80-AD80-2AA6CC66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448E-4DE2-4B72-AE57-FD035872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67DC5-53C4-4E4B-A6A4-D9BC0186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B20A5-67B9-4011-9A48-BC2A402C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1D2-839C-4C71-B4AB-09CC866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1E78-7D70-4D29-B6AD-3EEA313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BA638-848E-4E7A-8C6F-990FF370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9236D-9767-4EA6-B7BC-133F6AE4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988B-E874-40A5-B97D-7B6815E0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8682-3593-46CA-8420-ACA7E8B5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319E7-A486-4D43-953F-9F182E53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D27BB-800F-4CFC-9A9C-8138F8D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E886-C314-4F4E-B356-12B4867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813B-258B-4707-8BB6-D15F1E25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B2A41-A7F5-4A1C-ACA3-735363A2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6BA-1EDE-409C-85E3-C3814FD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C441-E9F8-4F32-9473-4472EADF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7E3-5195-43E0-8B72-FFA5189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A04-1F44-4F38-8182-F04F4BD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084-F030-44F9-8CDE-A011A4B2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58B5DC-E944-422B-81F7-193C494C09E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8E08BE-B5F8-47FF-B2FA-4B2E20330F9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C6DB6B-6204-4833-A91C-D4932BF2D5D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E220AB-4DAD-470F-9A18-760541829D1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4F4068-6A2A-40EE-BFC2-BE23F121ACB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1" descr=""/>
          <p:cNvPicPr/>
          <p:nvPr/>
        </p:nvPicPr>
        <p:blipFill>
          <a:blip r:embed="rId1"/>
          <a:stretch/>
        </p:blipFill>
        <p:spPr>
          <a:xfrm>
            <a:off x="682560" y="171360"/>
            <a:ext cx="7785000" cy="2973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148360" y="4581360"/>
            <a:ext cx="350496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мянцева Юлия Александровна, учитель английского языка МБОУ сош №3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C:\Documents and Settings\Aleks\Мои документы\Мои рисунки\4b.gif"/>
          <p:cNvPicPr/>
          <p:nvPr/>
        </p:nvPicPr>
        <p:blipFill>
          <a:blip r:embed="rId2"/>
          <a:stretch/>
        </p:blipFill>
        <p:spPr>
          <a:xfrm rot="21300600">
            <a:off x="1044360" y="2692440"/>
            <a:ext cx="3082680" cy="3452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755640" y="333360"/>
            <a:ext cx="68230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мена видов работ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самостоятельная р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чтение, письм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слушание, ответы на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работа с учебником (устно и письменно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творческие зад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мозговой штурм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1" descr=""/>
          <p:cNvPicPr/>
          <p:nvPr/>
        </p:nvPicPr>
        <p:blipFill>
          <a:blip r:embed="rId1"/>
          <a:stretch/>
        </p:blipFill>
        <p:spPr>
          <a:xfrm>
            <a:off x="969840" y="298440"/>
            <a:ext cx="79423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1" descr=""/>
          <p:cNvPicPr/>
          <p:nvPr/>
        </p:nvPicPr>
        <p:blipFill>
          <a:blip r:embed="rId1"/>
          <a:stretch/>
        </p:blipFill>
        <p:spPr>
          <a:xfrm>
            <a:off x="969840" y="225360"/>
            <a:ext cx="79423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1" descr=""/>
          <p:cNvPicPr/>
          <p:nvPr/>
        </p:nvPicPr>
        <p:blipFill>
          <a:blip r:embed="rId1"/>
          <a:stretch/>
        </p:blipFill>
        <p:spPr>
          <a:xfrm>
            <a:off x="969840" y="225360"/>
            <a:ext cx="79423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1" descr=""/>
          <p:cNvPicPr/>
          <p:nvPr/>
        </p:nvPicPr>
        <p:blipFill>
          <a:blip r:embed="rId1"/>
          <a:stretch/>
        </p:blipFill>
        <p:spPr>
          <a:xfrm>
            <a:off x="969840" y="298440"/>
            <a:ext cx="79423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1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794376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468360" y="620640"/>
            <a:ext cx="741672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каждом уроке в любом классе необходимо в течение урока проводить физкультминутки, игровые паузы (драматизация диалогов, текстовых отрывков), зрительную гимнастику и, конечно, эмоциональную разгруз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уроках практикуютс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рядки для снятия мышечного утомления с пальцев при пись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These are mother's forks and knives (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альцы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беих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ук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 крещ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This is mother's table (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ображаем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толик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This is mother's looking glass ( изображаем зеркальце прихорашивающуюся мам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This is baby ' s cradle .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колыбелька для ребен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395280" y="620640"/>
            <a:ext cx="52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1116000" y="2114640"/>
            <a:ext cx="691200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пражнения для кисте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имнастика дл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имнастика для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пражнения корректирующие ос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ыхательная гимн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324000" y="692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1700280"/>
            <a:ext cx="5959800" cy="48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2.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3.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4.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826920" y="104760"/>
            <a:ext cx="7864560" cy="67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1" descr=""/>
          <p:cNvPicPr/>
          <p:nvPr/>
        </p:nvPicPr>
        <p:blipFill>
          <a:blip r:embed="rId1"/>
          <a:stretch/>
        </p:blipFill>
        <p:spPr>
          <a:xfrm>
            <a:off x="1139760" y="146160"/>
            <a:ext cx="7570800" cy="1261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684360" y="54936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Каждое учебное заведение помимо решения общепедагогических задач    должно соотносить учебную нагрузку и методы преподавания с возрастными и индивидуальными особенностями детей, содействовать охране и укреплению здоровья. Внедрение в учебный процесс здоровье сберегающих технологий позволяет добиться положительных изменений в состоянии здоровь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1" descr=""/>
          <p:cNvPicPr/>
          <p:nvPr/>
        </p:nvPicPr>
        <p:blipFill>
          <a:blip r:embed="rId1"/>
          <a:stretch/>
        </p:blipFill>
        <p:spPr>
          <a:xfrm>
            <a:off x="835200" y="225360"/>
            <a:ext cx="8137440" cy="1201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"/>
          <p:cNvSpPr/>
          <p:nvPr/>
        </p:nvSpPr>
        <p:spPr>
          <a:xfrm>
            <a:off x="395280" y="981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глийский язык в средней школе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ерьёзный и сложный предмет. На уроках учащимся приходится много запоминать, говорить, писать, читать, слушать и анализировать информацию, поэтому, учитель должен уделять особое внимание здоровье сберегающим технологи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1" descr=""/>
          <p:cNvPicPr/>
          <p:nvPr/>
        </p:nvPicPr>
        <p:blipFill>
          <a:blip r:embed="rId1"/>
          <a:stretch/>
        </p:blipFill>
        <p:spPr>
          <a:xfrm>
            <a:off x="1395360" y="268200"/>
            <a:ext cx="7577280" cy="1158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1" descr=""/>
          <p:cNvPicPr/>
          <p:nvPr/>
        </p:nvPicPr>
        <p:blipFill>
          <a:blip r:embed="rId1"/>
          <a:stretch/>
        </p:blipFill>
        <p:spPr>
          <a:xfrm>
            <a:off x="907920" y="12600"/>
            <a:ext cx="7570800" cy="153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1" descr=""/>
          <p:cNvPicPr/>
          <p:nvPr/>
        </p:nvPicPr>
        <p:blipFill>
          <a:blip r:embed="rId1"/>
          <a:stretch/>
        </p:blipFill>
        <p:spPr>
          <a:xfrm>
            <a:off x="1395360" y="60480"/>
            <a:ext cx="7577280" cy="15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Object 2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6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Коля</cp:lastModifiedBy>
  <dcterms:modified xsi:type="dcterms:W3CDTF">2012-10-05T07:07:47Z</dcterms:modified>
  <cp:revision>15</cp:revision>
  <dc:subject/>
  <dc:title>Презентация PowerPoint</dc:title>
</cp:coreProperties>
</file>