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17F5-3A9E-4936-B5E7-8E52D2338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DB5E-C217-40AF-9DB5-D12313D0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2ADA-6D55-49A9-B5A5-9ED22C21C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E475-AEBA-4A63-9E0D-E48FC9185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B1042-D874-4DB7-83B1-4A8639E89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15081-A4DB-4F74-AA6F-0552A0CE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D9C3-17A3-4D7C-8D3B-ACD5AAC4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485E-D245-4E61-90C2-10784628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4EFB-AF7E-4061-B8BD-E15567CB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6D87-C8B8-4D91-BE80-F5DD92F3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0D50-3EDA-4C91-BC2E-78AB9881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7428-4418-43AD-B805-BFDF91BF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B904D-0B16-426D-911C-A5770C7D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757E-CA2A-4E00-B8ED-E9807D9B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3B32-B744-4CBD-BB0A-8FE53A22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C3A4C-95CA-4E83-BBB4-E33E67E5F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4A11-D783-47FD-AEE6-58B54C583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706FF-CD52-487B-9E2E-F6ACCB08F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A383E-73B5-42F3-A630-95D3DF65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95200-9302-48FB-9233-FABCB056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E80FB-E358-4E43-B79B-6CBC43B3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F0ABC-D773-4BD7-9830-E59A6BA6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7369-306A-4AD8-9ED6-34EC366A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3773F-E136-4777-A601-98B79249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2D90D-9A58-40E6-9677-68AF7A73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ACEDF-8D71-4926-BDE1-EA779090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5EA02-04C9-40D7-9859-9095D222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5BC08-E47D-4885-AF7B-613E8C3F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11FB4-C90A-4F1B-BB9A-DFCB48B60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2097B-CA3E-4F9C-BDDC-1F56201D3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83506-C5EC-446D-9B1A-539D7C1A7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40E6B-2003-42FA-9B3D-675625BB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FE01F-3B74-42F8-8416-0B778604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21EB-CC0F-49C6-AC50-6CBBF2CD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F6BFF-C0FB-4284-AF29-6CBD9FBC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E4C68-61C0-4E3B-BE31-1AA59503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23D8A-56BB-4ED3-842F-C54A3AE3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FBB66-AB89-41D0-B8AC-88A0D39A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591CA-1374-48E8-A24B-67E0A0CF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F09F0-1A5B-44B7-9898-65A9D1F0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5DDC7-4E55-45E8-8CAA-70472133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95371-2FDD-4057-B439-18DA07B21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D2FCB-C4DE-4059-A6CC-3912B3D5B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3C67E-0B5D-4EB1-BFD9-962CF428A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B444-39BC-4968-AA04-70CAF8B3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FEB55-E308-4FE3-9AC5-AD9B882B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40536-4E8F-4224-A479-23FF9011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14C1B-E524-4611-A576-A7A7A36E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B63CD-8922-4F3F-B376-61BD683B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52EDE-2CF9-4D11-9BC4-607FBABC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395E3-C02F-464C-9F40-C0F0EB1F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EE59A-5867-4727-A087-F760A35D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8D760-24B3-4E3C-91F6-E4C5312D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D39F6-6930-4FB2-B50C-13D910D7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49EE3-19C4-4203-8136-7F1A7A5A5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3B03-7DD7-47B3-BB85-6644C31A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606A6-54A5-405C-8F78-B8A13E4A3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AEB2-E3FE-4E5C-8D16-03D6EECF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4C1F-CB45-4365-9BC7-55355626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1CB3-B4B7-401B-98DA-2362A8EF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76C7719-7D7D-4AD1-9142-5EF61C7B4E1B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0B7E668-40C9-48DB-A4AF-EAA53306051C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F5006D1-5E43-4473-9D35-98C7F36FB8A5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5AF2DAC-FC65-4CAB-8EE7-FE0953A5FC2F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23CF8E8-7FB7-4116-B89B-B5D9F82C25B2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Rectangle 1" descr=""/>
          <p:cNvPicPr/>
          <p:nvPr/>
        </p:nvPicPr>
        <p:blipFill>
          <a:blip r:embed="rId1"/>
          <a:stretch/>
        </p:blipFill>
        <p:spPr>
          <a:xfrm>
            <a:off x="682560" y="171360"/>
            <a:ext cx="7785000" cy="29736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5148360" y="4581360"/>
            <a:ext cx="350496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тор: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умянцева Юлия Александровна, учитель английского языка МБОУ сош №30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7" name="Picture 2" descr="C:\Documents and Settings\Aleks\Мои документы\Мои рисунки\4b.gif"/>
          <p:cNvPicPr/>
          <p:nvPr/>
        </p:nvPicPr>
        <p:blipFill>
          <a:blip r:embed="rId2"/>
          <a:stretch/>
        </p:blipFill>
        <p:spPr>
          <a:xfrm rot="21300600">
            <a:off x="1044360" y="2692440"/>
            <a:ext cx="3082680" cy="3452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8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2"/>
          <p:cNvSpPr/>
          <p:nvPr/>
        </p:nvSpPr>
        <p:spPr>
          <a:xfrm>
            <a:off x="755640" y="333360"/>
            <a:ext cx="6823080" cy="61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Смена видов работ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  <a:ea typeface="Times New Roman"/>
              </a:rPr>
              <a:t>самостоятельная работ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  <a:ea typeface="Times New Roman"/>
              </a:rPr>
              <a:t>чтение, письм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  <a:ea typeface="Times New Roman"/>
              </a:rPr>
              <a:t>слушание, ответы на вопрос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d0d0d"/>
                </a:solidFill>
                <a:latin typeface="Calibri"/>
                <a:ea typeface="Times New Roman"/>
              </a:rPr>
              <a:t>работа с учебником (устно и письменно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  <a:ea typeface="Times New Roman"/>
              </a:rPr>
              <a:t>творческие зада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  <a:ea typeface="Times New Roman"/>
              </a:rPr>
              <a:t>“</a:t>
            </a:r>
            <a:r>
              <a:rPr b="0" lang="ru-RU" sz="3200" spc="-1" strike="noStrike">
                <a:solidFill>
                  <a:srgbClr val="0d0d0d"/>
                </a:solidFill>
                <a:latin typeface="Calibri"/>
                <a:ea typeface="Times New Roman"/>
              </a:rPr>
              <a:t>мозговой штурм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7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9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10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8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1" descr=""/>
          <p:cNvPicPr/>
          <p:nvPr/>
        </p:nvPicPr>
        <p:blipFill>
          <a:blip r:embed="rId1"/>
          <a:stretch/>
        </p:blipFill>
        <p:spPr>
          <a:xfrm>
            <a:off x="969840" y="298440"/>
            <a:ext cx="794232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1295280" y="1905120"/>
          <a:ext cx="7392960" cy="365256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1373400"/>
                <a:gridCol w="1523880"/>
                <a:gridCol w="1295280"/>
              </a:tblGrid>
              <a:tr h="13618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-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ональ-ный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-но рацио-н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ацио-н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06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видов учебной деятель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учебной деятельности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прос,письмо,чтение,слуша-ние,рассказ, ответы на вопросы,рас- сматривание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ы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Rectangle 1" descr=""/>
          <p:cNvPicPr/>
          <p:nvPr/>
        </p:nvPicPr>
        <p:blipFill>
          <a:blip r:embed="rId1"/>
          <a:stretch/>
        </p:blipFill>
        <p:spPr>
          <a:xfrm>
            <a:off x="969840" y="225360"/>
            <a:ext cx="7942320" cy="115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7" name=""/>
          <p:cNvGraphicFramePr/>
          <p:nvPr/>
        </p:nvGraphicFramePr>
        <p:xfrm>
          <a:off x="1295280" y="1905120"/>
          <a:ext cx="7392960" cy="365256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1373400"/>
                <a:gridCol w="1523880"/>
                <a:gridCol w="1295280"/>
              </a:tblGrid>
              <a:tr h="13618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-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ональ-ный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-но рацио-н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ацио-н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06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более 10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-15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Text Box 40"/>
          <p:cNvSpPr/>
          <p:nvPr/>
        </p:nvSpPr>
        <p:spPr>
          <a:xfrm>
            <a:off x="1355760" y="3419640"/>
            <a:ext cx="13874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редняя продолжи- тельность и частота чередова-ния видов деятельно-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Rectangle 1" descr=""/>
          <p:cNvPicPr/>
          <p:nvPr/>
        </p:nvPicPr>
        <p:blipFill>
          <a:blip r:embed="rId1"/>
          <a:stretch/>
        </p:blipFill>
        <p:spPr>
          <a:xfrm>
            <a:off x="969840" y="225360"/>
            <a:ext cx="7942320" cy="115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0" name=""/>
          <p:cNvGraphicFramePr/>
          <p:nvPr/>
        </p:nvGraphicFramePr>
        <p:xfrm>
          <a:off x="1295280" y="1905120"/>
          <a:ext cx="7392960" cy="388908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1373400"/>
                <a:gridCol w="1523880"/>
                <a:gridCol w="1295280"/>
              </a:tblGrid>
              <a:tr h="13618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-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ональ-ный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-но рацио-н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ацио-н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20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видов пре-пода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препода- вания: словесный, наглядный, самостоятель-ная или практическая работа, аудиовизуаль- 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мене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Rectangle 1" descr=""/>
          <p:cNvPicPr/>
          <p:nvPr/>
        </p:nvPicPr>
        <p:blipFill>
          <a:blip r:embed="rId1"/>
          <a:stretch/>
        </p:blipFill>
        <p:spPr>
          <a:xfrm>
            <a:off x="969840" y="298440"/>
            <a:ext cx="794232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"/>
          <p:cNvGraphicFramePr/>
          <p:nvPr/>
        </p:nvGraphicFramePr>
        <p:xfrm>
          <a:off x="1295280" y="1905120"/>
          <a:ext cx="7392960" cy="384948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1373400"/>
                <a:gridCol w="1523880"/>
                <a:gridCol w="1295280"/>
              </a:tblGrid>
              <a:tr h="13618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-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ональ-ный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-но рацио-н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ацио-н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760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дова-ние видов преподава-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тность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времени, затраченное школьником на рабо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позже, чем через 10-15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менее 60% и не боле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-8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з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-20 мин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-90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череду-ют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Line 40"/>
          <p:cNvSpPr/>
          <p:nvPr/>
        </p:nvSpPr>
        <p:spPr>
          <a:xfrm>
            <a:off x="1295280" y="4191120"/>
            <a:ext cx="7391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Rectangle 1" descr=""/>
          <p:cNvPicPr/>
          <p:nvPr/>
        </p:nvPicPr>
        <p:blipFill>
          <a:blip r:embed="rId1"/>
          <a:stretch/>
        </p:blipFill>
        <p:spPr>
          <a:xfrm>
            <a:off x="895320" y="225360"/>
            <a:ext cx="7943760" cy="115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"/>
          <p:cNvGraphicFramePr/>
          <p:nvPr/>
        </p:nvGraphicFramePr>
        <p:xfrm>
          <a:off x="1295280" y="1905120"/>
          <a:ext cx="7392960" cy="394020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1373400"/>
                <a:gridCol w="1523880"/>
                <a:gridCol w="1295280"/>
              </a:tblGrid>
              <a:tr h="13618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-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ональ-ный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-но рацио-н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ацио-н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832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20 и 35 минуте по 1 минуте из 3-х легких упражне-ний с 3-4 повторе-ниями каждог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физкульт-минутка с неправиль-ным содер- жанием или продолжи- тельность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сутст-ву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Text Box 40"/>
          <p:cNvSpPr/>
          <p:nvPr/>
        </p:nvSpPr>
        <p:spPr>
          <a:xfrm>
            <a:off x="1295280" y="3276720"/>
            <a:ext cx="15242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личие, место, содержание и продолжи- тельность на уроке моментов оздоровле-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1"/>
          <p:cNvSpPr/>
          <p:nvPr/>
        </p:nvSpPr>
        <p:spPr>
          <a:xfrm>
            <a:off x="2743200" y="3352680"/>
            <a:ext cx="1768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зкультми-нутки, динами-ческие паузы, гимнастика для глаз, массаж активных точе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3"/>
          <p:cNvSpPr/>
          <p:nvPr/>
        </p:nvSpPr>
        <p:spPr>
          <a:xfrm>
            <a:off x="468360" y="620640"/>
            <a:ext cx="7416720" cy="62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каждом уроке в любом классе необходимо в течение урока проводить физкультминутки, игровые паузы (драматизация диалогов, текстовых отрывков), зрительную гимнастику и, конечно, эмоциональную разгруз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На уроках практикуются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рядки для снятия мышечного утомления с пальцев при письм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These are mother's forks and knives (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пальцы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обеих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рук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с крещен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   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This is mother's table (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изображаем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столик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   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This is mother's looking glass ( изображаем зеркальце прихорашивающуюся мам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   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This is baby ' s cradle .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(колыбелька для ребенка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6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6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1"/>
          <p:cNvSpPr/>
          <p:nvPr/>
        </p:nvSpPr>
        <p:spPr>
          <a:xfrm>
            <a:off x="395280" y="620640"/>
            <a:ext cx="521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физкультмину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2"/>
          <p:cNvSpPr/>
          <p:nvPr/>
        </p:nvSpPr>
        <p:spPr>
          <a:xfrm>
            <a:off x="1116000" y="2114640"/>
            <a:ext cx="6912000" cy="29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Упражнения для снятия общего или локального утом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Упражнения для кистей ру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Гимнастика для гл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Гимнастика для слу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Упражнения корректирующие осан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Дыхательная гимнаст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1"/>
          <p:cNvSpPr/>
          <p:nvPr/>
        </p:nvSpPr>
        <p:spPr>
          <a:xfrm>
            <a:off x="324000" y="692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ебования к проведению физкультмину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2"/>
          <p:cNvSpPr/>
          <p:nvPr/>
        </p:nvSpPr>
        <p:spPr>
          <a:xfrm>
            <a:off x="826920" y="1700280"/>
            <a:ext cx="5959800" cy="48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лексы подбираются в зависимости от   вида урока, его содерж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жнения должны быть разнообразны, так   как однообразие снижает интерес к ним, а следовательно, и их результатив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зкультминутки должны проводиться на начальном этапе утомления, выполнение упражнений при сильном утомлении не дает желаемого результ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почтение нужно отдавать упражнениям для утомленных групп мыш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жно обеспечить позитивный эмоциональный настр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Ковалько В.И. «Здоровьесберегающие технологии в школе. 1-4 классы.».,Москва, Издательство «Вако»,2005 г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 2. Смирнов Н.К. «Здоровьесберегающие образовательные технологии в современной школе»., Москва, Издательство «АПК и ПРО», 2002 г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 3. Советова Е.В. «Эффективные образовательные технологии»., Ростов н/Д, Издательство «Феникс», 2007 г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 4. http://www.openclass.ru/io/9/kostenko   Костенко Л.В. «Здоровье сберегающие технологии в школе»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826920" y="104760"/>
            <a:ext cx="7864560" cy="67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Забота о здоровье – это важнейший труд воспитателя. От жизнедеятельности, бодрости детей зависит их духовная жизнь, мировоззрение, умственное развитие, прочность знаний, вера в свои силы…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.А.Сухомлинск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2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Rectangle 1" descr=""/>
          <p:cNvPicPr/>
          <p:nvPr/>
        </p:nvPicPr>
        <p:blipFill>
          <a:blip r:embed="rId1"/>
          <a:stretch/>
        </p:blipFill>
        <p:spPr>
          <a:xfrm>
            <a:off x="1139760" y="146160"/>
            <a:ext cx="7570800" cy="12618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2"/>
          <p:cNvSpPr/>
          <p:nvPr/>
        </p:nvSpPr>
        <p:spPr>
          <a:xfrm>
            <a:off x="1371600" y="2362320"/>
            <a:ext cx="730872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bbe0e3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доровьесберегающие образовательные технологии – это системный подход к обучению и воспитанию, построенный на стремлении педагога не нанести ущерб здоровью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Прямоугольник 1"/>
          <p:cNvSpPr/>
          <p:nvPr/>
        </p:nvSpPr>
        <p:spPr>
          <a:xfrm>
            <a:off x="684360" y="549360"/>
            <a:ext cx="7848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Каждое учебное заведение помимо решения общепедагогических задач    должно соотносить учебную нагрузку и методы преподавания с возрастными и индивидуальными особенностями детей, содействовать охране и укреплению здоровья. Внедрение в учебный процесс здоровье сберегающих технологий позволяет добиться положительных изменений в состоянии здоровья школь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Rectangle 1" descr=""/>
          <p:cNvPicPr/>
          <p:nvPr/>
        </p:nvPicPr>
        <p:blipFill>
          <a:blip r:embed="rId1"/>
          <a:stretch/>
        </p:blipFill>
        <p:spPr>
          <a:xfrm>
            <a:off x="835200" y="225360"/>
            <a:ext cx="8137440" cy="12016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2"/>
          <p:cNvSpPr/>
          <p:nvPr/>
        </p:nvSpPr>
        <p:spPr>
          <a:xfrm>
            <a:off x="1143000" y="1905120"/>
            <a:ext cx="8001000" cy="37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физическом пла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здоровье позволяет ему справляться с учебной нагрузкой, ребенок умеет преодолевать усталость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социальном пла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он коммуникабелен, общителен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эмоциональном пла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ребенок уравновешен, способен удивляться и восхищатьс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интеллектуальном пла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учащийся проявляет хорошие умственные способности, наблюдательность, воображение, самообучаемость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нравственном пла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он признает основные общечеловеческие цен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6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6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2"/>
          <p:cNvSpPr/>
          <p:nvPr/>
        </p:nvSpPr>
        <p:spPr>
          <a:xfrm>
            <a:off x="395280" y="98100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Английский язык в средней школе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- серьёзный и сложный предмет. На уроках учащимся приходится много запоминать, говорить, писать, читать, слушать и анализировать информацию, поэтому, учитель должен уделять особое внимание здоровье сберегающим технология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Rectangle 1" descr=""/>
          <p:cNvPicPr/>
          <p:nvPr/>
        </p:nvPicPr>
        <p:blipFill>
          <a:blip r:embed="rId1"/>
          <a:stretch/>
        </p:blipFill>
        <p:spPr>
          <a:xfrm>
            <a:off x="1395360" y="268200"/>
            <a:ext cx="7577280" cy="115884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2"/>
          <p:cNvSpPr/>
          <p:nvPr/>
        </p:nvSpPr>
        <p:spPr>
          <a:xfrm>
            <a:off x="1143000" y="1828800"/>
            <a:ext cx="7543800" cy="38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 навред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!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оритет заботы о здоровье учителя и учащег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прерывность и преемственность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убьек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убьективные взаимоотнош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ответствие содержания и организации обучения возрастным особенностям усащихся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мплексный, междисциплинарный подход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спех порождает успех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ктив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ветственность за свое здоровье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Rectangle 1" descr=""/>
          <p:cNvPicPr/>
          <p:nvPr/>
        </p:nvPicPr>
        <p:blipFill>
          <a:blip r:embed="rId1"/>
          <a:stretch/>
        </p:blipFill>
        <p:spPr>
          <a:xfrm>
            <a:off x="907920" y="12600"/>
            <a:ext cx="7570800" cy="1535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8" name="Object 2"/>
          <p:cNvGraphicFramePr/>
          <p:nvPr/>
        </p:nvGraphicFramePr>
        <p:xfrm>
          <a:off x="1676520" y="1527120"/>
          <a:ext cx="6705360" cy="440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527120"/>
                    <a:ext cx="6705360" cy="44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edg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1" descr=""/>
          <p:cNvPicPr/>
          <p:nvPr/>
        </p:nvPicPr>
        <p:blipFill>
          <a:blip r:embed="rId1"/>
          <a:stretch/>
        </p:blipFill>
        <p:spPr>
          <a:xfrm>
            <a:off x="1395360" y="60480"/>
            <a:ext cx="7577280" cy="153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1" name="Object 2"/>
          <p:cNvGraphicFramePr/>
          <p:nvPr/>
        </p:nvGraphicFramePr>
        <p:xfrm>
          <a:off x="1295280" y="1646280"/>
          <a:ext cx="7467840" cy="406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646280"/>
                    <a:ext cx="7467840" cy="40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edg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6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6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6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6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6T07:52:28Z</dcterms:created>
  <dc:creator>olga</dc:creator>
  <dc:description/>
  <dc:language>en-US</dc:language>
  <cp:lastModifiedBy>Коля</cp:lastModifiedBy>
  <dcterms:modified xsi:type="dcterms:W3CDTF">2012-10-05T07:07:47Z</dcterms:modified>
  <cp:revision>15</cp:revision>
  <dc:subject/>
  <dc:title>Презентация PowerPoint</dc:title>
</cp:coreProperties>
</file>