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118C18-E564-4E8A-B625-4FF3775C2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B9E153-A7A2-490F-BDA1-B17179F38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4D282C-6B89-4378-8405-87A39116E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264272-3B12-4D12-BF06-47C7E9F7F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D68FB-E97B-4535-B3C5-B2B0ED6E4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1D1FF-38C2-4013-8C60-4F1B34F56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1553F-D13D-4CF0-94F0-985471BD4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883D9-DEA6-4BEC-AB92-5C1274895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2DF6B-9C29-409D-AFFC-3D803033B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434D0-59BD-4B2D-9EF7-ADB966F77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BB17C-74F0-491A-A10C-F230766CE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0AC5F7-614F-4D89-9B2F-FB84C2F0B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A8F14-4EDF-4EAC-83E3-1F6A48053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85572-031E-4008-BD54-8029EFE52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53657-2D0D-47F8-8043-F56F92367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B4E70-357C-434D-9253-EE2C35EDD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09932-33CC-43BE-81D1-538E46463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B48CE5-14D5-455C-9A51-99ACD0A54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C78172-775D-4FFE-8192-CDB264B8F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80DA11-2B06-4E2E-A762-4A73B9D6C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A93461-DDF3-4C1C-87F8-E493B9333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8D0CC9-A5F2-4110-836D-4574DDDEA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2FC44A-73F7-4070-B844-21C435D20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9454EA-6BEA-41A6-8C2C-DED88F495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90F17-D68B-457B-AAC0-3935C4D3923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B6E20-8F62-4571-BEFD-E0DA1E5F168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Garamond"/>
              </a:rPr>
              <a:t>Диагностика качеств личности специалистов ЦПМСС «Лабиринт».</a:t>
            </a:r>
            <a:br>
              <a:rPr sz="3600"/>
            </a:b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Педагог-психолог: Митюхина Н.П.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Дата проведения 22.11.2011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Проблема нравственности в зарубежной психологии 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В рамках психодинамической теории З. Фрейда мораль рассматривается как нечто навязываемое обществом.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Аналитическая теория личности К.Г. Юнга тоже большое внимание уделяет бессознательным мотивам, добавляя понятие коллективного бессознательного.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Гуманистическая теория личности (К. Роджерс, А. Маслоу, В. Франкл) главным в человеке считает врождённые тенденции к самоактуализации, к полному проявлению своих творческих потенций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Поведенческая теория (бихевиоризм) (Б. Скиннер, Э.Ч. Толмен; Дж. Локк и др.) рассматривает личность как систему, состоящую из социальных навыков и условных рефлексов, с одной стороны, и из внутренних факторов: самоэффективности, значимости и доступности вознаграждения — с другой.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В димензиональной онтологии В. Франкла нравственность видится как нечто присущее только человеку и только в ней человек и удостоверяет своё бытие: человек «поднимаясь над уровнем соматического и психического, вступает в сферу чисто человеческого.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Э. Эриксон писал, что формирование «этической способности» у молодежи становится «истинным критерием идентичности», а «формирование общечеловеческой идентичности – абсолютной необходимостью»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И. Кант выделил нравственную способность человека подняться над миром необходимости, жестокости, стихийности и самому определить свое поведение по высшим законам человечества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Проблема нравственности в отечественной психологии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С.Л. Рубинштейн рассматривает нравственность, добродетель не как находящееся над реальностью, вне действительной жизни, но как нормальное, свойственное человеку: «Смысл этики состоит в том, чтобы... открыть глаза человеку на богатство его душевного содержания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Б.С. Братусь рассматривает нравственность в связи с уровнем структуры личности, исходя из которого строятся отношения к другому человеку и самому себе. Собственно нравственность появляется на третьем, просоциальном (гуманистическом), уровне, когда человек считает себя частью всего человечества, а потому относится к каждому человеку в соответствии с «золотым правилом». Его деятельность направляется не только собственным благом и благом группы, но пользой всем людям, даже незнакомым, а в пределе — человечеству в целом.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В.В. Знаков отмечает, что в большинстве этических учений нравственность отождествляют с моралью: «Нравственность – понятие, являющееся синонимом морали. Вместе с тем, для многих исследователей очевидно, что нужно различать мораль как форму общественного сознания (систему норм, требований к правилам поведения в межличностных отношениях, предъявляемых человеку обществом) и нравственность как характеристику психологической структуры личности (отвергающей или принимающей эти требования, осознающей их необходимость и испытывающей внутреннюю потребность в исполнении моральных норм, следовании им)»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Согласно Л.Н. Антилоговой, ядром нравственного сознания являются нравственные убеждения и  ценности, ценностные ориентации, содержанием – нравственные качества и способности, нравственные потребности и  мотивы (направленность, значимость, активность, знаковость, установка, волевые свойства, рефлексивность). Антилогова пишет, что индивидуальное нравственное сознание личности - это интегральное личностное образование, отражающее с позиций добра и зла мир моральных ценностей, ориентирующее индивида на гуманное отношение к людям. Нравственные способности она определяет как индивидуально - психологические особенности личности, которые выражают готовность личности к моральному выбору между добром и злом в повседневной жизни и к установлению моральных взаимоотношений между людьми в процессе любой деятельности и жизнедеятельности в целом. Они определяют специфику поведения человека, выражающуюся в его желании и умении делать добро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Garamond"/>
              </a:rPr>
              <a:t>Д.В. Колесов считает, что в сферу нравственной регуляции деятельности входит и отношение человека к самому себе.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3200" spc="-1" strike="noStrike" u="sng">
                <a:solidFill>
                  <a:srgbClr val="ffffff"/>
                </a:solidFill>
                <a:uFillTx/>
                <a:latin typeface="Garamond"/>
              </a:rPr>
              <a:t>четыре основания нравственности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1) правильно сформированная потребность человека в другом человеке, реализующаяся путем общения (в основе лежат механизмы идентификации и эмпатии);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2) сознание общности всех людей;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3) сформированный с детства эмоционально насыщенный образ родного дома;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4) наличие эмоционально-насыщенного и хорошо сформированного представления о своем жизненном пути как целостности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e5e5ff"/>
                </a:solidFill>
                <a:latin typeface="Arial"/>
              </a:rPr>
              <a:t>Схематическое представление соотношения понятий морали и нравственности</a:t>
            </a:r>
            <a:r>
              <a:rPr b="1" lang="en-US" sz="3600" spc="-1" strike="noStrike">
                <a:solidFill>
                  <a:srgbClr val="e5e5ff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4444" r="0" b="0"/>
          <a:stretch/>
        </p:blipFill>
        <p:spPr>
          <a:xfrm>
            <a:off x="1403280" y="1844640"/>
            <a:ext cx="64245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Таким образом: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Нравственность - это внутренние, духовные качества, которыми руководствуется человек, относящиеся к сознанию, внутренней жизни человека;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Мораль - правила нравственности, нравственные нормы поведения, особая форма общественного сознания и вид общественных отношений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Выбор исследуемых характеристик определялся содержанием в них морально-нравственного компонента, отражающего степень добродетельности личности, ее человечности и нравственности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8" name=""/>
          <p:cNvGraphicFramePr/>
          <p:nvPr/>
        </p:nvGraphicFramePr>
        <p:xfrm>
          <a:off x="324000" y="549360"/>
          <a:ext cx="8234280" cy="5305320"/>
        </p:xfrm>
        <a:graphic>
          <a:graphicData uri="http://schemas.openxmlformats.org/drawingml/2006/table">
            <a:tbl>
              <a:tblPr/>
              <a:tblGrid>
                <a:gridCol w="4989600"/>
                <a:gridCol w="1522440"/>
                <a:gridCol w="1506960"/>
                <a:gridCol w="216000"/>
              </a:tblGrid>
              <a:tr h="5205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1047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ЦЕНИВАЕМЫЕ КАЧЕСТВА ЛИЧНОСТ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ПЕЦИАЛИСТЫ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алл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ровень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gridSpan="4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РАЖДАНСКИЕ КАЧЕСТВА - 7,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уманизм, любовь к детям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,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ысоки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атриотизм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,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редни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зависимость убеждени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,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редни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инципиальность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редни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праведливость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,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редни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оциальная активность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,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редни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Чувство долг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,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ысоки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9" name=""/>
          <p:cNvGraphicFramePr/>
          <p:nvPr/>
        </p:nvGraphicFramePr>
        <p:xfrm>
          <a:off x="611280" y="1844640"/>
          <a:ext cx="7812000" cy="4140360"/>
        </p:xfrm>
        <a:graphic>
          <a:graphicData uri="http://schemas.openxmlformats.org/drawingml/2006/table">
            <a:tbl>
              <a:tblPr/>
              <a:tblGrid>
                <a:gridCol w="4797360"/>
                <a:gridCol w="1038240"/>
                <a:gridCol w="1976400"/>
              </a:tblGrid>
              <a:tr h="520560"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УХОВНО-НРАВСТВЕННЫЕ КАЧЕСТВА -- 7,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еликодуши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,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редни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оброжелательность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,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ысоки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важительность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,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ысоки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актичность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,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редни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опереживани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ысоки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нимательность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редни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овестливость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,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редни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611280" y="549360"/>
          <a:ext cx="7848360" cy="1164960"/>
        </p:xfrm>
        <a:graphic>
          <a:graphicData uri="http://schemas.openxmlformats.org/drawingml/2006/table">
            <a:tbl>
              <a:tblPr/>
              <a:tblGrid>
                <a:gridCol w="4897800"/>
                <a:gridCol w="1494720"/>
                <a:gridCol w="1455840"/>
              </a:tblGrid>
              <a:tr h="5205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ЦЕНИВАЕМЫЕ КАЧЕСТВА ЛИЧНОСТ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ПЕЦИАЛИСТЫ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4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алл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ровень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1" name=""/>
          <p:cNvGraphicFramePr/>
          <p:nvPr/>
        </p:nvGraphicFramePr>
        <p:xfrm>
          <a:off x="539640" y="1844640"/>
          <a:ext cx="8209080" cy="4140360"/>
        </p:xfrm>
        <a:graphic>
          <a:graphicData uri="http://schemas.openxmlformats.org/drawingml/2006/table">
            <a:tbl>
              <a:tblPr/>
              <a:tblGrid>
                <a:gridCol w="5311800"/>
                <a:gridCol w="965520"/>
                <a:gridCol w="1931760"/>
              </a:tblGrid>
              <a:tr h="520560"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II. ИНТЕЛЛЕКТУАЛЬНЫЕ КАЧЕСТВА - 7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пособность понять другог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,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редни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ерпимость к инакомыслию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,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редни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амокритичность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,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редни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пособность к саморазвитию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ысоки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ворческая активность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редни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Эрудированность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редни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пособность к самоанализу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,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редни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2" name=""/>
          <p:cNvSpPr/>
          <p:nvPr/>
        </p:nvSpPr>
        <p:spPr>
          <a:xfrm>
            <a:off x="0" y="4646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684360" y="620640"/>
          <a:ext cx="8028000" cy="1164960"/>
        </p:xfrm>
        <a:graphic>
          <a:graphicData uri="http://schemas.openxmlformats.org/drawingml/2006/table">
            <a:tbl>
              <a:tblPr/>
              <a:tblGrid>
                <a:gridCol w="5010120"/>
                <a:gridCol w="1528920"/>
                <a:gridCol w="1488960"/>
              </a:tblGrid>
              <a:tr h="5205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ЦЕНИВАЕМЫЕ КАЧЕСТВА ЛИЧНОСТ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ПЕЦИАЛИСТЫ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4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алл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ровень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Albertus"/>
              </a:rPr>
              <a:t>«Весь мир ничто в сравнении  с человеческой личностью, с единственным лицом человека, с единственной его судьбой»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Albertus"/>
              </a:rPr>
              <a:t>(Н.А. Бердяев)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Albertus"/>
              </a:rPr>
              <a:t>«Человек во всей полноте своей есть … творчески-свободный дух»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Albertus"/>
              </a:rPr>
              <a:t>(Б.П. Вышеславцев)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 настоящее время многие ученые (Л.М. Аболин, К.А. Абульханова, Г.А. Аминев, В И. Андреев, С.К. Бондырева, Д.В. Колесов, А.В. Брушлинский, В.В. Давыдов, В.П. Зинченко, Л.М. Попов и др.), отмечают рост интереса к проблемам морально-нравственного развития личности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Новейший философский словарь / Сост. А.А. Грицанов.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«Мораль [фр. morale, лат. morālis – нравственный] – правила нравственности, нравственные нормы поведения, отношений с людьми, а также сама нравственность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Мораль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(от лат. moralis – нравственный) – особая форма общественного сознания и вид общественных отношений (моральные отношения); один из основных способов регуляции действий человека в обществе с помощью норм»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Философский энциклопедический словарь. / Под ред. Л.Ф. Ильичев, П.Н. Федосеев и др.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«Мора́ль (лат. moralis – касающийся нравов) – один из основных способов нормативной регуляции действий человека». Мораль охватывает нравственные взгляды и чувства, жизненные ориентации и принципы, цели и мотивы поступков и отношений, проводя границу между добром и злом, совестливостью и бессовестностью, честью и бесчестием, справедливостью и несправедливостью, нормой и ненормальностью, милосердием и жестокостью и т.д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Термин «нравственность» происходит из древнеславянского языка, где он  стал производным от термина «нравы», обозначающего обычаи, утвердившиеся в народе. В России слово «нравственность» определяется уже в «Словаре Академии Российской», вышедшем в 1793 году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Нравственный смысл жизни человека состоит в служении Добру, поскольку «…существенная норма для жизни человеческой, есть Добро само по себе»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В.С. Соловьев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Новейший философский словарь / Сост. А.А. Грицанов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нравственность как совокупность норм, определенного поведения человека. Нравственный – соблюдающий нормы человеческого поведения, требования морали, относящийся к внутренней, духовной жизни человека;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внутренние, духовные качества, которыми руководствуется человек, этические нормы; правила поведения, определяемые этими качествами. Нравственный – относящийся к сознанию, внутренней жизни человека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5T04:46:40Z</dcterms:created>
  <dc:creator>user</dc:creator>
  <dc:description/>
  <dc:language>en-US</dc:language>
  <cp:lastModifiedBy>user</cp:lastModifiedBy>
  <dcterms:modified xsi:type="dcterms:W3CDTF">2011-11-25T05:27:17Z</dcterms:modified>
  <cp:revision>3</cp:revision>
  <dc:subject/>
  <dc:title>Диагностика качеств личности специалистов ЦПМСС «Лабиринт». </dc:title>
</cp:coreProperties>
</file>