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7C18-83E7-4FD9-91B7-303964A0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C322-B55F-4263-B22F-6D8C89E0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50EA-F946-4887-A311-55D99F06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C762-0287-4E2F-897C-DDEE60A4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19EF-F782-408B-9A03-F3CF4D3F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2994-4037-4DF1-A910-A72C157D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A057-885D-41B2-AC4C-61C4782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AAEA-F622-48B5-9287-9CE749F9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BE15-9179-4FC5-B344-1E59830B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59E9-CFFF-496B-AAF8-3C90194D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684E-DA39-44E6-BAB9-DE39568F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CC0A-8AA1-4FE1-8823-6F1CE99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79A9-0EDC-4F87-BC71-808958F4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9327-7C7F-4DD2-B083-5749B9B1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F9B4-4BD2-4403-B3FB-8366F8E1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8EA-F6D5-48A2-B61C-275963A2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078C-57A2-4F1B-96E1-D7094651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F889-61CF-4F86-B9C2-0918C2A2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ACD7-BC95-47AA-9A43-A350FC9E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860E-8D58-494B-AA6E-E1D9FCD2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D5A9-B2FF-46B1-8E03-6AD66BB6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05D0-DC9B-4B6C-86DF-42ACEE16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79E0-6ECC-4992-89D3-7EB56FB5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C389-FF52-4E9C-8570-3905F8A2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B19D-DB12-48C7-90A6-ED988B38D0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790A-7D1D-4E6F-A804-6135C87D7F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Диагностика качеств личности специалистов ЦПМСС «Лабиринт»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едагог-психолог: Митюхина Н.П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ата проведения 22.11.2011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 нравственности в зарубежной психологии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рамках психодинамической теории З. Фрейда мораль рассматривается как нечто навязываемое общество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налитическая теория личности К.Г. Юнга тоже большое внимание уделяет бессознательным мотивам, добавляя понятие коллективного бессознательного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уманистическая теория личности (К. Роджерс, А. Маслоу, В. Франкл) главным в человеке считает врождённые тенденции к самоактуализации, к полному проявлению своих творческих потенци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веденческая теория (бихевиоризм) (Б. Скиннер, Э.Ч. Толмен; Дж. Локк и др.) рассматривает личность как систему, состоящую из социальных навыков и условных рефлексов, с одной стороны, и из внутренних факторов: самоэффективности, значимости и доступности вознаграждения — с друго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димензиональной онтологии В. Франкла нравственность видится как нечто присущее только человеку и только в ней человек и удостоверяет своё бытие: человек «поднимаясь над уровнем соматического и психического, вступает в сферу чисто человеческого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. Эриксон писал, что формирование «этической способности» у молодежи становится «истинным критерием идентичности», а «формирование общечеловеческой идентичности – абсолютной необходимостью»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И. Кант выделил нравственную способность человека подняться над миром необходимости, жестокости, стихийности и самому определить свое поведение по высшим законам человечеств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 нравственности в отечественной психолог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.Л. Рубинштейн рассматривает нравственность, добродетель не как находящееся над реальностью, вне действительной жизни, но как нормальное, свойственное человеку: «Смысл этики состоит в том, чтобы... открыть глаза человеку на богатство его душевного содержан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.С. Братусь рассматривает нравственность в связи с уровнем структуры личности, исходя из которого строятся отношения к другому человеку и самому себе. Собственно нравственность появляется на третьем, просоциальном (гуманистическом), уровне, когда человек считает себя частью всего человечества, а потому относится к каждому человеку в соответствии с «золотым правилом». Его деятельность направляется не только собственным благом и благом группы, но пользой всем людям, даже незнакомым, а в пределе — человечеству в целом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.В. Знаков отмечает, что в большинстве этических учений нравственность отождествляют с моралью: «Нравственность – понятие, являющееся синонимом морали. Вместе с тем, для многих исследователей очевидно, что нужно различать мораль как форму общественного сознания (систему норм, требований к правилам поведения в межличностных отношениях, предъявляемых человеку обществом) и нравственность как характеристику психологической структуры личности (отвергающей или принимающей эти требования, осознающей их необходимость и испытывающей внутреннюю потребность в исполнении моральных норм, следовании им)»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гласно Л.Н. Антилоговой, ядром нравственного сознания являются нравственные убеждения и  ценности, ценностные ориентации, содержанием – нравственные качества и способности, нравственные потребности и  мотивы (направленность, значимость, активность, знаковость, установка, волевые свойства, рефлексивность). Антилогова пишет, что индивидуальное нравственное сознание личности - это интегральное личностное образование, отражающее с позиций добра и зла мир моральных ценностей, ориентирующее индивида на гуманное отношение к людям. Нравственные способности она определяет как индивидуально - психологические особенности личности, которые выражают готовность личности к моральному выбору между добром и злом в повседневной жизни и к установлению моральных взаимоотношений между людьми в процессе любой деятельности и жизнедеятельности в целом. Они определяют специфику поведения человека, выражающуюся в его желании и умении делать добро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Д.В. Колесов считает, что в сферу нравственной регуляции деятельности входит и отношение человека к самому себе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четыре основания нравственно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правильно сформированная потребность человека в другом человеке, реализующаяся путем общения (в основе лежат механизмы идентификации и эмпатии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сознание общности всех людей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сформированный с детства эмоционально насыщенный образ родного дом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наличие эмоционально-насыщенного и хорошо сформированного представления о своем жизненном пути как целостно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Arial"/>
              </a:rPr>
              <a:t>Схематическое представление соотношения понятий морали и нравственности</a:t>
            </a: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4444" r="0" b="0"/>
          <a:stretch/>
        </p:blipFill>
        <p:spPr>
          <a:xfrm>
            <a:off x="1403280" y="1844640"/>
            <a:ext cx="642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им образом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равственность - это внутренние, духовные качества, которыми руководствуется человек, относящиеся к сознанию, внутренней жизни человек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раль - правила нравственности, нравственные нормы поведения, особая форма общественного сознания и вид общественных отнош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бор исследуемых характеристик определялся содержанием в них морально-нравственного компонента, отражающего степень добродетельности личности, ее человечности и нравствен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4000" y="549360"/>
          <a:ext cx="8234280" cy="5305320"/>
        </p:xfrm>
        <a:graphic>
          <a:graphicData uri="http://schemas.openxmlformats.org/drawingml/2006/table">
            <a:tbl>
              <a:tblPr/>
              <a:tblGrid>
                <a:gridCol w="4989600"/>
                <a:gridCol w="1522440"/>
                <a:gridCol w="1506960"/>
                <a:gridCol w="21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МЫЕ КАЧЕСТВА ЛИЧ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ЖДАНСКИЕ КАЧЕСТВА - 7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уманизм, любовь к дет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триот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исимость убежд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иа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едл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актив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ство дол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11280" y="1844640"/>
          <a:ext cx="7812000" cy="4140360"/>
        </p:xfrm>
        <a:graphic>
          <a:graphicData uri="http://schemas.openxmlformats.org/drawingml/2006/table">
            <a:tbl>
              <a:tblPr/>
              <a:tblGrid>
                <a:gridCol w="4797360"/>
                <a:gridCol w="1038240"/>
                <a:gridCol w="1976400"/>
              </a:tblGrid>
              <a:tr h="5205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ХОВНО-НРАВСТВЕННЫЕ КАЧЕСТВА -- 7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ликодуш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ожелате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ажите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тич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пережи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имате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естлив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11280" y="549360"/>
          <a:ext cx="7848360" cy="1164960"/>
        </p:xfrm>
        <a:graphic>
          <a:graphicData uri="http://schemas.openxmlformats.org/drawingml/2006/table">
            <a:tbl>
              <a:tblPr/>
              <a:tblGrid>
                <a:gridCol w="4897800"/>
                <a:gridCol w="1494720"/>
                <a:gridCol w="1455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МЫЕ КАЧЕСТВА ЛИЧ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39640" y="1844640"/>
          <a:ext cx="8209080" cy="4140360"/>
        </p:xfrm>
        <a:graphic>
          <a:graphicData uri="http://schemas.openxmlformats.org/drawingml/2006/table">
            <a:tbl>
              <a:tblPr/>
              <a:tblGrid>
                <a:gridCol w="5311800"/>
                <a:gridCol w="965520"/>
                <a:gridCol w="1931760"/>
              </a:tblGrid>
              <a:tr h="5205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. ИНТЕЛЛЕКТУАЛЬНЫЕ КАЧЕСТВА - 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понять друг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пимость к инакомысли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критич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к саморазвити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рческая актив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рудирова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к самоанализ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46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620640"/>
          <a:ext cx="8028000" cy="1164960"/>
        </p:xfrm>
        <a:graphic>
          <a:graphicData uri="http://schemas.openxmlformats.org/drawingml/2006/table">
            <a:tbl>
              <a:tblPr/>
              <a:tblGrid>
                <a:gridCol w="5010120"/>
                <a:gridCol w="1528920"/>
                <a:gridCol w="14889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МЫЕ КАЧЕСТВА ЛИЧ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lbertus"/>
              </a:rPr>
              <a:t>«Весь мир ничто в сравнении  с человеческой личностью, с единственным лицом человека, с единственной его судьбой»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lbertus"/>
              </a:rPr>
              <a:t>(Н.А. Бердяев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lbertus"/>
              </a:rPr>
              <a:t>«Человек во всей полноте своей есть … творчески-свободный дух»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lbertus"/>
              </a:rPr>
              <a:t>(Б.П. Вышеславцев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настоящее время многие ученые (Л.М. Аболин, К.А. Абульханова, Г.А. Аминев, В И. Андреев, С.К. Бондырева, Д.В. Колесов, А.В. Брушлинский, В.В. Давыдов, В.П. Зинченко, Л.М. Попов и др.), отмечают рост интереса к проблемам морально-нравственного развития лич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вейший философский словарь / Сост. А.А. Грицано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Мораль [фр. morale, лат. morālis – нравственный] – правила нравственности, нравственные нормы поведения, отношений с людьми, а также сама нравствен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раль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т лат. moralis – нравственный) – особая форма общественного сознания и вид общественных отношений (моральные отношения); один из основных способов регуляции действий человека в обществе с помощью нор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илософский энциклопедический словарь. / Под ред. Л.Ф. Ильичев, П.Н. Федосеев и др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Мора́ль (лат. moralis – касающийся нравов) – один из основных способов нормативной регуляции действий человека». Мораль охватывает нравственные взгляды и чувства, жизненные ориентации и принципы, цели и мотивы поступков и отношений, проводя границу между добром и злом, совестливостью и бессовестностью, честью и бесчестием, справедливостью и несправедливостью, нормой и ненормальностью, милосердием и жестокостью и т.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рмин «нравственность» происходит из древнеславянского языка, где он  стал производным от термина «нравы», обозначающего обычаи, утвердившиеся в народе. В России слово «нравственность» определяется уже в «Словаре Академии Российской», вышедшем в 1793 г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равственный смысл жизни человека состоит в служении Добру, поскольку «…существенная норма для жизни человеческой, есть Добро само по себе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.С. Солов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вейший философский словарь / Сост. А.А. Грицан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равственность как совокупность норм, определенного поведения человека. Нравственный – соблюдающий нормы человеческого поведения, требования морали, относящийся к внутренней, духовной жизни человек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утренние, духовные качества, которыми руководствуется человек, этические нормы; правила поведения, определяемые этими качествами. Нравственный – относящийся к сознанию, внутренней жизни челове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4:46:40Z</dcterms:created>
  <dc:creator>user</dc:creator>
  <dc:description/>
  <dc:language>en-US</dc:language>
  <cp:lastModifiedBy>user</cp:lastModifiedBy>
  <dcterms:modified xsi:type="dcterms:W3CDTF">2011-11-25T05:27:17Z</dcterms:modified>
  <cp:revision>3</cp:revision>
  <dc:subject/>
  <dc:title>Диагностика качеств личности специалистов ЦПМСС «Лабиринт». </dc:title>
</cp:coreProperties>
</file>