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0E6D-E543-4E1B-BF26-3C0A294E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6AC6-60FD-49CE-BE1C-4DED499B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6055-4A79-46A2-AC32-1E2D6B97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20B-B3B4-4C78-A90E-B866811E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D6EC4-4722-495E-B9B9-A496EFF1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8CCA7-152C-4DAF-9709-5FAF579B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2926A-2691-4453-9A9E-F4F8C7CF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60E5A-3394-43CC-AD17-BB262B0E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D13B6-4B74-4608-AE38-607C2FA4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657D9-A802-4B61-A5D0-C7690C7B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A64BE-77E2-4A5D-A4AD-972755DE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BE25-80F2-42B1-80B1-2164A258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DAAB5-18AE-4A02-9DAC-336EC6B6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756ED-796C-4D77-AED3-3C823D35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527B4-8E11-4FEF-936F-EAB750B1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B984A-7137-472A-82A2-A99EFF86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5BFEE-ADB4-480B-A764-E0D4B053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3A4-0BC7-446A-A459-020E89CE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5E6-F797-4386-9040-73667765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26E-3BC5-4244-BF4F-5DC7FAE5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B58-65B2-43F4-ADDD-B61A2802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E42F-F2DD-4A1D-BB2D-013A232B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CAF4-2632-4A16-9FC9-EAB2E925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BFB-BB83-4123-B344-956745B7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1B0E-089E-468C-A6F6-4D66F5440A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4DDC-5AA8-4ABC-AA25-2683F1015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ородская педагогическая конференция по духовно –нравственному воспита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«Вера и образование: общество, семья и школа в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X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век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6.03.2007                                                                                                                   г. Волжс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иагностика учителей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.Волжска РМ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7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. ГРАЖДАНСКИЕ КАЧЕСТВА УЧИТЕЛ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2666880"/>
          <a:ext cx="4724280" cy="3573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666880"/>
                    <a:ext cx="4724280" cy="35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0" y="1905120"/>
          <a:ext cx="4038120" cy="4110120"/>
        </p:xfrm>
        <a:graphic>
          <a:graphicData uri="http://schemas.openxmlformats.org/drawingml/2006/table">
            <a:tbl>
              <a:tblPr/>
              <a:tblGrid>
                <a:gridCol w="4038120"/>
              </a:tblGrid>
              <a:tr h="411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648320" y="1905120"/>
          <a:ext cx="4190760" cy="4572000"/>
        </p:xfrm>
        <a:graphic>
          <a:graphicData uri="http://schemas.openxmlformats.org/drawingml/2006/table">
            <a:tbl>
              <a:tblPr/>
              <a:tblGrid>
                <a:gridCol w="542880"/>
                <a:gridCol w="3647880"/>
              </a:tblGrid>
              <a:tr h="65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уманизм, любовь к детя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триот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исимость убежд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ципиаль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раведлив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ая актив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увство долг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I. ДУХОВНО-НРАВСТВЕННЫЕ КАЧЕСТВА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48320" y="1905120"/>
          <a:ext cx="4038120" cy="4112280"/>
        </p:xfrm>
        <a:graphic>
          <a:graphicData uri="http://schemas.openxmlformats.org/drawingml/2006/table">
            <a:tbl>
              <a:tblPr/>
              <a:tblGrid>
                <a:gridCol w="4038120"/>
              </a:tblGrid>
              <a:tr h="411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0" y="1905120"/>
          <a:ext cx="4800600" cy="3830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5120"/>
                    <a:ext cx="4800600" cy="38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572000" y="1981080"/>
          <a:ext cx="4572000" cy="4191120"/>
        </p:xfrm>
        <a:graphic>
          <a:graphicData uri="http://schemas.openxmlformats.org/drawingml/2006/table">
            <a:tbl>
              <a:tblPr/>
              <a:tblGrid>
                <a:gridCol w="642960"/>
                <a:gridCol w="3929040"/>
              </a:tblGrid>
              <a:tr h="598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ликодуши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брожелатель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важитель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ктич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переживани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иматель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естливость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. ИНТЕЛЛЕКТУАЛЬНЫЕ КАЧЕСТВА УЧИТЕЛ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905120"/>
          <a:ext cx="4033800" cy="4114800"/>
        </p:xfrm>
        <a:graphic>
          <a:graphicData uri="http://schemas.openxmlformats.org/drawingml/2006/table">
            <a:tbl>
              <a:tblPr/>
              <a:tblGrid>
                <a:gridCol w="4033800"/>
              </a:tblGrid>
              <a:tr h="411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0" y="1828800"/>
          <a:ext cx="4708440" cy="426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7084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495680" y="2209680"/>
          <a:ext cx="4495680" cy="4271760"/>
        </p:xfrm>
        <a:graphic>
          <a:graphicData uri="http://schemas.openxmlformats.org/drawingml/2006/table">
            <a:tbl>
              <a:tblPr/>
              <a:tblGrid>
                <a:gridCol w="482400"/>
                <a:gridCol w="4013280"/>
              </a:tblGrid>
              <a:tr h="57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ность понять друго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пимость к инакомысли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критич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ность к саморазвити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орческая актив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рудирован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ность к самоанализ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Учитель как духовный радар должен улавливать в ребенке лучшие качества. Его предназначение - будить в растущем человеке стремление найти свой путь к истине. Спасти страну может новое поколение, получившее духовное и целостное развитие, способное глобально мыслить, самостоятельно принимать решения, осуществлять деятельность на принципах Добра, Истины и Крас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523880" y="533520"/>
            <a:ext cx="6985080" cy="54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66ccff">
                        <a:alpha val="50196"/>
                      </a:srgbClr>
                    </a:gs>
                    <a:gs pos="100000">
                      <a:srgbClr val="00c6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ир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66ccff">
                      <a:alpha val="50196"/>
                    </a:srgbClr>
                  </a:gs>
                  <a:gs pos="100000">
                    <a:srgbClr val="00c6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66ccff">
                        <a:alpha val="50196"/>
                      </a:srgbClr>
                    </a:gs>
                    <a:gs pos="100000">
                      <a:srgbClr val="00c6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66ccff">
                      <a:alpha val="50196"/>
                    </a:srgbClr>
                  </a:gs>
                  <a:gs pos="100000">
                    <a:srgbClr val="00c6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66ccff">
                        <a:alpha val="50196"/>
                      </a:srgbClr>
                    </a:gs>
                    <a:gs pos="100000">
                      <a:srgbClr val="00c6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бр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66ccff">
                      <a:alpha val="50196"/>
                    </a:srgbClr>
                  </a:gs>
                  <a:gs pos="100000">
                    <a:srgbClr val="00c6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66ccff">
                        <a:alpha val="50196"/>
                      </a:srgbClr>
                    </a:gs>
                    <a:gs pos="100000">
                      <a:srgbClr val="00c6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ам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66ccff">
                      <a:alpha val="50196"/>
                    </a:srgbClr>
                  </a:gs>
                  <a:gs pos="100000">
                    <a:srgbClr val="00c6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«Роль духовно-нравственных качеств в развитии личности»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781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итюхи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Наталья Петровн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сихолог ЦПМСС «Лабирин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егодня можно с уверенность сказать, что духовно-нравственное воспитание является одним из приоритетных направлений деятельности отдела образования. Осознание необходимости в этом продиктовано временем, теми уроками, которые дало ХХ столетие нашему обществу. Без духовности прекращается прогресс, становятся бесполезными самые глубокие научные знания, самые новейшие техноло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илиппова Е.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чальник МУОО г.Волжска РМ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8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иагностика учащихся 8-10 классов СШ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.Волжска РМЭ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7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ередача, которую ты больше всего любишь смотреть по телевизору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19320" y="2209680"/>
          <a:ext cx="6981840" cy="4451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209680"/>
                    <a:ext cx="698184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ередача, которую ты больше всего любишь смотреть по телевизору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280" y="2514600"/>
          <a:ext cx="4372200" cy="3476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514600"/>
                    <a:ext cx="437220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648320" y="1905120"/>
          <a:ext cx="4038480" cy="4217760"/>
        </p:xfrm>
        <a:graphic>
          <a:graphicData uri="http://schemas.openxmlformats.org/drawingml/2006/table">
            <a:tbl>
              <a:tblPr/>
              <a:tblGrid>
                <a:gridCol w="3257280"/>
                <a:gridCol w="781200"/>
              </a:tblGrid>
              <a:tr h="586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Футбо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"Секс с Анфисой Чеховой» на Т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лу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ино на СТС 21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Музы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«Кто в доме хозяин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«Кто хочет стать миллионером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вятой, который тебе ближе всего по дух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343400" y="2324160"/>
          <a:ext cx="4648320" cy="3498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2324160"/>
                    <a:ext cx="4648320" cy="34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57200" y="1905120"/>
          <a:ext cx="4037760" cy="4114080"/>
        </p:xfrm>
        <a:graphic>
          <a:graphicData uri="http://schemas.openxmlformats.org/drawingml/2006/table">
            <a:tbl>
              <a:tblPr/>
              <a:tblGrid>
                <a:gridCol w="768240"/>
                <a:gridCol w="3269520"/>
              </a:tblGrid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ергий Радонеж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Богород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иколай Чудотворец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ерафим Саровски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Мухамме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руг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ысокочтимый мной защитник отече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3520" y="1828800"/>
          <a:ext cx="8076960" cy="472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828800"/>
                    <a:ext cx="80769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Назовите кто близок Вашему идеалу (назовите одно имя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143000" y="1828800"/>
          <a:ext cx="7210440" cy="459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828800"/>
                    <a:ext cx="721044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07-03-05T22:01:3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