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536-504B-4B31-B221-BBAEEF1C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B34-2936-4D13-90AC-5467841F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18A-5064-4EB0-97BB-9033F912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FED-0197-48BB-BF37-224FAF2F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5BE2B-9597-4728-A293-3D7C8F41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7CE3-E1D8-4451-A20B-8DBE02D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7EBFE-F1D6-4683-AFE0-BEC01D0C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2B0FA-DC91-4603-A573-FA9FAA04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C4DBB-7957-466D-9350-07568FF8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09B24-E915-4A67-B3E4-146EC6D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AB8E-BCDD-42B4-A031-7E2B021C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DDD-CA35-498A-B816-C428CB17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CA3E-7055-4972-9908-0B1BB59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92CD0-55FD-4B9C-9327-33C2D17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395DE-1F00-44CC-96E4-1F1E3FFE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52F27-F178-49D7-9BB5-50A406AB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AF333-088D-42D9-A322-7E557464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CE8-159B-4B99-AD9F-F0F2E580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924-C319-4F58-ABEC-2EBBA5E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505-9076-439C-9DC2-319B9441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C03-4F0A-44B0-9071-201DD76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FF1-9215-4591-8029-961C557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EEB-D015-40DE-B64E-C5B08EB6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4D1-09EE-434D-9B9E-1172307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91A3-E8A5-4872-AD8A-0B5C9E343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9F3E-AB0B-42AF-A580-5DB0FEBAE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ородская педагогическая конференция по духовно –нравственному воспит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Вера и образование: общество, семья и школа 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век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6.03.2007                                                                                                                   г. Волж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иагностика учителей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.Волжска РМ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 ГРАЖДАНСКИЕ КАЧЕСТВА УЧИ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2666880"/>
          <a:ext cx="4724280" cy="35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666880"/>
                    <a:ext cx="4724280" cy="35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0" y="1905120"/>
          <a:ext cx="4038120" cy="411012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41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648320" y="1905120"/>
          <a:ext cx="4190760" cy="4572000"/>
        </p:xfrm>
        <a:graphic>
          <a:graphicData uri="http://schemas.openxmlformats.org/drawingml/2006/table">
            <a:tbl>
              <a:tblPr/>
              <a:tblGrid>
                <a:gridCol w="542880"/>
                <a:gridCol w="3647880"/>
              </a:tblGrid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уманизм, любовь к детя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триот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исимость убежд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иа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ак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о дол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I. ДУХОВНО-НРАВСТВЕННЫЕ КАЧЕСТВА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905120"/>
          <a:ext cx="4038120" cy="411228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41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1905120"/>
          <a:ext cx="4800600" cy="383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480060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981080"/>
          <a:ext cx="4572000" cy="4191120"/>
        </p:xfrm>
        <a:graphic>
          <a:graphicData uri="http://schemas.openxmlformats.org/drawingml/2006/table">
            <a:tbl>
              <a:tblPr/>
              <a:tblGrid>
                <a:gridCol w="642960"/>
                <a:gridCol w="3929040"/>
              </a:tblGrid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ликодуш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ожела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ажи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тич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ережива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има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стливость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. ИНТЕЛЛЕКТУАЛЬНЫЕ КАЧЕСТВА УЧИ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05120"/>
          <a:ext cx="4033800" cy="4114800"/>
        </p:xfrm>
        <a:graphic>
          <a:graphicData uri="http://schemas.openxmlformats.org/drawingml/2006/table">
            <a:tbl>
              <a:tblPr/>
              <a:tblGrid>
                <a:gridCol w="4033800"/>
              </a:tblGrid>
              <a:tr h="411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1828800"/>
          <a:ext cx="470844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708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95680" y="2209680"/>
          <a:ext cx="4495680" cy="4271760"/>
        </p:xfrm>
        <a:graphic>
          <a:graphicData uri="http://schemas.openxmlformats.org/drawingml/2006/table">
            <a:tbl>
              <a:tblPr/>
              <a:tblGrid>
                <a:gridCol w="482400"/>
                <a:gridCol w="4013280"/>
              </a:tblGrid>
              <a:tr h="57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понять друг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пимость к инакомысли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критич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развити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рческая актив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рудирова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анализ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читель как духовный радар должен улавливать в ребенке лучшие качества. Его предназначение - будить в растущем человеке стремление найти свой путь к истине. Спасти страну может новое поколение, получившее духовное и целостное развитие, способное глобально мыслить, самостоятельно принимать решения, осуществлять деятельность на принципах Добра, Истины и Крас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3880" y="533520"/>
            <a:ext cx="6985080" cy="54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р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бр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м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«Роль духовно-нравственных качеств в развитии личности»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итюх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талья Петровн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сихолог ЦПМСС «Лабирин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егодня можно с уверенность сказать, что духовно-нравственное воспитание является одним из приоритетных направлений деятельности отдела образования. Осознание необходимости в этом продиктовано временем, теми уроками, которые дало ХХ столетие нашему обществу. Без духовности прекращается прогресс, становятся бесполезными самые глубокие научные знания, самые новейшие техн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иппова Е.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ьник МУОО г.Волжска РМ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иагностика учащихся 8-10 классов СШ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.Волжска РМЭ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редача, которую ты больше всего любишь смотреть по телевизор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2209680"/>
          <a:ext cx="6981840" cy="445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69818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редача, которую ты больше всего любишь смотреть по телевизор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2514600"/>
          <a:ext cx="4372200" cy="347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514600"/>
                    <a:ext cx="43722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648320" y="1905120"/>
          <a:ext cx="4038480" cy="4217760"/>
        </p:xfrm>
        <a:graphic>
          <a:graphicData uri="http://schemas.openxmlformats.org/drawingml/2006/table">
            <a:tbl>
              <a:tblPr/>
              <a:tblGrid>
                <a:gridCol w="3257280"/>
                <a:gridCol w="781200"/>
              </a:tblGrid>
              <a:tr h="58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утб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Секс с Анфисой Чеховой» на Т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л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ино на СТС 2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узы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«Кто в доме хозяин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«Кто хочет стать миллионером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ятой, который тебе ближе всего по дух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343400" y="2324160"/>
          <a:ext cx="4648320" cy="349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324160"/>
                    <a:ext cx="464832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" y="1905120"/>
          <a:ext cx="4037760" cy="4114080"/>
        </p:xfrm>
        <a:graphic>
          <a:graphicData uri="http://schemas.openxmlformats.org/drawingml/2006/table">
            <a:tbl>
              <a:tblPr/>
              <a:tblGrid>
                <a:gridCol w="768240"/>
                <a:gridCol w="326952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ергий Радонеж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огород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иколай Чудотворе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ерафим Саровск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ухамм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ысокочтимый мной защитник отеч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828800"/>
          <a:ext cx="807696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28800"/>
                    <a:ext cx="8076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Назовите кто близок Вашему идеалу (назовите одно имя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1828800"/>
          <a:ext cx="7210440" cy="459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721044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03-05T22:01:3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