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2F7-9525-49DB-B8BD-75D27511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2F1-9F43-4B14-BC2B-9A18F4D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F05-1F55-46D1-906B-BBEF0473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22E-58D6-4A67-887F-98580B36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F78-FA20-47E4-8D7C-02161F9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238-ACA1-4CFF-91A7-E2358E4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575-F1CB-4461-8486-6862966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F5B-1848-4996-942A-E13178F0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6E8-18EF-4D62-B719-C8B22FFE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6A2-4DCE-464B-880F-F783C85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905-FA39-4989-AAB8-68C1553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DED-3846-4999-A345-057096C9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E983-95EE-4545-9C1A-967DE368FFA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167AF0F7-E1A6-4B9C-9ADF-6A21883815D6}" type="datetime10">
              <a:rPr b="0" lang="en-US" sz="1400" spc="-1" strike="noStrike">
                <a:solidFill>
                  <a:srgbClr val="ffffff"/>
                </a:solidFill>
                <a:latin typeface="Arial"/>
              </a:rPr>
              <a:t>0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9D8A-17F6-45EC-BA55-8C2F63E4E3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image" Target="../media/image25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3.xml"/><Relationship Id="rId8" Type="http://schemas.openxmlformats.org/officeDocument/2006/relationships/slide" Target="slide16.xml"/><Relationship Id="rId9" Type="http://schemas.openxmlformats.org/officeDocument/2006/relationships/slide" Target="slide19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67280" y="907920"/>
            <a:ext cx="2239920" cy="403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1844640"/>
            <a:ext cx="357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ВАН  III  ВЕЛИКИЙ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692280"/>
            <a:ext cx="5086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«Государь всея Руси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Monotype Corsiva"/>
              </a:rPr>
              <a:t>ФУРЛОВА О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Monotype Corsiva"/>
              </a:rPr>
              <a:t>МОУ СОШ №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Monotype Corsiva"/>
              </a:rPr>
              <a:t>Урок по курсу «Светочи России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6920" y="5229360"/>
            <a:ext cx="1324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494172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«Того же лета злоименитый царь Ахмат… поиде на православное христьянство, на Русь, на святые церкви и на великого князя, похваляся разорити святые церкви и все православие пленити и самого великого князя, яко же при Батые беше (было)».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            Летоп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973080"/>
            <a:ext cx="6480360" cy="406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79640" y="260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Стояние на У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926-1F75-4654-8DC9-28EE5F8A53F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0E5D-61E5-4B1C-A440-EE386C4D3CF7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Стояние на Угре. 1480 год. Миниатюра Летописного свода XVI века"/>
          <p:cNvPicPr/>
          <p:nvPr/>
        </p:nvPicPr>
        <p:blipFill>
          <a:blip r:embed="rId1"/>
          <a:stretch/>
        </p:blipFill>
        <p:spPr>
          <a:xfrm>
            <a:off x="673200" y="1125360"/>
            <a:ext cx="3676680" cy="5183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56000" y="1052640"/>
            <a:ext cx="46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двинул своё войско навстречу врагу. Ахмат привел ордынских воинов к реке Угре. На противоположном берегу встало русское войско, не давая ордынцам переправиться через реку и идти на Москву. Несколько месяцев стояли войска на Угре друг напротив дру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Стояние на У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3645000"/>
            <a:ext cx="47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это время союзник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рымский хан Менгли-Гирей напал на земли Польско-Литовского государства, из-за чего его глава король Казимир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не смог оказать хану Ахмату обещанную помощ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роме того, отряды русских, посланные Иваном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о Волге, напали на территорию Большой Орды и разорили ее столицу Сар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E7C-B2E0-497A-AD29-B149B37E14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FD3EA-1155-4235-A8C3-26643231301A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95640" y="69228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К концу октября река начала замерзать и враг легко мог вскоре перейти на другой берег. Великий князь приказал отвести русские войска с открытого поля к Боровску, где в зимних условиях оборонительная позиция была более выгод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363840" cy="453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11640" y="573408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5445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Так окончилось на Руси иго Золотой Орды, длившееся почти 25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3141720"/>
            <a:ext cx="489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йско хана не было готово к войне зимой, у ордынцев не было зимней одежды. Ахмат подумал, что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освободил открытое поле для решающей битвы. Испугавшись генерального сражения, хан спешно увел свои войска с русской зем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1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Стояние на У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EF6-D20E-4B04-B4F7-769A4D9A6A9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FE09F-4F8E-4703-A791-71413F0B0E9C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95640" y="836640"/>
            <a:ext cx="4680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Жена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умерла, и великий князь решил жениться второй раз. Его новой супругой стала Софья Палеолог, племянница последнего императора Византии Константина, погибшего от меча турецких завоева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Женитьба великого князя на последней византийской принцессе позволила объявить Москву преемницей Византии, центром православной ве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508640"/>
            <a:ext cx="475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делал гербом своего государства византийский герб – двуглавый орел, а себе взял титул «Государь всея Рус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orel_sofii.gif (7027 bytes)"/>
          <p:cNvPicPr/>
          <p:nvPr/>
        </p:nvPicPr>
        <p:blipFill>
          <a:blip r:embed="rId1"/>
          <a:stretch/>
        </p:blipFill>
        <p:spPr>
          <a:xfrm>
            <a:off x="539640" y="1341360"/>
            <a:ext cx="3380040" cy="36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32000" y="423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Москва- третий 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885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93F-301A-443A-AAE0-8020EB3B094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42583-FF29-4D62-8F1C-9FF991F29F15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Москва- третий Ри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Двуглавый орел требовался великому князю в последнее десятилетие ХVв. не случай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этому времени двухголовая птица украшала печати сильнейших монархов Европы – императоров Священной Римской империи, где существовало разделение: печать с одноглавым орлом - королевская, с двуглавым – императорская. Активный обмен посольствами, вручение грамот с печатями, на которых изображался знак императорской власти, убедили главу Московского государства в том, что именно двуглавый орел указывает на высокое положение западных импера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5B0-2683-4CB9-826B-DC0A0B957A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36114-9CEC-4751-90C1-FE0D41C44035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847880" cy="194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67280" y="836640"/>
            <a:ext cx="4752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звышая Москву,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одчеркивал наследование им власти и от древнерусских княз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тальянский архитектор Аристотель Фиораванти возвел новый Успенский собор - главный храм Русского государства. Строительство в московском Кремле Успенского собора совершалось по образцу собора в г. Влади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Успенский собор. Южный фасад"/>
          <p:cNvPicPr/>
          <p:nvPr/>
        </p:nvPicPr>
        <p:blipFill>
          <a:blip r:embed="rId2"/>
          <a:stretch/>
        </p:blipFill>
        <p:spPr>
          <a:xfrm>
            <a:off x="539640" y="1341360"/>
            <a:ext cx="3481560" cy="4606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67280" y="3860640"/>
            <a:ext cx="345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Это символизировало преемственность                       власти московских                    князей от князей владимирских, а через них – от киев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2811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Москва- третий 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E21-2ECE-4685-B6EC-3A7EE7691F6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EA754-DC7A-406B-BF45-8D3AC6E00C43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905040"/>
            <a:ext cx="6769080" cy="449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501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Желая подчеркнуть возросшее величие Московского государства,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задумывает грандиозную перестройку Кремля. Русские мастера создали в Кремле жилой дворец для государя и Грановитую палату для торжественных прие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7840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260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ерестройка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B0A-B93A-4258-91BB-B37CA5EA428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0B0C0-A5B8-493C-BDCC-A263264E5ECD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559640" cy="411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5229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место обветшалых стен Кремля были сооружены новые стены и башни из красного кирпича. Новый Кремль, построенный в конце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начале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в., в основном сохранился и до наш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333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ерестройка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4317" y="10800"/>
                </a:moveTo>
                <a:lnTo>
                  <a:pt x="18330" y="3794"/>
                </a:lnTo>
                <a:lnTo>
                  <a:pt x="1833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F47-8C39-47B3-95F0-1A997FC5E0D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016F1-BC9C-464E-BD19-C96B258125F4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435640" y="1700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774960" cy="4726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27640" y="1052640"/>
            <a:ext cx="4392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усские мастера построили Благовещенский собор и церковь Ризположения для митрополи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тальянский зодчий Алоиз Новый построил великокняжеский храм-усыпальницу - Архангельский собор, а архитектор Бон Фрязин возвел колокольню Ивана Вели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3789360"/>
            <a:ext cx="2311560" cy="270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32000" y="333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ерестройка Крем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571-0E21-40F4-900A-495D06E7E43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026E-AC31-4F77-8CC8-EB94463CBF8C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219640" y="765000"/>
            <a:ext cx="39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За время правления Ивана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 территория Московского княжества увеличилась в пять раз. К Москве были присоединены Ярославское и Ростовское княжества, Новгородская республика, Тверское княжество,  часть Польско-Литовского княжества, Пермь Великая.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ИВАН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ВЕЛИКИЙ- рефлекс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404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342900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3429000"/>
            <a:ext cx="39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В период властвования Ивана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было покончено с игом Золотой Орды. На востоке Европы появилось новое, могучее и независимое государство – Ро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За четыре десятка лет под руководством Ивана </a:t>
            </a:r>
            <a:r>
              <a:rPr b="1" lang="en-US" sz="1800" spc="-1" strike="noStrike">
                <a:solidFill>
                  <a:srgbClr val="000000"/>
                </a:solidFill>
                <a:latin typeface="Curlz MT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urlz MT"/>
              </a:rPr>
              <a:t> страна сделала невиданный скачок в своем развитии. Поэтому народ дал Ивану Третьему прозвище Вели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570480" cy="38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9BD-E199-46AB-8CE6-B17130A3FE7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ED8C9-51DA-4C32-861A-D7E6FA5F5C68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СОДЕРЖАНИЕ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1" action="ppaction://hlinksldjump"/>
              </a:rPr>
              <a:t>ЭПИГРАФ У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2" action="ppaction://hlinksldjump"/>
              </a:rPr>
              <a:t>ЗАДАНИЕ НА 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3" action="ppaction://hlinksldjump"/>
              </a:rPr>
              <a:t>ГОСУДАРЬ ВСЕЯ РУ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4" action="ppaction://hlinksldjump"/>
              </a:rPr>
              <a:t>ПОКОРЕНИЕ НОВ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5" action="ppaction://hlinksldjump"/>
              </a:rPr>
              <a:t>БОРЬБА С ОРД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6" action="ppaction://hlinksldjump"/>
              </a:rPr>
              <a:t>СТОЯНИЕ НА УГ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7" action="ppaction://hlinksldjump"/>
              </a:rPr>
              <a:t>МОСКВА- ТРЕТИЙ Р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8" action="ppaction://hlinksldjump"/>
              </a:rPr>
              <a:t>ПЕРЕСТРОЙКА КРЕМ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urier New"/>
                <a:hlinkClick r:id="rId9" action="ppaction://hlinksldjump"/>
              </a:rPr>
              <a:t>ИВАН ВЕЛИ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7667640" y="4941720"/>
            <a:ext cx="103824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582-A3D5-43E6-9F9F-97C1753069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027B5-E6F4-4FF1-9A11-321F0F2FC252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732720" y="51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Архангельский собор"/>
          <p:cNvPicPr/>
          <p:nvPr/>
        </p:nvPicPr>
        <p:blipFill>
          <a:blip r:embed="rId2"/>
          <a:stretch/>
        </p:blipFill>
        <p:spPr>
          <a:xfrm>
            <a:off x="468360" y="476280"/>
            <a:ext cx="2519280" cy="248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68360" y="476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хангельски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Церковь Ризположения"/>
          <p:cNvPicPr/>
          <p:nvPr/>
        </p:nvPicPr>
        <p:blipFill>
          <a:blip r:embed="rId3"/>
          <a:stretch/>
        </p:blipFill>
        <p:spPr>
          <a:xfrm>
            <a:off x="2843280" y="2637000"/>
            <a:ext cx="2236680" cy="316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24000" y="2637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рковь Ризположения (положения риз пресвятой Богородиц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Благовещенский собор Кремля"/>
          <p:cNvPicPr/>
          <p:nvPr/>
        </p:nvPicPr>
        <p:blipFill>
          <a:blip r:embed="rId4"/>
          <a:stretch/>
        </p:blipFill>
        <p:spPr>
          <a:xfrm>
            <a:off x="5148360" y="4122720"/>
            <a:ext cx="216684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32360" y="40734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8BF-3BF7-40DE-96C0-FD8A1F1B1FB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1FE8F-5F05-427D-AD78-2CB36E8F932A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7040" y="27432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urlz MT"/>
              </a:rPr>
              <a:t>ЭПИГРАФ К УРОКУ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Иван 111 был первым русским правителем, изредка называвшим себя цар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Ричард Пайп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он докончил то, что начал отец, и властью своей превосходил всех монархов в мире.                                                      германский посол б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Герберштей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F62-C763-4F3A-91F8-2D6A87E130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FE2E4-64FE-4A3A-82B0-07EDF1903020}" type="datetime8">
              <a:rPr lang="en-US"/>
              <a:t>07/30/26 04:57</a:t>
            </a:fld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15516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800000">
            <a:off x="1547280" y="260280"/>
            <a:ext cx="72406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Задание на урок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349360"/>
            <a:ext cx="7240680" cy="388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age Italic"/>
              </a:rPr>
              <a:t>"Какова роль эпохи Ивана 111 в истории нашего государства?"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7877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443640" y="49417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-11909520" y="7422840"/>
            <a:ext cx="11588760" cy="18003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urlz MT"/>
              </a:rPr>
              <a:t>"Какова роль эпохи Ивана 111 в истории нашего государства?" 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5C1-CC40-4AF5-A582-1744CBE43E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A6771-C8F4-45D9-846D-2774A856CF84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0720" y="476280"/>
            <a:ext cx="43192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, сын Василия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Темного, с детских лет ведал тяготы и опасности жизни великокняжеской семь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ротивники отца ослепили Василия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и несколько лет держали его в заточении. Верные великому князю бояре скрыли у себя малолетнего Ивана вместе с младшим братом. Дети жили в постоянном ожидании беды. Но недруги обманом выманили детей и заточили их в монастыре вместе с родител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41320" y="1413000"/>
            <a:ext cx="3616560" cy="403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Видел маленький Иван, с какими трудностями и потерями его отец вернул себе великокняжеский престо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20808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811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Государь всея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DB9-9EF3-445F-B7AE-B3A50DB7D17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B4F48-17EE-4265-AF65-CF85FEF1CCEE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932360" y="620640"/>
            <a:ext cx="39592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асилий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понимал все опасности конкурентной борьбы за власть в Московском княжеств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оэтому он провозглашает своего восьмилетнего сына Ивана великим князем и соправителем от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скоре Иван начинает выполнять важные военные и политические поручения. 12-летний Иван уже возглавляет военный пох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11280" y="1700280"/>
            <a:ext cx="4173480" cy="3417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32360" y="4653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обытия тревожного детства научили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быть осторожным, дипломатичным, а где необходимо – действовать жестко и решит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1364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Государь всея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9DF-21CA-4E16-8B2F-13E7ED1DB4A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D0C29-5364-4292-BBE0-F05384A2E126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16360" y="3284640"/>
            <a:ext cx="4032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помог псковичам изгнать немцев, и Псков признал главенство Москвы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результате военного похода на Казань был достигнут мирный договор на условиях Москвы и освобождены русские пленные, томившиеся в нев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20920" cy="4464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54936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1462 г., после смерти Василия Темного,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стал единовластным правителем Московского княж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Он присоединил к Москве Ярославль и Ростов, раздав их князьям земли и с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1364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Государь всея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88508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AC6-BD46-47E6-B497-5F778126255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CBF05-F265-4B1D-BA88-F91E22BB6E0A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341360"/>
            <a:ext cx="4054680" cy="450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4046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Покорение Нов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765000"/>
            <a:ext cx="3960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льный Новгород перестал соблюдать условия договора с Москвой и вступил в сговор с польско-литовским королем Казимиром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о главе большого войска захватил Новгород и жестоко расправился с новгородц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350028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4 военных похода на Новгород совершил Иван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, прежде чем вольный город во всем признал власть Москвы. Знаменитый вечевой колокол, как символ самостоятельности Новгорода, по приказу Иван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был снят и перевезен в Моск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10987"/>
                </a:moveTo>
                <a:lnTo>
                  <a:pt x="17806" y="3981"/>
                </a:lnTo>
                <a:lnTo>
                  <a:pt x="17806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2AD-7AB4-494C-8889-DD153DAB8B4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E528D-AD23-4E9A-B021-DB214E65F398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133640"/>
            <a:ext cx="6337080" cy="4106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32000" y="458136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 14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г. Иван перестал платить дань Орде. Хан Ахмат направил в Москву своих послов. На глазах у ордынских послов и русских бояр Иван разорвал и растоптал договор с Ордой.  Он заявил, что больше не подчиняется хану и не будет платить ему дань. Ханские послы были изгнаны. В 1480 г. хан Ахмат послал на непокорную Русь большое войск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60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Борьба с Орд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466560" cy="549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430">
                <a:moveTo>
                  <a:pt x="0" y="0"/>
                </a:moveTo>
                <a:lnTo>
                  <a:pt x="21600" y="0"/>
                </a:lnTo>
                <a:lnTo>
                  <a:pt x="21600" y="25430"/>
                </a:lnTo>
                <a:lnTo>
                  <a:pt x="0" y="25430"/>
                </a:lnTo>
                <a:close/>
              </a:path>
              <a:path fill="lightenLess" w="21600" h="254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30">
                <a:moveTo>
                  <a:pt x="21600" y="0"/>
                </a:moveTo>
                <a:lnTo>
                  <a:pt x="21600" y="25430"/>
                </a:lnTo>
                <a:lnTo>
                  <a:pt x="20200" y="24030"/>
                </a:lnTo>
                <a:lnTo>
                  <a:pt x="20200" y="1400"/>
                </a:lnTo>
                <a:close/>
              </a:path>
              <a:path fill="darkenLess" w="21600" h="25430">
                <a:moveTo>
                  <a:pt x="21600" y="25430"/>
                </a:moveTo>
                <a:lnTo>
                  <a:pt x="0" y="25430"/>
                </a:lnTo>
                <a:lnTo>
                  <a:pt x="1400" y="24030"/>
                </a:lnTo>
                <a:lnTo>
                  <a:pt x="20200" y="24030"/>
                </a:lnTo>
                <a:close/>
              </a:path>
              <a:path fill="lighten" w="21600" h="25430">
                <a:moveTo>
                  <a:pt x="0" y="254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30"/>
                </a:lnTo>
                <a:close/>
              </a:path>
              <a:path fill="darken" w="21600" h="25430">
                <a:moveTo>
                  <a:pt x="3794" y="12715"/>
                </a:moveTo>
                <a:lnTo>
                  <a:pt x="17806" y="5709"/>
                </a:lnTo>
                <a:lnTo>
                  <a:pt x="17806" y="1972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урлова О.И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355-8EEA-4357-9DDC-76177374ADF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CB5C3-D370-4460-BB2E-53416881292C}" type="datetime8">
              <a:rPr lang="en-US"/>
              <a:t>07/30/26 04: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0:36:59Z</dcterms:created>
  <dc:creator>*</dc:creator>
  <dc:description/>
  <dc:language>en-US</dc:language>
  <cp:lastModifiedBy>Admin</cp:lastModifiedBy>
  <dcterms:modified xsi:type="dcterms:W3CDTF">2010-01-04T07:40:35Z</dcterms:modified>
  <cp:revision>142</cp:revision>
  <dc:subject/>
  <dc:title>Слайд 1</dc:title>
</cp:coreProperties>
</file>