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gif" ContentType="image/gif"/>
  <Override PartName="/ppt/media/image11.jpeg" ContentType="image/jpeg"/>
  <Override PartName="/ppt/media/image9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918-EC9E-410C-B367-48CF0FEE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C7D-45AB-4299-85CE-932DF6F7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621-BB32-4392-8560-1CDC7A12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79A-9A2C-45FC-9A74-851D7C38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789-7630-40AE-8F68-4D929C2F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D86-6833-4BB7-B8C2-4FBBC134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7D6-A1EB-4BE3-BA40-A72D9728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BB1-08E6-410D-ACFC-F0724C0A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34F-D1AF-4609-9343-42964D2A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1CD-6311-4EDA-8CC6-97566E5C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92C-F516-46D1-BBB9-EA7A44E6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AA2-5624-43A7-BF14-A0204FCD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A647-EA97-433E-A878-370FDC65679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212236DB-2222-4E42-8A7D-755FC7FDE8A0}" type="datetime10">
              <a:rPr b="0" lang="en-US" sz="1400" spc="-1" strike="noStrike">
                <a:solidFill>
                  <a:srgbClr val="ffffff"/>
                </a:solidFill>
                <a:latin typeface="Arial"/>
              </a:rPr>
              <a:t>00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2880-E0BC-499C-8C4A-C3653A9F98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"/><Relationship Id="rId3" Type="http://schemas.openxmlformats.org/officeDocument/2006/relationships/image" Target="../media/image25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3.xml"/><Relationship Id="rId8" Type="http://schemas.openxmlformats.org/officeDocument/2006/relationships/slide" Target="slide16.xml"/><Relationship Id="rId9" Type="http://schemas.openxmlformats.org/officeDocument/2006/relationships/slide" Target="slide19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67280" y="907920"/>
            <a:ext cx="2239920" cy="403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1844640"/>
            <a:ext cx="3571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ВАН  III  ВЕЛИКИЙ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692280"/>
            <a:ext cx="5086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«Государь всея Руси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Monotype Corsiva"/>
              </a:rPr>
              <a:t>ФУРЛОВА О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Monotype Corsiva"/>
              </a:rPr>
              <a:t>МОУ СОШ №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Monotype Corsiva"/>
              </a:rPr>
              <a:t>Урок по курсу «Светочи России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6920" y="5229360"/>
            <a:ext cx="1324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494172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«Того же лета злоименитый царь Ахмат… поиде на православное христьянство, на Русь, на святые церкви и на великого князя, похваляся разорити святые церкви и все православие пленити и самого великого князя, яко же при Батые беше (было)».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            Летоп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16000" y="973080"/>
            <a:ext cx="6480360" cy="406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79640" y="2602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Стояние на Уг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418-2A29-4063-BE48-574D215D6F9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CDE37-C722-4E75-892C-762CF4A59E40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Стояние на Угре. 1480 год. Миниатюра Летописного свода XVI века"/>
          <p:cNvPicPr/>
          <p:nvPr/>
        </p:nvPicPr>
        <p:blipFill>
          <a:blip r:embed="rId1"/>
          <a:stretch/>
        </p:blipFill>
        <p:spPr>
          <a:xfrm>
            <a:off x="673200" y="1125360"/>
            <a:ext cx="3676680" cy="5183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56000" y="1052640"/>
            <a:ext cx="46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ыдвинул своё войско навстречу врагу. Ахмат привел ордынских воинов к реке Угре. На противоположном берегу встало русское войско, не давая ордынцам переправиться через реку и идти на Москву. Несколько месяцев стояли войска на Угре друг напротив дру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Стояние на Уг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3645000"/>
            <a:ext cx="47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 это время союзник Ивана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рымский хан Менгли-Гирей напал на земли Польско-Литовского государства, из-за чего его глава король Казимир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V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не смог оказать хану Ахмату обещанную помощ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роме того, отряды русских, посланные Иваном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о Волге, напали на территорию Большой Орды и разорили ее столицу Сар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D68-E7AE-4262-9E61-9160DAA742D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22A4A-924C-407C-8951-88ACB6FC79E7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95640" y="692280"/>
            <a:ext cx="48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К концу октября река начала замерзать и враг легко мог вскоре перейти на другой берег. Великий князь приказал отвести русские войска с открытого поля к Боровску, где в зимних условиях оборонительная позиция была более выгод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363840" cy="4537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11640" y="573408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544500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Так окончилось на Руси иго Золотой Орды, длившееся почти 250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3141720"/>
            <a:ext cx="489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ойско хана не было готово к войне зимой, у ордынцев не было зимней одежды. Ахмат подумал, что 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освободил открытое поле для решающей битвы. Испугавшись генерального сражения, хан спешно увел свои войска с русской зем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2360" y="1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Стояние на Уг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3C0-932C-45C3-9312-3EB46B97DAC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7FCE2-C417-4FB8-B7B6-90B80750C751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95640" y="836640"/>
            <a:ext cx="46800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Жена Ивана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умерла, и великий князь решил жениться второй раз. Его новой супругой стала Софья Палеолог, племянница последнего императора Византии Константина, погибшего от меча турецких завоева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Женитьба великого князя на последней византийской принцессе позволила объявить Москву преемницей Византии, центром православной вер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4508640"/>
            <a:ext cx="475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делал гербом своего государства византийский герб – двуглавый орел, а себе взял титул «Государь всея Рус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orel_sofii.gif (7027 bytes)"/>
          <p:cNvPicPr/>
          <p:nvPr/>
        </p:nvPicPr>
        <p:blipFill>
          <a:blip r:embed="rId1"/>
          <a:stretch/>
        </p:blipFill>
        <p:spPr>
          <a:xfrm>
            <a:off x="539640" y="1341360"/>
            <a:ext cx="3380040" cy="367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32000" y="42372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Москва- третий Р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88508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BAE-6E1F-4040-9317-FCB05A444E8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3A369-B7F9-4480-96A4-1658D7C9D575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Москва- третий Рим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Двуглавый орел требовался великому князю в последнее десятилетие ХVв. не случай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этому времени двухголовая птица украшала печати сильнейших монархов Европы – императоров Священной Римской империи, где существовало разделение: печать с одноглавым орлом - королевская, с двуглавым – императорская. Активный обмен посольствами, вручение грамот с печатями, на которых изображался знак императорской власти, убедили главу Московского государства в том, что именно двуглавый орел указывает на высокое положение западных импера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559-F4EB-4F2B-B77D-D65FA40C14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869B3-0F1B-42D8-91BD-1B37908C172B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20000" y="3357720"/>
            <a:ext cx="1847880" cy="1946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067280" y="836640"/>
            <a:ext cx="4752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озвышая Москву, 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одчеркивал наследование им власти и от древнерусских княз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тальянский архитектор Аристотель Фиораванти возвел новый Успенский собор - главный храм Русского государства. Строительство в московском Кремле Успенского собора совершалось по образцу собора в г. Владими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Успенский собор. Южный фасад"/>
          <p:cNvPicPr/>
          <p:nvPr/>
        </p:nvPicPr>
        <p:blipFill>
          <a:blip r:embed="rId2"/>
          <a:stretch/>
        </p:blipFill>
        <p:spPr>
          <a:xfrm>
            <a:off x="539640" y="1341360"/>
            <a:ext cx="3481560" cy="4606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67280" y="3860640"/>
            <a:ext cx="345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Это символизировало преемственность                       власти московских                    князей от князей владимирских, а через них – от киевск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16000" y="2811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Москва- третий Р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7D5-8080-4627-8C8E-3A5DC33E6F2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10301-F798-4D1D-81E8-721DD56D9FA8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905040"/>
            <a:ext cx="6769080" cy="4491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5013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Желая подчеркнуть возросшее величие Московского государства, 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задумывает грандиозную перестройку Кремля. Русские мастера создали в Кремле жилой дворец для государя и Грановитую палату для торжественных прие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7840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26028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Перестройка Крем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6EF-783A-435D-9F72-927F5ACC673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E2417-7B9A-4A0F-9F51-6F013A000788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559640" cy="4111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5229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место обветшалых стен Кремля были сооружены новые стены и башни из красного кирпича. Новый Кремль, построенный в конце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V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начале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V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в., в основном сохранился и до наших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0" y="33336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Перестройка Крем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576000" cy="549360"/>
          </a:xfrm>
          <a:custGeom>
            <a:avLst/>
            <a:gdLst>
              <a:gd name="textAreaLeft" fmla="*/ 35280 w 576000"/>
              <a:gd name="textAreaRight" fmla="*/ 540720 w 57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47" h="21600">
                <a:moveTo>
                  <a:pt x="0" y="0"/>
                </a:moveTo>
                <a:lnTo>
                  <a:pt x="22647" y="0"/>
                </a:lnTo>
                <a:lnTo>
                  <a:pt x="22647" y="21600"/>
                </a:lnTo>
                <a:lnTo>
                  <a:pt x="0" y="21600"/>
                </a:lnTo>
                <a:close/>
              </a:path>
              <a:path fill="lightenLess" w="22647" h="21600">
                <a:moveTo>
                  <a:pt x="0" y="0"/>
                </a:moveTo>
                <a:lnTo>
                  <a:pt x="22647" y="0"/>
                </a:lnTo>
                <a:lnTo>
                  <a:pt x="21247" y="1400"/>
                </a:lnTo>
                <a:lnTo>
                  <a:pt x="1400" y="1400"/>
                </a:lnTo>
                <a:close/>
              </a:path>
              <a:path fill="darken" w="22647" h="21600">
                <a:moveTo>
                  <a:pt x="22647" y="0"/>
                </a:moveTo>
                <a:lnTo>
                  <a:pt x="22647" y="21600"/>
                </a:lnTo>
                <a:lnTo>
                  <a:pt x="21247" y="20200"/>
                </a:lnTo>
                <a:lnTo>
                  <a:pt x="21247" y="1400"/>
                </a:lnTo>
                <a:close/>
              </a:path>
              <a:path fill="darkenLess" w="22647" h="21600">
                <a:moveTo>
                  <a:pt x="2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7" y="20200"/>
                </a:lnTo>
                <a:close/>
              </a:path>
              <a:path fill="lighten" w="2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7" h="21600">
                <a:moveTo>
                  <a:pt x="4317" y="10800"/>
                </a:moveTo>
                <a:lnTo>
                  <a:pt x="18330" y="3794"/>
                </a:lnTo>
                <a:lnTo>
                  <a:pt x="1833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581-742A-4968-B800-B85BCC4418D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6D291-B049-4200-A313-1BD36A16EA39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435640" y="1700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774960" cy="4726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27640" y="1052640"/>
            <a:ext cx="4392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Русские мастера построили Благовещенский собор и церковь Ризположения для митрополи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тальянский зодчий Алоиз Новый построил великокняжеский храм-усыпальницу - Архангельский собор, а архитектор Бон Фрязин возвел колокольню Ивана Велик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0360" y="3789360"/>
            <a:ext cx="2311560" cy="2708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32000" y="333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Перестройка Крем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3794" y="11024"/>
                </a:moveTo>
                <a:lnTo>
                  <a:pt x="17806" y="4017"/>
                </a:lnTo>
                <a:lnTo>
                  <a:pt x="17806" y="1803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75D-098E-4D46-B26D-64C695A0B6C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B4B9F-5A5C-4778-8EE5-126E8960164E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219640" y="765000"/>
            <a:ext cx="39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За время правления Ивана </a:t>
            </a:r>
            <a:r>
              <a:rPr b="1" lang="en-US" sz="1800" spc="-1" strike="noStrike">
                <a:solidFill>
                  <a:srgbClr val="000000"/>
                </a:solidFill>
                <a:latin typeface="Curlz MT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 территория Московского княжества увеличилась в пять раз. К Москве были присоединены Ярославское и Ростовское княжества, Новгородская республика, Тверское княжество,  часть Польско-Литовского княжества, Пермь Великая. </a:t>
            </a:r>
            <a:r>
              <a:rPr b="1" lang="en-US" sz="1800" spc="-1" strike="noStrike">
                <a:solidFill>
                  <a:srgbClr val="000000"/>
                </a:solidFill>
                <a:latin typeface="Curlz MT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ИВАН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ВЕЛИКИЙ- рефлекс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4046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342900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3429000"/>
            <a:ext cx="39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В период властвования Ивана </a:t>
            </a:r>
            <a:r>
              <a:rPr b="1" lang="en-US" sz="1800" spc="-1" strike="noStrike">
                <a:solidFill>
                  <a:srgbClr val="000000"/>
                </a:solidFill>
                <a:latin typeface="Curlz MT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было покончено с игом Золотой Орды. На востоке Европы появилось новое, могучее и независимое государство – Росс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За четыре десятка лет под руководством Ивана </a:t>
            </a:r>
            <a:r>
              <a:rPr b="1" lang="en-US" sz="1800" spc="-1" strike="noStrike">
                <a:solidFill>
                  <a:srgbClr val="000000"/>
                </a:solidFill>
                <a:latin typeface="Curlz MT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 страна сделала невиданный скачок в своем развитии. Поэтому народ дал Ивану Третьему прозвище Вели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570480" cy="38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699-1462-423D-9ECC-C759811F0D1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7DAEB-332B-4F11-A03E-00E5F1CFCBCD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СОДЕРЖАНИЕ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1" action="ppaction://hlinksldjump"/>
              </a:rPr>
              <a:t>ЭПИГРАФ УР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2" action="ppaction://hlinksldjump"/>
              </a:rPr>
              <a:t>ЗАДАНИЕ НА У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3" action="ppaction://hlinksldjump"/>
              </a:rPr>
              <a:t>ГОСУДАРЬ ВСЕЯ РУ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4" action="ppaction://hlinksldjump"/>
              </a:rPr>
              <a:t>ПОКОРЕНИЕ НОВ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5" action="ppaction://hlinksldjump"/>
              </a:rPr>
              <a:t>БОРЬБА С ОРД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6" action="ppaction://hlinksldjump"/>
              </a:rPr>
              <a:t>СТОЯНИЕ НА УГ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7" action="ppaction://hlinksldjump"/>
              </a:rPr>
              <a:t>МОСКВА- ТРЕТИЙ Р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8" action="ppaction://hlinksldjump"/>
              </a:rPr>
              <a:t>ПЕРЕСТРОЙКА КРЕМ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9" action="ppaction://hlinksldjump"/>
              </a:rPr>
              <a:t>ИВАН ВЕЛИ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7667640" y="4941720"/>
            <a:ext cx="1038240" cy="11430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10800"/>
                </a:moveTo>
                <a:lnTo>
                  <a:pt x="19023" y="3794"/>
                </a:lnTo>
                <a:lnTo>
                  <a:pt x="19023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881-35C5-4593-80A8-7E3494ACB8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CF02B-F24B-46F8-BA57-29293F604F23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732720" y="5157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Архангельский собор"/>
          <p:cNvPicPr/>
          <p:nvPr/>
        </p:nvPicPr>
        <p:blipFill>
          <a:blip r:embed="rId2"/>
          <a:stretch/>
        </p:blipFill>
        <p:spPr>
          <a:xfrm>
            <a:off x="468360" y="476280"/>
            <a:ext cx="2519280" cy="248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68360" y="476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рхангельский со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Церковь Ризположения"/>
          <p:cNvPicPr/>
          <p:nvPr/>
        </p:nvPicPr>
        <p:blipFill>
          <a:blip r:embed="rId3"/>
          <a:stretch/>
        </p:blipFill>
        <p:spPr>
          <a:xfrm>
            <a:off x="2843280" y="2637000"/>
            <a:ext cx="2236680" cy="316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24000" y="2637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рковь Ризположения (положения риз пресвятой Богородиц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Благовещенский собор Кремля"/>
          <p:cNvPicPr/>
          <p:nvPr/>
        </p:nvPicPr>
        <p:blipFill>
          <a:blip r:embed="rId4"/>
          <a:stretch/>
        </p:blipFill>
        <p:spPr>
          <a:xfrm>
            <a:off x="5148360" y="4122720"/>
            <a:ext cx="216684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932360" y="40734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аговещенский со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985-D771-408A-9718-914141DDB7B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E3521-F26E-4C0C-A6E7-8727E7D09AB7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87040" y="2743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urlz MT"/>
              </a:rPr>
              <a:t>ЭПИГРАФ К УРОКУ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Иван 111 был первым русским правителем, изредка называвшим себя цар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Ричард Пайп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он докончил то, что начал отец, и властью своей превосходил всех монархов в мире.                                                      германский посол б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Герберштей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10987"/>
                </a:moveTo>
                <a:lnTo>
                  <a:pt x="17806" y="3981"/>
                </a:lnTo>
                <a:lnTo>
                  <a:pt x="17806" y="17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838-AA17-4D21-B226-747AC4F877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AF489-376D-4ED0-8DF9-20D4C85A7BCF}" type="datetime8">
              <a:rPr lang="en-US"/>
              <a:t>07/31/26 00:13</a:t>
            </a:fld>
          </a:p>
        </p:txBody>
      </p:sp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-15516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0800000">
            <a:off x="1547280" y="260280"/>
            <a:ext cx="72406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Задание на урок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349360"/>
            <a:ext cx="7240680" cy="388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age Italic"/>
              </a:rPr>
              <a:t>"Какова роль эпохи Ивана 111 в истории нашего государства?"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7877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443640" y="494172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 rot="5400000">
            <a:off x="-11909520" y="7422840"/>
            <a:ext cx="11588760" cy="180036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urlz MT"/>
              </a:rPr>
              <a:t>"Какова роль эпохи Ивана 111 в истории нашего государства?" 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10987"/>
                </a:moveTo>
                <a:lnTo>
                  <a:pt x="17806" y="3981"/>
                </a:lnTo>
                <a:lnTo>
                  <a:pt x="17806" y="17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1FE-BF05-466C-BE92-E00F14A605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7FEC8-CFA4-48FE-B167-5827C8809E9B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00720" y="476280"/>
            <a:ext cx="43192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, сын Василия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Темного, с детских лет ведал тяготы и опасности жизни великокняжеской семь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ротивники отца ослепили Василия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и несколько лет держали его в заточении. Верные великому князю бояре скрыли у себя малолетнего Ивана вместе с младшим братом. Дети жили в постоянном ожидании беды. Но недруги обманом выманили детей и заточили их в монастыре вместе с родителя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41320" y="1413000"/>
            <a:ext cx="3616560" cy="403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Видел маленький Иван, с какими трудностями и потерями его отец вернул себе великокняжеский престо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20808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2811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Государь всея Ру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10987"/>
                </a:moveTo>
                <a:lnTo>
                  <a:pt x="17806" y="3981"/>
                </a:lnTo>
                <a:lnTo>
                  <a:pt x="17806" y="17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9BC-8A85-4C7C-A323-EC3281E5018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27990-64F0-449C-84AA-B3C180ACB48B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932360" y="620640"/>
            <a:ext cx="395928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асилий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понимал все опасности конкурентной борьбы за власть в Московском княжеств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оэтому он провозглашает своего восьмилетнего сына Ивана великим князем и соправителем от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скоре Иван начинает выполнять важные военные и политические поручения. 12-летний Иван уже возглавляет военный пох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11280" y="1700280"/>
            <a:ext cx="4173480" cy="3417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932360" y="465300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обытия тревожного детства научили Ивана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быть осторожным, дипломатичным, а где необходимо – действовать жестко и решите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03280" y="1364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Государь всея Ру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10987"/>
                </a:moveTo>
                <a:lnTo>
                  <a:pt x="17806" y="3981"/>
                </a:lnTo>
                <a:lnTo>
                  <a:pt x="17806" y="17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09D-99A2-42FD-A3BC-B58F64BF582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28655-CD05-4226-8571-8045D2EFF7B4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716360" y="3284640"/>
            <a:ext cx="4032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помог псковичам изгнать немцев, и Псков признал главенство Москвы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 результате военного похода на Казань был достигнут мирный договор на условиях Москвы и освобождены русские пленные, томившиеся в нев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220920" cy="4464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16360" y="549360"/>
            <a:ext cx="41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 1462 г., после смерти Василия Темного, 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стал единовластным правителем Московского княже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Он присоединил к Москве Ярославль и Ростов, раздав их князьям земли и се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1364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Государь всея Ру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788508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F83-ABA2-4FE7-80CF-E8AEAB47C5C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A7598-981E-4A45-B652-356245B7A3AC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341360"/>
            <a:ext cx="4054680" cy="4508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40464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Покорение Новгор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765000"/>
            <a:ext cx="3960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ольный Новгород перестал соблюдать условия договора с Москвой и вступил в сговор с польско-литовским королем Казимиром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V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о главе большого войска захватил Новгород и жестоко расправился с новгородц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3500280"/>
            <a:ext cx="39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4 военных похода на Новгород совершил 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, прежде чем вольный город во всем признал власть Москвы. Знаменитый вечевой колокол, как символ самостоятельности Новгорода, по приказу Ивана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был снят и перевезен в Моск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10987"/>
                </a:moveTo>
                <a:lnTo>
                  <a:pt x="17806" y="3981"/>
                </a:lnTo>
                <a:lnTo>
                  <a:pt x="17806" y="17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7C2-9AB1-4E6D-ABCF-C64DD48E43C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3F776-3652-49B0-A9C7-3F57340F440B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133640"/>
            <a:ext cx="6337080" cy="4106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32000" y="458136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 14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г. Иван перестал платить дань Орде. Хан Ахмат направил в Москву своих послов. На глазах у ордынских послов и русских бояр Иван разорвал и растоптал договор с Ордой.  Он заявил, что больше не подчиняется хану и не будет платить ему дань. Ханские послы были изгнаны. В 1480 г. хан Ахмат послал на непокорную Русь большое войск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260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Борьба с Орд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466560" cy="549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430">
                <a:moveTo>
                  <a:pt x="0" y="0"/>
                </a:moveTo>
                <a:lnTo>
                  <a:pt x="21600" y="0"/>
                </a:lnTo>
                <a:lnTo>
                  <a:pt x="21600" y="25430"/>
                </a:lnTo>
                <a:lnTo>
                  <a:pt x="0" y="25430"/>
                </a:lnTo>
                <a:close/>
              </a:path>
              <a:path fill="lightenLess" w="21600" h="254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30">
                <a:moveTo>
                  <a:pt x="21600" y="0"/>
                </a:moveTo>
                <a:lnTo>
                  <a:pt x="21600" y="25430"/>
                </a:lnTo>
                <a:lnTo>
                  <a:pt x="20200" y="24030"/>
                </a:lnTo>
                <a:lnTo>
                  <a:pt x="20200" y="1400"/>
                </a:lnTo>
                <a:close/>
              </a:path>
              <a:path fill="darkenLess" w="21600" h="25430">
                <a:moveTo>
                  <a:pt x="21600" y="25430"/>
                </a:moveTo>
                <a:lnTo>
                  <a:pt x="0" y="25430"/>
                </a:lnTo>
                <a:lnTo>
                  <a:pt x="1400" y="24030"/>
                </a:lnTo>
                <a:lnTo>
                  <a:pt x="20200" y="24030"/>
                </a:lnTo>
                <a:close/>
              </a:path>
              <a:path fill="lighten" w="21600" h="25430">
                <a:moveTo>
                  <a:pt x="0" y="254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30"/>
                </a:lnTo>
                <a:close/>
              </a:path>
              <a:path fill="darken" w="21600" h="25430">
                <a:moveTo>
                  <a:pt x="3794" y="12715"/>
                </a:moveTo>
                <a:lnTo>
                  <a:pt x="17806" y="5709"/>
                </a:lnTo>
                <a:lnTo>
                  <a:pt x="17806" y="1972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5E0-C70E-44E1-98CC-04FC8264300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54A97-DAC5-4E48-B3DE-5ABA1602E04D}" type="datetime8">
              <a:rPr lang="en-US"/>
              <a:t>07/31/26 00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0:36:59Z</dcterms:created>
  <dc:creator>*</dc:creator>
  <dc:description/>
  <dc:language>en-US</dc:language>
  <cp:lastModifiedBy>Admin</cp:lastModifiedBy>
  <dcterms:modified xsi:type="dcterms:W3CDTF">2010-01-04T07:40:35Z</dcterms:modified>
  <cp:revision>142</cp:revision>
  <dc:subject/>
  <dc:title>Слайд 1</dc:title>
</cp:coreProperties>
</file>