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2A47-358C-4FDC-B687-5DF015A91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F970-30AA-4B18-9201-EC6EC226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438F-2648-4421-A034-800AD1B67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CCF1-6885-49F1-930B-232E7618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E5FD-94DE-4363-B851-E40D59240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99EE-172C-48DB-9100-090FAFE9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4797-01F9-435E-9210-DA955E61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9A5A-8551-40A2-89ED-A8E86751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2F03-0A7D-495B-8296-AAD409F2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5BEA-3CD0-42A1-BDBE-750C78BA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C9D5-8366-45AD-BD5D-3ED37AF7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86D5-5175-4E9A-AA8E-8B2E7743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2F32-C11B-4CC5-A816-AE622C2D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D310-8FBC-4C9B-BB9A-F493A7CC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CF94-5CCA-4463-BFF0-550F0016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876D-456F-4008-9F27-E52A86DBF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753C-D714-4338-91ED-93D47ECAA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F620-A333-4453-A41E-8A55A541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97D4-8410-409A-ACF1-349B2AE6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45E8-FA07-41FB-880A-DE588943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372F-FFE0-4D6F-8738-1C80FE4E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AD74-0A67-44ED-80A1-A05A91EA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5CCA-5C8D-4A1D-AC8A-A16BBC76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8DE2-267B-4AB6-B294-FE9F2ACF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6404-7954-48DD-B8CE-6496A6D560F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F147-EA3F-4159-A97D-7BEDA8C88CA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Картинки с выставки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292280"/>
            <a:ext cx="60469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рок музыки во 2 класс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четверть 1 уро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ыполнила учитель МОУ СОШ № 3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садских М.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549360"/>
            <a:ext cx="38862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едставьте себе героя, которого рисует эта музы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ие музыкальные краски использовал композитор, чтобы создать этот образ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813280" y="2143080"/>
            <a:ext cx="2095560" cy="1811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843280" y="5373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284418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0560" y="151920"/>
            <a:ext cx="73054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Избушка на курьих ножках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«Избушка на курьих ножках» - жилище лесной колдуньи. Композитор сделал домик обитаемы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067360" y="1557360"/>
            <a:ext cx="3409920" cy="4344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Comic Sans MS"/>
              </a:rPr>
              <a:t>Лиможский рыно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ими средствами композитор создает ощущение шума, разговоров, крики торговцев, зазывающих покупателей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588000" y="486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08" dur="indefinite" restart="never" nodeType="tmRoot">
          <p:childTnLst>
            <p:seq>
              <p:cTn id="209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210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22640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9280" y="333000"/>
            <a:ext cx="561672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узыка, используя свои средства выразительности, способна создавать «музыкальные картины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нимательные слушатели могут представить то, что хотел изобразить композитор – и богатыря, и забавных птенцов, и Бабу Ягу, и еще многое друго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Учитесь слушать музыку!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156360" y="4076640"/>
            <a:ext cx="2765520" cy="2479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880"/>
                            </p:stCondLst>
                            <p:childTnLst>
                              <p:par>
                                <p:cTn id="2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тог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30080" y="1413000"/>
            <a:ext cx="37706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 каком композиторе мы говорили сегодня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 называется фортепианный цикл, пьесы из которого мы сегодня слушали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05480" y="1828800"/>
            <a:ext cx="3776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.П.Мусоргск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«Картинки с выставки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156360" y="4508640"/>
            <a:ext cx="1947960" cy="1893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6" dur="4716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де мы можем увидеть картины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Были ли вы в Магнитогорской картинной галере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 вы думаете, можно ли звуками нарисовать картину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«О картинах» Г.Гладков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Ю.Энтин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95640" y="1412640"/>
            <a:ext cx="4608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Если видишь: на картине нарисована река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Или ель и белый иней, или сад и облака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Или снежная равнина, или поле и шалаш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Обязательно картина называется 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3460680" cy="25002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132000" y="587700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ЕЙЗА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47960" y="333360"/>
            <a:ext cx="38098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Если видишь на картине чашку кофе на столе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Или морс в большом графине, или розу в хрустале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Или бронзовую вазу, или грушу, или торт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Или все предметы сразу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Знай, что это –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4321080" cy="32990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348000" y="57340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ТЮРМО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43164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Если видишь, что с картины смотрит кто-нибудь на нас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Или принц в плаще старинном, или в робе верхолаз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Летчик или балерина, или Колька, твой сосед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Обязательно картина называется –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24360" y="3213000"/>
            <a:ext cx="2695680" cy="3384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427640" y="189000"/>
            <a:ext cx="2311200" cy="2952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268360" y="501336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ПОРТР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усоргский Модест Петрович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1528" t="1890" r="80180" b="68967"/>
          <a:stretch/>
        </p:blipFill>
        <p:spPr>
          <a:xfrm>
            <a:off x="324000" y="1268280"/>
            <a:ext cx="3240000" cy="40323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779640" y="1196640"/>
            <a:ext cx="46796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одился в небогатой помещичьей семье в селе Карево Псковской губерни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 детства играл на фортепиано, обнаруживая при этом способности к сочинению музык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н поступил в школу гвардейских прапорщиков, которую окончил в 1852 году, одновременно занимаясь музыкой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1858 году, отказавшись от военной карьеры,  поступил на государственную службу и занялся любимым делом – сочинением музык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415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«Картинки с выставки».   Фортепианный цикл. 187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2960640" cy="36576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419640" y="1483920"/>
            <a:ext cx="547344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Цикл посвящен памяти друга Мусоргского, художника и архитектора В. Гартмана.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Композитор поставил перед собой оригинальную задачу - отобразить инструментальными средствами содержание картин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рисунков и архитектурных проектов Гартма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Цикл состоит из десяти пьес: «Гном», «Избушка на курьих ножках», «Баба-Яга», «Ссора детей во время игры», «Балет невылупившихся птенцов», «Два еврея», «Рынок в Лиможе», «Старый замок», «Катакомбы», «Богатырские ворота в Киеве»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Богатырские воро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21164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акой инструмент исполняет пьесу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пределите характер музы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Что изображает музыка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акие средства использует композитор, чтобы создать «богатырский» образ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788000" y="1413000"/>
            <a:ext cx="4033800" cy="38955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01200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270973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Comic Sans MS"/>
              </a:rPr>
              <a:t>Балет невылупившихся птенцов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ого может изображать эта музыка? Почему вы так решили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ой регистр использует композитор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549760" y="1413000"/>
            <a:ext cx="3275280" cy="424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20:12:20Z</dcterms:created>
  <dc:creator>Bill Gates</dc:creator>
  <dc:description/>
  <dc:language>en-US</dc:language>
  <cp:lastModifiedBy>Bill Gates</cp:lastModifiedBy>
  <dcterms:modified xsi:type="dcterms:W3CDTF">2010-03-14T10:26:08Z</dcterms:modified>
  <cp:revision>10</cp:revision>
  <dc:subject/>
  <dc:title>Картинки с выставки</dc:title>
</cp:coreProperties>
</file>