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ACF-61F5-4FC4-BCC6-262D7464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693-D58E-46EE-BBDE-FF05FE11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E04-80B3-4E89-B8C2-2574D669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1E3-4E81-415E-A73E-A2645FEC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F08B-ADBD-406C-ABD6-92148419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37BC-5814-47A1-93C5-91ADFC5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51E-0D70-4C24-8878-C3FB7ABC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F02-23E4-4DC4-85D4-5B3C819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5797-B2E7-4464-B696-7EBEF29C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AC36-7197-4022-ABC1-61C6531F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1608-3C3C-4EF3-A7B1-7DAE6EC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7DE-4F37-48C9-92C7-3462AE00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277-849F-42E2-88FC-10608C4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9F09-ECB9-4EBB-9F64-484BB2C0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94DB-1BA6-424A-AE33-EAAA817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A9C-B940-4884-BEB4-C9CCFE59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67B8-A8BA-4801-ABD7-EC4D66D4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84D-107D-4C3B-8CE9-B3A7F66D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54F-D6D5-468B-80D5-9306CED1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CB5-FD58-412E-8180-898476D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3C7-80F6-4E65-8EC2-C8FEF95E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E2C-34F3-4E5B-BE97-B7169C4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A9F-46DC-4B46-BCC3-4D9B588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C8B-0730-4279-9495-CEACC0EA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3499-D09C-47BF-91F9-7DAE472303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2A1-B78A-4C04-B847-EBB26181B1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ртинки с выставк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292280"/>
            <a:ext cx="60469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рок музыки во 2 класс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четверть 1 ур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олнила учитель МОУ СОШ №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адских М.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549360"/>
            <a:ext cx="3886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ставьте себе героя, которого рисует эта музы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ие музыкальные краски использовал композитор, чтобы создать этот образ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13280" y="2143080"/>
            <a:ext cx="2095560" cy="1811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4328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84418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Избушка на курьих нож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Избушка на курьих ножках» - жилище лесной колдуньи. Композитор сделал домик обитаемы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67360" y="1557360"/>
            <a:ext cx="3409920" cy="4344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Лиможский ры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и средствами композитор создает ощущение шума, разговоров, крики торговцев, зазывающих покупателе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88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2264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5616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узыка, используя свои средства выразительности, способна создавать «музыкальные картины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имательные слушатели могут представить то, что хотел изобразить композитор – и богатыря, и забавных птенцов, и Бабу Ягу, и еще многое друг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Учитесь слушать музыку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56360" y="4076640"/>
            <a:ext cx="276552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80"/>
                            </p:stCondLst>
                            <p:childTnLst>
                              <p:par>
                                <p:cTn id="2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тог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0080" y="1413000"/>
            <a:ext cx="37706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 каком композиторе мы говорили сегодн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фортепианный цикл, пьесы из которого мы сегодня слуш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.П.Мусорг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Картинки с выстав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56360" y="4508640"/>
            <a:ext cx="1947960" cy="1893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471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де мы можем увидеть картин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ыли ли вы в Магнитогорской картинной галере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вы думаете, можно ли звуками нарисовать картин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О картинах» Г.Гладк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Ю.Энтин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608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Если видишь: на картине нарисована рек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ель и белый иней, или сад и обла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снежная равнина, или поле и шалаш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Обязательно картина называется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460680" cy="2500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132000" y="5877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7960" y="333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Если видишь на картине чашку кофе на стол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морс в большом графине, или розу в хрустал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бронзовую вазу, или грушу, или тор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ли все предметы сразу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Знай, что это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321080" cy="329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348000" y="5734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4316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Если видишь, что с картины смотрит кто-нибудь на нас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Или принц в плаще старинном, или в робе верхола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Летчик или балерина, или Колька, твой сосед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Обязательно картина называется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3213000"/>
            <a:ext cx="2695680" cy="3384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2311200" cy="2952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68360" y="5013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усоргский Модест Петрович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1528" t="1890" r="80180" b="68967"/>
          <a:stretch/>
        </p:blipFill>
        <p:spPr>
          <a:xfrm>
            <a:off x="324000" y="1268280"/>
            <a:ext cx="3240000" cy="4032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79640" y="1196640"/>
            <a:ext cx="467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дился в небогатой помещичьей семье в селе Карево Псковской губерн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детства играл на фортепиано, обнаруживая при этом способности к сочинению музы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поступил в школу гвардейских прапорщиков, которую окончил в 1852 году, одновременно занимаясь музыко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58 году, отказавшись от военной карьеры,  поступил на государственную службу и занялся любимым делом – сочинением музы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«Картинки с выставки».   Фортепианный цикл. 18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960640" cy="36576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19640" y="1483920"/>
            <a:ext cx="5473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кл посвящен памяти друга Мусоргского, художника и архитектора В. Гартмана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омпозитор поставил перед собой оригинальную задачу - отобразить инструментальными средствами содержание карт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рисунков и архитектурных проектов Гартм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кл состоит из десяти пьес: «Гном», «Избушка на курьих ножках», «Баба-Яга», «Ссора детей во время игры», «Балет невылупившихся птенцов», «Два еврея», «Рынок в Лиможе», «Старый замок», «Катакомбы», «Богатырские ворота в Киеве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огатырские вор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116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ой инструмент исполняет пьес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ите характер музы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изображает музы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ие средства использует композитор, чтобы создать «богатырский» образ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033800" cy="3895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12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70973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Балет невылупившихся птенц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го может изображать эта музыка? Почему вы так реши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регистр использует композитор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549760" y="1413000"/>
            <a:ext cx="3275280" cy="42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2:20Z</dcterms:created>
  <dc:creator>Bill Gates</dc:creator>
  <dc:description/>
  <dc:language>en-US</dc:language>
  <cp:lastModifiedBy>Bill Gates</cp:lastModifiedBy>
  <dcterms:modified xsi:type="dcterms:W3CDTF">2010-03-14T10:26:08Z</dcterms:modified>
  <cp:revision>10</cp:revision>
  <dc:subject/>
  <dc:title>Картинки с выставки</dc:title>
</cp:coreProperties>
</file>