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2791-E8F8-40C9-A601-02AB0E10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9A13-C9DF-4A3D-BF7B-3301E849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EAB7-ABC5-4B44-B997-FDFEABEE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ED4B-FE63-4B73-B73F-15C16164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3E9-B0DC-4B21-A670-D245CF0B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8F43-719A-4503-9E84-81F54718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15D4-9F72-47D7-B6A7-2F76AC23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1BC-B53D-4687-8D49-949D70C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64B-03D9-4C54-90AA-50138BB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C58-BFF9-4816-96A9-B86009B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16ED-7A10-4460-B0E8-96F2B5D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97AE-5E53-4338-A720-3D65AFA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89B-247A-4D0A-B135-32C0D79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A67-FBC9-44E4-B251-7F8DEBB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2D9D-7AD7-4B59-8958-7DABC18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B45E-BC18-4469-B49B-2FB89E5D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189A-3A46-4CA1-B9BC-497F0119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5DE1-D3C5-4AB4-8205-54C8881F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1953-FEAA-4483-9A44-4457953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2560-66BE-41D8-9529-D91DDD1C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651F-5861-434B-A0B4-DAD8E98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2695-9D9C-4A11-8BBF-0C296A7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B7E3-3796-4D46-A18D-449B5F2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27E4-A492-4E28-A82A-1CADB54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03BA-7089-4A23-BEBD-39E39B4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160D-55EB-4A7A-A1AA-623CF8A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0162-CB9D-4701-BEF8-1A67BC46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0ADF-01BC-48BB-BCE5-EC3FACB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15FB-DD34-4EA6-9584-036408F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92A9-1363-4A34-ACA9-E308A06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AB08-57AD-4945-8133-6F145C70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43B2-A91D-42D6-B67C-5112C55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DDDA-2A41-4563-964E-D12FEC9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DAD5-3DBB-408D-B440-A604B86D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6EA5-1F36-459B-B300-595C4E36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F563-0068-476D-AA86-AD5A139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657B-920F-4034-9743-6FCF9BB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7063-BD0A-44A6-95E5-6A8813B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25DC-0896-4F5C-B1DC-EE90974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7293-F3D7-4A96-9D15-1EE9822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EAEA-C31F-43D4-85BA-4DEA11D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F9AF-AA9F-47C3-BE2D-C00B83F5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0680-07B3-475B-93B3-EC5C0761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55C6-A075-441E-960F-811EF0EA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3F9A-4777-43A5-950D-31DE8B7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C7CF-BB2D-4382-B9BA-CCA8ABD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AE7E-6C9C-4BE6-A4DE-DBD9CB0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A4FA-DC40-46BE-8819-6B19550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611-B3EF-4EE5-8484-1CD578658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D4A-AF0C-46CC-A766-4E86137F0D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C64-A5FC-4ED3-8F42-A26F73AAB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A4B-F434-4020-B955-B21F80F73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развития системы психологического обеспечения образования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в Российской Федерации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а период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до 2012 г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69236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о-медико-педагогический со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ЦПМСС «Лабирин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1.09.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зентацию подготовила педагог-психолог Митюхина Н.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. Состояние системы психологического обеспечения образован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 основные направления ее 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ановление Правительства Российской Федерации от 31 июля 1998 г. № 867 «Об утверждении типового положения об образовательном учреждении для детей, нуждающихся в психолого-педагогической и медико-социальной помощи», приказ Минобразования России от 22 октября 1999 г. № 636 «Об утверждении Положения о службе практической психологии в системе Министерства образования Российской Федерации» и др. заложили основы правового и организационно-методического обеспечения развития Службы практической психологии в системе образования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39640" y="1212840"/>
            <a:ext cx="82296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содействие администрации и педагогическим коллективам образовательных учреждений всех типов в создании социальной ситуации развития, соответствующей индивидуальности обучающихся, воспитанников и обеспечивающей психологические условия для охраны здоровья и развития личности обучающихся, воспитанников, их родителей (законных представителей), педагогических работников и других участников образовательного процесса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Основная задача Сл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Психологическая служба образования является основным элементом, реализующим на практике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казание комплексной многопрофильной психолого-педагогической и медико-социально-правовой помощи всем участникам образовательного процесс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вышение уровня психологической культуры и психологической компетентности всех участников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сихологическое проектирование, экспертизу и мониторинг условий и результатов образовательной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Перспективы развития Сл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годня определяются новыми социальными требованиями к системе образования, сформулированными в рамках Приоритетных направлений развития образовательной системы Российской Федерации. Введение предшкольного образования, единого государственного экзамена, предпрофильного и профильного обучения, информатизация образования предопределяют особую роль этой Службы в оценке результатов и прогнозировании последствий экспериментов и инноваций в системе образования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I. Цели, задачи и основные направления развития системы 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86840" cy="2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Цель развит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ксимальное раскрытие и эффективное использование в практике образования потенциала всех составляющих этой системы: психологической службы образования, психологических факультетов и вузов, научных, образовательных организаций и учреждений, общественных и общественно-государственных объедин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Задачи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целостной системы психологического обеспечения образования на всех уров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ершенствование нормативной правовой баз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ершенствование системы подготовки, переподготовки и повышения квалификации психолог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хранение и развитие сети образовательных учреждений для детей, нуждающихся в психолого-педагогической и медико-социальной помощи (ППМС-центро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качества психологической помощи всем участникам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иление профилактической направлен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Принципы развития 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хранение приоритета гуманистических ценнос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еемственность целей, задач, направлений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илактическая направленность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омплексный подхо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ентированность на повышение качества и обеспечение доступности психологической помощи для всех контингентов обучающихся, воспитан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Приоритетные направления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ширение и развитие ППМС-центр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ция структурных подразделений психологической службы, в целостную многоуровневую систем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и развитие служб комплексной многопрофильной психолого-педагогической и медико-социальной помощи в образовательных учреждениях всех уровнях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циально-психологическое проектирование, мониторинг и экспертиза условий и результатов образователь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ершенствование программ профессиональной подготовки педагогических работник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аганда введения образовательными учреждениями предмета «Психология» в образовательный цик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а и внедрение психологических программ и проектов, направленных на профилактику асоциальных явлений, задержек и отклонений в развит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. Понятие, цели, задачи, направления деятельности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стемы 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V. Основные этапы развития системы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сихологического обеспечения образ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7386840" cy="28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На первом этапе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2009—2010 гг.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сихологическая служба образования и другие структуры в сфере психологии образования должны быть включены в единую систему психологического обеспечения образования на основе программно-целевого подход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На втором этапе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2011—2012 гг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основе детального анализа регионального опыта по развитию психологической службы образования в субъектах Российской Федерации предстоит реализовать меры по развитию системы психологического обеспечения образования, разработанные и прошедшие апробацию на первом этап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4000" y="1844640"/>
            <a:ext cx="8280360" cy="32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Цели психологического обеспечения 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повышение эффективности образовательной деятельности средствами психологической науки и практ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анный документ был принят на IV Всероссийском съезде психологов образования «Психология и современное российское образование», прошедшем в Москве в декабре 2008 г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Задачи психологического обеспечения образова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существление фундаментальных и прикладных исследований в области психоло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работка инструментария для деятельности педагога-психолога,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готовка психологических кадров для системы образования, а также подготовка научных кадров высшей квалификации в области психологии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вышение уровня психологической культуры и компетентности всех участников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сихологическое проектирование, экспертиза и мониторинг условий и результатов образователь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гнозирование и профилактика социальных рисков в системе образов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казание качественной многопрофильной психолого-педагогической помощи обучающимся, воспитанника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Организационная структура системы психологического обеспечения образ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Психологическая служба образования, обеспечивающая решение задач: по оказанию комплексной многопрофильной психолого-педагогической и медико-социально-правовой помощи всем участникам образовательного процесса в соответствии с целями и задачами системы образования, по повышению уровня психологической культуры и компетентности всех участников образовательного процесса, по психологическому проектированию, экспертизе и мониторингу условий и результатов образовательной деятель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Организации и учреждения, а также их подразделения, осуществляющие фундаментальные и прикладные научные исследования, подготовку научных кадров высшей квалификации в области психологии образования (аспирантура и докторантура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Образовательные учреждения, осуществляющие профессиональную подготовку, переподготовку и повышение квалификации психологических кадров, в том числе для психологической службы образо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Организации и учреждения всех типов, видов, организационно-правовых форм, а также их подразделения, осуществляющие практическую деятельность в сфере психологии образо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35:57Z</dcterms:created>
  <dc:creator>user</dc:creator>
  <dc:description/>
  <dc:language>en-US</dc:language>
  <cp:lastModifiedBy>Nata</cp:lastModifiedBy>
  <dcterms:modified xsi:type="dcterms:W3CDTF">2010-12-01T07:56:22Z</dcterms:modified>
  <cp:revision>13</cp:revision>
  <dc:subject/>
  <dc:title>КОНЦЕПЦИЯ  развития системы психологического обеспечения образования  в Российской Федерации на период до 2012 года </dc:title>
</cp:coreProperties>
</file>