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0B37E-F5DF-426F-A3F8-95C89E08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CC663-A04B-4710-9327-FDAC4817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FF713-71B9-4E86-BB0C-856A3AC5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C3ECD-0949-48D3-9840-5314183D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1AA4-C2D8-4048-A5F7-60257FB7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F055-5827-490E-AB02-4256039B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90A8-C46D-4300-99CC-A9E6A565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B21D-B97C-4E5B-A263-ED54C9EF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9BCF-61AA-4FEA-B25C-8C34ECE7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6390-4DFC-4FEB-8261-78902E2A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030A-F3E6-4FAA-B453-B51F18AC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AA29C-2B8B-4991-B49A-BB5347E6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55CA-FEF3-46A5-B267-DD81F52D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B56F-CD51-4881-A006-9965E680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07EC-CAB2-4BA3-9DDF-96509630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AFE4-FE11-4FD0-8662-F781D0E2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D181-AB50-4C5C-9A75-C954BD0E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7C4E5-9728-488F-B3EF-50AE0565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BC16A-8C64-49E0-9534-6211CB75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C42F4-61FD-491F-A258-E006CC08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13F62-6F5F-44E0-938E-08E084AA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A5871-776C-41A0-A7F3-99EAC032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4A991-D87E-44F1-AFB7-14F5B3C3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E3FC0-788C-4D26-B90A-5871D5A4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5600C-8EF8-4B00-BDF3-AE5915CF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F2D01-0FCB-4ED0-BB30-00BEDB9F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667C4-65BA-4BD1-852E-7CC16602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0A1CA-34EB-47C1-9545-75214D3D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CBDD3-9119-4B07-8D56-281DF027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D76D7-FFFF-4D3D-BB80-5F8F2F8F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3C55C-ADC6-4A0C-A98F-14F2A038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DC549-B2D9-449D-B66C-158570FE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1FBB6-5105-4C86-9CCC-A218FA73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5BF29-32E4-49FE-8EB6-4B7182F8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9D267-7515-48E7-AEB4-D2F0195D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EA3E0-169F-4186-84C6-45A4A1A4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FCCC8-3B48-43DC-9B87-3ECC3034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5DFBE-F083-4CA2-8BBF-C885E6A8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7A517-A416-40C5-BAB2-C466B4FE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DDC68-3061-48CA-85F0-11D148E3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5A5FA-26E4-4C7D-AAC8-58271F12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2C591-81D8-4AD7-AE34-C868E7F7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26681-D825-498A-A28A-4E283403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CF2AF-151C-4ADF-BD1C-F1270C5D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37CBF-5B06-4AE9-A093-F83D087C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24797-1353-498A-9C13-00B87646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8B582-A06E-426B-AA5E-1B2EA351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78C32-13AD-4397-BD94-F79AEA77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1788-B2C7-4446-843E-023A36EFCF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767A-C17E-450B-916E-CE03105E4D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52C5-5698-41B4-A17E-83F94F4E8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0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0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3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5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EB83-356B-4B2B-819C-5B1221234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6920" y="263664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КОНЦЕПЦИЯ 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развития системы психологического обеспечения образования 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в Российской Федерации 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на период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до 2012 год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692360" y="537336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сихолого-медико-педагогический сов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ЦПМСС «Лабирин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1.09.201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зентацию подготовила педагог-психолог Митюхина Н.П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900000" y="4653000"/>
            <a:ext cx="7386840" cy="28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I. Состояние системы психологического обеспечения образования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 основные направления ее развит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900000" y="5013360"/>
            <a:ext cx="7386840" cy="28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остановление Правительства Российской Федерации от 31 июля 1998 г. № 867 «Об утверждении типового положения об образовательном учреждении для детей, нуждающихся в психолого-педагогической и медико-социальной помощи», приказ Минобразования России от 22 октября 1999 г. № 636 «Об утверждении Положения о службе практической психологии в системе Министерства образования Российской Федерации» и др. заложили основы правового и организационно-методического обеспечения развития Службы практической психологии в системе образования Росс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539640" y="1212840"/>
            <a:ext cx="822960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«содействие администрации и педагогическим коллективам образовательных учреждений всех типов в создании социальной ситуации развития, соответствующей индивидуальности обучающихся, воспитанников и обеспечивающей психологические условия для охраны здоровья и развития личности обучающихся, воспитанников, их родителей (законных представителей), педагогических работников и других участников образовательного процесса»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Garamond"/>
              </a:rPr>
              <a:t>Основная задача Службы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Психологическая служба образования является основным элементом, реализующим на практике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казание комплексной многопрофильной психолого-педагогической и медико-социально-правовой помощи всем участникам образовательного процесс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овышение уровня психологической культуры и психологической компетентности всех участников образовательного процесс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сихологическое проектирование, экспертизу и мониторинг условий и результатов образовательной деятельност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Garamond"/>
              </a:rPr>
              <a:t>Перспективы развития Службы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егодня определяются новыми социальными требованиями к системе образования, сформулированными в рамках Приоритетных направлений развития образовательной системы Российской Федерации. Введение предшкольного образования, единого государственного экзамена, предпрофильного и профильного обучения, информатизация образования предопределяют особую роль этой Службы в оценке результатов и прогнозировании последствий экспериментов и инноваций в системе образования Росс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II. Цели, задачи и основные направления развития системы психологического обеспечения образо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900000" y="5084640"/>
            <a:ext cx="7386840" cy="281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Цель развити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аксимальное раскрытие и эффективное использование в практике образования потенциала всех составляющих этой системы: психологической службы образования, психологических факультетов и вузов, научных, образовательных организаций и учреждений, общественных и общественно-государственных объединен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Задачи: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здание целостной системы психологического обеспечения образования на всех уровнях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вершенствование нормативной правовой баз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вершенствование системы подготовки, переподготовки и повышения квалификации психолог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хранение и развитие сети образовательных учреждений для детей, нуждающихся в психолого-педагогической и медико-социальной помощи (ППМС-центров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еспечение качества психологической помощи всем участникам образовательного процесс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силение профилактической направленност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Принципы развития :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хранение приоритета гуманистических ценносте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еемственность целей, задач, направлений деятельност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филактическая направленность деятельност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омплексный подход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риентированность на повышение качества и обеспечение доступности психологической помощи для всех контингентов обучающихся, воспитанник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Garamond"/>
              </a:rPr>
              <a:t>Приоритетные направления: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сширение и развитие ППМС-центр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нтеграция структурных подразделений психологической службы, в целостную многоуровневую систем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здание и развитие служб комплексной многопрофильной психолого-педагогической и медико-социальной помощи в образовательных учреждениях всех уровнях образован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циально-психологическое проектирование, мониторинг и экспертиза условий и результатов образовательной деятельност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вершенствование программ профессиональной подготовки педагогических работников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паганда введения образовательными учреждениями предмета «Психология» в образовательный цикл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работка и внедрение психологических программ и проектов, направленных на профилактику асоциальных явлений, задержек и отклонений в развит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. Понятие, цели, задачи, направления деятельности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истемы психологического обеспечения образо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900000" y="4653000"/>
            <a:ext cx="7386840" cy="28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V. Основные этапы развития системы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сихологического обеспечения образо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900000" y="4653000"/>
            <a:ext cx="7386840" cy="28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На первом этапе </a:t>
            </a:r>
            <a:br>
              <a:rPr sz="5400"/>
            </a:b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2009—2010 гг.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сихологическая служба образования и другие структуры в сфере психологии образования должны быть включены в единую систему психологического обеспечения образования на основе программно-целевого подход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На втором этапе</a:t>
            </a:r>
            <a:br>
              <a:rPr sz="5400"/>
            </a:b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 2011—2012 гг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 основе детального анализа регионального опыта по развитию психологической службы образования в субъектах Российской Федерации предстоит реализовать меры по развитию системы психологического обеспечения образования, разработанные и прошедшие апробацию на первом этап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24000" y="1844640"/>
            <a:ext cx="8280360" cy="32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424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Цели психологического обеспечения образовани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— повышение эффективности образовательной деятельности средствами психологической науки и практи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Данный документ был принят на IV Всероссийском съезде психологов образования «Психология и современное российское образование», прошедшем в Москве в декабре 2008 го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Задачи психологического обеспечения образовани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осуществление фундаментальных и прикладных исследований в области психологи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азработка инструментария для деятельности педагога-психолога,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дготовка психологических кадров для системы образования, а также подготовка научных кадров высшей квалификации в области психологии образован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вышение уровня психологической культуры и компетентности всех участников образовательного процесс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сихологическое проектирование, экспертиза и мониторинг условий и результатов образовательной деятельност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рогнозирование и профилактика социальных рисков в системе образован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оказание качественной многопрофильной психолого-педагогической помощи обучающимся, воспитанника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Организационная структура системы психологического обеспечения образовани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Психологическая служба образования, обеспечивающая решение задач: по оказанию комплексной многопрофильной психолого-педагогической и медико-социально-правовой помощи всем участникам образовательного процесса в соответствии с целями и задачами системы образования, по повышению уровня психологической культуры и компетентности всех участников образовательного процесса, по психологическому проектированию, экспертизе и мониторингу условий и результатов образовательной деятель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2. Организации и учреждения, а также их подразделения, осуществляющие фундаментальные и прикладные научные исследования, подготовку научных кадров высшей квалификации в области психологии образования (аспирантура и докторантура)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3. Образовательные учреждения, осуществляющие профессиональную подготовку, переподготовку и повышение квалификации психологических кадров, в том числе для психологической службы образовани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4. Организации и учреждения всех типов, видов, организационно-правовых форм, а также их подразделения, осуществляющие практическую деятельность в сфере психологии образовани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4:35:57Z</dcterms:created>
  <dc:creator>user</dc:creator>
  <dc:description/>
  <dc:language>en-US</dc:language>
  <cp:lastModifiedBy>Nata</cp:lastModifiedBy>
  <dcterms:modified xsi:type="dcterms:W3CDTF">2010-12-01T07:56:22Z</dcterms:modified>
  <cp:revision>13</cp:revision>
  <dc:subject/>
  <dc:title>КОНЦЕПЦИЯ  развития системы психологического обеспечения образования  в Российской Федерации на период до 2012 года </dc:title>
</cp:coreProperties>
</file>