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B313-3E61-49F5-81D0-CF490DC4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2D0-4C64-4FEA-A22F-80C93431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8A6DA-6995-4034-A318-538214F2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CC7DB-81D3-4D6C-9EDE-E6913599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9931A-5F5B-438D-88F1-CCE34DAD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E0C3E-D906-492A-89BD-950CFCBE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379D2-7475-4CE8-95D7-766D0FEC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F3927-3CAF-4B2F-8208-FEB28402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00550-0678-4D24-8599-E12CA4ED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833BA-3844-4F46-906E-867F0065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4F381-FD06-423A-AEB6-0F9C9D33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DFC0F-58FA-48F4-B824-47EECA65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0032-7E1B-4764-909E-E18382C1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7D355-A535-4C54-B8F7-7CA1DA63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D2470-1C99-4EB6-BC76-E9027859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02E41-ABA3-4A7C-86A5-A01C9A2B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89982-5563-40A2-A8B6-5D161435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FF3D9-7ABE-4679-A581-4C754585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15E68-7443-4525-BD78-1AB706D2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AE985-8ACF-4025-97A5-30275260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E5095-9826-41D3-BB59-3381FFC3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3F78C-44CA-481A-ABEF-278AF126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772D2-FD39-4E30-8982-4EF56113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9FB-1173-4326-BDB2-BA6E6FA3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6CC66-541E-40BC-9282-3EDC8BEF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AB78-B711-4A8B-9B14-803B9CE6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440E-56FD-4DDD-9D2B-D551BC49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9DC5-F483-4F93-A0B8-F7352043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65A8-B965-48B2-9757-CCDF6DF2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4EDF-3B16-4745-99DD-A5FEB775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4478-E036-41E6-8C58-7DDBA5DE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E5F9-0419-4C59-8AE9-99E0F275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8C5E-2643-4DE2-80A5-EDBA668F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7957-00E1-44C3-816D-35CAA285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C05E-5546-40B2-8CB8-67B60E92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E7A7-69F0-4E42-A006-76CB83C1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A65F-DACF-4FCA-A191-27BEAE40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E955-5485-4966-8D07-B754F705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CDEFD-124D-4B8A-83BB-68C5B44D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FDAA3-997C-481F-ACAF-94A24E7E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1263C-8053-4D64-9080-DCCCA651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9C7AD-0676-4CD7-BAC7-91DF98BE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EA41D-776A-464B-AD54-E4E12AD0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3F1-8654-41FE-8015-AD992CD4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E2E48-DE09-454D-A971-43D598E6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AE41F-C58D-46FA-8129-52201D61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2EF74-E624-4D7E-92D8-12F75197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66B9E-92FF-41DD-8FE2-8D76D252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D2CEC-6254-44CC-9C7E-53CE832A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12E9B-BADB-4BDE-9F16-E1D11122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FC65A-461A-4752-9B67-FAA4089D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8D115-89C7-4304-91DE-C11D526F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E6F2D-688C-49BC-A90A-4E3F1CEF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8F24C-6365-443B-986E-3AA18559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EB28-9250-457B-82B1-844FEC8E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59F8E-884A-4C19-A5FD-AF661467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46278-FD13-4CF7-AE75-6E8C31D8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D1DB3-F745-4ADF-9458-ADC01532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BCB3B-60A1-4E07-9A81-BE9AA762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3816E-559F-4D9F-BD1C-377DDB09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B4C18-C139-4DC1-9005-1B68E5C7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5C72A-70A4-4006-B533-C3766FCF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D993B-34EE-4862-9067-F6E4987F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CF85D-4A65-4867-AF1A-F6139DED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7908C-FBC7-4D35-9632-9D27C411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FD3-0855-4C7E-85A1-4F49A28A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31F2A-0D0B-4478-888F-1B8BC0D3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34317-6267-475C-9CC9-3C8B7C19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3EA1C-32CF-4672-9E6F-DFBD151B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68F3C-6BBF-44C7-87DE-F4F90D38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575DD-DB4C-428F-BE7E-2A0A8A5E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2FD9F-6C02-43F6-82F4-3F1C179A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CFE6C-30B3-4B55-BA01-4554D400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EC27B-2C1B-47E7-9BD3-D8DC7153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21C75-0CD9-43B6-AE0E-A092CF1B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A564F-926D-4FEE-BAAF-CD44FCBB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F23-1498-468F-88E8-8DD5A671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9DEDB-EE12-429A-A505-F989F102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D6434-523D-400E-9FA3-DA31E48D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C2546-FF9F-442C-9A6A-E386FD3B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0DC91-A173-4436-8EB9-2123D0F8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BEFFE-70BA-4DCA-BE1C-5F2D5006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601C2-F05B-40CB-A93D-C6635D07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24C0C-7AD5-4520-9F97-FB657F97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18E53-64EF-495E-B667-A0A984B5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03254-9290-4B36-B5ED-86880689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62288-8DC0-4AD3-94C1-DB46FCE1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FAC-472C-4AB0-9C09-D037F604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6DE49-E3C4-4553-9018-45F1CCC4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F73EA-8584-4D0B-87D3-60E5EDDF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DC365-4F64-43C5-B8E3-1B5A94D7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38B4C-AA0E-4DEE-87AB-71C4CE00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5FBEB-DA16-4FE9-AB03-2D175B4F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3C769-87A3-4085-A502-6B881372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18E17-D17D-4C9D-A37C-DCCFE5E8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EFCF6-3ABD-45EF-AC49-B5B45A41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5433A-1C31-4445-BF81-2B2969B7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4EC8E-11C2-4CA9-B00B-8A06D7EE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333-E939-42BC-8C50-9E151B26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211E7-4C34-4BD7-8BD9-122F090C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DEFB8-6257-4065-A4FE-CEBD0A06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81427-3661-4407-B79D-6738E07C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93B21-959B-4E0D-9CC4-0AF24E89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59910-8AC4-4FE9-BAF1-8404983E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7BCD7-EA01-4090-9849-DB9D219C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6D3DB-33DC-4E6B-BF72-19AF5F47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3A5CC-4A0E-4DEF-879F-A6C5F8E5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D6449-736E-4A96-8D88-2F50446B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0A4BA-4D17-4DD9-BEF0-62BD33DC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67B-FA90-44CF-844D-42753E72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7F5D2-7FA6-4620-A7A0-70CDEB06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AA847-7124-43B8-BA09-51F2E2EE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4315E-FD76-4172-B609-5F37680F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E59D2-1E92-4C49-811F-98FD1635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E0E62-786B-4C50-930C-C52651A1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E2E97-653F-4056-806C-9E8393F3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830D5-2927-4272-B95D-006C69E6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B858B-97B1-40E2-B788-C0AB93B3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E18F2-35B6-4249-BD2B-8A3057B8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283CF-7005-4D08-886C-1F683E06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35E3E-E34A-4B59-91DF-97C5245E3328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8A830-E967-45B0-9A25-12082B08926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40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40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7C450-7FFE-4931-8C63-1B86AC11824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F2F5D-A3B8-47F0-AB4F-5CC2A450980D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D3B39-1160-43AC-BF15-13B97FD63B6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ECC4F-EB23-4BD4-BE1C-D94A21DA0987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B62F0-635E-442C-BAB9-808B319A4B7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92116-6E26-4076-8B65-83E0BDCF2F48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93209-1882-4DB6-9EE1-20A6B0AC43F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BA04A8-D7FD-4A9C-867B-233D22B7BCB8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870C5-35C4-4BEC-A641-FB300D32D86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02895-6607-4463-AF42-452BD3E026CE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DB7D8-367D-408F-A980-D6304FAC674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33894-3008-4FD1-A4F7-BF833C3537BD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2ADB5-FAD3-4BCC-A0B1-0D0020A5CDB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38F9D-F816-45FF-9FEA-7EDAFA75DE9F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0D036-5CF3-4696-938E-1A60CCF93EB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94DD4-3836-4618-8089-ACBD0A7F815C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77D35-E0B0-44AF-AACE-936D940C378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1" descr=""/>
          <p:cNvPicPr/>
          <p:nvPr/>
        </p:nvPicPr>
        <p:blipFill>
          <a:blip r:embed="rId2"/>
          <a:stretch/>
        </p:blipFill>
        <p:spPr>
          <a:xfrm>
            <a:off x="1427040" y="353880"/>
            <a:ext cx="7418520" cy="27003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1438200" y="3200040"/>
            <a:ext cx="740736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Митюхина Н.П.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педагог-психолог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ЦПМСС «Лабиринт» г. Волжск, РМЭ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18 ноября 2010г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2"/>
          <a:stretch/>
        </p:blipFill>
        <p:spPr>
          <a:xfrm>
            <a:off x="450720" y="79200"/>
            <a:ext cx="8699760" cy="12924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611280" y="1142640"/>
            <a:ext cx="792144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следование восприяти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следование памят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«Пиктограмма»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«Память на числа»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«Воспроизведение текстов»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следование внимания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Расстановка чисел", «Выявление слов", «Отыскивание чисел с переключением», «Перепутанные линии»,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следование мышления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Сложение чисел с переключением», «Установление закономерностей», «Сложные аналогии», «Сравнение понятий»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следование интеллекта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Тест структуры интеллекта Р.Амтхауэра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Тест возрастающей трудности - методики Равена»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Школьный тест умственного развития – ШТУР»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2"/>
          <a:stretch/>
        </p:blipFill>
        <p:spPr>
          <a:xfrm>
            <a:off x="250920" y="79200"/>
            <a:ext cx="8699400" cy="14781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250560" y="155736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Характерологический опросник К.Леонгарда.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ногофакторный личностный опросник FPI.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исбаденский опросник </a:t>
            </a:r>
            <a:r>
              <a:rPr b="0" i="1" lang="en-US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N</a:t>
            </a: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r>
              <a:rPr b="0" i="1" lang="en-US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Peseschkian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ичностный дифференциал.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Методика ЛД адаптирована сотрудниками психоневрологического института им. В. М. Бехтерева.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«Q-сортировка» тенденций поведения в группе.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“Ценностные ориентации” М.Рокича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росник «Степень уверенности в себе»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росник Басса-Дарки.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следование личности с помощью 16 - факторного опросника Кеттела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Спилбергера-Ханина.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Разработан Ч.Д.Спилбергером и адаптирован Ю.Л.Ханиным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85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615600" y="17733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следование межличностных отношений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«Диагностика межличностных отношений Т. Лири»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«Тип поведения в конфликтной ситуации» разработана К.Томасом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 адаптирована Н.В.Гришиной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«Изучение привлекательности работы»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снована на сравнении образов реально существующих условий работы и условий, желаемых человеком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следование групповой динамики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«Социометрия»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используется для диагностики межличностных и межгрупповых отношений в целях их изменения, улучшения и совершенствования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762120" y="126072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23227"/>
                </a:solidFill>
                <a:latin typeface="Times New Roman"/>
              </a:rPr>
              <a:t>В заключении выделяются те сферы психической жизни ребенка или подростка, в которой обнаружены определенные нарушения или отклонения от возрастной нормы, описываются конкретные проявления этих наруш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23227"/>
                </a:solidFill>
                <a:latin typeface="Times New Roman"/>
              </a:rPr>
              <a:t>По возможности и необходимости указываются причины существующих нарушений, перечисляются адекватные, с точки зрения психолога, формы сопровождения. Конкретные диагностические приемы, а также упражнения направленные на развитие познавательной и коммуникативной сфе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Rectangle 41" descr=""/>
          <p:cNvPicPr/>
          <p:nvPr/>
        </p:nvPicPr>
        <p:blipFill>
          <a:blip r:embed="rId2"/>
          <a:stretch/>
        </p:blipFill>
        <p:spPr>
          <a:xfrm>
            <a:off x="298440" y="22536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609480" y="14842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 результатам обследования проводится заключительная беседа с родителями (лицами, их заменяющими), даются рекомендации по обучению, воспитанию и коррекци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лее, на основании полученных и обобщенных сведений и принятого консилиумом решения строится коррекционно-развивающая работа. Условием реализации потенциальных возможностей детей является создание благоприятной социально-психологической обстановки доверия. При этом формирование ценностных ориентации важно не только у ребенка, но и у окружающих его взрослых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4" descr=""/>
          <p:cNvPicPr/>
          <p:nvPr/>
        </p:nvPicPr>
        <p:blipFill>
          <a:blip r:embed="rId2"/>
          <a:stretch/>
        </p:blipFill>
        <p:spPr>
          <a:xfrm>
            <a:off x="298440" y="96840"/>
            <a:ext cx="8693280" cy="12985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803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</a:rPr>
              <a:t>Актуальное состояние: 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</a:rPr>
              <a:t>низкий темп выполнения классных работ, часто отвлекается, рассеян, невнимателен, отмечается бедность речи, испытывает трудности оперирования абстрактными понятиями, затрудняется при подборе обобщающих формулировок.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e3b30"/>
                </a:solidFill>
                <a:latin typeface="Times New Roman"/>
              </a:rPr>
              <a:t>Единичные недостатки развития моторных функций, пространственного восприятия, зрительного восприятия и речевых функций приводят к задержке формирования умственного плана действий.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e3b30"/>
                </a:solidFill>
                <a:latin typeface="Times New Roman"/>
              </a:rPr>
              <a:t>Мышление, в целом, носит конкретный характер, достаточно хорошо ориентируется по наглядным изображениям и затрудняется при выполнении заданий в речевом плане.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e3b30"/>
                </a:solidFill>
                <a:latin typeface="Times New Roman"/>
              </a:rPr>
              <a:t>В личностной сфере испытывает недостаток эмоциональной теплоты дома, потребность во внимании со стороны близких людей. Прямолинейность, ригидность, готовность к контактам, и, в то же время, недостаток контроля над эмоциями, часто оборачивается конфликтами и неудовлетворенностью отношениями с окружающими.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e3b30"/>
                </a:solidFill>
                <a:latin typeface="Times New Roman"/>
              </a:rPr>
              <a:t>В контакт с педагогом старается не вступать, навыки общения с взрослыми развиты плохо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Rectangle 8" descr=""/>
          <p:cNvPicPr/>
          <p:nvPr/>
        </p:nvPicPr>
        <p:blipFill>
          <a:blip r:embed="rId2"/>
          <a:stretch/>
        </p:blipFill>
        <p:spPr>
          <a:xfrm>
            <a:off x="298440" y="139680"/>
            <a:ext cx="8693280" cy="12924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617400" y="1371600"/>
            <a:ext cx="8374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4e3b30"/>
                </a:solidFill>
                <a:latin typeface="Times New Roman"/>
              </a:rPr>
              <a:t>Наличие отклонений и особенностей развития: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труктура нарушений свидетельствует об общей незрелости личности, проявляющейся в низком уровне познавательных интересов, недоразвитии речи, низком темпе оперирования понятиями, несформированности эмоционально-волевой сферы, повышенной утомляемости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ыявленная задержка развития по типу психической неустойчивости, обусловлена, прежде всего, микросоциально-педагогической запущенностью, бедностью социальной среды, отсутствием стимулирующих развитие влияний окружения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Rectangle 7" descr=""/>
          <p:cNvPicPr/>
          <p:nvPr/>
        </p:nvPicPr>
        <p:blipFill>
          <a:blip r:embed="rId2"/>
          <a:stretch/>
        </p:blipFill>
        <p:spPr>
          <a:xfrm>
            <a:off x="298440" y="324000"/>
            <a:ext cx="8699400" cy="14554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971640" y="1790640"/>
            <a:ext cx="712944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ндивидуальные занятия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л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ключение в группу, занятия которой направлены на развитие коммуникативных функций, познавательной и эмоционально-волевой сфер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Rectangle 92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Rectangle 6" descr=""/>
          <p:cNvPicPr/>
          <p:nvPr/>
        </p:nvPicPr>
        <p:blipFill>
          <a:blip r:embed="rId2"/>
          <a:stretch/>
        </p:blipFill>
        <p:spPr>
          <a:xfrm>
            <a:off x="298440" y="324000"/>
            <a:ext cx="8699400" cy="145548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456840" y="17794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Информирование педагогов об особенностях поведения ребенка в процессе групповой и индивидуальной работы, помощь в разработке стратегий педагога по формированию успешного контакта с ребенком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Проведение индивидуальной консультации с семьей с целью обсуждения особенностей личности ребенка (встреча может быть проведена вместе с социальным педагогом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85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57200" y="145044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глубленное изучение особенностей интеллектуального развития детей, личностных и поведенческих реакций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казание методической помощи учителям-логопедам (учителям-дефектологам), учителям (воспитателям), родителям в оценке интеллектуального развития ребёнка, основных качеств его личности, вскрытии проблем самооценки, мотивации, особенностей познавательных и иных интересов, эмоциональной сферы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еспечение подхода к ребёнку с оптимистической гипотезой перспектив его дальней­шего развития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строение совместной программы действий, направленной на развитие определённых качеств или на устранение выявленных трудностей и недостатков развития и разработка коррекционных программ индивидуального разви­тия ребен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94920" y="1458720"/>
            <a:ext cx="806436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 консилиумом   мы понимаем постоянно действующий, скоординированный, объединенный общими целями коллектив специалистов, реализующий ту или иную стратегию сопровождения ребенка.</a:t>
            </a:r>
            <a:r>
              <a:rPr b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Title 1" descr=""/>
          <p:cNvPicPr/>
          <p:nvPr/>
        </p:nvPicPr>
        <p:blipFill>
          <a:blip r:embed="rId2"/>
          <a:stretch/>
        </p:blipFill>
        <p:spPr>
          <a:xfrm>
            <a:off x="298440" y="139680"/>
            <a:ext cx="8699400" cy="17859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 txBox="1"/>
          <p:nvPr/>
        </p:nvSpPr>
        <p:spPr>
          <a:xfrm>
            <a:off x="684000" y="192564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рвичное заключение психологического обследования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бочий журнал учета групповых форм работы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ндивидуальная коррекционная программ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сихологическое заключение динамического (промежуточного) обследова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тоговое психологическое заключени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WordArt 7"/>
          <p:cNvSpPr txBox="1"/>
          <p:nvPr/>
        </p:nvSpPr>
        <p:spPr>
          <a:xfrm>
            <a:off x="1332000" y="2276640"/>
            <a:ext cx="756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0a22e"/>
                    </a:gs>
                    <a:gs pos="100000">
                      <a:srgbClr val="a5644e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0a22e"/>
                  </a:gs>
                  <a:gs pos="100000">
                    <a:srgbClr val="a5644e"/>
                  </a:gs>
                </a:gsLst>
                <a:lin ang="5400000"/>
              </a:gradFill>
              <a:effectLst>
                <a:outerShdw dist="89604" dir="27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1" descr=""/>
          <p:cNvPicPr/>
          <p:nvPr/>
        </p:nvPicPr>
        <p:blipFill>
          <a:blip r:embed="rId2"/>
          <a:stretch/>
        </p:blipFill>
        <p:spPr>
          <a:xfrm>
            <a:off x="298440" y="19080"/>
            <a:ext cx="8699400" cy="1455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298440" y="1474920"/>
            <a:ext cx="8686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меющими трудности в обучении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евиантное, делинквентное, аддиктивное поведение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так же дети, находящиеся в семье СОП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аких детей можно охарактеризовать как детей с отклоняющимся развитием. Последнее подразумевает несоответствие каких-либо характеристик развития, обучения и поведения ребенка социально-психологическим нормативам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206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68360" y="1474920"/>
            <a:ext cx="4619520" cy="24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 - задатк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 - способ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-темперамен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Х - характер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 - направлен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6" name="Picture 7" descr="pic1"/>
          <p:cNvPicPr/>
          <p:nvPr/>
        </p:nvPicPr>
        <p:blipFill>
          <a:blip r:embed="rId3"/>
          <a:stretch/>
        </p:blipFill>
        <p:spPr>
          <a:xfrm>
            <a:off x="5087880" y="1163520"/>
            <a:ext cx="4253040" cy="428148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8"/>
          <p:cNvSpPr/>
          <p:nvPr/>
        </p:nvSpPr>
        <p:spPr>
          <a:xfrm>
            <a:off x="250920" y="5157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ормальная личность представляется на рисунке в виде равного колеса, которое гладко катится по дорогам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20672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0360" y="2060640"/>
            <a:ext cx="46976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Когда компенсаторные механизмы начинают сдавать, то признаки акцентуации могут выйти наруж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0" name="Picture 11" descr="pic2"/>
          <p:cNvPicPr/>
          <p:nvPr/>
        </p:nvPicPr>
        <p:blipFill>
          <a:blip r:embed="rId3"/>
          <a:stretch/>
        </p:blipFill>
        <p:spPr>
          <a:xfrm>
            <a:off x="4648320" y="1434960"/>
            <a:ext cx="44956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2067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ри явной акцентуации особенности личности проявляются лишь в особых условиях, когда «колесо» личности столкнется с дорогой жизни своим шипо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3" name="Picture 9" descr="pic3"/>
          <p:cNvPicPr/>
          <p:nvPr/>
        </p:nvPicPr>
        <p:blipFill>
          <a:blip r:embed="rId3"/>
          <a:stretch/>
        </p:blipFill>
        <p:spPr>
          <a:xfrm>
            <a:off x="4648320" y="1434960"/>
            <a:ext cx="44956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2067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6840" y="1196640"/>
            <a:ext cx="4475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сли жизнь акцентуированной личности сложится неблагополучно, то может произойти полная деформация личности, трудно отличимая от психопатии. Это состояние патохарактерологического развит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6" name="Picture 7" descr="pic4"/>
          <p:cNvPicPr/>
          <p:nvPr/>
        </p:nvPicPr>
        <p:blipFill>
          <a:blip r:embed="rId3"/>
          <a:stretch/>
        </p:blipFill>
        <p:spPr>
          <a:xfrm>
            <a:off x="4648320" y="1681200"/>
            <a:ext cx="42447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2067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о психопатии можно говорить тогда, когда имеет    место тотальная деформация личности в  такой степени, что нарушает ее социальную адаптацию</a:t>
            </a: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9" name="Picture 7" descr="pic5"/>
          <p:cNvPicPr/>
          <p:nvPr/>
        </p:nvPicPr>
        <p:blipFill>
          <a:blip r:embed="rId3"/>
          <a:stretch/>
        </p:blipFill>
        <p:spPr>
          <a:xfrm>
            <a:off x="4648320" y="1609560"/>
            <a:ext cx="431640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Rectangle 2" descr=""/>
          <p:cNvPicPr/>
          <p:nvPr/>
        </p:nvPicPr>
        <p:blipFill>
          <a:blip r:embed="rId2"/>
          <a:stretch/>
        </p:blipFill>
        <p:spPr>
          <a:xfrm>
            <a:off x="298440" y="22536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298440" y="1699920"/>
            <a:ext cx="8377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зучение документации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— истории развития ребенка с целью получения представления о причинах отклонений в развити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зучение результатов деятельности детей:</a:t>
            </a:r>
            <a:r>
              <a:rPr b="0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исунки, поделки, письменные и учебные работ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</a:rPr>
              <a:t>Метод наблюдения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за ребенком на уроке и на перемене, включающий анализ наиболее важных сфер его деятельности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рисунки, поделки, письменные и учебные работы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</a:rPr>
              <a:t>Метод беседы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— установление контакта, выявление особенностей психики в процессе личного общения с ребенко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</a:rPr>
              <a:t>Метод эксперимента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, направленный на изучение психических функций ребенка: восприятие, внимание, память, мышление, и особенности развития личности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</a:rPr>
              <a:t>Метод тестирования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, используемый при оценке уровня развития способностей, мотивационной сферы и личностных особенност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0:52:18Z</dcterms:created>
  <dc:creator>Диана Москалева</dc:creator>
  <dc:description/>
  <dc:language>en-US</dc:language>
  <cp:lastModifiedBy>Nata</cp:lastModifiedBy>
  <dcterms:modified xsi:type="dcterms:W3CDTF">2010-12-01T08:00:08Z</dcterms:modified>
  <cp:revision>48</cp:revision>
  <dc:subject/>
  <dc:title>Психологическое сопровождение школьного ПМПк</dc:title>
</cp:coreProperties>
</file>