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16B-70E9-4F98-8E9F-F4659B0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7B7-57E4-4D94-946F-57F8E40A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B98E3-2A6A-4C5E-937F-E811FC1F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67F97-B8D0-4466-8396-1DAC1144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C15F-3FF5-4695-B687-26638443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C3BCA-5BFB-4A86-977A-94BB8670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7AD0-BADB-44C1-BD17-8A518BF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31989-1ACE-458B-8C61-80399C8D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60CB7-0BEF-43E6-9AEF-ECC6A5AC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7625D-3D78-41F7-9487-5BCB1B94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97838-F1B1-49AC-8CD7-12ED3FE3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D3B4B-6C5B-4DF9-838C-97259B58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9E8-AE41-4DF7-81F4-BE3AB162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69F77-2FFF-494A-9B4A-296B35A4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C38A4-D5C1-4790-96AB-310FED98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2D6A4-8724-4A02-AF1D-37DD98D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151BE-519A-42E6-8702-D3713662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B3CC2-3741-426D-830F-EEF37D4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972F5-3F67-4F63-A121-FD76976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4C397-A960-4524-92E6-FE1CAF9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422F-50BE-449A-B1CA-15E64B9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F251D-9E35-4848-AF31-5BC2127B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AC902-9B9D-4CB1-9D60-97B4B27C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E20-9AD1-4B93-BE54-57907A55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09B34-24E0-47B4-8ACD-5CBC49C0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98C-CBD1-4500-ACD7-A5F98215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4C18-ED82-41A8-8FD2-A091643B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AD8-3C76-4906-A592-FE95CF55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892-A074-444B-8527-B24D1AD5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5B71-8CA9-43EB-B2D0-FDADF5E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88E5-0011-46F3-9EFE-A24FDA93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D93E-0501-4FA5-84C4-2B0A810A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BE2-D4A2-4352-B065-1BB5566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7837-46FF-4C02-887E-493DA5FB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FB56-A14D-4148-B6E3-E0C05A5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F07A-F358-4FA9-97CE-657B1E37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6796-8427-48B0-8CEE-288FF52F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97FE-0E75-4FA6-895A-A09DA278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BC55-34AE-4BA2-94C1-949DD311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A11A-E1E1-4BFA-850B-8271D7D1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2A5B-E4CA-4A4D-B11B-C59E041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F490-AF2A-4682-AFD4-43574658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26AF-5B22-4887-9951-D8725890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BFC-4647-405A-BC8E-1D02A77E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03BE4-6DB0-410F-969C-FA8D6D2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003B-2D41-40F1-ADBD-4B699E6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4120-D6F3-4B00-947E-20B5FC5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AFF7-4E00-4093-947D-46D9117C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01FE-07D1-4990-911E-BAEDC382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950B-E951-4287-8B38-110B54D8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7C9D-8C4E-428E-8B5D-A875C8C2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460D-C938-43B7-8464-6F8A809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4BF5-EAA4-4FC3-9FCB-D5AC2A6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AC0A-EF29-492E-8E0A-DC5A844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AA8-649F-4ADC-B895-FB53F7C8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8D63-0EF4-4956-AF9C-1790D878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914A-8D35-40CD-AC03-4ACC17BE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0322-6CAA-4D17-B4BE-33821D6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33FA-D317-4F21-8E26-E5C6073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20D7-B090-474E-966E-6327F1FC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3E38-EB66-4C5E-B35F-9C10D10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8FBB-B400-47F3-B99D-FEFC4F1A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F7FA-29DD-44F8-BCD8-49CA450B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31AE-75A5-4A9A-911A-BDF16C14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8BDD-43DA-452D-BEBA-60496AF6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363-C0B9-4739-B271-F34FB93B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5872D-46A0-41DD-B5D3-18471490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269E-5FB8-4F47-A163-E2B56E7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C330-7970-46F8-9FB8-8FE05E64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A527-1C0D-4A1C-A266-194A7818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4F81-9C19-4F4E-A2AB-982953F2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D913-36E1-4CD5-9519-B9D9673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695C3-1251-447C-925F-C1A2DEC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BAF8-E32B-4F91-92D8-7FCFC44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197D-7A5D-4279-8308-3DC6DF21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F6B2-3C49-4961-8743-00EA4C56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701-7E9F-4423-8A68-23D84152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EF1B-B37D-48AE-A1EA-617118C6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54AEA-42DF-4923-A382-4A955F71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B9B5B-A828-4167-87D6-D450754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A9A48-3A04-4278-B211-A689829D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B3F12-AFC9-45FC-87B1-5FAF8BC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EB085-B995-41D6-9A94-383E5B3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AF94-9E97-414A-9DC6-6D5B602B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73B4D-495E-4EAA-B94D-2181FF7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889D0-2DB7-4072-982F-2217C18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17EFC-AD8E-4866-A859-95AC9228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D23-ED64-48D4-BEC6-2121040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AF2A-D405-4943-809A-9670E0D6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AA0C-496B-4BF7-A263-DBF1E56D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1AB96-3C79-456E-AE52-B2C5C421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3CFBE-4289-4072-B39E-3C71F9A2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6DF1-0FC6-4A74-ABB3-516132C4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4D894-58A7-4CF4-8D6F-4763287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89A3-C684-407D-8069-DDF7A248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02C71-214E-4E3E-9ECF-B90B5FBF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99544-9196-475D-BC64-5546D1DA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1EC95-D905-4F84-9D32-69A0240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C60-D9EB-464B-86BB-0AC9C012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DDC22-0EEB-4F11-B018-CAF839B5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967E8-0F66-4B38-8768-9907C209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07D3-74FF-40D2-98BA-4FEACEF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C44EE-8B76-4DEB-BE41-B49A7C34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C3D80-D4A8-47F1-8571-40208849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5F28A-67B1-4D5A-9B85-11AC4C66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730E-8815-41B7-8D18-72C8435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CD889-23F6-449A-828D-8FA81B92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85C2E-A54B-4DC1-8DF8-620171B0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C80AB-89B4-4D7C-BB4E-AF8EBBA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57B-66C0-4C39-84F3-9019509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9C1F9-67BF-4CA8-923A-16E5303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56892-8862-4C44-868D-FCD61DBF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3F632-005C-4BCB-814F-9EE7F83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A6BB7-9FA8-4F93-84B7-E981838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50A7-4193-4757-BD76-375D3C53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A0B7B-3997-491C-BBE9-F3AEE82E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172DF-3EAC-4521-84F7-0220C7B5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1957C-29AE-4CD7-815B-D3AD7D23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176E2-D3A0-40B9-A1E1-18FBA74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35FD2-9315-44A5-B688-63BD6181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78102-82A1-4D76-B63A-E713B7531E2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4F858-B343-4498-A2F9-81FEAB067A9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40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40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E1A61-BFAF-46EC-A885-B24D821DAD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4D6A4-3CE9-4AA8-B2C4-E9693720D40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E191C-800F-4C8F-9E14-848F6C264C3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88E6F-4BC9-4002-A961-874F877F56F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7B1AF-4684-4ADE-ADCB-2CA4DC6999F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8F246-58A6-43A4-922A-91EDE93A4EA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81A5D-E38F-406D-9D8D-B0D9407CD70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BBF8D-FB1F-4D1D-BF9E-6A6BEC4ED9B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EFA93-B2D3-4127-AF9F-44D5201EE24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ECDC1-2A46-436C-9363-069F42E48BE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20D33-F9A9-46DE-B3BA-CE01B255830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F8D10-16F8-4E2C-8FD8-F5A9FB3A464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94BD6-936E-4C50-867E-566BECC42AA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8E516-F1A4-4ECD-95D8-454CABABACF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0BFB-DEA1-43F8-8E6E-B3D7B148C5D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927F7-4FC9-41FD-966B-353A13334BD4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D6979-1A75-4D93-9940-1D03DDFE6C3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2"/>
          <a:stretch/>
        </p:blipFill>
        <p:spPr>
          <a:xfrm>
            <a:off x="1427040" y="353880"/>
            <a:ext cx="7418520" cy="27003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438200" y="3200040"/>
            <a:ext cx="74073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Митюхина Н.П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едагог-психолог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ЦПМСС «Лабиринт» г. Волжск, РМЭ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18 ноября 2010г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699760" cy="1292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611280" y="1142640"/>
            <a:ext cx="792144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восприят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памят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Пиктограмма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Память на числа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Воспроизведение текстов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внимания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Расстановка чисел", «Выявление слов", «Отыскивание чисел с переключением», «Перепутанные линии»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мышления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ложение чисел с переключением», «Установление закономерностей», «Сложные аналогии», «Сравнение понятий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интеллекта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ест структуры интеллекта Р.Амтхауэра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ест возрастающей трудности - методики Равена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Школьный тест умственного развития – ШТУР»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2"/>
          <a:stretch/>
        </p:blipFill>
        <p:spPr>
          <a:xfrm>
            <a:off x="250920" y="79200"/>
            <a:ext cx="8699400" cy="14781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250560" y="1557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арактерологический опросник К.Леонгарда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ногофакторный личностный опросник FPI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сбаденский опросник </a:t>
            </a:r>
            <a:r>
              <a:rPr b="0" i="1" lang="en-US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N</a:t>
            </a: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r>
              <a:rPr b="0" i="1" lang="en-US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eseschkian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ичностный дифференциал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Методика ЛД адаптирована сотрудниками психоневрологического института им. В. М. Бехтерева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Q-сортировка» тенденций поведения в группе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“Ценностные ориентации” М.Рокича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осник «Степень уверенности в себе»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осник Басса-Дарки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личности с помощью 16 - факторного опросника Кеттела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Спилбергера-Ханина.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Разработан Ч.Д.Спилбергером и адаптирован Ю.Л.Ханиным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8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615600" y="17733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межличностных отношений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Диагностика межличностных отношений Т. Лири»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Тип поведения в конфликтной ситуации» разработана К.Томасом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адаптирована Н.В.Гришиной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Изучение привлекательности работы»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ана на сравнении образов реально существующих условий работы и условий, желаемых человеком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следование групповой динамик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одика «Социометрия»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спользуется для диагностики межличностных и межгрупповых отношений в целях их изменения, улучшения и совершенствова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762120" y="12607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Times New Roman"/>
              </a:rPr>
              <a:t>В заключении выделяются те сферы психической жизни ребенка или подростка, в которой обнаружены определенные нарушения или отклонения от возрастной нормы, описываются конкретные проявления этих нару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Times New Roman"/>
              </a:rPr>
              <a:t>По возможности и необходимости указываются причины существующих нарушений, перечисляются адекватные, с точки зрения психолога, формы сопровождения. Конкретные диагностические приемы, а также упражнения направленные на развитие познавательной и коммуникативной сф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41" descr=""/>
          <p:cNvPicPr/>
          <p:nvPr/>
        </p:nvPicPr>
        <p:blipFill>
          <a:blip r:embed="rId2"/>
          <a:stretch/>
        </p:blipFill>
        <p:spPr>
          <a:xfrm>
            <a:off x="298440" y="22536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09480" y="14842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результатам обследования проводится заключительная беседа с родителями (лицами, их заменяющими), даются рекомендации по обучению, воспитанию и коррек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лее, на основании полученных и обобщенных сведений и принятого консилиумом решения строится коррекционно-развивающая работа. Условием реализации потенциальных возможностей детей является создание благоприятной социально-психологической обстановки доверия. При этом формирование ценностных ориентации важно не только у ребенка, но и у окружающих его взрослых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4" descr=""/>
          <p:cNvPicPr/>
          <p:nvPr/>
        </p:nvPicPr>
        <p:blipFill>
          <a:blip r:embed="rId2"/>
          <a:stretch/>
        </p:blipFill>
        <p:spPr>
          <a:xfrm>
            <a:off x="298440" y="96840"/>
            <a:ext cx="8693280" cy="12985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68000" y="1395360"/>
            <a:ext cx="828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e3b30"/>
                </a:solidFill>
                <a:latin typeface="Times New Roman"/>
              </a:rPr>
              <a:t>Актуальное состояние: 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низкий темп выполнения классных работ, часто отвлекается, рассеян, невнимателен, отмечается бедность речи, испытывает трудности оперирования абстрактными понятиями, затрудняется при подборе обобщающих формулировок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Единичные недостатки развития моторных функций, пространственного восприятия, зрительного восприятия и речевых функций приводят к задержке формирования умственного плана действий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Мышление, в целом, носит конкретный характер, достаточно хорошо ориентируется по наглядным изображениям и затрудняется при выполнении заданий в речевом плане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В личностной сфере испытывает недостаток эмоциональной теплоты дома, потребность во внимании со стороны близких людей. Прямолинейность, ригидность, готовность к контактам, и, в то же время, недостаток контроля над эмоциями, часто оборачивается конфликтами и неудовлетворенностью отношениями с окружающими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Times New Roman"/>
              </a:rPr>
              <a:t>В контакт с педагогом старается не вступать, навыки общения с взрослыми развиты плохо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8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3280" cy="12924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617400" y="1371600"/>
            <a:ext cx="837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4e3b30"/>
                </a:solidFill>
                <a:latin typeface="Times New Roman"/>
              </a:rPr>
              <a:t>Наличие отклонений и особенностей развития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руктура нарушений свидетельствует об общей незрелости личности, проявляющейся в низком уровне познавательных интересов, недоразвитии речи, низком темпе оперирования понятиями, несформированности эмоционально-волевой сферы, повышенной утомляемости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явленная задержка развития по типу психической неустойчивости, обусловлена, прежде всего, микросоциально-педагогической запущенностью, бедностью социальной среды, отсутствием стимулирующих развитие влияний окружен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7" descr=""/>
          <p:cNvPicPr/>
          <p:nvPr/>
        </p:nvPicPr>
        <p:blipFill>
          <a:blip r:embed="rId2"/>
          <a:stretch/>
        </p:blipFill>
        <p:spPr>
          <a:xfrm>
            <a:off x="298440" y="324000"/>
            <a:ext cx="8699400" cy="145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971640" y="1790640"/>
            <a:ext cx="712944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ндивидуальные заняти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л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ключение в группу, занятия которой направлены на развитие коммуникативных функций, познавательной и эмоционально-волевой сфе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Rectangle 92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6" descr=""/>
          <p:cNvPicPr/>
          <p:nvPr/>
        </p:nvPicPr>
        <p:blipFill>
          <a:blip r:embed="rId2"/>
          <a:stretch/>
        </p:blipFill>
        <p:spPr>
          <a:xfrm>
            <a:off x="298440" y="324000"/>
            <a:ext cx="8699400" cy="145548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56840" y="17794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Информирование педагогов об особенностях поведения ребенка в процессе групповой и индивидуальной работы, помощь в разработке стратегий педагога по формированию успешного контакта с ребенк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Проведение индивидуальной консультации с семьей с целью обсуждения особенностей личности ребенка (встреча может быть проведена вместе с социальным педагогом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1" descr=""/>
          <p:cNvPicPr/>
          <p:nvPr/>
        </p:nvPicPr>
        <p:blipFill>
          <a:blip r:embed="rId2"/>
          <a:stretch/>
        </p:blipFill>
        <p:spPr>
          <a:xfrm>
            <a:off x="298440" y="152280"/>
            <a:ext cx="8699400" cy="1298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504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глубленное изучение особенностей интеллектуального развития детей, личностных и поведенческих реакций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казание методической помощи учителям-логопедам (учителям-дефектологам), учителям (воспитателям), родителям в оценке интеллектуального развития ребёнка, основных качеств его личности, вскрытии проблем самооценки, мотивации, особенностей познавательных и иных интересов, эмоциональной сферы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еспечение подхода к ребёнку с оптимистической гипотезой перспектив его дальней­шего развити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строение совместной программы действий, направленной на развитие определённых качеств или на устранение выявленных трудностей и недостатков развития и разработка коррекционных программ индивидуального разви­тия ребен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94920" y="1458720"/>
            <a:ext cx="806436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 консилиумом   мы понимаем постоянно действующий, скоординированный, объединенный общими целями коллектив специалистов, реализующий ту или иную стратегию сопровождения ребенка.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1" descr=""/>
          <p:cNvPicPr/>
          <p:nvPr/>
        </p:nvPicPr>
        <p:blipFill>
          <a:blip r:embed="rId2"/>
          <a:stretch/>
        </p:blipFill>
        <p:spPr>
          <a:xfrm>
            <a:off x="298440" y="139680"/>
            <a:ext cx="8699400" cy="17859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684000" y="192564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вичное заключение психологического обследования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бочий журнал учета групповых форм работ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ндивидуальная коррекционная программ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ое заключение динамического (промежуточного) обследов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тоговое психологическое заключен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WordArt 7"/>
          <p:cNvSpPr txBox="1"/>
          <p:nvPr/>
        </p:nvSpPr>
        <p:spPr>
          <a:xfrm>
            <a:off x="1332000" y="2276640"/>
            <a:ext cx="75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0a22e"/>
                    </a:gs>
                    <a:gs pos="100000">
                      <a:srgbClr val="a5644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a22e"/>
                  </a:gs>
                  <a:gs pos="100000">
                    <a:srgbClr val="a5644e"/>
                  </a:gs>
                </a:gsLst>
                <a:lin ang="5400000"/>
              </a:gradFill>
              <a:effectLst>
                <a:outerShdw dist="89604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2"/>
          <a:stretch/>
        </p:blipFill>
        <p:spPr>
          <a:xfrm>
            <a:off x="298440" y="19080"/>
            <a:ext cx="8699400" cy="1455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298440" y="147492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меющими трудности в обучении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виантное, делинквентное, аддиктивное поведение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так же дети, находящиеся в семье СОП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ких детей можно охарактеризовать как детей с отклоняющимся развитием. Последнее подразумевает несоответствие каких-либо характеристик развития, обучения и поведения ребенка социально-психологическим норматива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68360" y="1474920"/>
            <a:ext cx="461952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 - задат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- способ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-темперамен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 - характ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 - направлен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7" descr="pic1"/>
          <p:cNvPicPr/>
          <p:nvPr/>
        </p:nvPicPr>
        <p:blipFill>
          <a:blip r:embed="rId3"/>
          <a:stretch/>
        </p:blipFill>
        <p:spPr>
          <a:xfrm>
            <a:off x="5087880" y="1163520"/>
            <a:ext cx="4253040" cy="428148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8"/>
          <p:cNvSpPr/>
          <p:nvPr/>
        </p:nvSpPr>
        <p:spPr>
          <a:xfrm>
            <a:off x="250920" y="5157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рмальная личность представляется на рисунке в виде равного колеса, которое гладко катится по дорога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0360" y="2060640"/>
            <a:ext cx="46976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огда компенсаторные механизмы начинают сдавать, то признаки акцентуации могут выйти наруж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icture 11" descr="pic2"/>
          <p:cNvPicPr/>
          <p:nvPr/>
        </p:nvPicPr>
        <p:blipFill>
          <a:blip r:embed="rId3"/>
          <a:stretch/>
        </p:blipFill>
        <p:spPr>
          <a:xfrm>
            <a:off x="4648320" y="1434960"/>
            <a:ext cx="44956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 явной акцентуации особенности личности проявляются лишь в особых условиях, когда «колесо» личности столкнется с дорогой жизни своим шип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Picture 9" descr="pic3"/>
          <p:cNvPicPr/>
          <p:nvPr/>
        </p:nvPicPr>
        <p:blipFill>
          <a:blip r:embed="rId3"/>
          <a:stretch/>
        </p:blipFill>
        <p:spPr>
          <a:xfrm>
            <a:off x="4648320" y="1434960"/>
            <a:ext cx="44956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жизнь акцентуированной личности сложится неблагополучно, то может произойти полная деформация личности, трудно отличимая от психопатии. Это состояние патохарактерологического развит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7" descr="pic4"/>
          <p:cNvPicPr/>
          <p:nvPr/>
        </p:nvPicPr>
        <p:blipFill>
          <a:blip r:embed="rId3"/>
          <a:stretch/>
        </p:blipFill>
        <p:spPr>
          <a:xfrm>
            <a:off x="4648320" y="1681200"/>
            <a:ext cx="4244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2067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о психопатии можно говорить тогда, когда имеет    место тотальная деформация личности в  такой степени, что нарушает ее социальную адаптацию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9" name="Picture 7" descr="pic5"/>
          <p:cNvPicPr/>
          <p:nvPr/>
        </p:nvPicPr>
        <p:blipFill>
          <a:blip r:embed="rId3"/>
          <a:stretch/>
        </p:blipFill>
        <p:spPr>
          <a:xfrm>
            <a:off x="4648320" y="1609560"/>
            <a:ext cx="43164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2"/>
          <a:stretch/>
        </p:blipFill>
        <p:spPr>
          <a:xfrm>
            <a:off x="298440" y="22536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98440" y="1699920"/>
            <a:ext cx="8377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учение документации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истории развития ребенка с целью получения представления о причинах отклонений в развит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учение результатов деятельности детей:</a:t>
            </a: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исунки, поделки, письменные и учебные работ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наблюдени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за ребенком на уроке и на перемене, включающий анализ наиболее важных сфер его деятельности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рисунки, поделки, письменные и учебные работы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беседы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— установление контакта, выявление особенностей психики в процессе личного общения с ребенк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эксперимента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, направленный на изучение психических функций ребенка: восприятие, внимание, память, мышление, и особенности развития личност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</a:rPr>
              <a:t>Метод тестировани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, используемый при оценке уровня развития способностей, мотивационной сферы и личностных особенност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0:52:18Z</dcterms:created>
  <dc:creator>Диана Москалева</dc:creator>
  <dc:description/>
  <dc:language>en-US</dc:language>
  <cp:lastModifiedBy>Nata</cp:lastModifiedBy>
  <dcterms:modified xsi:type="dcterms:W3CDTF">2010-12-01T08:00:08Z</dcterms:modified>
  <cp:revision>48</cp:revision>
  <dc:subject/>
  <dc:title>Психологическое сопровождение школьного ПМПк</dc:title>
</cp:coreProperties>
</file>