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A52-1F5B-44F3-A66F-169F6707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278-7602-4FFB-B0CA-D36652F6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72ED9-92A7-4F33-BE93-390CFA27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9A5F9-7B71-4A23-A0EA-52529AD4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16F0A-8C5F-4B10-9EA1-32453C30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B573B-4EF7-4FF7-9DAB-B1BD26D7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52355-3C53-41AB-A3A5-B46DEDBD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F9DD7-F6F2-427C-9EC6-8177A15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A07A5-4C7A-4901-966E-5258AC54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6C5C7-D189-4219-BBC0-96E67B44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77F21-16EF-47ED-8B3E-2D51F4FE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A91-F96A-440C-BD24-D799A540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AEB-EE08-4161-9ACC-AF1A3B32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8087-F640-4F19-9DA0-8CD663FA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A60-1508-4466-9DE3-05EF279D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572-76CF-42FF-8E73-B838961D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425B-CCCE-40F2-9326-6F020F2D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F394-856E-4BF6-BBCA-1CDC4F99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20AC-12E6-4EAF-82B7-28129D71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13FD-32EA-4095-8774-A184FC95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101-2D93-4519-B95E-32C0A9B3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0A0E-6596-4555-B683-20B8BACC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E997-A9DC-42C2-9D21-FACC838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7C61-65AB-4542-A6B9-381E39F5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6FBD-6817-402D-BE7D-6121F8AD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3E3-ECD0-44F0-BCB2-7313240D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5DE2-F008-4FFC-B1D9-59E361A2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7199-91A1-4FFD-BA98-56D60EB3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9B28-3A39-4C84-959E-D68F016D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78EE-67B2-471D-8464-CB64A846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0D0C-31E3-4B19-96F1-11FF563F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268-CBDF-4708-A61A-2CB37453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90D8-B181-495F-8265-790E6C8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E600-533C-4CED-8B40-1C82495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D122-837F-4416-81E8-17E8EFB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46D9-7C51-4B8B-85D8-9F3455A3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9441-AA9B-403F-8F14-B17977B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EF09-6684-4E85-A13B-E8D6F821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3F64-1B21-47D7-8D9F-6AFF4C36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E215-327D-44FC-9143-A88FB0CF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8741-2A34-4F38-98B4-93DF0132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02F8-6869-40A1-A3AF-A10895DC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C2D-CE6A-4D20-8B45-3345E101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89A0-FA19-4508-98B6-4A7E7B9E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0939-394F-43F1-A104-F986539F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A9E9-CDC0-43F5-89E4-421C8D89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31D4B-2360-4890-AF5E-F2766FA6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144F-8274-4138-AC84-C7007FED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9062-742C-40EB-934E-63704438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FE0D-DDA4-4273-A542-7769A1B2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B012B-E002-4C6C-868D-12068714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6168-262C-4A44-A51C-F66432FA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B232-42EA-468F-9573-54FBC971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5F4-221A-429A-B4AA-78FCC20B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0657-3273-4C38-A654-1F9E2118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56CB4-F2A0-4A65-B8BE-CC55436E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1604E-8785-47DE-A419-F9F73566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80996-58E4-48A4-88E7-402BFCCB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4D7D2-4954-422B-8077-6CECB3B2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D2C97-1803-4E11-A20F-F0161BE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3DE2-7FC2-4E04-8B03-4146855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A942C-B70B-4B44-980D-2E5DA3D4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5787-91BD-4BF1-B1A1-37E2938B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9BEF-B9B2-4BCA-BA0D-AFAD8C75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41D-2A5F-4BCE-A9A0-06FAC9AE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78E2-E536-4704-8600-EEA66916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D5D5-31E5-4394-B29E-FE86F809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8439-AC07-47B3-94F9-A82B99EB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12931-A933-44CA-A380-9C2D0BC2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73CC-D932-480D-94E5-2DC0EAF7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34115-3804-46FF-884E-79AEC4CD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79EFD-9EC2-4F0F-B13D-158E69D8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49408-11A8-4F54-ABEC-BAA620CD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925B7-AC15-4E15-9B15-CD6FD2A3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6E3D3-58F2-415E-899A-6CC1A8C7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5DE-DE7B-47D1-856D-40425D0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2A29-B4CD-4732-8452-A4E8F7E6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882F-62CF-492E-9039-109E19C0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E6677-2A6B-406E-990F-59B2A236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E69BF-EBDF-42B3-8006-30A920CE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F29B-9AE9-4F0C-9EC2-457C37AB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E831-DF76-4B70-9FB8-E248174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FB0D7-A10E-4C75-B7EF-FECD9B8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C4945-DE9C-4D1F-8D79-D58448BE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C6DA-C456-4E08-AE59-5B923940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69989-2C20-4650-987C-52D7B0B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5DD-56A9-4C39-9230-EABF35A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16DAE-70F6-4E17-892F-6983E642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0D92-3FAF-4FB7-A342-FBF98052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67E57-99BB-4F48-8341-15B41E39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9C006-F4D6-4896-80D5-4558654F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20DFC-6232-41A9-B54F-BBFF9256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554DF-6C5B-4B00-8436-68DE2114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6AED5-93A8-4844-A952-BFBB5BF0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5E814-0C4E-4B16-9844-94E18026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07F7-DD77-4B8E-882C-C340A1BE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F74CA-E98D-4696-9540-EDE61524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5A6-75FA-4C9B-ACEF-5A5B14D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EED7D-06D5-4F18-AD65-0DF45336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7391D-4BD8-49D5-A82D-EFD74E59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871B-3CBE-4799-90AD-D38E809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7B572-9B47-494F-97CD-01DED11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F557E-B1FB-4998-942F-0FD4E9AA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27D7-B874-4CDA-875E-46FB3BAE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2CF15-3188-463A-8400-69B1AD5C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D42EB-4FAE-4B60-9BBD-46C42C0D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C8B47-5CFF-4A56-974C-B9A0012D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6D10B-C6BB-492D-B260-118A0F25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3DE7A-E59E-406A-A315-18FFDD618337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F8FA4-3C32-445D-AD26-147555C0B7B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1682A-8D22-44B8-8FC5-CD7BEDD2691E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D3802-66AD-439B-9113-63F28000CF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BC4A5-31A0-4036-9254-22F2C5B7B912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778D3-5CD6-4118-8B82-2E950C7143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6241E-16E3-4FF8-B033-8ABC66073135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FD7CE-7D49-473F-BC94-9B67F00DDB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AD552-DE1F-4CBF-8440-2A057D3909CD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3E46C-9922-482A-BA7B-A9B1339917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B2FC3-2F5E-430F-A10D-D3673CB0DA0F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A09EA-A756-4003-ABB9-03659C8FD6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E3B1A-5A86-411C-9EAB-148700811B5D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067B1-2253-41D6-A80C-2B27876B367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3C715-0F03-45E1-9B3D-EB1077A6386D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23CB6-E4BA-44AF-A6ED-A25D72C51F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D6F4A-7B39-4192-8D5B-7CE8AF453104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38547-0066-41C9-BCF6-B84D1DAAEC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2"/>
          <a:stretch/>
        </p:blipFill>
        <p:spPr>
          <a:xfrm>
            <a:off x="225360" y="579600"/>
            <a:ext cx="8693280" cy="1609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71d18"/>
                </a:solidFill>
                <a:latin typeface="Franklin Gothic Book"/>
              </a:rPr>
              <a:t>«Создание психолого-педагогических условий для развития высших психических функций и эмоционально-волевой сферы детей 4-7 лет с задержкой психического развития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Subtitle 2"/>
          <p:cNvSpPr/>
          <p:nvPr/>
        </p:nvSpPr>
        <p:spPr>
          <a:xfrm>
            <a:off x="914400" y="6400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Franklin Gothic Book"/>
              </a:rPr>
              <a:t>ВОЛЖСК, 2012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129528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НОРМАТИВНЫЕ ДОКУМЕНТЫ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конодательная основа правового регулирования отношений в сфере образования представлена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Конституцией РФ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Закон РФ «Об образовании»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Проект Федерального Закона "Об образовании лиц с ограниченными возможностями здоровья (специальном образовании)"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Типовое положение о дошкольном образовательном учреждении для обучающихся, воспитанников с отклонением в развитии. Утверждено Постановлением РФ от 31 июля 1998г. № 867 (ред. От 10.03.2009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«Типовое положение об образовательном учреждении для детей, нуждающихся в психолого-педагогической и медико – социальной помощи», утвержденное постановлением  Правительства Российской Федерации от 31 июля 1998 г. № 867 (ред. от  10.03.2009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ень законодательства Российской Федерации в области прав ребенк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 Семейный кодекс РФ ( № 223-ФЗ от 29.12.1995 г. в редакции 02.01.2000 г.) О защите прав несовершеннолетних (ст.  47-53, ст. 54-165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 Федеральный Закон об основных  гарантиях прав ребенка в Российской Федерации (№ 124-ФЗ от 24.07.1998 г. в редакции 20.07.2000 г.) Об основных гарантиях прав ребенка в Российской Федерац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НОВИЗНА И ТЕОРЕТИЧЕСКАЯ ЗНАЧИМОСТЬ ПРОЕКТА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1d18"/>
                </a:solidFill>
                <a:latin typeface="Franklin Gothic Book"/>
              </a:rPr>
              <a:t>НАУЧНАЯ НОВИЗНА</a:t>
            </a: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Систематически изучены причины задержек в развитии эмоционально-волевой сферы и познавательных процессов  детей 4-7-летнего возраста в интегрированных группах ДОУ комбинированного вид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1d18"/>
                </a:solidFill>
                <a:latin typeface="Franklin Gothic Book"/>
              </a:rPr>
              <a:t>ТЕОРЕТИЧЕСКОЕ ЗНАЧЕНИЕ РАБОТЫ. 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Показана, выраженная на фоне общего отставания, неравномерность развития психических процессов у детей с ЗПР как одна из наиболее характерных их особенностей. Доказана возможность психологической диагностики и психологической коррекции эмоционально-волевой сферы и познавательных процессов у детей с ЗПР с 4-летнего возраста.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1d18"/>
                </a:solidFill>
                <a:latin typeface="Franklin Gothic Book"/>
              </a:rPr>
              <a:t>ПРАКТИЧЕСКАЯ ЗНАЧИМОСТЬ ПРОЕКТА</a:t>
            </a: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казана динамика развития детей с задержкой психического развития с 4-летнего возраста, что обосновывает необходимость специальной педагогической помощи этим детям. Предложены методы изучения эмоционально-волевой сферы и познавательных процессов  детей с задержкой психического развития, которые могут быть использованы при составлении диагностического психолого-педагогического комплекса в ДОУ комбинированного вида, в целях повышения эффективности психологического сопровождения детей с проблемами в развитии в процессе их обучения.</a:t>
            </a: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оказана эффективность примененного комплекса диагностических психологических методик для выявления детей с задержкой психического развития в 4-летнем возрасте. Выделены наиболее диагностичные методики для определения школьной готовности.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1-Й ЭТАП (2011Г.).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ределение проблемы исследования и его отдельных концептуальных положений, формулировка гипотезы исследования, его цели и задач.</a:t>
            </a:r>
            <a:r>
              <a:rPr b="1" i="1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Анализ теоретических источников с целью установления степени разработанности исследуемой проблемы. Изучение опыта психолого-педагогической деятельности по составлению коррекционно-развивающих программ для детей 4-7 лет с задержкой психического развити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2-Й ЭТАП (2012Г.)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ведение констатирующего эксперимента с целью обоснования актуальности проблемы, определения уровня развития эмоционально-волевой сферы и познавательных процессов  детей 4-7 лет с задержкой психического развития. Разработка и обоснование плана проведения основной экспериментальной работ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3-Й ЭТАП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 (2012–2013 ГГ.)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– основной этап, на котором осуществляется практическая реализация коррекционно-развивающей программы целенаправленного развития эмоционально-волевой сферы и познавательных процессов  детей 4-7 лет с задержкой психического развития.  Формирующий   эксперимент позволит выявить условия, закономерности и методы развития детей дошкольного возраста с задержкой психического развития.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4-Й ЭТАП 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(2013-2014ГГ.)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– завершающий этап, на котором осуществляется математическая обработка, осмысление и интерпретация полученных результатов, литературное и техническое оформление работ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304920" y="2438280"/>
          <a:ext cx="8686800" cy="425772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ть педагогический коллектив о проведении  экспери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педагогическим коллективом с целью знакомства с содержанием, задачами, гипотезой, этапами экспери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ы совещаний, педсов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93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проблему исследования, сформулировать гипотезу исследования, его цели и задач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теоретических источников с целью установления степени разработанности исследуемой проблемы. Изучение опыта психолого-педагогической деятельности по составлению коррекционно-развивающих программ для детей 4-7 лет с задержкой психического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 заявки, составление научно-исследовательского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брать диагностический инструмента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методик для проведения диагностики  детей 4 лет с ЗПР: психолога, логопеда, воспита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апки «Методики диагно-стики развития эмоционально-волевой сферы и познавательных процессов  детей  с ЗП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425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26" name="Content Placeholder 2"/>
          <p:cNvSpPr/>
          <p:nvPr/>
        </p:nvSpPr>
        <p:spPr>
          <a:xfrm>
            <a:off x="304920" y="1371600"/>
            <a:ext cx="8686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1-Й ЭТАП (2011Г.).</a:t>
            </a:r>
            <a:r>
              <a:rPr b="0" lang="ru-RU" sz="20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готовительный, 2011г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оздание условий для проведения эксперимент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457200" y="2666880"/>
          <a:ext cx="8305920" cy="403884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психолого-педагогические основы процесса развития детей 4-7 лет с ЗП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статирующего эксперимен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обоснование плана проведения основной экспериментально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результаты констатирующего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эмоционально-волевой сферы и познавательных процессов детей 4-7 лет с ЗП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сводных таблиц и анализ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ить коррекционно-развивающую программу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истемы занятий для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ая программа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20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овать коррекционно-развивающую программу целенаправленного развития детей 4-7 лет с ЗП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22e"/>
                      </a:solidFill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практической реализации коррекционно-развивающей программы целенаправленного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условий, закономерностей и методов развития детей дошкольного возраста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9" name="Content Placeholder 2"/>
          <p:cNvSpPr/>
          <p:nvPr/>
        </p:nvSpPr>
        <p:spPr>
          <a:xfrm>
            <a:off x="304920" y="13716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2-3  ЭТАПЫ (2012-2013Г.).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актический (формирующий эксперимент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оздание коррекционно-развивающей программы целенаправленного развития детей 4-7 лет с задержкой психического развити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304920" y="2819520"/>
          <a:ext cx="8686800" cy="33526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ение результ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6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эффективность  реализации коррекционно-развивающей программы развития детей 4-7 лет с ЗП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трольного эксперимен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итогового отчета о проведении экспериментально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результаты контрольного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рование детей 4-7 лет с ЗПР по различным видам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сводных таблиц и анализ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6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анализ контрольного этапа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математической обработки, осмысление и интерпретация полученных результато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е и техническое оформление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431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32" name="Content Placeholder 2"/>
          <p:cNvSpPr/>
          <p:nvPr/>
        </p:nvSpPr>
        <p:spPr>
          <a:xfrm>
            <a:off x="304920" y="137160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4 этап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бобщающий, 2013-2014гг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Цель: </a:t>
            </a: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Анализ и обобщение теоретических и практических материалов, полученных в результате исследования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и реализации проекта «Коррекция эмоционально-волевой сферы и познавательных процессов детей 4-7 лет с задержкой психического развития» (далее Проект) необходимо соблюдать общие принципы построения коррекционно-педагогического процесс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Одним из наиболее важных принципов построения педагогического процесса является принцип индивидуально - дифференцированного подхода. Он предполагает создание педагогических условий для обеспечения образовательных потребностей каждого воспитанника специального детского сада.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обходимо реализовать потенциальные возможности каждого ребенка, обеспечить полноценное развитие личности. Применительно к детям с ЗПР личностно-ориентированный подход предполагает воздействие не только на познавательную сферу, но и обеспечение условий для преодоления черт эмоционально-личностной незрелости, характерных для многих из них.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0492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формирование у детей представлений о здоровом образе жизн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азработка гибкого режима дня, который позволял бы учитывать измене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состоянии здоровья детей в зависимости от времени года, метеоусловий и др.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введение в «Режим дня» и во время проведения занятий специальных моментов, предотвращающих нервно-психическую перегрузку детей (гимнастика, релаксация, смена видов деятельности и др.);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еализация плана оздоровительных мероприятий: закаливание, профилактика острых респираторных заболеваний (ОРЗ), фито- и витаминная терапия и др.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рименение здоровьесберегающих технолог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оздание психологически комфортных условий, обеспечивающих эмоциональное благополучие каждого ребенка.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организация медицинского контроля за состоянием здоровья детей.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Title 4" descr=""/>
          <p:cNvPicPr/>
          <p:nvPr/>
        </p:nvPicPr>
        <p:blipFill>
          <a:blip r:embed="rId2"/>
          <a:stretch/>
        </p:blipFill>
        <p:spPr>
          <a:xfrm>
            <a:off x="298440" y="139680"/>
            <a:ext cx="8699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37124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привлечение к реализации проекта научного руководителя (к.псх.н.)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создание на базе учреждения «Совета по коррекционной работе», в который входят наиболее квалифицированные специалисты: старший воспитатель, дефектолог, психолог, логопед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создание банка данных для методического сопровождения коррекционно-развивающей работы (коррекционно-развивающие и диагностические методики, развивающие игры, специальная литература и др.)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установление прямых связей с вышестоящими методическими службами с целью повышения уровня профессиональной квалификации и взаимодействия при организации и проведении методических мероприятий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2"/>
          <a:stretch/>
        </p:blipFill>
        <p:spPr>
          <a:xfrm>
            <a:off x="298440" y="139680"/>
            <a:ext cx="8699400" cy="1785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7521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создание диагностической службы, в том числе психолого-педагогического консилиума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построение коррекционно-образовательного процесса с учетом индивидуальных особенностей, уровня психического развития и актуального уровня знаний, представлений, умений детей с ЗПР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создание специальных образовательных условий (кабинетов специалистов, специальной коррекционной зоны в групповой комнате для проведения «коррекционного часа», релаксационного уголка - места, где ребенок может уединиться, отдохнуть и др.)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наполнение педагогического процесса современными коррекционно-развивающими методиками, новыми информационными технологиями, дидактическими пособиями, атрибутикой и игрушкам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АВТОРЫ ПРОЕКТА:</a:t>
            </a:r>
            <a:r>
              <a:rPr b="0" lang="ru-RU" sz="22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заведующая МОУ ДОУ №19 «Светлячок» Бизяева Марина Александровна, кандидат психологических наук, педагог-психолог ЦПМСС «Лабиринт» Митюхина Наталья Петро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НАУЧНЫЙ РУКОВОДИТЕЛЬ:</a:t>
            </a:r>
            <a:r>
              <a:rPr b="0" lang="ru-RU" sz="22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.псх.н. Митюхина Наталья Петро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СОРУКОВОДИТЕЛИ: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методист МОУ ДОУ №19 «Светлячок» Башева Анастасия Владимиро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ОРГАНИЗАТОР ЭКСПЕРИМЕНТАЛЬНОЙ ПЛОЩАДКИ (ОТВЕТСТВЕННЫЙ ИСПОЛНИТЕЛЬ):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заведующая МОУ ДОУ №19 «Светлячок» Бизяева Марина Александровн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71d18"/>
                </a:solidFill>
                <a:latin typeface="Franklin Gothic Book"/>
              </a:rPr>
              <a:t>КООРДИНАТОРЫ ПРОЕКТА</a:t>
            </a:r>
            <a:r>
              <a:rPr b="0" lang="ru-RU" sz="2200" spc="-1" strike="noStrike">
                <a:solidFill>
                  <a:srgbClr val="271d18"/>
                </a:solidFill>
                <a:latin typeface="Franklin Gothic Book"/>
              </a:rPr>
              <a:t>: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лимина Надежда Викторовна методист муниципального отдела образования городского округа «Город Волжск», учитель высшей категор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ts val="2636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560" y="177156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активное вовлечение семьи в работу дошкольного учреждения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консультирование родителей по проблемам развития их детей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обучение родителей доступным им методам и приемам оказания коррекционной помощи детям в условиях семьи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 организация обратной связи родителей с детским учреждением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55412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71d18"/>
                </a:solidFill>
                <a:latin typeface="Franklin Gothic Book"/>
              </a:rPr>
              <a:t>КАДРОВОЕ ОБЕСПЕЧЕНИЕ:</a:t>
            </a:r>
            <a:r>
              <a:rPr b="1" lang="ru-RU" sz="25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воспитатели 1 категории – 1 чел. 2 категории – 1 чел.; психолог – 1 чел.; учитель-логопед высшей категории – 1 чел.; учитель-логопед 1 категории – 1 чел.; учитель-дефектолог – 1 категории – 1 чел.; воспитатель по ФИЗО – 2 категории 1 чел.; музыкальный руководитель 1 категории – 1 чел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71d18"/>
                </a:solidFill>
                <a:latin typeface="Franklin Gothic Book"/>
              </a:rPr>
              <a:t>НАУЧНОЕ ОБЕСПЕЧЕНИЕ:</a:t>
            </a:r>
            <a:r>
              <a:rPr b="0" lang="ru-RU" sz="25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наличие руководителя, научные консультации в МИО, отевтственного организатора проекта, координатора проекта, психологической поддержки участников проект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71d18"/>
                </a:solidFill>
                <a:latin typeface="Franklin Gothic Book"/>
              </a:rPr>
              <a:t>ЭКОНОМИЧЕСКОЕ ОБЕСПЕЧЕНИЕ: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оплата участникам проекта из фонда учрежден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71d18"/>
                </a:solidFill>
                <a:latin typeface="Franklin Gothic Book"/>
              </a:rPr>
              <a:t>МАТЕРИАЛЬНО-ТЕХНИЧЕСКОЕ ОБЕСПЕЧЕНИЕ</a:t>
            </a: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наличие кабинетов педагога-психолога и учителя-логопеда, музыкального и спортивного залов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4" name="Title 3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71d18"/>
                </a:solidFill>
                <a:latin typeface="Franklin Gothic Book"/>
              </a:rPr>
              <a:t>ИСТОЧНИКИ ФИНАНСИРОВАН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Проект планируется финансировать из бюджетных и внебюджетных источников, спонсорских пожертвований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71d18"/>
                </a:solidFill>
                <a:latin typeface="Franklin Gothic Book"/>
              </a:rPr>
              <a:t>ФОРМА ПРЕДСТАВЛЕНИЯ РЕЗУЛЬТАТОВ ЭКСПЕРИМЕНТ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спространение опыта работы на городких и республиканских семинарах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Освещение работы по реализации Проекта в СМИ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ыпуск буклетов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ыпуск методического пособия «Создание психолого-педагогических условий для развития высших психических функций и эмоционально-волевой сферы детей 4-7 лет с задержкой психического развития. Из опыта работы МОУ ДОУ №19 «Светлячок» г.Волжск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15541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-374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b2c24"/>
                </a:solidFill>
                <a:latin typeface="Franklin Gothic Book"/>
              </a:rPr>
              <a:t>Спасибо 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7440" indent="-374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b2c24"/>
                </a:solidFill>
                <a:latin typeface="Franklin Gothic Book"/>
              </a:rPr>
              <a:t>за 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7440" indent="-374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b2c24"/>
                </a:solidFill>
                <a:latin typeface="Franklin Gothic Book"/>
              </a:rPr>
              <a:t>внимание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ИСПОЛНИТЕЛИ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воспитатель первой квалификационной категории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Чумукова Наталия Ивановн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воспитатель второй квалификационной категории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 Архипова Людмила Михайловн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учитель-логопед высшей квалификационной категории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Шагимуратова Асия Камилев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учитель-дефектолог первой квалификационной категории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Сахарова Эльназ Халфалиевн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психолог: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Волженцева Екатерина Анатольевн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БАЗА ЭКСПЕРИМЕНТАЛЬНОЙ РАБОТЫ: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унициапльное дошкольное образовательное учреждение детский сад комбинированного вида №19 «Светлячок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ОСНОВНАЯ ИДЕЯ ПРОЕКТА:</a:t>
            </a:r>
            <a:r>
              <a:rPr b="0" lang="ru-RU" sz="20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ставить программу по коррекции эмоционально-волевой сферы и познавательных процессов детей детей 4-7 лет с задержкой психического развит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2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АКТУАЛЬНОСТЬ ПРОБЛЕМЫ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последние годы наметился рост числа детей, имеющих отклонения в психическом развитии и испытывающих вследствие этого трудности в обучении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ДОУ специалистам необходимо проводить специальную, разностороннюю и достаточно длительную работу с детьми, имеющими задержки в психическом развитии (ЗПР), направленную на анализ и устранение причин отставания таких детей в развитие психических процессов и эмоционально-волевой сферы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d18"/>
                </a:solidFill>
                <a:latin typeface="Franklin Gothic Book"/>
              </a:rPr>
              <a:t>ПРОБЛЕМА</a:t>
            </a:r>
            <a:r>
              <a:rPr b="0" lang="ru-RU" sz="18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ключается в том, что в настоящее  время комплексной программы для работы с дошкольниками с 4-х лет с ЗПР не существует. Кроме того, в одной группе могут находиться дети как с выраженной задержкой психического развития (в некоторых случаях трудно устранимой или тяжелой), так и со слабым отставанием в психическом развитии, близком к нормативному. Сами по себе ЗПР могут иметь разный, индивидуально своеобразный характер. Все эти дети требуют различного психолого-педагогического подхода в работе с ними, и такая работа должна, в идеале, проводится с каждый ребенком по индивидуальной программе с участием нескольких специалистов: воспитателей, логопеда, психолога и дефектолог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од ЗПР в данном случае понимается отставание детей в психическом развитии от нормы (нормой считается уровень и динамика психического развития нормальных, здоровых детей соответствующего возраста, устанавливаемая при помощи специальных математико-статистических методов и процедур)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роявления ЗПР включают в себя и замедленное эмоционально-волевое созревание в виде того или иного варианта инфантилизма, и недостаточность или задержку развития познавательной деятельности. Проявления, причины и следствия ЗПР могут быть самыми разными. 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ажным этапом в изучении детей с ЗПР стали исследования К.С. Лебединской и сотрудников ее лаборатории в 70— 80-е гг. Исходя из этиологического принципа, она выделила четыре основных варианта задержки психического развития, которые и сегодня используются наиболее продуктивно в оказании коррекционной помощи детям в специальных учреждениях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1) задержка психического развития конституционального происхождения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2) задержка психического развития соматогенного происхождения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3) задержка психического развития психогенного происхождения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4) задержка психического развития церебрально-органического генез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ОБЪЕКТ ИССЛЕДОВАНИЯ</a:t>
            </a:r>
            <a:r>
              <a:rPr b="0" lang="ru-RU" sz="1600" spc="-1" strike="noStrike">
                <a:solidFill>
                  <a:srgbClr val="271d18"/>
                </a:solidFill>
                <a:latin typeface="Franklin Gothic Book"/>
              </a:rPr>
              <a:t>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Особенности эмоционально-волевой сферы и познавательных процессов детей 4-7-летнего возраста с ЗПР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ПРЕДМЕТ ИССЛЕДОВАНИЯ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Задержки в психическом развитии детей 4-7-летнего возраста, их причины и способы устранени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ЦЕЛЬ ИССЛЕДОВАНИЯ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Выяснить и устранить причины задержек в развитии эмоционально-волевой сферы и познавательных процессов  детей 4-7-летнего возраста в интегрированных группах ДОУ комбинированного вид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ЗАДАЧИ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1. Изучить и оценить уровень развития эмоционально-волевой сферы и познавательных процессов детей 4-7-летнего возраста. Выяснить его соответствие норме и установить отклонения от нормы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2. Выяснить причины отставания детей 4-7-летнего возраста в психическом развитии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3. Разработать программу коррекции отклонений в развитии эмоционально-волевой сферы и познавательных процессов детей 4-7-летнего возраст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4. Устранить недостатки в развитии эмоционально-волевой сферы и психических процессов детей с помощью работы с детьми по данной программ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5. Сформулировать выводы и практические рекомендации для воспитателей детского сада, учителей  и родителей по работе с детьми 4-7-летнего возраста с задержками психического развития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ГИПОТЕЗЫ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1. Причинами ЗПР детей 4-7-летнего возраста являются следующие: неблагоприятные условия воспитания, частые психотравмирующие ситуации в жизни ребенк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2. Эти причины и связанные с ними ЗПР детей можно устранить, при использовании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проведения ранней диагностики ЗПР, определения ее характера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установления точных причин ЗПР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разработки и реализации в работе с каждым ребенком индивидуальной коррекционно-развивающей программы с участием воспитателей, дефектолога и психолог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МЕТОДЫ ДОСТИЖЕНИЯ ПОСТАВЛЕННЫХ ЦЕЛЕЙ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Теоретические:</a:t>
            </a:r>
            <a:r>
              <a:rPr b="0" lang="ru-RU" sz="16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исследование литературы по изучаемой проблеме, позволяющее выяснить степень разработанности проблемы в научном и практическом плане. Формулировка и обоснование предположений о формах и причинах ЗПР, встречающихся у детей 4-7-летнего возраста.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Эмпирические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наблюдение, тестирование, беседа, коррекционно-развивающая экспериментальная работа с детьми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d18"/>
                </a:solidFill>
                <a:latin typeface="Franklin Gothic Book"/>
              </a:rPr>
              <a:t>Статистические: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в качестве вспомогательных использованы методы статистической обработки результатов исследования. </a:t>
            </a: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критерия Стъюдента для связных и несвязных выборок, </a:t>
            </a:r>
            <a:r>
              <a:rPr b="0" lang="ru-RU" sz="1600" spc="-1" strike="noStrike" u="sng">
                <a:solidFill>
                  <a:srgbClr val="4e3b30"/>
                </a:solidFill>
                <a:uFillTx/>
                <a:latin typeface="Franklin Gothic Book"/>
              </a:rPr>
              <a:t>критерий Вилкоксона для связанных совокупностей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55376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d18"/>
                </a:solidFill>
                <a:latin typeface="Franklin Gothic Book"/>
              </a:rPr>
              <a:t>КОНЦЕПТУАЛЬНАЯ ОСНОВА ЭКСПЕРИМЕНТА:</a:t>
            </a:r>
            <a:r>
              <a:rPr b="0" lang="ru-RU" sz="2000" spc="-1" strike="noStrike">
                <a:solidFill>
                  <a:srgbClr val="271d18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онцептуальной основой исследовательской и практической работы являются фундаментальные труды отечественных и зарубежных детских, педагогических и клинических психологов, психотерапевтов и дефектологов (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М.И. Буянов, Т.А. Власова, А.И. Захаров, К.С. Лебединская, А.Р. Лурия, М.С. Певзнер, Г.Е. Сухарева,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С.Л. Рубинштейн,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М.Г. Рейдибойм, А. Валлон, Р. Заззо, Р.Д. Триггер, А. Штраус, Л. Летинен и др.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своем исследовании мы также опирались на известные программы работы с детьми соответствующего возраста, в том числе на следующие: «Программа воспитания и обучения в детском саду» под редакцией М.А. Васильевой, В.В. Гербовой, Т.С. Комаровой. Программа Т. Б. Филичевой, Г. В. Чиркиной «Коррекционное воспитание и обучение детей с общим недоразвитием речи». Технология С. А. Мироновой «Развитие речи детей на логопедических занятиях». Программа С.Г. Шевченко «Подготовка к школе детей с задержкой психического развития»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26:11Z</dcterms:created>
  <dc:creator>Диана №1 Москалёва</dc:creator>
  <dc:description/>
  <dc:language>en-US</dc:language>
  <cp:lastModifiedBy>Диана №1 Москалёва</cp:lastModifiedBy>
  <dcterms:modified xsi:type="dcterms:W3CDTF">2012-01-30T07:11:35Z</dcterms:modified>
  <cp:revision>22</cp:revision>
  <dc:subject/>
  <dc:title>Заявка  на присвоение  статуса муниципальной экспериментальной площадки Муниципальному дошкольному образовательному учреждению детский сад комбинированного вида №19 «Светлячок»  при реализации научно-исследовательского проекта  </dc:title>
</cp:coreProperties>
</file>