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B2ED-0B7C-4A37-9697-01D0585D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2CEE-A9FE-4174-A05C-734CBB5B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7A70C-D5F6-4FEC-B274-C8AB0DD3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44363-B5AC-4DA2-95FB-5E63D5E8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DFA2E-C5B7-49E1-A1BA-B9A30CEF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0BAAA-A3DE-4865-9A17-E805A944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75718-28E1-4258-B732-9A24F583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9D88D-92B3-4E80-9F1C-CC59910B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37AEC-5BA9-49A0-AB6D-8C14EC8A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1FEF1-478D-42DE-80B1-5200E23C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0B095-66C6-4E33-8656-6ED0829F6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94DE-F2FE-4EC4-9B40-F8407B7F3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7354-C541-4BE3-B0CB-12908174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081F-317B-4FEB-AD9B-4F1B6BBE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3E9F-4F20-433F-B2E5-63FA6595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8B72-EFD4-45EF-AC1C-974124FC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C0B6-738C-4E10-95AF-67EFE9C9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2BDE-FB2C-49F9-9CFA-0F73EFE1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F999-0ADA-441A-BEA0-4406F800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1A90-05CE-4381-84AF-D03F0CA0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DE65-2503-48B0-BF01-0D5AFDC6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B3B6-C2DC-40D2-A273-D3C01CF4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F8BD-0558-4F7C-9D05-21E4B4B2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AACE-C6EA-475C-9D0E-F57D4BF5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32D5-8019-4D3C-A054-9CA41DE6D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733E-7460-4BF3-A1E4-F14017288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D846F-2729-463C-B51B-21688AFE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B0E06-25A2-493E-8A78-702916B7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76B41-E0F4-4F06-9ED6-0EFA36EB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C2BDE-17A5-4016-A1EF-391941B3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E87F0-6B35-4187-B461-367AF53C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F069-2537-404D-A10F-7E2CA43C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D4CEF-C02A-4FC2-B49F-93C1DCD3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5AD71-4DB3-4D29-B4B7-8C0D5EC1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0324E-F399-4FAC-B16C-2D7FB00C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96A51-A56D-4A9F-94E4-E0666473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7364F-EEB5-4F90-AB98-222C2A8A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9D454-17B2-4949-A065-468E437A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CED59-5A1A-42AF-A664-CDB1E57F4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12B82-BA86-44E6-932E-83BE3C86E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142B5-71A6-47D9-ABCE-460E3559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317A7-5D25-4FDC-8B12-7DE51816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09C5-D1CE-4F78-8F76-88100C1F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B353F-4F27-4F87-9CDB-5F7FB5F1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95036-3037-4730-BEFC-3AB76D0A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DB351-4547-4218-BF47-61873289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C5579-A577-46AF-8ABE-01A4ABA9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DB709-0535-4633-995F-5E8C4F16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1B840-F6D1-4740-9EED-5BE28743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8F19E-7DCB-4499-97FE-CBC65200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DCD23-1A04-4B6A-AAEC-80B4F6EE3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687D5-297D-42E7-A977-83F5C3896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D2D48-BC89-4A0A-83B5-0F882200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FBB8-081F-4E0F-9CEE-8C3238D8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CED83-B2C6-47E6-A5C4-291798CA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D27B8-F3B9-4182-B4C7-D8869616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495A2-DC59-4FDA-A83F-33F3EE74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5A35F-3135-44C0-9AFA-784FA2A5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CB100-A128-4B50-BA23-959AB32B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99025-85D7-45E5-80A6-9BD054AD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DA7FC-0058-4DD4-A7CC-D01859C8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F0338-F546-4DB9-87FA-D3D0AD7C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240FA-F352-4489-8B6C-A81409CB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7BACD-DE76-4289-9BA2-C17FC6C1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7186-AC89-4552-9DB6-4EA55A9A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6D019-D8B6-4B26-B5FC-9DEBCB948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2F2FA-F6FF-4C0E-9239-54E8B7C43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9AAA9-7CCF-4D49-BF2A-F27EA896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25C34-4187-4C95-B433-887060B4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E5ABC-BB8D-48E9-8B0A-1722F023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B3AF6-FDED-44BF-9C58-8774757F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C4F22-3135-45EC-AB1D-C1B764C4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51357-9318-4888-8646-E60BA94B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778DA-16AE-42F3-87E5-654FD1B9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F3EF7-49FF-4E52-8F77-ACCDA821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97DA-4C86-499F-930B-7FF66070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011D8-0FD8-4BB5-8795-13663479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4BA99-C0AC-4CA6-B361-FCA79AD7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099D8-E4E1-48FF-B18D-2299C5FB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5910D-0A92-47B7-A545-2217D6A90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F2571-07CC-4E25-BF98-9AF0CBB0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2AF4A-7318-47C2-8620-6F38B503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45566-FC8E-47BC-857B-49586D24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EFABA-2D33-403E-B2AF-D7980625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86053-7E04-426D-9234-2DB11D79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71406-63AF-4388-AF18-0EEACD84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EF63-FBF5-4FF1-A8A1-AE96B440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D2B8C-93B6-45BE-B2BD-BC1078C5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45C18-383B-4CBE-B610-093F3E11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C4CC3-4EC9-4DF9-9FCC-7BF6F873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64147-ED05-43A8-9EB0-F1061B55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735CC-7F9C-4516-8576-38A367E2C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841E9-FD94-4F8D-A633-15CC7EAA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326B6-6E37-4D66-9D0B-A8802E92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CA0FF-9368-4EA6-84A0-860D89C4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5F32C-26CB-4A66-92AE-2341EFE9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47E18-AA4B-4DAD-9178-FE885324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C807-A2FC-49BA-AEE5-8927BDE5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65871-50F3-4953-A00A-17377B3A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731AC-79B1-43C1-8C56-97D19E80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0F0F1-D1FE-49B8-B8CA-A20B576D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6F6B0-2ED1-466C-852B-7F69CC20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5DB01-0C80-4D24-9C9A-9C748CBD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EFF17-6BBD-44C9-847B-47D5EAE0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BC5E8-A7CC-4E0C-BB00-7E39510F1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28998E-5C39-4D0C-8BBE-BB097DB67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D17B6-7846-460A-A46E-DDC684D0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33A4B-1CF0-40DC-8DE8-AD8D2270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85D7C9-E57D-4008-910C-FEB77D6130CE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284539-491A-4EC1-A3D4-F5895B74C34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45861F-42A9-4EBB-8585-C2812890FDC8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2BCBB7-4CCA-4BF2-818A-9D81A0AE0D2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781312-6D50-47C7-8ED9-2765BC9654D5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D8B5B5-B4F5-4AEF-B36B-F42A16CD8DF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767EED-A5F8-462D-94E7-85C5D1CE73D9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1E36C9-6694-4A05-A5BD-AC58E1351C2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2F6C1E-DF74-40E6-A492-8D76531FB6DA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E0B301-0847-41D6-8857-0AA0578366F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C141CC-10E1-4DDB-8A26-5739BE1E0601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1400A-3495-456E-A8AE-C9C59148DA4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A06104-DFBF-455A-8B8A-4C42E0D1A441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4D99C7-B63E-4B02-A10D-192CF5BCE71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62FE5D-38B1-4B0F-B574-EF0AB5E8C2B1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85048A-F6B9-483D-91CB-458D08FDCAD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E84E45-4C37-437A-9F30-26DB5C459E4F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9AA9AC-8213-4C0C-A6FB-0238195EDD0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2"/>
          <a:stretch/>
        </p:blipFill>
        <p:spPr>
          <a:xfrm>
            <a:off x="225360" y="579600"/>
            <a:ext cx="8693280" cy="16095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7407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71d18"/>
                </a:solidFill>
                <a:latin typeface="Franklin Gothic Book"/>
              </a:rPr>
              <a:t>«Создание психолого-педагогических условий для развития высших психических функций и эмоционально-волевой сферы детей 4-7 лет с задержкой психического развития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Subtitle 2"/>
          <p:cNvSpPr/>
          <p:nvPr/>
        </p:nvSpPr>
        <p:spPr>
          <a:xfrm>
            <a:off x="914400" y="6400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Franklin Gothic Book"/>
              </a:rPr>
              <a:t>ВОЛЖСК, 2012</a:t>
            </a:r>
            <a:endParaRPr b="0" lang="en-US" sz="17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04920" y="1295280"/>
            <a:ext cx="86868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1d18"/>
                </a:solidFill>
                <a:latin typeface="Franklin Gothic Book"/>
              </a:rPr>
              <a:t>НОРМАТИВНЫЕ ДОКУМЕНТЫ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Законодательная основа правового регулирования отношений в сфере образования представлена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Конституцией РФ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Закон РФ «Об образовании»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Проект Федерального Закона "Об образовании лиц с ограниченными возможностями здоровья (специальном образовании)"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Типовое положение о дошкольном образовательном учреждении для обучающихся, воспитанников с отклонением в развитии. Утверждено Постановлением РФ от 31 июля 1998г. № 867 (ред. От 10.03.2009)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«Типовое положение об образовательном учреждении для детей, нуждающихся в психолого-педагогической и медико – социальной помощи», утвержденное постановлением  Правительства Российской Федерации от 31 июля 1998 г. № 867 (ред. от  10.03.2009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еречень законодательства Российской Федерации в области прав ребенка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 Семейный кодекс РФ ( № 223-ФЗ от 29.12.1995 г. в редакции 02.01.2000 г.) О защите прав несовершеннолетних (ст.  47-53, ст. 54-165)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 Федеральный Закон об основных  гарантиях прав ребенка в Российской Федерации (№ 124-ФЗ от 24.07.1998 г. в редакции 20.07.2000 г.) Об основных гарантиях прав ребенка в Российской Федерации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9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0492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1d18"/>
                </a:solidFill>
                <a:latin typeface="Franklin Gothic Book"/>
              </a:rPr>
              <a:t>НОВИЗНА И ТЕОРЕТИЧЕСКАЯ ЗНАЧИМОСТЬ ПРОЕКТА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1d18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71d18"/>
                </a:solidFill>
                <a:latin typeface="Franklin Gothic Book"/>
              </a:rPr>
              <a:t>НАУЧНАЯ НОВИЗНА</a:t>
            </a:r>
            <a:r>
              <a:rPr b="0" i="1" lang="ru-RU" sz="18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Систематически изучены причины задержек в развитии эмоционально-волевой сферы и познавательных процессов  детей 4-7-летнего возраста в интегрированных группах ДОУ комбинированного вида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71d18"/>
                </a:solidFill>
                <a:latin typeface="Franklin Gothic Book"/>
              </a:rPr>
              <a:t>ТЕОРЕТИЧЕСКОЕ ЗНАЧЕНИЕ РАБОТЫ. 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Показана, выраженная на фоне общего отставания, неравномерность развития психических процессов у детей с ЗПР как одна из наиболее характерных их особенностей. Доказана возможность психологической диагностики и психологической коррекции эмоционально-волевой сферы и познавательных процессов у детей с ЗПР с 4-летнего возраста.</a:t>
            </a: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71d18"/>
                </a:solidFill>
                <a:latin typeface="Franklin Gothic Book"/>
              </a:rPr>
              <a:t>ПРАКТИЧЕСКАЯ ЗНАЧИМОСТЬ ПРОЕКТА</a:t>
            </a:r>
            <a:r>
              <a:rPr b="0" i="1" lang="ru-RU" sz="18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оказана динамика развития детей с задержкой психического развития с 4-летнего возраста, что обосновывает необходимость специальной педагогической помощи этим детям. Предложены методы изучения эмоционально-волевой сферы и познавательных процессов  детей с задержкой психического развития, которые могут быть использованы при составлении диагностического психолого-педагогического комплекса в ДОУ комбинированного вида, в целях повышения эффективности психологического сопровождения детей с проблемами в развитии в процессе их обучения.</a:t>
            </a:r>
            <a:r>
              <a:rPr b="0" i="1" lang="ru-RU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Доказана эффективность примененного комплекса диагностических психологических методик для выявления детей с задержкой психического развития в 4-летнем возрасте. Выделены наиболее диагностичные методики для определения школьной готовности. 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1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le 1" descr=""/>
          <p:cNvPicPr/>
          <p:nvPr/>
        </p:nvPicPr>
        <p:blipFill>
          <a:blip r:embed="rId2"/>
          <a:stretch/>
        </p:blipFill>
        <p:spPr>
          <a:xfrm>
            <a:off x="298440" y="152280"/>
            <a:ext cx="8699400" cy="12924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1d18"/>
                </a:solidFill>
                <a:latin typeface="Franklin Gothic Book"/>
              </a:rPr>
              <a:t>1-Й ЭТАП (2011Г.).</a:t>
            </a:r>
            <a:r>
              <a:rPr b="0" lang="ru-RU" sz="1800" spc="-1" strike="noStrike">
                <a:solidFill>
                  <a:srgbClr val="271d18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Определение проблемы исследования и его отдельных концептуальных положений, формулировка гипотезы исследования, его цели и задач.</a:t>
            </a:r>
            <a:r>
              <a:rPr b="1" i="1" lang="ru-RU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Анализ теоретических источников с целью установления степени разработанности исследуемой проблемы. Изучение опыта психолого-педагогической деятельности по составлению коррекционно-развивающих программ для детей 4-7 лет с задержкой психического развития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1d18"/>
                </a:solidFill>
                <a:latin typeface="Franklin Gothic Book"/>
              </a:rPr>
              <a:t>2-Й ЭТАП (2012Г.)</a:t>
            </a:r>
            <a:r>
              <a:rPr b="0" lang="ru-RU" sz="1800" spc="-1" strike="noStrike">
                <a:solidFill>
                  <a:srgbClr val="271d18"/>
                </a:solidFill>
                <a:latin typeface="Franklin Gothic Book"/>
              </a:rPr>
              <a:t>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роведение констатирующего эксперимента с целью обоснования актуальности проблемы, определения уровня развития эмоционально-волевой сферы и познавательных процессов  детей 4-7 лет с задержкой психического развития. Разработка и обоснование плана проведения основной экспериментальной работы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1d18"/>
                </a:solidFill>
                <a:latin typeface="Franklin Gothic Book"/>
              </a:rPr>
              <a:t>3-Й ЭТАП</a:t>
            </a:r>
            <a:r>
              <a:rPr b="0" lang="ru-RU" sz="1800" spc="-1" strike="noStrike">
                <a:solidFill>
                  <a:srgbClr val="271d18"/>
                </a:solidFill>
                <a:latin typeface="Franklin Gothic Book"/>
              </a:rPr>
              <a:t> (2012–2013 ГГ.)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– основной этап, на котором осуществляется практическая реализация коррекционно-развивающей программы целенаправленного развития эмоционально-волевой сферы и познавательных процессов  детей 4-7 лет с задержкой психического развития.  Формирующий   эксперимент позволит выявить условия, закономерности и методы развития детей дошкольного возраста с задержкой психического развития. 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1d18"/>
                </a:solidFill>
                <a:latin typeface="Franklin Gothic Book"/>
              </a:rPr>
              <a:t>4-Й ЭТАП </a:t>
            </a:r>
            <a:r>
              <a:rPr b="0" lang="ru-RU" sz="1800" spc="-1" strike="noStrike">
                <a:solidFill>
                  <a:srgbClr val="271d18"/>
                </a:solidFill>
                <a:latin typeface="Franklin Gothic Book"/>
              </a:rPr>
              <a:t>(2013-2014ГГ.)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– завершающий этап, на котором осуществляется математическая обработка, осмысление и интерпретация полученных результатов, литературное и техническое оформление работы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4" name=""/>
          <p:cNvGraphicFramePr/>
          <p:nvPr/>
        </p:nvGraphicFramePr>
        <p:xfrm>
          <a:off x="304920" y="2438280"/>
          <a:ext cx="8686800" cy="4257720"/>
        </p:xfrm>
        <a:graphic>
          <a:graphicData uri="http://schemas.openxmlformats.org/drawingml/2006/table">
            <a:tbl>
              <a:tblPr/>
              <a:tblGrid>
                <a:gridCol w="2895480"/>
                <a:gridCol w="2895480"/>
                <a:gridCol w="289584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формление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86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ировать педагогический коллектив о проведении  эксперимен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с педагогическим коллективом с целью знакомства с содержанием, задачами, гипотезой, этапами эксперимен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околы совещаний, педсове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193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ить проблему исследования, сформулировать гипотезу исследования, его цели и задачи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теоретических источников с целью установления степени разработанности исследуемой проблемы. Изучение опыта психолого-педагогической деятельности по составлению коррекционно-развивающих программ для детей 4-7 лет с задержкой психического развит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ормление  заявки, составление научно-исследовательского проек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10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обрать диагностический инструмента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методик для проведения диагностики  детей 4 лет с ЗПР: психолога, логопеда, воспитател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папки «Методики диагно-стики развития эмоционально-волевой сферы и познавательных процессов  детей  с ЗПР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pic>
        <p:nvPicPr>
          <p:cNvPr id="425" name="Title 1" descr=""/>
          <p:cNvPicPr/>
          <p:nvPr/>
        </p:nvPicPr>
        <p:blipFill>
          <a:blip r:embed="rId2"/>
          <a:stretch/>
        </p:blipFill>
        <p:spPr>
          <a:xfrm>
            <a:off x="298440" y="152280"/>
            <a:ext cx="8699400" cy="1292400"/>
          </a:xfrm>
          <a:prstGeom prst="rect">
            <a:avLst/>
          </a:prstGeom>
          <a:ln w="0">
            <a:noFill/>
          </a:ln>
        </p:spPr>
      </p:pic>
      <p:sp>
        <p:nvSpPr>
          <p:cNvPr id="426" name="Content Placeholder 2"/>
          <p:cNvSpPr/>
          <p:nvPr/>
        </p:nvSpPr>
        <p:spPr>
          <a:xfrm>
            <a:off x="304920" y="1371600"/>
            <a:ext cx="86868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71d18"/>
                </a:solidFill>
                <a:latin typeface="Franklin Gothic Book"/>
              </a:rPr>
              <a:t>1-Й ЭТАП (2011Г.).</a:t>
            </a:r>
            <a:r>
              <a:rPr b="0" lang="ru-RU" sz="2000" spc="-1" strike="noStrike">
                <a:solidFill>
                  <a:srgbClr val="271d18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одготовительный, 2011г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Создание условий для проведения эксперимента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2"/>
          <a:stretch/>
        </p:blipFill>
        <p:spPr>
          <a:xfrm>
            <a:off x="298440" y="152280"/>
            <a:ext cx="8699400" cy="129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8" name=""/>
          <p:cNvGraphicFramePr/>
          <p:nvPr/>
        </p:nvGraphicFramePr>
        <p:xfrm>
          <a:off x="457200" y="2666880"/>
          <a:ext cx="8305920" cy="403884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633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0a22e"/>
                      </a:solidFill>
                    </a:lnL>
                    <a:lnR>
                      <a:noFill/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формление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f0a22e"/>
                      </a:solidFill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ить психолого-педагогические основы процесса развития детей 4-7 лет с ЗП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0a22e"/>
                      </a:solidFill>
                    </a:lnL>
                    <a:lnR>
                      <a:noFill/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констатирующего эксперимен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обоснование плана проведения основной экспериментальной рабо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f0a22e"/>
                      </a:solidFill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ить результаты констатирующего исслед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0a22e"/>
                      </a:solidFill>
                    </a:lnL>
                    <a:lnR>
                      <a:noFill/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 эмоционально-волевой сферы и познавательных процессов детей 4-7 лет с ЗП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сводных таблиц и анализ результа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f0a22e"/>
                      </a:solidFill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ить коррекционно-развивающую программу развития детей 4-7 лет с ЗПР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0a22e"/>
                      </a:solidFill>
                    </a:lnL>
                    <a:lnR>
                      <a:noFill/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системы занятий для развития детей 4-7 лет с ЗПР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онно-развивающая программа развития детей 4-7 лет с ЗПР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f0a22e"/>
                      </a:solidFill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120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овать коррекционно-развивающую программу целенаправленного развития детей 4-7 лет с ЗП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0a22e"/>
                      </a:solidFill>
                    </a:lnL>
                    <a:lnR>
                      <a:noFill/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ение практической реализации коррекционно-развивающей программы целенаправленного развития детей 4-7 лет с ЗПР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ие условий, закономерностей и методов развития детей дошкольного возраста с ЗПР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f0a22e"/>
                      </a:solidFill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29" name="Content Placeholder 2"/>
          <p:cNvSpPr/>
          <p:nvPr/>
        </p:nvSpPr>
        <p:spPr>
          <a:xfrm>
            <a:off x="304920" y="1371600"/>
            <a:ext cx="868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1d18"/>
                </a:solidFill>
                <a:latin typeface="Franklin Gothic Book"/>
              </a:rPr>
              <a:t>2-3  ЭТАПЫ (2012-2013Г.).</a:t>
            </a:r>
            <a:r>
              <a:rPr b="0" lang="ru-RU" sz="1800" spc="-1" strike="noStrike">
                <a:solidFill>
                  <a:srgbClr val="271d18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рактический (формирующий эксперимент)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Цель: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создание коррекционно-развивающей программы целенаправленного развития детей 4-7 лет с задержкой психического развития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0" name=""/>
          <p:cNvGraphicFramePr/>
          <p:nvPr/>
        </p:nvGraphicFramePr>
        <p:xfrm>
          <a:off x="304920" y="2819520"/>
          <a:ext cx="8686800" cy="3352680"/>
        </p:xfrm>
        <a:graphic>
          <a:graphicData uri="http://schemas.openxmlformats.org/drawingml/2006/table">
            <a:tbl>
              <a:tblPr/>
              <a:tblGrid>
                <a:gridCol w="2895480"/>
                <a:gridCol w="2895480"/>
                <a:gridCol w="2895840"/>
              </a:tblGrid>
              <a:tr h="691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формление результа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96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ить эффективность  реализации коррекционно-развивающей программы развития детей 4-7 лет с ЗПР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контрольного эксперимен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итогового отчета о проведении экспериментальной рабо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72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ить результаты контрольного исслед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рование детей 4-7 лет с ЗПР по различным видам деяте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сводных таблиц и анализ результа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96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елать анализ контрольного этапа экспериме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ение математической обработки, осмысление и интерпретация полученных результатов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ное и техническое оформление рабо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pic>
        <p:nvPicPr>
          <p:cNvPr id="431" name="Title 1" descr=""/>
          <p:cNvPicPr/>
          <p:nvPr/>
        </p:nvPicPr>
        <p:blipFill>
          <a:blip r:embed="rId2"/>
          <a:stretch/>
        </p:blipFill>
        <p:spPr>
          <a:xfrm>
            <a:off x="298440" y="152280"/>
            <a:ext cx="8699400" cy="1292400"/>
          </a:xfrm>
          <a:prstGeom prst="rect">
            <a:avLst/>
          </a:prstGeom>
          <a:ln w="0">
            <a:noFill/>
          </a:ln>
        </p:spPr>
      </p:pic>
      <p:sp>
        <p:nvSpPr>
          <p:cNvPr id="432" name="Content Placeholder 2"/>
          <p:cNvSpPr/>
          <p:nvPr/>
        </p:nvSpPr>
        <p:spPr>
          <a:xfrm>
            <a:off x="304920" y="1371600"/>
            <a:ext cx="8686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4 этап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Обобщающий, 2013-2014гг.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Цель: </a:t>
            </a:r>
            <a:r>
              <a:rPr b="0" lang="ru-RU" sz="2200" spc="-1" strike="noStrike">
                <a:solidFill>
                  <a:srgbClr val="000000"/>
                </a:solidFill>
                <a:latin typeface="Franklin Gothic Book"/>
              </a:rPr>
              <a:t>Анализ и обобщение теоретических и практических материалов, полученных в результате исследования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При реализации проекта «Коррекция эмоционально-волевой сферы и познавательных процессов детей 4-7 лет с задержкой психического развития» (далее Проект) необходимо соблюдать общие принципы построения коррекционно-педагогического процесса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Одним из наиболее важных принципов построения педагогического процесса является принцип индивидуально - дифференцированного подхода. Он предполагает создание педагогических условий для обеспечения образовательных потребностей каждого воспитанника специального детского сада.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Необходимо реализовать потенциальные возможности каждого ребенка, обеспечить полноценное развитие личности. Применительно к детям с ЗПР личностно-ориентированный подход предполагает воздействие не только на познавательную сферу, но и обеспечение условий для преодоления черт эмоционально-личностной незрелости, характерных для многих из них.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04920" y="20574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формирование у детей представлений о здоровом образе жизн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разработка гибкого режима дня, который позволял бы учитывать изменени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в состоянии здоровья детей в зависимости от времени года, метеоусловий и др.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введение в «Режим дня» и во время проведения занятий специальных моментов, предотвращающих нервно-психическую перегрузку детей (гимнастика, релаксация, смена видов деятельности и др.);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реализация плана оздоровительных мероприятий: закаливание, профилактика острых респираторных заболеваний (ОРЗ), фито- и витаминная терапия и др.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применение здоровьесберегающих технологий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создание психологически комфортных условий, обеспечивающих эмоциональное благополучие каждого ребенка.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организация медицинского контроля за состоянием здоровья детей.</a:t>
            </a: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6" name="Title 4" descr=""/>
          <p:cNvPicPr/>
          <p:nvPr/>
        </p:nvPicPr>
        <p:blipFill>
          <a:blip r:embed="rId2"/>
          <a:stretch/>
        </p:blipFill>
        <p:spPr>
          <a:xfrm>
            <a:off x="298440" y="139680"/>
            <a:ext cx="8699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Title 1" descr=""/>
          <p:cNvPicPr/>
          <p:nvPr/>
        </p:nvPicPr>
        <p:blipFill>
          <a:blip r:embed="rId2"/>
          <a:stretch/>
        </p:blipFill>
        <p:spPr>
          <a:xfrm>
            <a:off x="298440" y="152280"/>
            <a:ext cx="8699400" cy="12924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304920" y="137124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- привлечение к реализации проекта научного руководителя (к.псх.н.);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- создание на базе учреждения «Совета по коррекционной работе», в который входят наиболее квалифицированные специалисты: старший воспитатель, дефектолог, психолог, логопед;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- создание банка данных для методического сопровождения коррекционно-развивающей работы (коррекционно-развивающие и диагностические методики, развивающие игры, специальная литература и др.);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- установление прямых связей с вышестоящими методическими службами с целью повышения уровня профессиональной квалификации и взаимодействия при организации и проведении методических мероприятий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itle 1" descr=""/>
          <p:cNvPicPr/>
          <p:nvPr/>
        </p:nvPicPr>
        <p:blipFill>
          <a:blip r:embed="rId2"/>
          <a:stretch/>
        </p:blipFill>
        <p:spPr>
          <a:xfrm>
            <a:off x="298440" y="139680"/>
            <a:ext cx="8699400" cy="17859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304920" y="17521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- создание диагностической службы, в том числе психолого-педагогического консилиума;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- построение коррекционно-образовательного процесса с учетом индивидуальных особенностей, уровня психического развития и актуального уровня знаний, представлений, умений детей с ЗПР;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- создание специальных образовательных условий (кабинетов специалистов, специальной коррекционной зоны в групповой комнате для проведения «коррекционного часа», релаксационного уголка - места, где ребенок может уединиться, отдохнуть и др.);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- наполнение педагогического процесса современными коррекционно-развивающими методиками, новыми информационными технологиями, дидактическими пособиями, атрибутикой и игрушками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2"/>
          <a:stretch/>
        </p:blipFill>
        <p:spPr>
          <a:xfrm>
            <a:off x="298440" y="152280"/>
            <a:ext cx="8699400" cy="12924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ts val="2636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71d18"/>
                </a:solidFill>
                <a:latin typeface="Franklin Gothic Book"/>
              </a:rPr>
              <a:t>АВТОРЫ ПРОЕКТА:</a:t>
            </a:r>
            <a:r>
              <a:rPr b="0" lang="ru-RU" sz="2200" spc="-1" strike="noStrike">
                <a:solidFill>
                  <a:srgbClr val="271d18"/>
                </a:solidFill>
                <a:latin typeface="Franklin Gothic Book"/>
              </a:rPr>
              <a:t>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заведующая МОУ ДОУ №19 «Светлячок» Бизяева Марина Александровна, кандидат психологических наук, педагог-психолог ЦПМСС «Лабиринт» Митюхина Наталья Петровна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ts val="2636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71d18"/>
                </a:solidFill>
                <a:latin typeface="Franklin Gothic Book"/>
              </a:rPr>
              <a:t>НАУЧНЫЙ РУКОВОДИТЕЛЬ:</a:t>
            </a:r>
            <a:r>
              <a:rPr b="0" lang="ru-RU" sz="2200" spc="-1" strike="noStrike">
                <a:solidFill>
                  <a:srgbClr val="271d18"/>
                </a:solidFill>
                <a:latin typeface="Franklin Gothic Book"/>
              </a:rPr>
              <a:t>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к.псх.н. Митюхина Наталья Петровна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ts val="2636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71d18"/>
                </a:solidFill>
                <a:latin typeface="Franklin Gothic Book"/>
              </a:rPr>
              <a:t>СОРУКОВОДИТЕЛИ: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методист МОУ ДОУ №19 «Светлячок» Башева Анастасия Владимировна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ts val="2636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71d18"/>
                </a:solidFill>
                <a:latin typeface="Franklin Gothic Book"/>
              </a:rPr>
              <a:t>ОРГАНИЗАТОР ЭКСПЕРИМЕНТАЛЬНОЙ ПЛОЩАДКИ (ОТВЕТСТВЕННЫЙ ИСПОЛНИТЕЛЬ):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заведующая МОУ ДОУ №19 «Светлячок» Бизяева Марина Александровна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ts val="2636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71d18"/>
                </a:solidFill>
                <a:latin typeface="Franklin Gothic Book"/>
              </a:rPr>
              <a:t>КООРДИНАТОРЫ ПРОЕКТА</a:t>
            </a:r>
            <a:r>
              <a:rPr b="0" lang="ru-RU" sz="2200" spc="-1" strike="noStrike">
                <a:solidFill>
                  <a:srgbClr val="271d18"/>
                </a:solidFill>
                <a:latin typeface="Franklin Gothic Book"/>
              </a:rPr>
              <a:t>: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Климина Надежда Викторовна методист муниципального отдела образования городского округа «Город Волжск», учитель высшей категории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ts val="2636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9874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304560" y="1771560"/>
            <a:ext cx="8305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- активное вовлечение семьи в работу дошкольного учреждения;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- консультирование родителей по проблемам развития их детей;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- обучение родителей доступным им методам и приемам оказания коррекционной помощи детям в условиях семьи;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- организация обратной связи родителей с детским учреждением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04920" y="1554120"/>
            <a:ext cx="86868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271d18"/>
                </a:solidFill>
                <a:latin typeface="Franklin Gothic Book"/>
              </a:rPr>
              <a:t>КАДРОВОЕ ОБЕСПЕЧЕНИЕ:</a:t>
            </a:r>
            <a:r>
              <a:rPr b="1" lang="ru-RU" sz="2500" spc="-1" strike="noStrike">
                <a:solidFill>
                  <a:srgbClr val="271d18"/>
                </a:solidFill>
                <a:latin typeface="Franklin Gothic Book"/>
              </a:rPr>
              <a:t> </a:t>
            </a: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воспитатели 1 категории – 1 чел. 2 категории – 1 чел.; психолог – 1 чел.; учитель-логопед высшей категории – 1 чел.; учитель-логопед 1 категории – 1 чел.; учитель-дефектолог – 1 категории – 1 чел.; воспитатель по ФИЗО – 2 категории 1 чел.; музыкальный руководитель 1 категории – 1 чел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271d18"/>
                </a:solidFill>
                <a:latin typeface="Franklin Gothic Book"/>
              </a:rPr>
              <a:t>НАУЧНОЕ ОБЕСПЕЧЕНИЕ:</a:t>
            </a:r>
            <a:r>
              <a:rPr b="0" lang="ru-RU" sz="2500" spc="-1" strike="noStrike">
                <a:solidFill>
                  <a:srgbClr val="271d18"/>
                </a:solidFill>
                <a:latin typeface="Franklin Gothic Book"/>
              </a:rPr>
              <a:t> </a:t>
            </a: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наличие руководителя, научные консультации в МИО, отевтственного организатора проекта, координатора проекта, психологической поддержки участников проекта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271d18"/>
                </a:solidFill>
                <a:latin typeface="Franklin Gothic Book"/>
              </a:rPr>
              <a:t>ЭКОНОМИЧЕСКОЕ ОБЕСПЕЧЕНИЕ:</a:t>
            </a: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 оплата участникам проекта из фонда учреждения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271d18"/>
                </a:solidFill>
                <a:latin typeface="Franklin Gothic Book"/>
              </a:rPr>
              <a:t>МАТЕРИАЛЬНО-ТЕХНИЧЕСКОЕ ОБЕСПЕЧЕНИЕ</a:t>
            </a:r>
            <a:r>
              <a:rPr b="1" i="1" lang="ru-RU" sz="25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 наличие кабинетов педагога-психолога и учителя-логопеда, музыкального и спортивного залов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4" name="Title 3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553760"/>
            <a:ext cx="868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71d18"/>
                </a:solidFill>
                <a:latin typeface="Franklin Gothic Book"/>
              </a:rPr>
              <a:t>ИСТОЧНИКИ ФИНАНСИРОВАНИЯ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Проект планируется финансировать из бюджетных и внебюджетных источников, спонсорских пожертвований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71d18"/>
                </a:solidFill>
                <a:latin typeface="Franklin Gothic Book"/>
              </a:rPr>
              <a:t>ФОРМА ПРЕДСТАВЛЕНИЯ РЕЗУЛЬТАТОВ ЭКСПЕРИМЕНТА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Распространение опыта работы на городких и республиканских семинарах;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Освещение работы по реализации Проекта в СМИ;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Выпуск буклетов;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Выпуск методического пособия «Создание психолого-педагогических условий для развития высших психических функций и эмоционально-волевой сферы детей 4-7 лет с задержкой психического развития. Из опыта работы МОУ ДОУ №19 «Светлячок» г.Волжска»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04920" y="1554120"/>
            <a:ext cx="86868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37440" indent="-374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b2c24"/>
                </a:solidFill>
                <a:latin typeface="Franklin Gothic Book"/>
              </a:rPr>
              <a:t>Спасибо </a:t>
            </a: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  <a:p>
            <a:pPr marL="37440" indent="-374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b2c24"/>
                </a:solidFill>
                <a:latin typeface="Franklin Gothic Book"/>
              </a:rPr>
              <a:t>за </a:t>
            </a: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  <a:p>
            <a:pPr marL="37440" indent="-374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b2c24"/>
                </a:solidFill>
                <a:latin typeface="Franklin Gothic Book"/>
              </a:rPr>
              <a:t>внимание</a:t>
            </a: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71d18"/>
                </a:solidFill>
                <a:latin typeface="Franklin Gothic Book"/>
              </a:rPr>
              <a:t>ИСПОЛНИТЕЛИ: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e3b30"/>
                </a:solidFill>
                <a:latin typeface="Franklin Gothic Book"/>
              </a:rPr>
              <a:t>воспитатель первой квалификационной категории: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Чумукова Наталия Ивановн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e3b30"/>
                </a:solidFill>
                <a:latin typeface="Franklin Gothic Book"/>
              </a:rPr>
              <a:t>воспитатель второй квалификационной категории: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 Архипова Людмила Михайловн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e3b30"/>
                </a:solidFill>
                <a:latin typeface="Franklin Gothic Book"/>
              </a:rPr>
              <a:t>учитель-логопед высшей квалификационной категории: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Шагимуратова Асия Камилевн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e3b30"/>
                </a:solidFill>
                <a:latin typeface="Franklin Gothic Book"/>
              </a:rPr>
              <a:t>учитель-дефектолог первой квалификационной категории: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 Сахарова Эльназ Халфалиевн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e3b30"/>
                </a:solidFill>
                <a:latin typeface="Franklin Gothic Book"/>
              </a:rPr>
              <a:t>психолог: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Волженцева Екатерина Анатольевн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71d18"/>
                </a:solidFill>
                <a:latin typeface="Franklin Gothic Book"/>
              </a:rPr>
              <a:t>БАЗА ЭКСПЕРИМЕНТАЛЬНОЙ РАБОТЫ: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Мунициапльное дошкольное образовательное учреждение детский сад комбинированного вида №19 «Светлячок»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71d18"/>
                </a:solidFill>
                <a:latin typeface="Franklin Gothic Book"/>
              </a:rPr>
              <a:t>ОСНОВНАЯ ИДЕЯ ПРОЕКТА:</a:t>
            </a:r>
            <a:r>
              <a:rPr b="0" lang="ru-RU" sz="2000" spc="-1" strike="noStrike">
                <a:solidFill>
                  <a:srgbClr val="271d18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оставить программу по коррекции эмоционально-волевой сферы и познавательных процессов детей детей 4-7 лет с задержкой психического развити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5" name="Title 1" descr=""/>
          <p:cNvPicPr/>
          <p:nvPr/>
        </p:nvPicPr>
        <p:blipFill>
          <a:blip r:embed="rId2"/>
          <a:stretch/>
        </p:blipFill>
        <p:spPr>
          <a:xfrm>
            <a:off x="298440" y="152280"/>
            <a:ext cx="869940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2"/>
          <a:stretch/>
        </p:blipFill>
        <p:spPr>
          <a:xfrm>
            <a:off x="298440" y="152280"/>
            <a:ext cx="8699400" cy="12924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1d18"/>
                </a:solidFill>
                <a:latin typeface="Franklin Gothic Book"/>
              </a:rPr>
              <a:t>АКТУАЛЬНОСТЬ ПРОБЛЕМЫ</a:t>
            </a: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 последние годы наметился рост числа детей, имеющих отклонения в психическом развитии и испытывающих вследствие этого трудности в обучении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 ДОУ специалистам необходимо проводить специальную, разностороннюю и достаточно длительную работу с детьми, имеющими задержки в психическом развитии (ЗПР), направленную на анализ и устранение причин отставания таких детей в развитие психических процессов и эмоционально-волевой сферы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1d18"/>
                </a:solidFill>
                <a:latin typeface="Franklin Gothic Book"/>
              </a:rPr>
              <a:t>ПРОБЛЕМА</a:t>
            </a:r>
            <a:r>
              <a:rPr b="0" lang="ru-RU" sz="1800" spc="-1" strike="noStrike">
                <a:solidFill>
                  <a:srgbClr val="271d18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заключается в том, что в настоящее  время комплексной программы для работы с дошкольниками с 4-х лет с ЗПР не существует. Кроме того, в одной группе могут находиться дети как с выраженной задержкой психического развития (в некоторых случаях трудно устранимой или тяжелой), так и со слабым отставанием в психическом развитии, близком к нормативному. Сами по себе ЗПР могут иметь разный, индивидуально своеобразный характер. Все эти дети требуют различного психолого-педагогического подхода в работе с ними, и такая работа должна, в идеале, проводится с каждый ребенком по индивидуальной программе с участием нескольких специалистов: воспитателей, логопеда, психолога и дефектолога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9874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Под ЗПР в данном случае понимается отставание детей в психическом развитии от нормы (нормой считается уровень и динамика психического развития нормальных, здоровых детей соответствующего возраста, устанавливаемая при помощи специальных математико-статистических методов и процедур)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Проявления ЗПР включают в себя и замедленное эмоционально-волевое созревание в виде того или иного варианта инфантилизма, и недостаточность или задержку развития познавательной деятельности. Проявления, причины и следствия ЗПР могут быть самыми разными. 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Важным этапом в изучении детей с ЗПР стали исследования К.С. Лебединской и сотрудников ее лаборатории в 70— 80-е гг. Исходя из этиологического принципа, она выделила четыре основных варианта задержки психического развития, которые и сегодня используются наиболее продуктивно в оказании коррекционной помощи детям в специальных учреждениях: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1) задержка психического развития конституционального происхождения;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2) задержка психического развития соматогенного происхождения;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3) задержка психического развития психогенного происхождения;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4) задержка психического развития церебрально-органического генеза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9874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71d18"/>
                </a:solidFill>
                <a:latin typeface="Franklin Gothic Book"/>
              </a:rPr>
              <a:t>ОБЪЕКТ ИССЛЕДОВАНИЯ</a:t>
            </a:r>
            <a:r>
              <a:rPr b="0" lang="ru-RU" sz="1600" spc="-1" strike="noStrike">
                <a:solidFill>
                  <a:srgbClr val="271d18"/>
                </a:solidFill>
                <a:latin typeface="Franklin Gothic Book"/>
              </a:rPr>
              <a:t>: </a:t>
            </a: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Особенности эмоционально-волевой сферы и познавательных процессов детей 4-7-летнего возраста с ЗПР</a:t>
            </a: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71d18"/>
                </a:solidFill>
                <a:latin typeface="Franklin Gothic Book"/>
              </a:rPr>
              <a:t>ПРЕДМЕТ ИССЛЕДОВАНИЯ</a:t>
            </a: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: </a:t>
            </a: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Задержки в психическом развитии детей 4-7-летнего возраста, их причины и способы устранения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71d18"/>
                </a:solidFill>
                <a:latin typeface="Franklin Gothic Book"/>
              </a:rPr>
              <a:t>ЦЕЛЬ ИССЛЕДОВАНИЯ</a:t>
            </a: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: </a:t>
            </a: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Выяснить и устранить причины задержек в развитии эмоционально-волевой сферы и познавательных процессов  детей 4-7-летнего возраста в интегрированных группах ДОУ комбинированного вида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71d18"/>
                </a:solidFill>
                <a:latin typeface="Franklin Gothic Book"/>
              </a:rPr>
              <a:t>ЗАДАЧИ</a:t>
            </a: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1. Изучить и оценить уровень развития эмоционально-волевой сферы и познавательных процессов детей 4-7-летнего возраста. Выяснить его соответствие норме и установить отклонения от нормы.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2. Выяснить причины отставания детей 4-7-летнего возраста в психическом развитии.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3. Разработать программу коррекции отклонений в развитии эмоционально-волевой сферы и познавательных процессов детей 4-7-летнего возраста.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4. Устранить недостатки в развитии эмоционально-волевой сферы и психических процессов детей с помощью работы с детьми по данной программе.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5. Сформулировать выводы и практические рекомендации для воспитателей детского сада, учителей  и родителей по работе с детьми 4-7-летнего возраста с задержками психического развития.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71d18"/>
                </a:solidFill>
                <a:latin typeface="Franklin Gothic Book"/>
              </a:rPr>
              <a:t>ГИПОТЕЗЫ</a:t>
            </a: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1. Причинами ЗПР детей 4-7-летнего возраста являются следующие: неблагоприятные условия воспитания, частые психотравмирующие ситуации в жизни ребенка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2. Эти причины и связанные с ними ЗПР детей можно устранить, при использовании: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 проведения ранней диагностики ЗПР, определения ее характера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 установления точных причин ЗПР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400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разработки и реализации в работе с каждым ребенком индивидуальной коррекционно-развивающей программы с участием воспитателей, дефектолога и психолога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71d18"/>
                </a:solidFill>
                <a:latin typeface="Franklin Gothic Book"/>
              </a:rPr>
              <a:t>МЕТОДЫ ДОСТИЖЕНИЯ ПОСТАВЛЕННЫХ ЦЕЛЕЙ</a:t>
            </a: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71d18"/>
                </a:solidFill>
                <a:latin typeface="Franklin Gothic Book"/>
              </a:rPr>
              <a:t>Теоретические:</a:t>
            </a:r>
            <a:r>
              <a:rPr b="0" lang="ru-RU" sz="1600" spc="-1" strike="noStrike">
                <a:solidFill>
                  <a:srgbClr val="271d18"/>
                </a:solidFill>
                <a:latin typeface="Franklin Gothic Book"/>
              </a:rPr>
              <a:t> </a:t>
            </a: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исследование литературы по изучаемой проблеме, позволяющее выяснить степень разработанности проблемы в научном и практическом плане. Формулировка и обоснование предположений о формах и причинах ЗПР, встречающихся у детей 4-7-летнего возраста. 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71d18"/>
                </a:solidFill>
                <a:latin typeface="Franklin Gothic Book"/>
              </a:rPr>
              <a:t>Эмпирические: </a:t>
            </a: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наблюдение, тестирование, беседа, коррекционно-развивающая экспериментальная работа с детьми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71d18"/>
                </a:solidFill>
                <a:latin typeface="Franklin Gothic Book"/>
              </a:rPr>
              <a:t>Статистические:</a:t>
            </a: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 в качестве вспомогательных использованы методы статистической обработки результатов исследования. </a:t>
            </a:r>
            <a:r>
              <a:rPr b="0" lang="en-US" sz="1600" spc="-1" strike="noStrike">
                <a:solidFill>
                  <a:srgbClr val="4e3b30"/>
                </a:solidFill>
                <a:latin typeface="Franklin Gothic Book"/>
              </a:rPr>
              <a:t>t</a:t>
            </a: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критерия Стъюдента для связных и несвязных выборок, </a:t>
            </a:r>
            <a:r>
              <a:rPr b="0" lang="ru-RU" sz="1600" spc="-1" strike="noStrike" u="sng">
                <a:solidFill>
                  <a:srgbClr val="4e3b30"/>
                </a:solidFill>
                <a:uFillTx/>
                <a:latin typeface="Franklin Gothic Book"/>
              </a:rPr>
              <a:t>критерий Вилкоксона для связанных совокупностей</a:t>
            </a: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5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04920" y="1553760"/>
            <a:ext cx="868680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71d18"/>
                </a:solidFill>
                <a:latin typeface="Franklin Gothic Book"/>
              </a:rPr>
              <a:t>КОНЦЕПТУАЛЬНАЯ ОСНОВА ЭКСПЕРИМЕНТА:</a:t>
            </a:r>
            <a:r>
              <a:rPr b="0" lang="ru-RU" sz="2000" spc="-1" strike="noStrike">
                <a:solidFill>
                  <a:srgbClr val="271d18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онцептуальной основой исследовательской и практической работы являются фундаментальные труды отечественных и зарубежных детских, педагогических и клинических психологов, психотерапевтов и дефектологов (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М.И. Буянов, Т.А. Власова, А.И. Захаров, К.С. Лебединская, А.Р. Лурия, М.С. Певзнер, Г.Е. Сухарева,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С.Л. Рубинштейн,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М.Г. Рейдибойм, А. Валлон, Р. Заззо, Р.Д. Триггер, А. Штраус, Л. Летинен и др.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)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В своем исследовании мы также опирались на известные программы работы с детьми соответствующего возраста, в том числе на следующие: «Программа воспитания и обучения в детском саду» под редакцией М.А. Васильевой, В.В. Гербовой, Т.С. Комаровой. Программа Т. Б. Филичевой, Г. В. Чиркиной «Коррекционное воспитание и обучение детей с общим недоразвитием речи». Технология С. А. Мироновой «Развитие речи детей на логопедических занятиях». Программа С.Г. Шевченко «Подготовка к школе детей с задержкой психического развития»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03:26:11Z</dcterms:created>
  <dc:creator>Диана №1 Москалёва</dc:creator>
  <dc:description/>
  <dc:language>en-US</dc:language>
  <cp:lastModifiedBy>Диана №1 Москалёва</cp:lastModifiedBy>
  <dcterms:modified xsi:type="dcterms:W3CDTF">2012-01-30T07:11:35Z</dcterms:modified>
  <cp:revision>22</cp:revision>
  <dc:subject/>
  <dc:title>Заявка  на присвоение  статуса муниципальной экспериментальной площадки Муниципальному дошкольному образовательному учреждению детский сад комбинированного вида №19 «Светлячок»  при реализации научно-исследовательского проекта  </dc:title>
</cp:coreProperties>
</file>