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ct" ContentType="image/x-pict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F71F-242D-422C-B609-A8B715483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34D5-41F1-4B5D-86D9-98D109A94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B3D9-D69D-4F91-8156-A299471CB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4B5C-AE65-433D-A0C5-F0F69DCBA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07823-5840-4828-9931-EEFE4AB37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44DD9-6924-4E5E-A7E6-02748394A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4A1FB-C083-4F3D-9225-EC6E2CFEE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A723F-954C-4BCF-8F97-45757A4B2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76D98-E70B-42E5-9DAF-D397864BA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634ED-6BBE-431A-9057-659CEF926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C74DE-B391-4C86-B732-83657CC6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756B-764B-455C-80F3-26A3CB743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753CC-316E-4E2B-9CFF-4C25BA42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8890C-0252-4204-901A-B7336240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3B50A-7728-4C98-AA3E-FBCD119BD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28AD2-C23A-40BE-994E-42978A700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5368F-DC0E-4427-8C03-3222CEE5B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4EA6C-86AF-43CD-9247-D61714A39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17496-88C1-4057-BF6A-DEBA047E0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DCFD1-2123-4173-B452-55431F867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A0410-3C4C-42B3-9689-A897DCE30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02102-211E-41E9-AF2D-C476EA01C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4A9A-AAC8-4FA4-BDA1-0D4E3DDDF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C8AE0-7101-4FE7-A3AC-BBB176D3D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65635-DC2A-4276-88ED-D834E09B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AEC61-375E-411C-98D7-9FB7F017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24637-A37E-4A4C-9674-ACC278BC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DD3B9-EF31-4C46-B5B7-0F35C171D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D38B1-FEE1-4C81-A54A-047B16D92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C48B2-FC65-4811-B731-B6BD3613C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12A43-30BD-4649-A82F-6866E2F28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0FEDF-6A38-4A66-9FCD-44209FFAB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75E40-6EA1-431C-951C-76C02DEAA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EEFD-E9D8-4B8C-9DC3-F2FBF590F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59DF2-0711-4768-AB04-92EBEE1FB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26988-A3AB-4759-A657-D443F58ED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E26E7-A98E-46B6-8A64-9E638145A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3E08A-FAF1-43B0-8783-E3466F86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F8093-5B7A-4F82-A341-5F94910B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BF204-9B9E-4671-8EA4-78D47B41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7A668-67AC-4253-B685-4A974AF07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387DD-4205-4BBF-B43D-D240DD473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E7AC3-B555-400B-A504-1F31A9E8B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C92E3-1687-4D6D-87AE-8677EC3BD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3ACD-FB95-44AE-9AF8-ADD74AC62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C6D54-7BB2-4CDD-8849-006DA442D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15144-FC3F-461A-AAD3-0625EEA17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38F69-3F83-492E-9599-C7D66E98D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BF096-E246-41A8-9E93-A27866B75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5A01C-C50D-4FFC-82C7-15BB822DE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C4481-EE7C-4BBB-9107-F7388096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9CD1B-4284-4EEF-99B7-1275FAEF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FC6FA-BE83-4F8F-898D-E16940662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4BAD5-15F7-4498-BA19-1B3CF4F9E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374CA-EA75-457F-9039-ADF3E52C3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D98C-5927-4EB7-933D-BC9C419AD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331BC3-BE78-44D2-9E54-A868401A9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1197B-D5C7-4CCE-8B59-8EB5A0D7E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6B417-D843-4D3C-8F78-743289670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E0B4B-0982-411F-9BA3-8C4672DB0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724BE-C36D-441B-8018-54A5467FB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393B4-D8A7-41A4-A7B8-B93EF7BA9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05BED4-51FF-426E-B35D-EEE0C8E62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EEF1B-B7C7-4382-A2A7-FA711CAC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6C43A7-012C-4154-813F-3BDC8FB6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B1B575-8885-440F-8F5F-FDECF726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6FD1-D140-4580-97C2-E9D7C420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20B0EE-617E-4D48-BF67-EAE2C9AA3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C32A1-934D-49D4-81C7-43E7B6ED6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782BC-20E9-4AFA-9A75-1A359D45B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7639A7-6C7C-4916-9521-693DE5E66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53230-9E8E-403C-9868-A7406272D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19406-E766-4F88-BA46-677D8A2F4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95D163-1A47-41F3-AAB1-D0F02701E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8E731F-398E-4D41-9018-A750EAF75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B74B0F-07EA-4712-8629-CE03791D8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FD869B-0FA5-45DA-A21E-93C4F55B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2632-5908-412D-921F-70F6AC0E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0C273-BEC4-4DE9-8D1A-5BCB61D5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384BE9-7484-4A96-B732-7AA9916D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06F35-8442-41FC-B8ED-402DEB8D6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82231D-4323-419D-B086-660E75559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9A60E-DA70-4AEF-8A96-118699856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1588-678D-4C1A-BA42-E01F3616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12C18B-0DD0-4C4B-8652-74DD8350EB6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1840"/>
            <a:ext cx="225360" cy="231840"/>
            <a:chOff x="914400" y="1401840"/>
            <a:chExt cx="225360" cy="23184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1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146E42-07E9-4C52-B704-D6490DEC05DD}" type="datetime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2D85D0-29B3-4793-ADBD-FC56CD1626C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3680"/>
            <a:ext cx="225720" cy="231480"/>
            <a:chOff x="2163600" y="2803680"/>
            <a:chExt cx="225720" cy="23148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3680"/>
              <a:ext cx="22572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EA2CC7-F34B-4900-8AE7-E178B2B7ACFA}" type="datetime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A067D8-BE83-4EDA-9AAA-71DF27ED36B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DB2B8D-8A64-4E68-8502-1EB7FFA5BFF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ADAFC9-9D44-4EBD-B212-E85C524F2DA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375572-DE84-4388-B78E-E08D63A7123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797360" cy="4797720"/>
            <a:chOff x="646200" y="969840"/>
            <a:chExt cx="4797360" cy="479772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797360" cy="479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5A9838-AEC1-49F0-B3AD-93A29D48997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600" y="990360"/>
            <a:ext cx="8686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спубликанский семинар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ачество образования в ОУ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дходы, критерии, пути достиже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»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066680" y="3048120"/>
            <a:ext cx="746784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20e04"/>
                </a:solidFill>
                <a:latin typeface="Corbel"/>
              </a:rPr>
              <a:t>«Сущность применения некоторых методов математической статистики при проведении педагогических исследований»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20e04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20e04"/>
                </a:solidFill>
                <a:latin typeface="Corbel"/>
              </a:rPr>
              <a:t>к.псх.н. педагог-психолог ЦПМСС «Лабиринт»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20e04"/>
                </a:solidFill>
                <a:latin typeface="Corbel"/>
              </a:rPr>
              <a:t>Митюхина Н.П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Subtitle 2"/>
          <p:cNvSpPr/>
          <p:nvPr/>
        </p:nvSpPr>
        <p:spPr>
          <a:xfrm>
            <a:off x="914400" y="6400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Corbel"/>
              </a:rPr>
              <a:t>ВОЛЖСК,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700" spc="-1" strike="noStrike">
                <a:solidFill>
                  <a:srgbClr val="000000"/>
                </a:solidFill>
                <a:latin typeface="Corbel"/>
              </a:rPr>
              <a:t>201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03120" y="1519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72314"/>
                </a:solidFill>
                <a:latin typeface="Corbel"/>
              </a:rPr>
              <a:t>Вычислим текущее значение </a:t>
            </a:r>
            <a:r>
              <a:rPr b="0" lang="ru-RU" sz="4400" spc="-1" strike="noStrike">
                <a:solidFill>
                  <a:srgbClr val="572314"/>
                </a:solidFill>
                <a:latin typeface="Symbol"/>
                <a:ea typeface="Symbol"/>
              </a:rPr>
              <a:t></a:t>
            </a:r>
            <a:r>
              <a:rPr b="0" lang="ru-RU" sz="4400" spc="-1" strike="noStrike">
                <a:solidFill>
                  <a:srgbClr val="572314"/>
                </a:solidFill>
                <a:latin typeface="Corbel"/>
              </a:rPr>
              <a:t> Х по формуле:</a:t>
            </a:r>
            <a:br>
              <a:rPr sz="4400"/>
            </a:b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838080" y="1417320"/>
            <a:ext cx="4191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ru-RU" sz="44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Corbel"/>
              </a:rPr>
              <a:t>Х = | </a:t>
            </a:r>
            <a:r>
              <a:rPr b="0" lang="en-US" sz="4400" spc="-1" strike="noStrike">
                <a:solidFill>
                  <a:srgbClr val="ff0000"/>
                </a:solidFill>
                <a:latin typeface="Gill Sans MT"/>
              </a:rPr>
              <a:t>X</a:t>
            </a:r>
            <a:r>
              <a:rPr b="0" lang="en-US" sz="4400" spc="-1" strike="noStrike" baseline="-25000">
                <a:solidFill>
                  <a:srgbClr val="ff0000"/>
                </a:solidFill>
                <a:latin typeface="Gill Sans MT"/>
              </a:rPr>
              <a:t>i</a:t>
            </a:r>
            <a:r>
              <a:rPr b="0" lang="ru-RU" sz="4400" spc="-1" strike="noStrike">
                <a:solidFill>
                  <a:srgbClr val="ff0000"/>
                </a:solidFill>
                <a:latin typeface="Corbel"/>
              </a:rPr>
              <a:t> - </a:t>
            </a:r>
            <a:r>
              <a:rPr b="0" lang="en-US" sz="4400" spc="-1" strike="noStrike">
                <a:solidFill>
                  <a:srgbClr val="ff0000"/>
                </a:solidFill>
                <a:latin typeface="Gill Sans MT"/>
              </a:rPr>
              <a:t>X</a:t>
            </a:r>
            <a:r>
              <a:rPr b="0" lang="ru-RU" sz="4400" spc="-1" strike="noStrike">
                <a:solidFill>
                  <a:srgbClr val="ff0000"/>
                </a:solidFill>
                <a:latin typeface="Corbel"/>
              </a:rPr>
              <a:t> |  (5)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= 7,9 - 5,24=2,66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2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= 3,8 - 5,24= 1,44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3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= 5,1 - 5,24 = 0,14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= 7,7 - 5,24 = 2,46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5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= 3,7 - 5,24 = 1,54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Х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6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= 4,8 - 5,24 = 0,44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Х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7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= 4,2 - 5,24 = 1,04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Content Placeholder 2"/>
          <p:cNvSpPr/>
          <p:nvPr/>
        </p:nvSpPr>
        <p:spPr>
          <a:xfrm>
            <a:off x="4902120" y="1600200"/>
            <a:ext cx="4343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8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=  4,2 - 5,24 = 1,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9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=  3,8 - 5,24 = 1,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10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=  5,2 - 5,24 = 0,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11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=  5,2 - 5,24 = 0,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12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=  5,8 - 5,24 = 0,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Х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13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=  6,8 - 5,24 = 1,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Х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14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=  5,8 - 5,24 = 0,5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Х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15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=  4,7 - 5,24 = 0,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990720" y="6218280"/>
            <a:ext cx="825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ученные данные заносим в таблицу № 1 (графа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15720" y="1519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72314"/>
                </a:solidFill>
                <a:latin typeface="Corbel"/>
              </a:rPr>
              <a:t>Вычислим текущее значение </a:t>
            </a:r>
            <a:r>
              <a:rPr b="0" lang="ru-RU" sz="4400" spc="-1" strike="noStrike">
                <a:solidFill>
                  <a:srgbClr val="572314"/>
                </a:solidFill>
                <a:latin typeface="Symbol"/>
                <a:ea typeface="Symbol"/>
              </a:rPr>
              <a:t></a:t>
            </a:r>
            <a:r>
              <a:rPr b="0" lang="ru-RU" sz="44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Y</a:t>
            </a:r>
            <a:r>
              <a:rPr b="0" lang="ru-RU" sz="4400" spc="-1" strike="noStrike">
                <a:solidFill>
                  <a:srgbClr val="572314"/>
                </a:solidFill>
                <a:latin typeface="Corbel"/>
              </a:rPr>
              <a:t>  по формуле: </a:t>
            </a:r>
            <a:br>
              <a:rPr sz="4400"/>
            </a:b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990720" y="1417320"/>
            <a:ext cx="3975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44440" indent="-189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ru-RU" sz="44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Gill Sans MT"/>
              </a:rPr>
              <a:t>Y</a:t>
            </a:r>
            <a:r>
              <a:rPr b="0" lang="en-US" sz="4400" spc="-1" strike="noStrike" baseline="-25000">
                <a:solidFill>
                  <a:srgbClr val="ff0000"/>
                </a:solidFill>
                <a:latin typeface="Gill Sans MT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Corbel"/>
              </a:rPr>
              <a:t>= | </a:t>
            </a:r>
            <a:r>
              <a:rPr b="0" lang="en-US" sz="4400" spc="-1" strike="noStrike">
                <a:solidFill>
                  <a:srgbClr val="ff0000"/>
                </a:solidFill>
                <a:latin typeface="Gill Sans MT"/>
              </a:rPr>
              <a:t>Y</a:t>
            </a:r>
            <a:r>
              <a:rPr b="0" lang="en-US" sz="4400" spc="-1" strike="noStrike" baseline="-25000">
                <a:solidFill>
                  <a:srgbClr val="ff0000"/>
                </a:solidFill>
                <a:latin typeface="Gill Sans MT"/>
              </a:rPr>
              <a:t>i</a:t>
            </a:r>
            <a:r>
              <a:rPr b="0" lang="ru-RU" sz="4400" spc="-1" strike="noStrike">
                <a:solidFill>
                  <a:srgbClr val="ff0000"/>
                </a:solidFill>
                <a:latin typeface="Corbel"/>
              </a:rPr>
              <a:t> - </a:t>
            </a:r>
            <a:r>
              <a:rPr b="0" lang="en-US" sz="4400" spc="-1" strike="noStrike">
                <a:solidFill>
                  <a:srgbClr val="ff0000"/>
                </a:solidFill>
                <a:latin typeface="Gill Sans MT"/>
              </a:rPr>
              <a:t>Y</a:t>
            </a:r>
            <a:r>
              <a:rPr b="0" lang="ru-RU" sz="4400" spc="-1" strike="noStrike">
                <a:solidFill>
                  <a:srgbClr val="ff0000"/>
                </a:solidFill>
                <a:latin typeface="Corbel"/>
              </a:rPr>
              <a:t> | (6)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244440" indent="-189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= | 6,2 - 5,2 | = 1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44440" indent="-189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2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= | 3,6 - 5,2| = 1,6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44440" indent="-189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= |3,7 - 5,2 | = 1,5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44440" indent="-189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4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= |5,9 - 5,2 | = 0,7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44440" indent="-189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5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= | 7,4 - 5,2| = 2,2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44440" indent="-189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6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= | 5,7 - 5,2 | = 0,5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44440" indent="-189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7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= | 2,4 - 5,2 | = 2,8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44440" indent="-189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44440" indent="-189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44440" indent="-189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44440" indent="-189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Content Placeholder 2"/>
          <p:cNvSpPr/>
          <p:nvPr/>
        </p:nvSpPr>
        <p:spPr>
          <a:xfrm>
            <a:off x="4965840" y="1417680"/>
            <a:ext cx="42796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8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= | 6,9 - 5,2 | = 1,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9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= | 4 - 5,2 | = 1,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10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= | 4 - 5,2 | = 1,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11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= | 5,6 - 5,2 | = 0,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12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= |  8,6 - 5,2 | = 3,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13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= | 3,5 - 5,2 | = 1,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14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= | 5,2 - 5,2 |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15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= | 5,9 - 5,2 | = 0,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990720" y="6218280"/>
            <a:ext cx="825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ученные данные заносим в таблицу № 1 (графа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72314"/>
                </a:solidFill>
                <a:latin typeface="Corbel"/>
              </a:rPr>
              <a:t>Возведем значение </a:t>
            </a:r>
            <a:r>
              <a:rPr b="0" lang="ru-RU" sz="4400" spc="-1" strike="noStrike">
                <a:solidFill>
                  <a:srgbClr val="572314"/>
                </a:solidFill>
                <a:latin typeface="Symbol"/>
                <a:ea typeface="Symbol"/>
              </a:rPr>
              <a:t></a:t>
            </a:r>
            <a:r>
              <a:rPr b="0" lang="ru-RU" sz="4400" spc="-1" strike="noStrike">
                <a:solidFill>
                  <a:srgbClr val="572314"/>
                </a:solidFill>
                <a:latin typeface="Corbel"/>
              </a:rPr>
              <a:t> Х</a:t>
            </a:r>
            <a:r>
              <a:rPr b="0" lang="en-US" sz="4400" spc="-1" strike="noStrike" baseline="-25000">
                <a:solidFill>
                  <a:srgbClr val="572314"/>
                </a:solidFill>
                <a:latin typeface="Gill Sans MT"/>
              </a:rPr>
              <a:t>i</a:t>
            </a:r>
            <a:r>
              <a:rPr b="0" lang="ru-RU" sz="4400" spc="-1" strike="noStrike">
                <a:solidFill>
                  <a:srgbClr val="572314"/>
                </a:solidFill>
                <a:latin typeface="Corbel"/>
              </a:rPr>
              <a:t>  в квадрат:</a:t>
            </a:r>
            <a:br>
              <a:rPr sz="4400"/>
            </a:b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59984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1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orbe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= 2,66 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orbel"/>
              </a:rPr>
              <a:t>2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= 7,07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2 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orbe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=  1,44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orbel"/>
              </a:rPr>
              <a:t>2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=  2,07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3 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orbe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=  0,14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orbe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= 0,02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4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orbe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=  2,44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orbe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= 6,05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5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orbe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=  1,54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orbe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=  2,37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Х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6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orbe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=  0,44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orbe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= 0,19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Х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7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orbe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= 1,04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orbe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= 1,08    и так далее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олученные данные заносим в таблицу № 1 (графа 6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72314"/>
                </a:solidFill>
                <a:latin typeface="Corbel"/>
              </a:rPr>
              <a:t>Возведем значение </a:t>
            </a:r>
            <a:r>
              <a:rPr b="0" lang="ru-RU" sz="4400" spc="-1" strike="noStrike">
                <a:solidFill>
                  <a:srgbClr val="572314"/>
                </a:solidFill>
                <a:latin typeface="Symbol"/>
                <a:ea typeface="Symbol"/>
              </a:rPr>
              <a:t></a:t>
            </a:r>
            <a:r>
              <a:rPr b="0" lang="ru-RU" sz="44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Y</a:t>
            </a:r>
            <a:r>
              <a:rPr b="0" lang="en-US" sz="4400" spc="-1" strike="noStrike" baseline="-25000">
                <a:solidFill>
                  <a:srgbClr val="572314"/>
                </a:solidFill>
                <a:latin typeface="Gill Sans MT"/>
              </a:rPr>
              <a:t>i</a:t>
            </a:r>
            <a:r>
              <a:rPr b="0" lang="ru-RU" sz="4400" spc="-1" strike="noStrike">
                <a:solidFill>
                  <a:srgbClr val="572314"/>
                </a:solidFill>
                <a:latin typeface="Corbel"/>
              </a:rPr>
              <a:t>  в квадрат:</a:t>
            </a:r>
            <a:br>
              <a:rPr sz="4400"/>
            </a:b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16761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1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orbe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= 1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orbe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= 1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2 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orbe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=1,6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orbe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= 22,56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3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orbe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= 1,5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orbe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= 2,25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4 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orbe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= 0,7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orbe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= 0,49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5 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orbe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= 2,2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orbel"/>
              </a:rPr>
              <a:t>2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= 4,84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6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orbel"/>
              </a:rPr>
              <a:t>2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= 0,5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orbe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= 0,25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7 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orbe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= 2,8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orbel"/>
              </a:rPr>
              <a:t>2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= 7,84 и так далее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олученные данные заносим в таблицу № 1 (графа 7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1066320" y="1447560"/>
            <a:ext cx="7867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48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ля значения Х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           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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 X</a:t>
            </a:r>
            <a:r>
              <a:rPr b="0" lang="ru-RU" sz="3200" spc="-1" strike="noStrike" baseline="30000">
                <a:solidFill>
                  <a:srgbClr val="ff0000"/>
                </a:solidFill>
                <a:latin typeface="Corbe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S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Gill Sans MT"/>
              </a:rPr>
              <a:t>x </a:t>
            </a: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 =        ______  ;    (7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                 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n</a:t>
            </a: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 – 1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де:  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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X</a:t>
            </a:r>
            <a:r>
              <a:rPr b="0" lang="ru-RU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0" lang="ru-RU" sz="32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Х</a:t>
            </a:r>
            <a:r>
              <a:rPr b="0" lang="ru-RU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0" lang="ru-RU" sz="32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Х</a:t>
            </a:r>
            <a:r>
              <a:rPr b="0" lang="ru-RU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ru-RU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+ …+</a:t>
            </a:r>
            <a:r>
              <a:rPr b="0" lang="ru-RU" sz="32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Х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ru-RU" sz="3200" spc="-1" strike="noStrike" baseline="30000">
                <a:solidFill>
                  <a:srgbClr val="ff0000"/>
                </a:solidFill>
                <a:latin typeface="Times New Roman"/>
              </a:rPr>
              <a:t>2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(8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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7,07+2,07+0,02+6,05+2,37+0,19+1,08+1,08+2,07+1,08+1,08 +0,06+1,46+0,06+0,29=26,03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=    26,03 :  (15 – 1)  = 1,36             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Freeform 11"/>
          <p:cNvSpPr/>
          <p:nvPr/>
        </p:nvSpPr>
        <p:spPr>
          <a:xfrm>
            <a:off x="2027160" y="1941480"/>
            <a:ext cx="1859040" cy="1451160"/>
          </a:xfrm>
          <a:prstGeom prst="pie">
            <a:avLst/>
          </a:prstGeom>
          <a:noFill/>
          <a:ln w="25560">
            <a:solidFill>
              <a:srgbClr val="ff0000"/>
            </a:solidFill>
            <a:miter/>
          </a:ln>
          <a:effectLst>
            <a:outerShdw dist="25560" dir="5400000" blurRad="0" rotWithShape="0">
              <a:srgbClr val="80808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16"/>
          <p:cNvSpPr/>
          <p:nvPr/>
        </p:nvSpPr>
        <p:spPr>
          <a:xfrm>
            <a:off x="2219400" y="5869080"/>
            <a:ext cx="2413080" cy="58896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  <a:effectLst>
            <a:outerShdw dist="25560" dir="5400000" blurRad="0" rotWithShape="0">
              <a:srgbClr val="80808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72314"/>
                </a:solidFill>
                <a:latin typeface="Corbel"/>
              </a:rPr>
              <a:t>Вычислим среднеквадратичное отклонение по формуле:</a:t>
            </a:r>
            <a:br>
              <a:rPr sz="4400"/>
            </a:b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72314"/>
                </a:solidFill>
                <a:latin typeface="Corbel"/>
              </a:rPr>
              <a:t>Вычислим среднеквадратичное отклонение по формуле:</a:t>
            </a:r>
            <a:br>
              <a:rPr sz="4400"/>
            </a:b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066320" y="1447560"/>
            <a:ext cx="7867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80800" indent="-217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ля значения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: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          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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 Y</a:t>
            </a:r>
            <a:r>
              <a:rPr b="0" lang="ru-RU" sz="3200" spc="-1" strike="noStrike" baseline="30000">
                <a:solidFill>
                  <a:srgbClr val="ff0000"/>
                </a:solidFill>
                <a:latin typeface="Corbe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17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S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Gill Sans MT"/>
              </a:rPr>
              <a:t>y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 =    </a:t>
            </a: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_____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  ;    (9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17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           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n – 1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17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де: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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Y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0" lang="ru-RU" sz="32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0" lang="ru-RU" sz="32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+ …+</a:t>
            </a:r>
            <a:r>
              <a:rPr b="0" lang="ru-RU" sz="32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Y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2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10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17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=1,0+2,56+2,25+0,49+4,84+0,25+7,84+2,89+1,44+1,44+0,16+11,56+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17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+2,89+ 0+0,49 = 40,1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40,1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17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=   _______ = 1,69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17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5 -1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17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17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Freeform 4"/>
          <p:cNvSpPr/>
          <p:nvPr/>
        </p:nvSpPr>
        <p:spPr>
          <a:xfrm>
            <a:off x="1771560" y="1865160"/>
            <a:ext cx="1962360" cy="1490760"/>
          </a:xfrm>
          <a:prstGeom prst="pie">
            <a:avLst/>
          </a:prstGeom>
          <a:noFill/>
          <a:ln w="25560">
            <a:solidFill>
              <a:srgbClr val="ff0000"/>
            </a:solidFill>
            <a:miter/>
          </a:ln>
          <a:effectLst>
            <a:outerShdw dist="25560" dir="5400000" blurRad="0" rotWithShape="0">
              <a:srgbClr val="80808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reeform 5"/>
          <p:cNvSpPr/>
          <p:nvPr/>
        </p:nvSpPr>
        <p:spPr>
          <a:xfrm>
            <a:off x="1803240" y="5291280"/>
            <a:ext cx="1611360" cy="147636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  <a:effectLst>
            <a:outerShdw dist="25560" dir="5400000" blurRad="0" rotWithShape="0">
              <a:srgbClr val="80808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8576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72314"/>
                </a:solidFill>
                <a:latin typeface="Corbel"/>
              </a:rPr>
              <a:t>Вычислим ошибку средне-арифметического по формуле: </a:t>
            </a:r>
            <a:br>
              <a:rPr sz="4400"/>
            </a:b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29528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                                                    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S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Gill Sans MT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ля значения Х:  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m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Gill Sans MT"/>
              </a:rPr>
              <a:t>x</a:t>
            </a: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 =    _____       (11)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                                                      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n</a:t>
            </a: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1,36 : 3,87 = 0,35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   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S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Gill Sans MT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ля значения Y:  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m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Gill Sans MT"/>
              </a:rPr>
              <a:t>y</a:t>
            </a: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 =     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____      </a:t>
            </a: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(12)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                                     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n</a:t>
            </a: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   1,6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3,87       = 0,44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Freeform 4"/>
          <p:cNvSpPr/>
          <p:nvPr/>
        </p:nvSpPr>
        <p:spPr>
          <a:xfrm>
            <a:off x="5562720" y="2505240"/>
            <a:ext cx="928440" cy="403200"/>
          </a:xfrm>
          <a:prstGeom prst="pie">
            <a:avLst/>
          </a:prstGeom>
          <a:noFill/>
          <a:ln w="25560">
            <a:solidFill>
              <a:srgbClr val="ff0000"/>
            </a:solidFill>
            <a:miter/>
          </a:ln>
          <a:effectLst>
            <a:outerShdw dist="25560" dir="5400000" blurRad="0" rotWithShape="0">
              <a:srgbClr val="80808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reeform 5"/>
          <p:cNvSpPr/>
          <p:nvPr/>
        </p:nvSpPr>
        <p:spPr>
          <a:xfrm>
            <a:off x="5506920" y="4489560"/>
            <a:ext cx="1057320" cy="387360"/>
          </a:xfrm>
          <a:prstGeom prst="pie">
            <a:avLst/>
          </a:prstGeom>
          <a:noFill/>
          <a:ln w="25560">
            <a:solidFill>
              <a:srgbClr val="ff0000"/>
            </a:solidFill>
            <a:miter/>
          </a:ln>
          <a:effectLst>
            <a:outerShdw dist="25560" dir="5400000" blurRad="0" rotWithShape="0">
              <a:srgbClr val="80808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Рассчитаем эмпирическое значение 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t</a:t>
            </a: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- критерия Стъюдента по формуле: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434960" y="1676520"/>
            <a:ext cx="7499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09960" indent="-240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                     </a:t>
            </a: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Х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 - 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t </a:t>
            </a:r>
            <a:r>
              <a:rPr b="0" lang="ru-RU" sz="3200" spc="-1" strike="noStrike" baseline="-25000">
                <a:solidFill>
                  <a:srgbClr val="ff0000"/>
                </a:solidFill>
                <a:latin typeface="Corbel"/>
              </a:rPr>
              <a:t>э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 = </a:t>
            </a: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___________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    (13)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           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m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Gill Sans MT"/>
              </a:rPr>
              <a:t>x</a:t>
            </a:r>
            <a:r>
              <a:rPr b="0" lang="en-US" sz="3200" spc="-1" strike="noStrike" baseline="30000">
                <a:solidFill>
                  <a:srgbClr val="ff0000"/>
                </a:solidFill>
                <a:latin typeface="Gill Sans MT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 + m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Gill Sans MT"/>
              </a:rPr>
              <a:t>y</a:t>
            </a:r>
            <a:r>
              <a:rPr b="0" lang="en-US" sz="3200" spc="-1" strike="noStrike" baseline="30000">
                <a:solidFill>
                  <a:srgbClr val="ff0000"/>
                </a:solidFill>
                <a:latin typeface="Gill Sans MT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5,24 - 5,2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 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э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=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____________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= 0,042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0,35 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orbe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+  0,44 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orbe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ценим полученную величину эмпирического значения по таблице  " Стандартные значения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- критерия Стъюдента"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Freeform 3"/>
          <p:cNvSpPr/>
          <p:nvPr/>
        </p:nvSpPr>
        <p:spPr>
          <a:xfrm>
            <a:off x="2433600" y="2825640"/>
            <a:ext cx="2156040" cy="480960"/>
          </a:xfrm>
          <a:prstGeom prst="pie">
            <a:avLst/>
          </a:prstGeom>
          <a:noFill/>
          <a:ln w="25560">
            <a:solidFill>
              <a:srgbClr val="ff0000"/>
            </a:solidFill>
            <a:miter/>
          </a:ln>
          <a:effectLst>
            <a:outerShdw dist="25560" dir="5400000" blurRad="0" rotWithShape="0">
              <a:srgbClr val="80808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reeform 7"/>
          <p:cNvSpPr/>
          <p:nvPr/>
        </p:nvSpPr>
        <p:spPr>
          <a:xfrm>
            <a:off x="2666880" y="5051520"/>
            <a:ext cx="2422800" cy="60624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  <a:effectLst>
            <a:outerShdw dist="25560" dir="5400000" blurRad="0" rotWithShape="0">
              <a:srgbClr val="80808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72314"/>
                </a:solidFill>
                <a:latin typeface="Corbel"/>
              </a:rPr>
              <a:t>Вывод по результатам констатирующего эксперимента: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Gill Sans MT"/>
              </a:rPr>
              <a:t>э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0,042 &lt; t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Gill Sans MT"/>
              </a:rPr>
              <a:t>p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=0,05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2,05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ожно сделать вывод, что экспериментальная и контрольная группы на данном этапе эксперимента  имеют одинаковый уровень развития памяти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Рассчет коэффициента корреляции </a:t>
            </a:r>
            <a:r>
              <a:rPr b="0" lang="en-US" sz="2800" spc="-1" strike="noStrike">
                <a:solidFill>
                  <a:srgbClr val="572314"/>
                </a:solidFill>
                <a:latin typeface="Gill Sans MT"/>
              </a:rPr>
              <a:t>t</a:t>
            </a: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 - критерия Стъюдента для несвязанных выборок на этапе контрольного эксперимента  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67" name="Content Placeholder 3" descr=""/>
          <p:cNvPicPr/>
          <p:nvPr/>
        </p:nvPicPr>
        <p:blipFill>
          <a:blip r:embed="rId2"/>
          <a:stretch/>
        </p:blipFill>
        <p:spPr>
          <a:xfrm>
            <a:off x="1359000" y="1579680"/>
            <a:ext cx="7651800" cy="53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Content Placeholder 2" descr=""/>
          <p:cNvPicPr/>
          <p:nvPr/>
        </p:nvPicPr>
        <p:blipFill>
          <a:blip r:embed="rId2"/>
          <a:stretch/>
        </p:blipFill>
        <p:spPr>
          <a:xfrm>
            <a:off x="1432080" y="1444680"/>
            <a:ext cx="757872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72314"/>
                </a:solidFill>
                <a:latin typeface="Corbel"/>
              </a:rPr>
              <a:t>Вывод по результатам контрольного эксперимента: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218960" y="1447560"/>
            <a:ext cx="7715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        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Gill Sans MT"/>
              </a:rPr>
              <a:t>э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4,13 &lt; t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Gill Sans MT"/>
              </a:rPr>
              <a:t>p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=0,001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,66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Можно сделать вывод, что экспериментальная и контрольная группы на данном этапе эксперимента  имеют существенные различия в уровне  развития памяти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Т.е. предположение о том, что проведенный нами формирующий эксперимент (коррекционная работа) существенно повысит уровень развития памяти, подтвердилась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П</a:t>
            </a:r>
            <a:r>
              <a:rPr b="0" lang="en-US" sz="43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рикладные программы</a:t>
            </a:r>
            <a:r>
              <a:rPr b="0" lang="ru-RU" sz="43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:</a:t>
            </a:r>
            <a:r>
              <a:rPr b="0" lang="ru-RU" sz="4300" spc="-1" strike="noStrike">
                <a:solidFill>
                  <a:srgbClr val="4b2203"/>
                </a:solidFill>
                <a:latin typeface="Corbel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295280" y="9903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45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научных исследований можно также использовать прикладные программы математического и статистического анализа типа пакетов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100000"/>
              </a:lnSpc>
              <a:buClr>
                <a:srgbClr val="4b220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stica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100000"/>
              </a:lnSpc>
              <a:buClr>
                <a:srgbClr val="4b220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Graphics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100000"/>
              </a:lnSpc>
              <a:buClr>
                <a:srgbClr val="4b220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SS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100000"/>
              </a:lnSpc>
              <a:buClr>
                <a:srgbClr val="4b220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lab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100000"/>
              </a:lnSpc>
              <a:buClr>
                <a:srgbClr val="4b220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hematica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100000"/>
              </a:lnSpc>
              <a:buClr>
                <a:srgbClr val="4b220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ple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100000"/>
              </a:lnSpc>
              <a:buClr>
                <a:srgbClr val="4b220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hCAD и т.п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100000"/>
              </a:lnSpc>
              <a:buClr>
                <a:srgbClr val="4b220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572314"/>
                </a:solidFill>
                <a:latin typeface="Times New Roman"/>
                <a:ea typeface="Cambria"/>
              </a:rPr>
              <a:t>Основная литература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142640" y="1447920"/>
            <a:ext cx="7791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4b220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mbria"/>
              </a:rPr>
              <a:t>Кутейников А.Н. Математические методы в психологии. Учебное пособие [Текст] / А.Н. Кутейников. – СПб.: Речь, 2008. – 172 с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4b220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mbria"/>
              </a:rPr>
              <a:t>Митина, О.В. Математические методы в психологии. Практикум. [Текст] / О.В. Митина. – М.: Аспект-Пресс,  2008. – 237 с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4b220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mbria"/>
              </a:rPr>
              <a:t>Наследов, А.Д. Математические методы психологического исследования. Анализ и интерпретация данных. Учебное пособие. [Текст] / А.Д. Наследов. – СПб.: Речь, 2004. – 392 с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4b220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mbria"/>
              </a:rPr>
              <a:t>Остапенко Р.И. Математические основы психологии [Текст]. Учебно-методическое пособие. – Воронеж.: ВГПУ, 2010. – 76 с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4b220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mbria"/>
              </a:rPr>
              <a:t>Сидоренко, Е.В. Методы математической обработки в психологии. [Текст] / Е.В. Сидоренко. – СПб.: Речь, 2006. – 350 с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4b220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mbria"/>
              </a:rPr>
              <a:t>Суходольский, Г.В. Математические методы в психологии. [Текст] / Г.В. Суходольский. – Харьков: Изд-во Гуманитарный Центр, 2006. – 284 с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4b220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572314"/>
                </a:solidFill>
                <a:latin typeface="Times New Roman"/>
                <a:ea typeface="Cambria"/>
              </a:rPr>
              <a:t>Дополнительная литература</a:t>
            </a:r>
            <a:r>
              <a:rPr b="0" lang="en-US" sz="3900" spc="-1" strike="noStrike">
                <a:solidFill>
                  <a:srgbClr val="572314"/>
                </a:solidFill>
                <a:latin typeface="Times New Roman"/>
                <a:ea typeface="Cambria"/>
              </a:rPr>
              <a:t> 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990720" y="14475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100000"/>
              </a:lnSpc>
              <a:spcBef>
                <a:spcPts val="601"/>
              </a:spcBef>
              <a:buClr>
                <a:srgbClr val="4b220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mbria"/>
              </a:rPr>
              <a:t>Дружинин, В.Н. Экспериментальная психология: Учебник для вузов [Текст] / В.Н. Дружинин. – 2-е изд., доп. – СПб.: Питер, 2003. – 319 с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buClr>
                <a:srgbClr val="4b220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mbria"/>
              </a:rPr>
              <a:t>Загвязинский, В.И., Атаханов, Р. Методология и методы психолого-педагогического исследования. [Текст] / В.И. Загвязинский, Р. Атаханов. – М.: Изд. центр “Академия”, 2001. – 208 с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buClr>
                <a:srgbClr val="4b220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mbria"/>
              </a:rPr>
              <a:t>Образцов, П.И. Психолого-педагогическое исследование: методология, методы, методика. [Текст] / П.И. Образцов. – Орел, 2003. – 295 с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buClr>
                <a:srgbClr val="4b220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mbria"/>
              </a:rPr>
              <a:t>Суходольский, Г.В. Математическая психология [Текст] / Г.В. Суходольский. – Харьков.: Изд-во Гуманитарный центр, 2006. – 360 с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buClr>
                <a:srgbClr val="4b220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mbria"/>
              </a:rPr>
              <a:t>Солсо, Р.Л. Экспериментальная психология [Текст] / Роберт Солсо, Кимберли Маклин. – 8-е изд. Доп., перераб. – СПб.: ПРАЙМ-ЕВРОЗНАК, 2006. – 480 с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buClr>
                <a:srgbClr val="4b220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mbria"/>
              </a:rPr>
              <a:t>SPSS для Windows. Руководство пользователя SPSS, Книга 1. – М.: Статистические системы и сервис. 1995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buClr>
                <a:srgbClr val="4b220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572314"/>
                </a:solidFill>
                <a:latin typeface="Times New Roman"/>
                <a:ea typeface="Cambria"/>
              </a:rPr>
              <a:t>Интернет-ресурсы: 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1434960" y="1752120"/>
            <a:ext cx="7499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4b220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Cambria"/>
              </a:rPr>
              <a:t>www.statsoft.ru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4b220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Cambria"/>
              </a:rPr>
              <a:t>www.spss.ru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4b220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Cambria"/>
              </a:rPr>
              <a:t>http://psyfactor.org/lybr10.ht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4b220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Cambria"/>
              </a:rPr>
              <a:t>http://www.koob.ru/ostapenko_r/mathem_psych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mbri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4b220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Rectangle 7" descr=""/>
          <p:cNvPicPr/>
          <p:nvPr/>
        </p:nvPicPr>
        <p:blipFill>
          <a:blip r:embed="rId2"/>
          <a:stretch/>
        </p:blipFill>
        <p:spPr>
          <a:xfrm>
            <a:off x="1901880" y="1670040"/>
            <a:ext cx="655956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Times New Roman"/>
              </a:rPr>
              <a:t>Математическая статистика 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713204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анимается как статистическим описанием результатов опытов или наблюдений, так и построением и проверкой подходящих математических моделей, содержащих понятие вероятности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713204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Ее методы расширяют возможности научного предсказания и рационального принятия решения, где существенные параметры не могут быть известны или контролируемы с достаточной точностью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713204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45684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Times New Roman"/>
              </a:rPr>
              <a:t>Диагностика в педагогической практике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752120"/>
            <a:ext cx="74995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Times New Roman"/>
              </a:rPr>
              <a:t>Р</a:t>
            </a:r>
            <a:r>
              <a:rPr b="0" lang="en-US" sz="2800" spc="-1" strike="noStrike">
                <a:solidFill>
                  <a:srgbClr val="572314"/>
                </a:solidFill>
                <a:latin typeface="Times New Roman"/>
              </a:rPr>
              <a:t>ешает следующие задачи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     прослеживает результативность работы учащихся и педагога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      выступает как инструмент формирования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b2203"/>
                </a:solidFill>
                <a:latin typeface="Times New Roman"/>
              </a:rPr>
              <a:t>Ведущие </a:t>
            </a:r>
            <a:r>
              <a:rPr b="0" lang="en-US" sz="2400" spc="-1" strike="noStrike">
                <a:solidFill>
                  <a:srgbClr val="4b2203"/>
                </a:solidFill>
                <a:latin typeface="Times New Roman"/>
              </a:rPr>
              <a:t>функции</a:t>
            </a:r>
            <a:r>
              <a:rPr b="0" lang="ru-RU" sz="2400" spc="-1" strike="noStrike">
                <a:solidFill>
                  <a:srgbClr val="4b220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b2203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4b2203"/>
                </a:solidFill>
                <a:latin typeface="Times New Roman"/>
              </a:rPr>
              <a:t>диагностики педагогического процесса включают: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713204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установление обратной связи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713204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ценку результативности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713204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оспитательно-побуждающее воздействие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713204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оммуникацию, позволяющую обмениваться информацией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713204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онструирование (на основе диагноза можно проектировать личность учащихся)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713204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рогноз как предсказание будущего развития, интеллектуального или личностного роста, профессиональной направленности учащихся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713204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572314"/>
                </a:solidFill>
                <a:latin typeface="Times New Roman"/>
              </a:rPr>
              <a:t>Назначение </a:t>
            </a:r>
            <a:br>
              <a:rPr sz="3900"/>
            </a:br>
            <a:r>
              <a:rPr b="1" lang="en-US" sz="3900" spc="-1" strike="noStrike">
                <a:solidFill>
                  <a:srgbClr val="572314"/>
                </a:solidFill>
                <a:latin typeface="Times New Roman"/>
              </a:rPr>
              <a:t>t-критерия Ст</a:t>
            </a:r>
            <a:r>
              <a:rPr b="1" lang="ru-RU" sz="3900" spc="-1" strike="noStrike">
                <a:solidFill>
                  <a:srgbClr val="572314"/>
                </a:solidFill>
                <a:latin typeface="Times New Roman"/>
              </a:rPr>
              <a:t>ъ</a:t>
            </a:r>
            <a:r>
              <a:rPr b="1" lang="en-US" sz="3900" spc="-1" strike="noStrike">
                <a:solidFill>
                  <a:srgbClr val="572314"/>
                </a:solidFill>
                <a:latin typeface="Times New Roman"/>
              </a:rPr>
              <a:t>юдента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100000"/>
              </a:lnSpc>
              <a:spcBef>
                <a:spcPts val="601"/>
              </a:spcBef>
              <a:buClr>
                <a:srgbClr val="713204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р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ерий С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ъ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юдента направлен на оценку различий величин средн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значений двух выборок, которые распределены по нормальному закону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100000"/>
              </a:lnSpc>
              <a:spcBef>
                <a:spcPts val="601"/>
              </a:spcBef>
              <a:buClr>
                <a:srgbClr val="713204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дним из главных достоинств критерия является широта его применения. Он может быть использован для сопоставления средних у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вязныхи несвязных выборок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ичем выборки могут быть не равны по величине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100000"/>
              </a:lnSpc>
              <a:spcBef>
                <a:spcPts val="601"/>
              </a:spcBef>
              <a:buClr>
                <a:srgbClr val="713204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572314"/>
                </a:solidFill>
                <a:latin typeface="Times New Roman"/>
                <a:ea typeface="Cambria"/>
              </a:rPr>
              <a:t>Критические точки распределения Ст</a:t>
            </a:r>
            <a:r>
              <a:rPr b="1" lang="ru-RU" sz="3900" spc="-1" strike="noStrike">
                <a:solidFill>
                  <a:srgbClr val="572314"/>
                </a:solidFill>
                <a:latin typeface="Times New Roman"/>
                <a:ea typeface="Cambria"/>
              </a:rPr>
              <a:t>ъ</a:t>
            </a:r>
            <a:r>
              <a:rPr b="1" lang="en-US" sz="3900" spc="-1" strike="noStrike">
                <a:solidFill>
                  <a:srgbClr val="572314"/>
                </a:solidFill>
                <a:latin typeface="Times New Roman"/>
                <a:ea typeface="Cambria"/>
              </a:rPr>
              <a:t>юдента.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1650960" y="1677960"/>
            <a:ext cx="65786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94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Рассчет коэффициента корреляции </a:t>
            </a:r>
            <a:r>
              <a:rPr b="0" lang="en-US" sz="2800" spc="-1" strike="noStrike">
                <a:solidFill>
                  <a:srgbClr val="572314"/>
                </a:solidFill>
                <a:latin typeface="Gill Sans MT"/>
              </a:rPr>
              <a:t>t</a:t>
            </a: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 - критерия Стъюдента для несвязанных выборок на этапе констатирующего эксперимента  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1" name="Content Placeholder 3" descr=""/>
          <p:cNvPicPr/>
          <p:nvPr/>
        </p:nvPicPr>
        <p:blipFill>
          <a:blip r:embed="rId2"/>
          <a:stretch/>
        </p:blipFill>
        <p:spPr>
          <a:xfrm>
            <a:off x="1359000" y="1579680"/>
            <a:ext cx="7651800" cy="53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72314"/>
                </a:solidFill>
                <a:latin typeface="Corbel"/>
              </a:rPr>
              <a:t>Вычислим среднее арифметическое значение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77200" indent="-214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ля вариации ряда Х по формуле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7200" indent="-21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           </a:t>
            </a:r>
            <a:r>
              <a:rPr b="0" lang="ru-RU" sz="3200" spc="-1" strike="noStrike">
                <a:solidFill>
                  <a:srgbClr val="ff0000"/>
                </a:solidFill>
                <a:latin typeface="Symbol"/>
                <a:ea typeface="Symbol"/>
              </a:rPr>
              <a:t></a:t>
            </a: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Х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Gill Sans MT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7200" indent="-21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Х =  ______     (1);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7200" indent="-21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           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7200" indent="-21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где:              </a:t>
            </a:r>
            <a:r>
              <a:rPr b="0" lang="ru-RU" sz="3200" spc="-1" strike="noStrike">
                <a:solidFill>
                  <a:srgbClr val="ff0000"/>
                </a:solidFill>
                <a:latin typeface="Symbol"/>
                <a:ea typeface="Symbol"/>
              </a:rPr>
              <a:t></a:t>
            </a: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 Х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Gill Sans MT"/>
              </a:rPr>
              <a:t>i </a:t>
            </a: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= Х</a:t>
            </a:r>
            <a:r>
              <a:rPr b="0" lang="ru-RU" sz="3200" spc="-1" strike="noStrike" baseline="-25000">
                <a:solidFill>
                  <a:srgbClr val="ff0000"/>
                </a:solidFill>
                <a:latin typeface="Corbel"/>
              </a:rPr>
              <a:t>1</a:t>
            </a: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+Х</a:t>
            </a:r>
            <a:r>
              <a:rPr b="0" lang="ru-RU" sz="3200" spc="-1" strike="noStrike" baseline="-25000">
                <a:solidFill>
                  <a:srgbClr val="ff0000"/>
                </a:solidFill>
                <a:latin typeface="Corbel"/>
              </a:rPr>
              <a:t>2</a:t>
            </a: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+…+Х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Gill Sans MT"/>
              </a:rPr>
              <a:t>n</a:t>
            </a:r>
            <a:r>
              <a:rPr b="0" lang="ru-RU" sz="3200" spc="-1" strike="noStrike" baseline="-25000">
                <a:solidFill>
                  <a:srgbClr val="ff0000"/>
                </a:solidFill>
                <a:latin typeface="Corbel"/>
              </a:rPr>
              <a:t>         </a:t>
            </a: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7200" indent="-21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- число испытуемых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7200" indent="-21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Х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Gill Sans MT"/>
              </a:rPr>
              <a:t>i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= 7,9+3,8+5,1+7,7+3,7+4,8+4,2+4,2+3,8+5,2+5,2+5,8+6,8+5,8+4,7=78,6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7200" indent="-21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78,6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7200" indent="-21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Х =  _______  = 5,24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7200" indent="-21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7200" indent="-21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10600" indent="-21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ля вариации ряда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по формуле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10600" indent="-21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rbel"/>
              </a:rPr>
              <a:t>         </a:t>
            </a:r>
            <a:r>
              <a:rPr b="0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</a:t>
            </a:r>
            <a:r>
              <a:rPr b="0" lang="en-US" sz="36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Gill Sans MT"/>
              </a:rPr>
              <a:t>Y</a:t>
            </a:r>
            <a:r>
              <a:rPr b="0" lang="en-US" sz="3600" spc="-1" strike="noStrike" baseline="-25000">
                <a:solidFill>
                  <a:srgbClr val="ff0000"/>
                </a:solidFill>
                <a:latin typeface="Gill Sans MT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10600" indent="-21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ill Sans MT"/>
              </a:rPr>
              <a:t>Y =  </a:t>
            </a:r>
            <a:r>
              <a:rPr b="0" lang="ru-RU" sz="3600" spc="-1" strike="noStrike">
                <a:solidFill>
                  <a:srgbClr val="ff0000"/>
                </a:solidFill>
                <a:latin typeface="Corbel"/>
              </a:rPr>
              <a:t>___</a:t>
            </a:r>
            <a:r>
              <a:rPr b="0" lang="en-US" sz="3600" spc="-1" strike="noStrike">
                <a:solidFill>
                  <a:srgbClr val="ff0000"/>
                </a:solidFill>
                <a:latin typeface="Gill Sans MT"/>
              </a:rPr>
              <a:t>    (3)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10600" indent="-21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ill Sans MT"/>
              </a:rPr>
              <a:t>         </a:t>
            </a:r>
            <a:r>
              <a:rPr b="0" lang="en-US" sz="3600" spc="-1" strike="noStrike">
                <a:solidFill>
                  <a:srgbClr val="ff0000"/>
                </a:solidFill>
                <a:latin typeface="Gill Sans MT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10600" indent="-21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где: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   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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Gill Sans MT"/>
              </a:rPr>
              <a:t>i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 = 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Gill Sans MT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+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Gill Sans MT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+…+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Gill Sans MT"/>
              </a:rPr>
              <a:t>n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;   (4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10600" indent="-21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= 6,2+3,6+3,7+5,9+7,4+5,7+2,4+6,9+4+4+5,6+8,6+3,5+5,2+5,9=78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10600" indent="-21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78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10600" indent="-21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=  ___  = 5.2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10600" indent="-21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10600" indent="-21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10600" indent="-21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72314"/>
                </a:solidFill>
                <a:latin typeface="Corbel"/>
              </a:rPr>
              <a:t>Вычислим среднее арифметическое значение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2T02:20:59Z</dcterms:created>
  <dc:creator>Диана №1 Москалёва</dc:creator>
  <dc:description/>
  <dc:language>en-US</dc:language>
  <cp:lastModifiedBy>Диана №1 Москалёва</cp:lastModifiedBy>
  <dcterms:modified xsi:type="dcterms:W3CDTF">2012-05-12T08:24:11Z</dcterms:modified>
  <cp:revision>97</cp:revision>
  <dc:subject/>
  <dc:title>Заявка  на присвоение  статуса муниципальной экспериментальной площадки Муниципальному дошкольному образовательному учреждению детский сад комбинированного вида №19 «Светлячок»  при реализации научно-исследовательского проекта  </dc:title>
</cp:coreProperties>
</file>