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2D8-2696-4349-9951-4BDE3BC0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D66-5A35-4741-BB5C-C138AE6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0F1-32AF-43DD-8728-9954473D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8C3-2538-48FB-91D8-BEA1E63B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7076-431D-4737-8B63-93EA50E4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8BC-0730-4432-98CD-051C1C4D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BCA-CA8F-4E34-A28C-DF16C5AF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AAC-24F4-4A8D-9C47-6A42F7A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208-D11C-4FBF-A270-3562D0A6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35A2-2A5C-45CF-BA1C-3A8B6C7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3B47-AFC2-45D1-849C-3E50078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E38-AB80-4292-B785-A15B30F9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C97-5460-4223-8F34-742C10F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1ED2-E20C-4275-9C05-F944108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706B-17D8-47E8-9702-8E93F76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0049-32DF-4E47-99D5-1F113548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AB37-446F-4330-8104-B0FE1F2E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214A-C53D-4954-BEE5-725E65FC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F4AE-2783-4922-BC06-C8399448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76DD-E2C9-48F6-923A-C0B8887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E518-5E7B-4F5B-95D3-2D5D159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1C01-D416-45D0-8DB7-9EFA9D2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5A0-6505-4B5E-9707-F621D1F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993F-3166-43D1-8B83-6C4FC14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B6EB-79CB-4BEC-8D61-BA09B82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8F26-654F-4713-ADE1-8029EC2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B1FC-1EDD-4A0B-8CB0-18E7C90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08C4-3BAB-4621-BAAF-E97D127F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D7B4-D3CF-40C9-9539-4C0D71A5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7954-CCBF-41C9-891D-969123AA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AE6A-F2C1-408F-B2E3-2FF1C0EA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E402-D6BB-48F2-9D9F-091AED8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0087-FDA0-49D5-940F-DA7EF08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4CB-34E3-47F4-8679-5F4FA09A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9049-6163-465E-A256-7F066261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ACDC-8E35-49DF-8677-B4B1290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E449-AA7A-4127-9E82-05855F7F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5FAB-3B4F-40C5-9C9D-633108A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57F7-3614-4017-B97B-EDB3FCF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7DEA-3F71-4C84-896C-B84AD87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8453-373F-454B-87A0-7512E6B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EACD-2F13-4B47-94C9-10295BF1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EFD31-05DF-402F-9BB3-6F61DF00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11D75-2F82-427F-9078-8669C367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F9C-A25C-4206-B225-C4A2F7F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7E36-AEAB-45AB-B1BA-11200F5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8CA6-0A15-41E3-9A73-C1D8C0C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8080-1F89-4D76-8886-8C94579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5F76A-E5FA-4455-AD8D-4487952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9F747-3BF7-4FD2-B4A9-F3394B0A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22FC-FB89-4B8B-B27B-3D17A3F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A4C0-510C-4A92-823B-D684E3E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0741-78A1-4480-8EB8-96C5BE3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0612-7AD7-4839-A17B-71CFF094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7AEB-9DE2-4B0A-8040-3CF37796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473-974C-4195-AD18-D58E72C7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D63BB-DF47-4B8E-93D3-74FA6F69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F088-E925-4FB8-924A-5ECBAE03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86EB-E185-4C9B-97C0-08A0674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74AE-19F4-4ADB-877C-F2443D97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BDD6-16D8-46E6-9408-7E65F60F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D515E-3AC9-4983-BD99-03E743D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7929-A74C-4E6D-95BE-25388D28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A052-88E2-4F9B-A1BC-33708D7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C145-DBD8-4A6E-AC29-015BE9A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6403-4A0E-4900-A1CD-F9748F2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AA1-EE22-4E78-9DCF-FC0BB3C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C53B-4C28-47AD-B4D1-2111F9A7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C195-B6C7-44CE-BD53-8B5C10C0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FF3D-D0A7-4D0C-A128-140253E3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4D04-E681-4A69-8E55-20256B0D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F987-0C73-4A72-9527-A8CE1F9C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454EF-44CE-4561-9353-F06B1E31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2C633-FC92-466F-8C62-4A47A852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AB59-A0C4-4F4E-982D-975E6AC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2B8B-257D-41FA-AC76-4BA20A5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34041-C48C-4781-98B1-923A56E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1F1-C13E-4315-8A6B-7FBAC2C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F7B7-4B1E-4C15-BA22-2D1663B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0581F-C7BC-44D0-B4BF-C781D9B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19CD-F07F-4615-9E9A-44532C7F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9058-1FD7-4891-864A-EC5C323F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6BCDD-BAD0-4C7E-A2A5-E8BD5E84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360-D6CE-4F9C-B525-07A1407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BFDFC-D8BA-43D5-A7C6-C08A8B8707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0BDD5-5207-4C4F-B11F-D43CBEC0232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B26FB-6401-4AB1-9177-2B1B93F951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61D81-D8D5-4952-BF48-ECDEE0B9FEA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0FFCF-AB2E-4FC9-8A03-F1BBF42C6B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834AA-E977-4082-B72D-841CDB2F5BB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7128D-421B-4019-821B-8332BB60D3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34366-3FF1-4972-9630-207A0B0BBC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A4DE9-669C-4155-A5FB-0BA28553AD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спубликан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чество образования в ОУ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ходы, критерии, пути дости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«Сущность применения некоторых методов математической статистики при проведении педагогических исследований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к.псх.н. педагог-психолог ЦПМСС «Лабиринт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Митюхина Н.П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itle 2"/>
          <p:cNvSpPr/>
          <p:nvPr/>
        </p:nvSpPr>
        <p:spPr>
          <a:xfrm>
            <a:off x="914400" y="6400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rbel"/>
              </a:rPr>
              <a:t>ВОЛЖСК,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Corbel"/>
              </a:rPr>
              <a:t>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0312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текущее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Х по формуле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8080" y="14173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Х = |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X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|  (5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7,9 - 5,24=2,6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3,8 - 5,24= 1,4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5,1 - 5,24 = 0,1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7,7 - 5,24 = 2,4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3,7 - 5,24 = 1,5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4,8 - 5,24 = 0,4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4,2 - 5,24 = 1,0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4902120" y="1600200"/>
            <a:ext cx="434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4,2 - 5,24 = 1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9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3,8 - 5,24 = 1,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5,2 - 5,24 = 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5,2 - 5,24 = 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5,8 - 5,24 = 0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6,8 - 5,24 = 1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5,8 - 5,24 = 0,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4,7 - 5,24 = 0,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90720" y="621828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данные заносим в таблицу № 1 (графа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текущее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 по формуле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90720" y="1417320"/>
            <a:ext cx="397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Gill Sans MT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= |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 | (6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| 6,2 - 5,2 | =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| 3,6 - 5,2| = 1,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|3,7 - 5,2 | = 1,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5,9 - 5,2 | = 0,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7,4 - 5,2| = 2,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7 - 5,2 | = 0,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2,4 - 5,2 | = 2,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4965840" y="1417680"/>
            <a:ext cx="4279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8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6,9 - 5,2 | = 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9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4 - 5,2 | =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4 - 5,2 | =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6 - 5,2 | =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 8,6 - 5,2 | = 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3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3,5 - 5,2 | = 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2 - 5,2 |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| 5,9 - 5,2 | = 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990720" y="6218280"/>
            <a:ext cx="82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данные заносим в таблицу № 1 (графа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озведем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Х</a:t>
            </a:r>
            <a:r>
              <a:rPr b="0" lang="en-US" sz="4400" spc="-1" strike="noStrike" baseline="-25000">
                <a:solidFill>
                  <a:srgbClr val="572314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 в квадрат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2,66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7,0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1,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2,0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0,1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= 0,0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2,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6,0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1,5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2,3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 0,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0,1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,0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,08    и так дале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ученные данные заносим в таблицу № 1 (графа 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озведем значение </a:t>
            </a:r>
            <a:r>
              <a:rPr b="0" lang="ru-RU" sz="4400" spc="-1" strike="noStrike">
                <a:solidFill>
                  <a:srgbClr val="572314"/>
                </a:solidFill>
                <a:latin typeface="Symbol"/>
                <a:ea typeface="Symbol"/>
              </a:rPr>
              <a:t>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en-US" sz="4400" spc="-1" strike="noStrike" baseline="-25000">
                <a:solidFill>
                  <a:srgbClr val="572314"/>
                </a:solidFill>
                <a:latin typeface="Gill Sans MT"/>
              </a:rPr>
              <a:t>i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 в квадрат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676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1,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22,5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1,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2,2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0,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0,4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5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2,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4,8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0,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0,2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7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2,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7,84 и так дале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ученные данные заносим в таблицу № 1 (графа 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320" y="1447560"/>
            <a:ext cx="786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Х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X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=        ______  ;    (7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+ …+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</a:rPr>
              <a:t>2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7,07+2,07+0,02+6,05+2,37+0,19+1,08+1,08+2,07+1,08+1,08 +0,06+1,46+0,06+0,29=26,0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   26,03 :  (15 – 1)  = 1,36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2027160" y="1941480"/>
            <a:ext cx="1859040" cy="14511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6"/>
          <p:cNvSpPr/>
          <p:nvPr/>
        </p:nvSpPr>
        <p:spPr>
          <a:xfrm>
            <a:off x="2219400" y="5869080"/>
            <a:ext cx="2413080" cy="5889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квадратичное отклонение по формуле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квадратичное отклонение по формуле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Y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=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_____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;    (9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 –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+ …+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1,0+2,56+2,25+0,49+4,84+0,25+7,84+2,89+1,44+1,44+0,16+11,56+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2,89+ 0+0,49 = 40,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40,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  _______ = 1,6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-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Freeform 4"/>
          <p:cNvSpPr/>
          <p:nvPr/>
        </p:nvSpPr>
        <p:spPr>
          <a:xfrm>
            <a:off x="1771560" y="1865160"/>
            <a:ext cx="1962360" cy="14907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5"/>
          <p:cNvSpPr/>
          <p:nvPr/>
        </p:nvSpPr>
        <p:spPr>
          <a:xfrm>
            <a:off x="1803240" y="5291280"/>
            <a:ext cx="1611360" cy="1476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8576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ошибку средне-арифметического по формуле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952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Х: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=    _____       (11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1,36 : 3,87 = 0,3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значения Y: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=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____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(12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  1,6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3,87       = 0,4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Freeform 4"/>
          <p:cNvSpPr/>
          <p:nvPr/>
        </p:nvSpPr>
        <p:spPr>
          <a:xfrm>
            <a:off x="5562720" y="2505240"/>
            <a:ext cx="928440" cy="403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5"/>
          <p:cNvSpPr/>
          <p:nvPr/>
        </p:nvSpPr>
        <p:spPr>
          <a:xfrm>
            <a:off x="5506920" y="4489560"/>
            <a:ext cx="1057320" cy="3873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считаем эмпирическое значение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- критерия Стъюдента по формуле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Х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- 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 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э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=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___________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(13)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+ 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,24 - 5,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=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= 0,04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35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+  0,44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ценим полученную величину эмпирического значения по таблице  " Стандартные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критерия Стъюдента"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2433600" y="2825640"/>
            <a:ext cx="2156040" cy="480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7"/>
          <p:cNvSpPr/>
          <p:nvPr/>
        </p:nvSpPr>
        <p:spPr>
          <a:xfrm>
            <a:off x="2666880" y="5051520"/>
            <a:ext cx="2422800" cy="606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вод по результатам констатирующего эксперимента: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0,042 &lt; 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=0,05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2,0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жно сделать вывод, что экспериментальная и контрольная группы на данном этапе эксперимента  имеют одинаковый уровень развития памят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ассчет коэффициента корреляции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- критерия Стъюдента для несвязанных выборок на этапе контрольного эксперимента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2"/>
          <a:stretch/>
        </p:blipFill>
        <p:spPr>
          <a:xfrm>
            <a:off x="1359000" y="1579680"/>
            <a:ext cx="7651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ontent Placeholder 2" descr=""/>
          <p:cNvPicPr/>
          <p:nvPr/>
        </p:nvPicPr>
        <p:blipFill>
          <a:blip r:embed="rId2"/>
          <a:stretch/>
        </p:blipFill>
        <p:spPr>
          <a:xfrm>
            <a:off x="1432080" y="1444680"/>
            <a:ext cx="7578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вод по результатам контрольного эксперимента: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,13 &lt; 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=0,001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жно сделать вывод, что экспериментальная и контрольная группы на данном этапе эксперимента  имеют существенные различия в уровне  развития памят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.е. предположение о том, что проведенный нами формирующий эксперимент (коррекционная работа) существенно повысит уровень развития памяти, подтвердилас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</a:t>
            </a:r>
            <a:r>
              <a:rPr b="0" lang="en-US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икладные программы</a:t>
            </a:r>
            <a:r>
              <a:rPr b="0" lang="ru-RU" sz="43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:</a:t>
            </a:r>
            <a:r>
              <a:rPr b="0" lang="ru-RU" sz="4300" spc="-1" strike="noStrike">
                <a:solidFill>
                  <a:srgbClr val="4b2203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95280" y="9903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учных исследований можно также использовать прикладные программы математического и статистического анализа типа пакет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Graphic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S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lab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l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CAD и т.п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Основная литератур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142640" y="144792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Кутейников А.Н. Математические методы в психологии. Учебное пособие [Текст] / А.Н. Кутейников. – СПб.: Речь, 2008. – 172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Митина, О.В. Математические методы в психологии. Практикум. [Текст] / О.В. Митина. – М.: Аспект-Пресс,  2008. – 237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Наследов, А.Д. Математические методы психологического исследования. Анализ и интерпретация данных. Учебное пособие. [Текст] / А.Д. Наследов. – СПб.: Речь, 2004. – 392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Остапенко Р.И. Математические основы психологии [Текст]. Учебно-методическое пособие. – Воронеж.: ВГПУ, 2010. – 76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идоренко, Е.В. Методы математической обработки в психологии. [Текст] / Е.В. Сидоренко. – СПб.: Речь, 2006. – 350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уходольский, Г.В. Математические методы в психологии. [Текст] / Г.В. Суходольский. – Харьков: Изд-во Гуманитарный Центр, 2006. – 284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Дополнительная литература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Дружинин, В.Н. Экспериментальная психология: Учебник для вузов [Текст] / В.Н. Дружинин. – 2-е изд., доп. – СПб.: Питер, 2003. – 319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Загвязинский, В.И., Атаханов, Р. Методология и методы психолого-педагогического исследования. [Текст] / В.И. Загвязинский, Р. Атаханов. – М.: Изд. центр “Академия”, 2001. – 208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Образцов, П.И. Психолого-педагогическое исследование: методология, методы, методика. [Текст] / П.И. Образцов. – Орел, 2003. – 295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уходольский, Г.В. Математическая психология [Текст] / Г.В. Суходольский. – Харьков.: Изд-во Гуманитарный центр, 2006. – 360 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Солсо, Р.Л. Экспериментальная психология [Текст] / Роберт Солсо, Кимберли Маклин. – 8-е изд. Доп., перераб. – СПб.: ПРАЙМ-ЕВРОЗНАК, 2006. – 480 с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SPSS для Windows. Руководство пользователя SPSS, Книга 1. – М.: Статистические системы и сервис. 1995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Интернет-ресурсы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752120"/>
            <a:ext cx="7499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www.statsoft.r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www.spss.r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http://psyfactor.org/lybr10.ht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http://www.koob.ru/ostapenko_r/mathem_psy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mbr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7" descr=""/>
          <p:cNvPicPr/>
          <p:nvPr/>
        </p:nvPicPr>
        <p:blipFill>
          <a:blip r:embed="rId2"/>
          <a:stretch/>
        </p:blipFill>
        <p:spPr>
          <a:xfrm>
            <a:off x="1901880" y="1670040"/>
            <a:ext cx="6559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Times New Roman"/>
              </a:rPr>
              <a:t>Математическая статистика 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анимается как статистическим описанием результатов опытов или наблюдений, так и построением и проверкой подходящих математических моделей, содержащих понятие вероятности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Ее методы расширяют возможности научного предсказания и рационального принятия решения, где существенные параметры не могут быть известны или контролируемы с достаточной точностью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456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Times New Roman"/>
              </a:rPr>
              <a:t>Диагностика в педагогической практике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7521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</a:rPr>
              <a:t>ешает следующие задачи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     прослеживает результативность работы учащихся и педагога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      выступает как инструмент формирован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b2203"/>
                </a:solidFill>
                <a:latin typeface="Times New Roman"/>
              </a:rPr>
              <a:t>Ведущие </a:t>
            </a:r>
            <a:r>
              <a:rPr b="0" lang="en-US" sz="2400" spc="-1" strike="noStrike">
                <a:solidFill>
                  <a:srgbClr val="4b2203"/>
                </a:solidFill>
                <a:latin typeface="Times New Roman"/>
              </a:rPr>
              <a:t>функции</a:t>
            </a:r>
            <a:r>
              <a:rPr b="0" lang="ru-RU" sz="2400" spc="-1" strike="noStrike">
                <a:solidFill>
                  <a:srgbClr val="4b22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b2203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4b2203"/>
                </a:solidFill>
                <a:latin typeface="Times New Roman"/>
              </a:rPr>
              <a:t>диагностики педагогического процесса включают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становление обратной связи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ценку результативности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тельно-побуждающее воздействи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ммуникацию, позволяющую обмениваться информацией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струирование (на основе диагноза можно проектировать личность учащихс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ноз как предсказание будущего развития, интеллектуального или личностного роста, профессиональной направленности учащихс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Назначение </a:t>
            </a: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t-критерия Ст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</a:rPr>
              <a:t>ъ</a:t>
            </a: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юдент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рий 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дента направлен на оценку различий величин сред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начений двух выборок, которые распределены по нормальному закон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им из главных достоинств критерия является широта его применения. Он может быть использован для сопоставления средних 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ыхи несвязных выборок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ем выборки могут быть не равны по величин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Критические точки распределения Ст</a:t>
            </a: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ъ</a:t>
            </a:r>
            <a:r>
              <a:rPr b="1" lang="en-US" sz="3900" spc="-1" strike="noStrike">
                <a:solidFill>
                  <a:srgbClr val="572314"/>
                </a:solidFill>
                <a:latin typeface="Times New Roman"/>
                <a:ea typeface="Cambria"/>
              </a:rPr>
              <a:t>юдент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650960" y="1677960"/>
            <a:ext cx="65786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ассчет коэффициента корреляции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- критерия Стъюдента для несвязанных выборок на этапе констатирующего эксперимента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Content Placeholder 3" descr=""/>
          <p:cNvPicPr/>
          <p:nvPr/>
        </p:nvPicPr>
        <p:blipFill>
          <a:blip r:embed="rId2"/>
          <a:stretch/>
        </p:blipFill>
        <p:spPr>
          <a:xfrm>
            <a:off x="1359000" y="1579680"/>
            <a:ext cx="7651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е арифметическое значе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вариации ряда Х по формуле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Х =  ______     (1)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:             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i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= 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+Х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+…+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n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число испытуемы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7,9+3,8+5,1+7,7+3,7+4,8+4,2+4,2+3,8+5,2+5,2+5,8+6,8+5,8+4,7=78,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8,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 =  _______  = 5,2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вариации ряд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 формуле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Y = 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___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    (3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Gill Sans MT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=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+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+…+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Gill Sans MT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;   (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6,2+3,6+3,7+5,9+7,4+5,7+2,4+6,9+4+4+5,6+8,6+3,5+5,2+5,9=7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=  ___  = 5.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10600" indent="-21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Вычислим среднее арифметическое значе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2:20:59Z</dcterms:created>
  <dc:creator>Диана №1 Москалёва</dc:creator>
  <dc:description/>
  <dc:language>en-US</dc:language>
  <cp:lastModifiedBy>Диана №1 Москалёва</cp:lastModifiedBy>
  <dcterms:modified xsi:type="dcterms:W3CDTF">2012-05-12T08:24:11Z</dcterms:modified>
  <cp:revision>97</cp:revision>
  <dc:subject/>
  <dc:title>Заявка  на присвоение  статуса муниципальной экспериментальной площадки Муниципальному дошкольному образовательному учреждению детский сад комбинированного вида №19 «Светлячок»  при реализации научно-исследовательского проекта  </dc:title>
</cp:coreProperties>
</file>