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4BF-C7CB-4202-83CC-E84AEC2A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5FA-A543-49FF-A523-B61F7891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532-72D4-4DC0-950A-858C9D2D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5F1-6B7D-40EF-8E8E-6C68594C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6B6A-32F8-42CA-871F-415A1D7A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8821-FB85-4D0E-A48A-52E2F588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13B9-3C65-4B2A-8597-30E3AF0F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F39F-39BD-4AE7-BE19-F7237297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4F86-009B-4ADE-B0C4-7F1B4A45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58FB-D476-484E-8118-B0274FCF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5D0A-79DF-4AC7-B541-7CB823EB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4EF-D82F-4193-A0A6-C0B8566D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CA22-2F90-4AD3-BB0D-A55A92F9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EBFD-650D-4319-B1C6-610FAD04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2E24-AB27-487D-8B43-25130355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D446-126C-41D9-AD29-4DFBD25A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E637-EBF1-430A-AC5D-0251D32B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6F2B4-EDB6-47AB-A954-5D01C455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55FC6-7F53-4AD8-80F2-A90005BB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A80FA-5796-4362-B0B4-B5347B4F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A6AE5-A25A-4B51-93A4-918E2589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7BEAC-4586-4C75-8C55-31E0FD44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B4C-8ABE-4DB0-993E-5763AE74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165A6-2EB8-4372-A5EE-841B6932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CD9D8-FA0D-48F8-ABD4-B072EF16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2CC8E-4C2A-4456-8A57-690DF228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19E9E-B8D5-4CFE-A8C9-AD74A128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B79AE-EF3C-49FF-AC5D-59C3E5B6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1F07A-A4DC-44C0-8F92-9320DAB8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E0766-3460-4D21-8AC3-349D6D57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6F69B-22D0-4C87-80DC-D4E2D62C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74C73-AE34-48F9-98E1-C136C98F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D6D4B-597D-4ABF-8E6F-D3C9FA22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DD1-81F7-4948-95EB-13C970D8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161B9-2B6A-4DDA-8F9A-A6FB9DC2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8C590-9737-4C4A-A93F-95EDA626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23AC4-361D-4A50-B6D9-E0095C1F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CE75D-1126-4AFA-B125-C536A117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2A816-EEB5-4277-8DA7-2B63685E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59E91-899F-44DD-B541-9B117B0D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C8084-6E0C-4428-9DED-99BCF2B7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E2395-77D8-4DF4-A358-F606219B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3B837-22BA-44E8-8927-BB9F8B3D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00A52-FF61-46CF-98DF-5AD4E8FA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E78-3432-4E2E-BB80-9367FE77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9D4CD-6235-4031-BEE2-8716AF01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CF782-3CDA-4EE9-AD29-11F4E5F6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0D2C6-F395-4CDA-A686-8473DACB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A46E7-069B-4358-BD3A-FDF8FDDD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B2350-01CC-4CBC-B13F-E356129B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4ABF8-FF2C-4A4F-ACD5-0D157BD9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211A4-7519-408E-B6E7-25E3B5F5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4C8CD-C5A3-4551-8406-3A11FBB6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21E72-1DCA-40E3-87CB-21AABFC8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E4AC4-9B95-48A4-B76E-FAF4F95C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683-0874-4E72-9721-2B505ED1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FF807-C467-48FB-8E8E-B2346A5B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EC2-1CC2-4CE5-AA84-2F62385D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F49-25E2-4100-9EFD-66497E9B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AE1-B7EC-42BE-B1C8-1F4E301D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76A65-B85D-44ED-964A-35012FF45D7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35BBC-4E50-4ECD-9998-7F9496DD6B0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7798F-E43E-4B11-8C10-EC444BB84904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D33D6-381D-4B4A-9220-F460D1CDEC8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99EC1-31BE-43AD-867E-CB96A64AA5F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3F200-79A6-4E3F-8EE8-3215F69B0D1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2"/>
          <a:stretch/>
        </p:blipFill>
        <p:spPr>
          <a:xfrm>
            <a:off x="450720" y="554040"/>
            <a:ext cx="8699760" cy="16826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066680" y="304812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«Организация интегрированного обучения и воспитания в условиях ДОУ комбинированного вида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к.псх.н. педагог-психолог ЦПМСС «Лабиринт»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Митюхина Н.П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Subtitle 2"/>
          <p:cNvSpPr/>
          <p:nvPr/>
        </p:nvSpPr>
        <p:spPr>
          <a:xfrm>
            <a:off x="914400" y="6400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onstantia"/>
              </a:rPr>
              <a:t>ВОЛЖСК,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000000"/>
                </a:solidFill>
                <a:latin typeface="Constantia"/>
              </a:rPr>
              <a:t>20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Какие чувства Вы при этом испытывали?»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Content Placeholder 3" descr=""/>
          <p:cNvPicPr/>
          <p:nvPr/>
        </p:nvPicPr>
        <p:blipFill>
          <a:blip r:embed="rId2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«Был ли у Вас опыт общения с детьми, имеющими нарушения в развитии, с людьми – инвалидами?»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7" name="Content Placeholder 5" descr=""/>
          <p:cNvPicPr/>
          <p:nvPr/>
        </p:nvPicPr>
        <p:blipFill>
          <a:blip r:embed="rId2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«Разрешили бы Вы своему сыну (дочери) дружить с ренком, у которого есть какие-либо нарушения (слуха, зрения, интеллекта, трудности передвижения и тп.)?»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9" name="Content Placeholder 5" descr=""/>
          <p:cNvPicPr/>
          <p:nvPr/>
        </p:nvPicPr>
        <p:blipFill>
          <a:blip r:embed="rId2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«Как Вы отнесетесь к тому, что в классе с Вашим сыном (дочерью) будет обучаться ребенок с какими-либо нарушениями (слуха, зрения, интеллекта, трудности передвижения и тп.)?»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Content Placeholder 6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«Как Вы считаете, могут ли такие дети иметь какие либо дарования (способности)?»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Content Placeholder 5" descr=""/>
          <p:cNvPicPr/>
          <p:nvPr/>
        </p:nvPicPr>
        <p:blipFill>
          <a:blip r:embed="rId2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«Если в Вашей семье (у близких друзей, родственников), в результате несчастного случая ребенок стал бы инвалидом, что бы Вы сделали, чтобы не лишать его нормального развития?»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Content Placeholder 3" descr=""/>
          <p:cNvPicPr/>
          <p:nvPr/>
        </p:nvPicPr>
        <p:blipFill>
          <a:blip r:embed="rId2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«Достаточно ли на Ваш взгляд освещаются проблемы инвалидов в средствах массовой информации?»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Content Placeholder 3" descr=""/>
          <p:cNvPicPr/>
          <p:nvPr/>
        </p:nvPicPr>
        <p:blipFill>
          <a:blip r:embed="rId2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«Имеются ли, по Вашему мнению, в России законы, защищающие права инвалидов?»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9" name="Content Placeholder 3" descr=""/>
          <p:cNvPicPr/>
          <p:nvPr/>
        </p:nvPicPr>
        <p:blipFill>
          <a:blip r:embed="rId2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04920" y="15541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1000"/>
          </a:bodyPr>
          <a:p>
            <a:pPr marL="29880" indent="-29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3495c"/>
                </a:solidFill>
                <a:latin typeface="Constantia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  <a:p>
            <a:pPr marL="29880" indent="-29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3495c"/>
                </a:solidFill>
                <a:latin typeface="Constantia"/>
              </a:rPr>
              <a:t>за 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  <a:p>
            <a:pPr marL="29880" indent="-29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3495c"/>
                </a:solidFill>
                <a:latin typeface="Constantia"/>
              </a:rPr>
              <a:t>внимание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2. Обоснованность значимости  исследовательской инициативы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АКТУАЛЬНОСТЬ ПРОБЛЕМ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последние годы наметился рост числа детей, имеющих отклонения в психическом развитии и испытывающих вследствие этого трудности в обучении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ДОУ специалистам необходимо проводить специальную, разностороннюю и достаточно длительную работу с детьми, имеющими задержки в психическом развитии (ЗПР), направленную на анализ и устранение причин отставания таких детей в развитие психических процессов и эмоционально-волевой сфер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ПРОБЛЕМА</a:t>
            </a:r>
            <a:r>
              <a:rPr b="0" lang="ru-RU" sz="1600" spc="-1" strike="noStrike">
                <a:solidFill>
                  <a:srgbClr val="02303e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ключается в том, что в настоящее  время комплексной программы для работы с дошкольниками с 4-х лет с ЗПР не существует. Кроме того, в одной группе могут находиться дети как с выраженной задержкой психического развития (в некоторых случаях трудно устранимой или тяжелой), так и со слабым отставанием в психическом развитии, близком к нормативному. Сами по себе ЗПР могут иметь разный, индивидуально своеобразный характер. Все эти дети требуют различного психолого-педагогического подхода в работе с ними, и такая работа должна, в идеале, проводится с каждый ребенком по индивидуальной программе с участием нескольких специалистов: воспитателей, логопеда, психолога и дефектолог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4. Программа исследования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7584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ОБЪЕКТ ИССЛЕДОВАНИЯ</a:t>
            </a:r>
            <a:r>
              <a:rPr b="0" lang="ru-RU" sz="1600" spc="-1" strike="noStrike">
                <a:solidFill>
                  <a:srgbClr val="02303e"/>
                </a:solidFill>
                <a:latin typeface="Constantia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собенности эмоционально-волевой сферы и познавательных процессов детей 4-7-летнего возраста с ЗПР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ПРЕДМЕТ ИССЛЕДОВАНИЯ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держки в психическом развитии детей 4-7-летнего возраста, их причины и способы устранени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ЦЕЛЬ ИССЛЕДОВАНИЯ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снить и устранить причины задержек в развитии эмоционально-волевой сферы и познавательных процессов  детей 4-7-летнего возраста в интегрированных группах ДОУ комбинированного вид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ЗАДАЧИ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1. Изучить и оценить уровень развития эмоционально-волевой сферы и познавательных процессов детей 4-7-летнего возраста. Выяснить его соответствие норме и установить отклонения от нормы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2. Выяснить причины отставания детей 4-7-летнего возраста в психическом развитии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3. Разработать программу коррекции отклонений в развитии эмоционально-волевой сферы и познавательных процессов детей 4-7-летнего возраста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4. Устранить недостатки в развитии эмоционально-волевой сферы и психических процессов детей с помощью работы с детьми по данной программе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5. Сформулировать выводы и практические рекомендации для воспитателей детского сада, учителей  и родителей по работе с детьми 4-7-летнего возраста с задержками психического развития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4. Программа исследования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ГИПОТЕЗ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1. Причинами ЗПР детей 4-7-летнего возраста являются следующие: неблагоприятные условия воспитания, частые психотравмирующие ситуации в жизни ребенк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2. Эти причины и связанные с ними ЗПР детей можно устранить, при использовании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 проведения ранней диагностики ЗПР, определения ее характер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 установления точных причин ЗПР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азработки и реализации в работе с каждым ребенком индивидуальной коррекционно-развивающей программы с участием воспитателей, дефектолога и психолог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4. Программа исследования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782720"/>
            <a:ext cx="86868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НОРМАТИВНЫЕ ДОКУМЕНТЫ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конодательная основа правового регулирования отношений в сфере образования представлен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Конституцией РФ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Закон РФ «Об образовании»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Проект Федерального Закона "Об образовании лиц с ограниченными возможностями здоровья (специальном образовании)"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Типовое положение о дошкольном образовательном учреждении для обучающихся, воспитанников с отклонением в развитии. Утверждено Постановлением РФ от 31 июля 1998г. № 867 (ред. От 10.03.2009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«Типовое положение об образовательном учреждении для детей, нуждающихся в психолого-педагогической и медико – социальной помощи», утвержденное постановлением  Правительства Российской Федерации от 31 июля 1998 г. № 867 (ред. от  10.03.2009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еречень законодательства Российской Федерации в области прав ребенк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 Семейный кодекс РФ ( № 223-ФЗ от 29.12.1995 г. в редакции 02.01.2000 г.) О защите прав несовершеннолетних (ст.  47-53, ст. 54-165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 Федеральный Закон об основных  гарантиях прав ребенка в Российской Федерации (№ 124-ФЗ от 24.07.1998 г. в редакции 20.07.2000 г.) Об основных гарантиях прав ребенка в Российской Федерации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4. Программа исследования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НОВИЗНА И ТЕОРЕТИЧЕСКАЯ ЗНАЧИМОСТЬ ПРОЕКТ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2303e"/>
                </a:solidFill>
                <a:latin typeface="Constantia"/>
              </a:rPr>
              <a:t>НАУЧНАЯ НОВИЗНА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Систематически изучены причины задержек в развитии эмоционально-волевой сферы и познавательных процессов  детей 4-7-летнего возраста в интегрированных группах ДОУ комбинированного вид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2303e"/>
                </a:solidFill>
                <a:latin typeface="Constantia"/>
              </a:rPr>
              <a:t>ТЕОРЕТИЧЕСКОЕ ЗНАЧЕНИЕ РАБОТЫ. 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Показана, выраженная на фоне общего отставания, неравномерность развития психических процессов у детей с ЗПР как одна из наиболее характерных их особенностей. Доказана возможность психологической диагностики и психологической коррекции эмоционально-волевой сферы и познавательных процессов у детей с ЗПР с 4-летнего возраст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2303e"/>
                </a:solidFill>
                <a:latin typeface="Constantia"/>
              </a:rPr>
              <a:t>ПРАКТИЧЕСКАЯ ЗНАЧИМОСТЬ ПРОЕКТА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казана динамика развития детей с задержкой психического развития с 4-летнего возраста, что обосновывает необходимость специальной педагогической помощи этим детям. Предложены методы изучения эмоционально-волевой сферы и познавательных процессов  детей с задержкой психического развития, которые могут быть использованы при составлении диагностического психолого-педагогического комплекса в ДОУ комбинированного вида, в целях повышения эффективности психологического сопровождения детей с проблемами в развитии в процессе их обучения.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оказана эффективность примененного комплекса диагностических психологических методик для выявления детей с задержкой психического развития в 4-летнем возрасте. Выделены наиболее диагностичные методики для определения школьной готовности. 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5. Основные этапы эксперимента и прогнозируемые результаты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1-Й ЭТАП (2011Г.).</a:t>
            </a:r>
            <a:r>
              <a:rPr b="0" lang="ru-RU" sz="1800" spc="-1" strike="noStrike">
                <a:solidFill>
                  <a:srgbClr val="02303e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пределение проблемы исследования и его отдельных концептуальных положений, формулировка гипотезы исследования, его цели и задач.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нализ теоретических источников с целью установления степени разработанности исследуемой проблемы. Изучение опыта психолого-педагогической деятельности по составлению коррекционно-развивающих программ для детей 4-7 лет с задержкой психического развит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2-Й ЭТАП (2012Г.)</a:t>
            </a:r>
            <a:r>
              <a:rPr b="0" lang="ru-RU" sz="1800" spc="-1" strike="noStrike">
                <a:solidFill>
                  <a:srgbClr val="02303e"/>
                </a:solidFill>
                <a:latin typeface="Constanti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ведение констатирующего эксперимента с целью обоснования актуальности проблемы, определения уровня развития эмоционально-волевой сферы и познавательных процессов  детей 4-7 лет с задержкой психического развития. Разработка и обоснование плана проведения основной экспериментальной работ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3-Й ЭТАП</a:t>
            </a:r>
            <a:r>
              <a:rPr b="0" lang="ru-RU" sz="1800" spc="-1" strike="noStrike">
                <a:solidFill>
                  <a:srgbClr val="02303e"/>
                </a:solidFill>
                <a:latin typeface="Constantia"/>
              </a:rPr>
              <a:t> (2012–2013 ГГ.)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основной этап, на котором осуществляется практическая реализация коррекционно-развивающей программы целенаправленного развития эмоционально-волевой сферы и познавательных процессов  детей 4-7 лет с задержкой психического развития.  Формирующий   эксперимент позволит выявить условия, закономерности и методы развития детей дошкольного возраста с задержкой психического развития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4-Й ЭТАП </a:t>
            </a:r>
            <a:r>
              <a:rPr b="0" lang="ru-RU" sz="1800" spc="-1" strike="noStrike">
                <a:solidFill>
                  <a:srgbClr val="02303e"/>
                </a:solidFill>
                <a:latin typeface="Constantia"/>
              </a:rPr>
              <a:t>(2013-2014ГГ.)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завершающий этап, на котором осуществляется математическая обработка, осмысление и интерпретация полученных результатов, литературное и техническое оформление работ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Организация взаимодействия с семьей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1337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активное вовлечение семьи в работу дошкольного учрежд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консультирование родителей по проблемам развития их дет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обучение родителей доступным им методам и приемам оказания коррекционной помощи детям в условиях семь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организация обратной связи родителей с детским учреждени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«Приходилось ли Вам встречать детей с нарушениями в развитии?»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Content Placeholder 3" descr=""/>
          <p:cNvPicPr/>
          <p:nvPr/>
        </p:nvPicPr>
        <p:blipFill>
          <a:blip r:embed="rId2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02:38:05Z</dcterms:created>
  <dc:creator>Диана №1 Москалёва</dc:creator>
  <dc:description/>
  <dc:language>en-US</dc:language>
  <cp:lastModifiedBy>Диана №1 Москалёва</cp:lastModifiedBy>
  <dcterms:modified xsi:type="dcterms:W3CDTF">2012-04-26T02:14:06Z</dcterms:modified>
  <cp:revision>43</cp:revision>
  <dc:subject/>
  <dc:title>Заявка  на присвоение  статуса муниципальной экспериментальной площадки Муниципальному дошкольному образовательному учреждению детский сад комбинированного вида №19 «Светлячок»  при реализации научно-исследовательского проекта  </dc:title>
</cp:coreProperties>
</file>