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D6B0-299E-4DB4-8E48-D6C868DB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AF40-A97A-46FD-BA28-E243ECD7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879E-2B66-4DE3-BBF8-14011DBD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0D68-6192-4A1E-8572-8AE6F0BE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430F-B160-4643-A817-48C4DBD8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C642-8C26-494E-9562-9B2C6E2E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6DFE-3BE4-46A8-86EC-5A3C7091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05AC-D700-4CD2-B6BE-07371374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B0D5-9B3A-4898-BAF0-F3C077F8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4819-F7AE-4A31-8273-E2D537DB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9EF4-9B4D-492C-88AE-1B30254B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7841-3119-4454-9282-3FEBB5DA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A444-6F2E-4A58-B6D6-E9A5AC80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B7A8-ED1E-48B1-A1D1-CA8B15C2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1D21-ECB8-49AC-8C8A-2BBA6605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469A-24AB-492D-8B18-086DBC08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6422-6146-47CA-ADA8-7B6011EA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7EE01-06FF-4681-ABD1-3BC7E768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C62AE-E3F3-442D-857F-9215CCC0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57DAE-4294-4E9D-B982-02B67532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E6115-32F8-44E7-AEEC-B1641A5A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B8601-C1B3-45E8-A22C-4B281571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4364-AC84-4CE3-82FD-2F851AD2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BB3A4-A9E0-4052-B26E-AF63963F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D22C9-92A3-40F6-94D6-00D4C496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97C04-255E-404B-8AF8-CDE59EB2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5FB51-7AAF-489A-984B-5DF6FE1A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F39A4-F138-4F92-B803-19056D4D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F732B-3BA1-4DAC-970C-F6BEFAE3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F98D1-C963-4D63-9FDE-573FE81C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10731-8EAB-4A2B-B815-D5195959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6A7EF-E4AA-44C0-9727-35CB1C8A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484A8-D18F-44CB-9B20-788F7711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0BE1-4A2E-4262-83B1-5DC751B5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54069-2588-40C6-8C33-472590E3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ADEA0-EF4E-4AB0-86B0-1A12812A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2DCAB-D89B-4D8B-ADB8-C5D3A59A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D3A60-02E7-419C-BB1F-DD0C5154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FB2C7-39E2-4468-9B1A-6CED7B18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4EB96-B76A-4113-988D-B60C2940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0AA73-AA7B-4B6E-867C-29CCE4B3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E6358-322B-471D-969E-38A3666F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1E6CF-0846-4DBD-A5E0-00F8BDAF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BB32A-E1D9-464D-9D8F-F73BB071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8EBD-0CC4-41FC-B511-199DD4E4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3C7B0-690E-49D8-9C44-79D0CB47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72717-D68F-496D-BA4E-4BEF96D9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6AC89-AC19-4D7A-A590-1866DE95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87F63-57E3-4084-B3CF-3887CD1C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A337A-10C9-41F5-AF0B-DA18A077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D4E4A-6C41-4C5C-960E-9A5853AB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A82C9-282B-4621-944E-4CA83CA4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13344-454E-4BE3-8304-0B471606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F909E-B7CC-4608-AF4A-C94387ED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95637-8DD8-4C0E-A4B4-73DC01B3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64D9-62B5-4A2D-87AF-5ADF908B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0A9D9-616E-4725-8423-3ED60CE7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D8BA-1200-40ED-B5F3-16A075B3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B78A-57FC-4254-9F9F-48758E24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1B6B-F0EB-4A0C-8F2B-4BD6A3CB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6962FE-F193-47C6-ABCA-9CF175E3216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41220-1131-4A33-A456-0CF32E7422D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3CDDA5-016A-476D-9D20-6E62C8A12FA2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5CBE22-16F5-477A-80EA-1C8951A2DDB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BFA0EA-FC40-476F-B08B-6EBAAA3FFB2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7B9F1-47A5-4FFA-97C5-CA2AEFB842A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2"/>
          <a:stretch/>
        </p:blipFill>
        <p:spPr>
          <a:xfrm>
            <a:off x="450720" y="554040"/>
            <a:ext cx="8699760" cy="16826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066680" y="304812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«Организация интегрированного обучения и воспитания в условиях ДОУ комбинированного вида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к.псх.н. педагог-психолог ЦПМСС «Лабиринт»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Митюхина Н.П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Subtitle 2"/>
          <p:cNvSpPr/>
          <p:nvPr/>
        </p:nvSpPr>
        <p:spPr>
          <a:xfrm>
            <a:off x="914400" y="6400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onstantia"/>
              </a:rPr>
              <a:t>ВОЛЖСК,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000000"/>
                </a:solidFill>
                <a:latin typeface="Constantia"/>
              </a:rPr>
              <a:t>20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«Какие чувства Вы при этом испытывали?»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Content Placeholder 3" descr=""/>
          <p:cNvPicPr/>
          <p:nvPr/>
        </p:nvPicPr>
        <p:blipFill>
          <a:blip r:embed="rId2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«Был ли у Вас опыт общения с детьми, имеющими нарушения в развитии, с людьми – инвалидами?»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7" name="Content Placeholder 5" descr=""/>
          <p:cNvPicPr/>
          <p:nvPr/>
        </p:nvPicPr>
        <p:blipFill>
          <a:blip r:embed="rId2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«Разрешили бы Вы своему сыну (дочери) дружить с ренком, у которого есть какие-либо нарушения (слуха, зрения, интеллекта, трудности передвижения и тп.)?»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9" name="Content Placeholder 5" descr=""/>
          <p:cNvPicPr/>
          <p:nvPr/>
        </p:nvPicPr>
        <p:blipFill>
          <a:blip r:embed="rId2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«Как Вы отнесетесь к тому, что в классе с Вашим сыном (дочерью) будет обучаться ребенок с какими-либо нарушениями (слуха, зрения, интеллекта, трудности передвижения и тп.)?»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1" name="Content Placeholder 6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«Как Вы считаете, могут ли такие дети иметь какие либо дарования (способности)?»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3" name="Content Placeholder 5" descr=""/>
          <p:cNvPicPr/>
          <p:nvPr/>
        </p:nvPicPr>
        <p:blipFill>
          <a:blip r:embed="rId2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«Если в Вашей семье (у близких друзей, родственников), в результате несчастного случая ребенок стал бы инвалидом, что бы Вы сделали, чтобы не лишать его нормального развития?»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5" name="Content Placeholder 3" descr=""/>
          <p:cNvPicPr/>
          <p:nvPr/>
        </p:nvPicPr>
        <p:blipFill>
          <a:blip r:embed="rId2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«Достаточно ли на Ваш взгляд освещаются проблемы инвалидов в средствах массовой информации?»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7" name="Content Placeholder 3" descr=""/>
          <p:cNvPicPr/>
          <p:nvPr/>
        </p:nvPicPr>
        <p:blipFill>
          <a:blip r:embed="rId2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«Имеются ли, по Вашему мнению, в России законы, защищающие права инвалидов?»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9" name="Content Placeholder 3" descr=""/>
          <p:cNvPicPr/>
          <p:nvPr/>
        </p:nvPicPr>
        <p:blipFill>
          <a:blip r:embed="rId2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04920" y="1554120"/>
            <a:ext cx="86868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1000"/>
          </a:bodyPr>
          <a:p>
            <a:pPr marL="29880" indent="-298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3495c"/>
                </a:solidFill>
                <a:latin typeface="Constantia"/>
              </a:rPr>
              <a:t>Спасибо 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  <a:p>
            <a:pPr marL="29880" indent="-298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3495c"/>
                </a:solidFill>
                <a:latin typeface="Constantia"/>
              </a:rPr>
              <a:t>за 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  <a:p>
            <a:pPr marL="29880" indent="-298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3495c"/>
                </a:solidFill>
                <a:latin typeface="Constantia"/>
              </a:rPr>
              <a:t>внимание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2. Обоснованность значимости  исследовательской инициативы.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Constantia"/>
              </a:rPr>
              <a:t>АКТУАЛЬНОСТЬ ПРОБЛЕМЫ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последние годы наметился рост числа детей, имеющих отклонения в психическом развитии и испытывающих вследствие этого трудности в обучении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ДОУ специалистам необходимо проводить специальную, разностороннюю и достаточно длительную работу с детьми, имеющими задержки в психическом развитии (ЗПР), направленную на анализ и устранение причин отставания таких детей в развитие психических процессов и эмоционально-волевой сферы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Constantia"/>
              </a:rPr>
              <a:t>ПРОБЛЕМА</a:t>
            </a:r>
            <a:r>
              <a:rPr b="0" lang="ru-RU" sz="1600" spc="-1" strike="noStrike">
                <a:solidFill>
                  <a:srgbClr val="02303e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аключается в том, что в настоящее  время комплексной программы для работы с дошкольниками с 4-х лет с ЗПР не существует. Кроме того, в одной группе могут находиться дети как с выраженной задержкой психического развития (в некоторых случаях трудно устранимой или тяжелой), так и со слабым отставанием в психическом развитии, близком к нормативному. Сами по себе ЗПР могут иметь разный, индивидуально своеобразный характер. Все эти дети требуют различного психолого-педагогического подхода в работе с ними, и такая работа должна, в идеале, проводится с каждый ребенком по индивидуальной программе с участием нескольких специалистов: воспитателей, логопеда, психолога и дефектолог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4. Программа исследования.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27584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Constantia"/>
              </a:rPr>
              <a:t>ОБЪЕКТ ИССЛЕДОВАНИЯ</a:t>
            </a:r>
            <a:r>
              <a:rPr b="0" lang="ru-RU" sz="1600" spc="-1" strike="noStrike">
                <a:solidFill>
                  <a:srgbClr val="02303e"/>
                </a:solidFill>
                <a:latin typeface="Constantia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собенности эмоционально-волевой сферы и познавательных процессов детей 4-7-летнего возраста с ЗПР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Constantia"/>
              </a:rPr>
              <a:t>ПРЕДМЕТ ИССЛЕДОВАНИЯ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адержки в психическом развитии детей 4-7-летнего возраста, их причины и способы устранения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Constantia"/>
              </a:rPr>
              <a:t>ЦЕЛЬ ИССЛЕДОВАНИЯ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снить и устранить причины задержек в развитии эмоционально-волевой сферы и познавательных процессов  детей 4-7-летнего возраста в интегрированных группах ДОУ комбинированного вид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Constantia"/>
              </a:rPr>
              <a:t>ЗАДАЧИ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1. Изучить и оценить уровень развития эмоционально-волевой сферы и познавательных процессов детей 4-7-летнего возраста. Выяснить его соответствие норме и установить отклонения от нормы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2. Выяснить причины отставания детей 4-7-летнего возраста в психическом развитии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3. Разработать программу коррекции отклонений в развитии эмоционально-волевой сферы и познавательных процессов детей 4-7-летнего возраста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4. Устранить недостатки в развитии эмоционально-волевой сферы и психических процессов детей с помощью работы с детьми по данной программе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5. Сформулировать выводы и практические рекомендации для воспитателей детского сада, учителей  и родителей по работе с детьми 4-7-летнего возраста с задержками психического развития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4. Программа исследования.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Constantia"/>
              </a:rPr>
              <a:t>ГИПОТЕЗЫ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1. Причинами ЗПР детей 4-7-летнего возраста являются следующие: неблагоприятные условия воспитания, частые психотравмирующие ситуации в жизни ребенк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2. Эти причины и связанные с ними ЗПР детей можно устранить, при использовании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 проведения ранней диагностики ЗПР, определения ее характер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 установления точных причин ЗПР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азработки и реализации в работе с каждым ребенком индивидуальной коррекционно-развивающей программы с участием воспитателей, дефектолога и психолог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4. Программа исследования.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782720"/>
            <a:ext cx="868680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Constantia"/>
              </a:rPr>
              <a:t>НОРМАТИВНЫЕ ДОКУМЕНТЫ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аконодательная основа правового регулирования отношений в сфере образования представлен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Конституцией РФ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Закон РФ «Об образовании»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Проект Федерального Закона "Об образовании лиц с ограниченными возможностями здоровья (специальном образовании)"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Типовое положение о дошкольном образовательном учреждении для обучающихся, воспитанников с отклонением в развитии. Утверждено Постановлением РФ от 31 июля 1998г. № 867 (ред. От 10.03.2009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«Типовое положение об образовательном учреждении для детей, нуждающихся в психолого-педагогической и медико – социальной помощи», утвержденное постановлением  Правительства Российской Федерации от 31 июля 1998 г. № 867 (ред. от  10.03.2009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еречень законодательства Российской Федерации в области прав ребенк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 Семейный кодекс РФ ( № 223-ФЗ от 29.12.1995 г. в редакции 02.01.2000 г.) О защите прав несовершеннолетних (ст.  47-53, ст. 54-165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 Федеральный Закон об основных  гарантиях прав ребенка в Российской Федерации (№ 124-ФЗ от 24.07.1998 г. в редакции 20.07.2000 г.) Об основных гарантиях прав ребенка в Российской Федерации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4. Программа исследования.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1400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Constantia"/>
              </a:rPr>
              <a:t>НОВИЗНА И ТЕОРЕТИЧЕСКАЯ ЗНАЧИМОСТЬ ПРОЕКТ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2303e"/>
                </a:solidFill>
                <a:latin typeface="Constantia"/>
              </a:rPr>
              <a:t>НАУЧНАЯ НОВИЗНА</a:t>
            </a: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Систематически изучены причины задержек в развитии эмоционально-волевой сферы и познавательных процессов  детей 4-7-летнего возраста в интегрированных группах ДОУ комбинированного вид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2303e"/>
                </a:solidFill>
                <a:latin typeface="Constantia"/>
              </a:rPr>
              <a:t>ТЕОРЕТИЧЕСКОЕ ЗНАЧЕНИЕ РАБОТЫ. 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Показана, выраженная на фоне общего отставания, неравномерность развития психических процессов у детей с ЗПР как одна из наиболее характерных их особенностей. Доказана возможность психологической диагностики и психологической коррекции эмоционально-волевой сферы и познавательных процессов у детей с ЗПР с 4-летнего возраст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2303e"/>
                </a:solidFill>
                <a:latin typeface="Constantia"/>
              </a:rPr>
              <a:t>ПРАКТИЧЕСКАЯ ЗНАЧИМОСТЬ ПРОЕКТА</a:t>
            </a: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казана динамика развития детей с задержкой психического развития с 4-летнего возраста, что обосновывает необходимость специальной педагогической помощи этим детям. Предложены методы изучения эмоционально-волевой сферы и познавательных процессов  детей с задержкой психического развития, которые могут быть использованы при составлении диагностического психолого-педагогического комплекса в ДОУ комбинированного вида, в целях повышения эффективности психологического сопровождения детей с проблемами в развитии в процессе их обучения.</a:t>
            </a: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оказана эффективность примененного комплекса диагностических психологических методик для выявления детей с задержкой психического развития в 4-летнем возрасте. Выделены наиболее диагностичные методики для определения школьной готовности. 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5. Основные этапы эксперимента и прогнозируемые результаты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1-Й ЭТАП (2011Г.).</a:t>
            </a:r>
            <a:r>
              <a:rPr b="0" lang="ru-RU" sz="1800" spc="-1" strike="noStrike">
                <a:solidFill>
                  <a:srgbClr val="02303e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пределение проблемы исследования и его отдельных концептуальных положений, формулировка гипотезы исследования, его цели и задач.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нализ теоретических источников с целью установления степени разработанности исследуемой проблемы. Изучение опыта психолого-педагогической деятельности по составлению коррекционно-развивающих программ для детей 4-7 лет с задержкой психического развит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2-Й ЭТАП (2012Г.)</a:t>
            </a:r>
            <a:r>
              <a:rPr b="0" lang="ru-RU" sz="1800" spc="-1" strike="noStrike">
                <a:solidFill>
                  <a:srgbClr val="02303e"/>
                </a:solidFill>
                <a:latin typeface="Constantia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оведение констатирующего эксперимента с целью обоснования актуальности проблемы, определения уровня развития эмоционально-волевой сферы и познавательных процессов  детей 4-7 лет с задержкой психического развития. Разработка и обоснование плана проведения основной экспериментальной работ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3-Й ЭТАП</a:t>
            </a:r>
            <a:r>
              <a:rPr b="0" lang="ru-RU" sz="1800" spc="-1" strike="noStrike">
                <a:solidFill>
                  <a:srgbClr val="02303e"/>
                </a:solidFill>
                <a:latin typeface="Constantia"/>
              </a:rPr>
              <a:t> (2012–2013 ГГ.)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основной этап, на котором осуществляется практическая реализация коррекционно-развивающей программы целенаправленного развития эмоционально-волевой сферы и познавательных процессов  детей 4-7 лет с задержкой психического развития.  Формирующий   эксперимент позволит выявить условия, закономерности и методы развития детей дошкольного возраста с задержкой психического развития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4-Й ЭТАП </a:t>
            </a:r>
            <a:r>
              <a:rPr b="0" lang="ru-RU" sz="1800" spc="-1" strike="noStrike">
                <a:solidFill>
                  <a:srgbClr val="02303e"/>
                </a:solidFill>
                <a:latin typeface="Constantia"/>
              </a:rPr>
              <a:t>(2013-2014ГГ.)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завершающий этап, на котором осуществляется математическая обработка, осмысление и интерпретация полученных результатов, литературное и техническое оформление работ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Организация взаимодействия с семьей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.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21337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активное вовлечение семьи в работу дошкольного учрежд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консультирование родителей по проблемам развития их дете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обучение родителей доступным им методам и приемам оказания коррекционной помощи детям в условиях семь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организация обратной связи родителей с детским учреждени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«Приходилось ли Вам встречать детей с нарушениями в развитии?»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Content Placeholder 3" descr=""/>
          <p:cNvPicPr/>
          <p:nvPr/>
        </p:nvPicPr>
        <p:blipFill>
          <a:blip r:embed="rId2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02:38:05Z</dcterms:created>
  <dc:creator>Диана №1 Москалёва</dc:creator>
  <dc:description/>
  <dc:language>en-US</dc:language>
  <cp:lastModifiedBy>Диана №1 Москалёва</cp:lastModifiedBy>
  <dcterms:modified xsi:type="dcterms:W3CDTF">2012-04-26T02:14:06Z</dcterms:modified>
  <cp:revision>43</cp:revision>
  <dc:subject/>
  <dc:title>Заявка  на присвоение  статуса муниципальной экспериментальной площадки Муниципальному дошкольному образовательному учреждению детский сад комбинированного вида №19 «Светлячок»  при реализации научно-исследовательского проекта  </dc:title>
</cp:coreProperties>
</file>