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E8D9B-202F-4707-923D-0D20CC38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9EF98-CE99-42F0-BAE2-9D674945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23EBC-E097-44DA-A1D8-93864B5A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BBCC-1B9C-48FC-ABF4-AAE2D6D2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451F-9A06-42B6-9E6E-EE5FB8A6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7801-D396-4259-B570-5BB17504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BC0F-7016-49D9-8849-3A5816B8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81C5-84EA-4E0F-A26E-12B8EE55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5D5F-BB27-48F3-B267-AC536C44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589B-6612-478D-A63A-EE2D4C30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0699-9DAB-4EF3-8F6F-DC8E892F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B2BDA-A8B4-4809-9FE7-3C859E7A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2541-5909-412F-8B49-628143C4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C409-B1FC-4BE6-8410-CEB6B81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67F3-DA93-4639-BB0B-6D5F7FA4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05CA-C23C-40B9-837F-246D181B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70C1-54BF-4D54-BBF1-D00DC412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4D41-3CCC-4DFC-92D1-3F1A2A78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B017-B619-466D-BD29-21852DA9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9DF75-DDA4-411E-AD3F-FE8E1457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2F288-DF4E-499B-8B2B-A42C11F2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DF4F6-D4AA-44B1-BE66-6C0468EC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3B5D-3C7A-4C84-B6D9-9BC00FB8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294C-2610-4C1D-9476-250C14FC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FFDF-A9A6-434A-9803-708E02D66A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A0E2-0FA4-42CF-8935-04113497DE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к.псх.н., педагог-психолог Митюхина Н.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май, 2012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0880" y="612720"/>
            <a:ext cx="86108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еспуб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нская научно-практическая конференци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«Просвещение и нравственность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бота государства, церкви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 общества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РАЛЬНО - НРАВСТВЕННОЕ РАЗВИТИЕ ЛИЧНОСТИ ПОДРОСТКО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Д.В. Колесов считает, что в сферу нравственной регуляции деятельности входит и отношение человека к самому себе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четыре основания нравственност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) правильно сформированная потребность человека в другом человеке, реализующаяся путем общения (в основе лежат механизмы идентификации и эмпатии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сознание общности всех людей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сформированный с детства эмоционально насыщенный образ родного дом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) наличие эмоционально-насыщенного и хорошо сформированного представления о своем жизненном пути как целостност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e5e5ff"/>
                </a:solidFill>
                <a:latin typeface="Arial"/>
                <a:ea typeface="Arial"/>
              </a:rPr>
              <a:t>«НА ПУТИ СТОИТ ЧЕЛОВЕК. ВАМ НАДО ПРОЙТИ. ЧТО ДЕЛАЕТЕ?» </a:t>
            </a:r>
            <a:endParaRPr b="1" lang="en-US" sz="41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8" name="Content Placeholder 3"/>
          <p:cNvGraphicFramePr/>
          <p:nvPr/>
        </p:nvGraphicFramePr>
        <p:xfrm>
          <a:off x="684360" y="2286000"/>
          <a:ext cx="7775280" cy="41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86000"/>
                    <a:ext cx="7775280" cy="41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500960" cy="1592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Arial"/>
                <a:ea typeface="Arial"/>
              </a:rPr>
              <a:t>«ВЫ ЗАМЕЧАЕТЕ СРЕДИ ГОСТЕЙ НЕВЗРАЧНУЮ ДЕВУШКУ (ЮНОШУ), КОТОРАЯ (КОТОРЫЙ) ОДИНОКО СИДИТ В СТОРОНЕ. ЧТО ДЕЛАЕТЕ?»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Content Placeholder 3"/>
          <p:cNvGraphicFramePr/>
          <p:nvPr/>
        </p:nvGraphicFramePr>
        <p:xfrm>
          <a:off x="826920" y="2492280"/>
          <a:ext cx="7561440" cy="41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92280"/>
                    <a:ext cx="75614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04096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e5e5ff"/>
                </a:solidFill>
                <a:latin typeface="Arial"/>
                <a:ea typeface="Arial"/>
              </a:rPr>
              <a:t>«Вам взвешивают последний оставшийся килограмм клубники. Слышите голос, сожалеющий о том, что не хватило клубники для сына в больницу. Как реагируете на голос?» </a:t>
            </a:r>
            <a:endParaRPr b="1" lang="en-US" sz="29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4" name="Content Placeholder 3"/>
          <p:cNvGraphicFramePr/>
          <p:nvPr/>
        </p:nvGraphicFramePr>
        <p:xfrm>
          <a:off x="971640" y="2565360"/>
          <a:ext cx="734544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65360"/>
                    <a:ext cx="73454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«Вы пришли на субботник и видите, что все орудия труда разобраны. Что предпримете Вы?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Content Placeholder 3" descr=""/>
          <p:cNvPicPr/>
          <p:nvPr/>
        </p:nvPicPr>
        <p:blipFill>
          <a:blip r:embed="rId1"/>
          <a:stretch/>
        </p:blipFill>
        <p:spPr>
          <a:xfrm>
            <a:off x="695160" y="2133720"/>
            <a:ext cx="77425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«Вам дают общественное поручение. Выполнять его не хочется. Как Вы поступите?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Content Placeholder 3" descr=""/>
          <p:cNvPicPr/>
          <p:nvPr/>
        </p:nvPicPr>
        <p:blipFill>
          <a:blip r:embed="rId1"/>
          <a:stretch/>
        </p:blipFill>
        <p:spPr>
          <a:xfrm>
            <a:off x="706320" y="2060640"/>
            <a:ext cx="773136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«Вам предлагают послать книги в далекое горное село. Что делаете?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1" name="Content Placeholder 3"/>
          <p:cNvGraphicFramePr/>
          <p:nvPr/>
        </p:nvGraphicFramePr>
        <p:xfrm>
          <a:off x="762120" y="2286000"/>
          <a:ext cx="7716600" cy="36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771660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«Уезжая надолго из дома, как Вы себя чувствуете вдали?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4" name="Content Placeholder 3"/>
          <p:cNvGraphicFramePr/>
          <p:nvPr/>
        </p:nvGraphicFramePr>
        <p:xfrm>
          <a:off x="712800" y="2362320"/>
          <a:ext cx="771696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2362320"/>
                    <a:ext cx="77169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«Можете ли Вы назвать пять дорогих Вам мест на Земле пять дорогих Вам исторических событий, пять дорогих Вам имен великих людей?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Content Placeholder 3"/>
          <p:cNvGraphicFramePr/>
          <p:nvPr/>
        </p:nvGraphicFramePr>
        <p:xfrm>
          <a:off x="588960" y="3087720"/>
          <a:ext cx="7716960" cy="33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3087720"/>
                    <a:ext cx="771696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Arial"/>
                <a:ea typeface="Arial"/>
              </a:rPr>
              <a:t>«Вы дежурный. Подметая пол, Вы находите деньги. Что делаете?» 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0" name="Content Placeholder 5"/>
          <p:cNvGraphicFramePr/>
          <p:nvPr/>
        </p:nvGraphicFramePr>
        <p:xfrm>
          <a:off x="712800" y="2205000"/>
          <a:ext cx="7716960" cy="41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2205000"/>
                    <a:ext cx="771696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lbertus"/>
              </a:rPr>
              <a:t>«Весь мир ничто в сравнении  с человеческой личностью, с единственным лицом человека, с единственной его судьбой»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lbertus"/>
              </a:rPr>
              <a:t>(Н.А. Бердяев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«Сдаете экзамен (пишите итоговую контрольную). На что рассчитываете?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Content Placeholder 6" descr=""/>
          <p:cNvPicPr/>
          <p:nvPr/>
        </p:nvPicPr>
        <p:blipFill>
          <a:blip r:embed="rId1"/>
          <a:stretch/>
        </p:blipFill>
        <p:spPr>
          <a:xfrm>
            <a:off x="706320" y="2205000"/>
            <a:ext cx="773136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«Вам предстоит выбрать профессию. Как будете это делать?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Content Placeholder 4" descr=""/>
          <p:cNvPicPr/>
          <p:nvPr/>
        </p:nvPicPr>
        <p:blipFill>
          <a:blip r:embed="rId1"/>
          <a:stretch/>
        </p:blipFill>
        <p:spPr>
          <a:xfrm>
            <a:off x="706320" y="2060640"/>
            <a:ext cx="78264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312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Arial"/>
              </a:rPr>
              <a:t>«Волшебник предлагает Вам устроить Вашу жизнь обеспеченной без необхо-димости работать. Что Вы ему ответите?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7" name="Content Placeholder 3" descr=""/>
          <p:cNvPicPr/>
          <p:nvPr/>
        </p:nvPicPr>
        <p:blipFill>
          <a:blip r:embed="rId1"/>
          <a:stretch/>
        </p:blipFill>
        <p:spPr>
          <a:xfrm>
            <a:off x="450720" y="2492280"/>
            <a:ext cx="798696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219320" y="1981080"/>
            <a:ext cx="6172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.Л. Рубинштейн полагал, что человек способен при поддерж­ке внешних и внутренних условий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менить самого себя или морально поддержать другого человека, укрепив своим отношением его человеческую сущность, то лучшее, сильное, доброе, что есть в нем, но не видится им самим в данных обстоятельствах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1403280" y="1557360"/>
            <a:ext cx="6048360" cy="31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астоящее время многие ученые (Л.М. Аболин, К.А. Абульханова, Г.А. Аминев, В И. Андреев, С.К. Бондырева, Д.В. Колесов, А.В. Брушлинский, В.В. Давыдов, В.П. Зинченко, Л.М. Попов и др.), отмечают рост интереса к проблемам морально-нравственного развития лич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Новейший философский словарь / Сост. А.А.Грицано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ораль [фр. morale, лат. morālis – нравственный] – правила нравственности, нравственные нормы поведения, отношений с людьми, а также сама нравствен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рал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от лат. moralis – нравственный) – особая форма общественного сознания и вид общественных отношений (моральные отношения); один из основных способов регуляции действий человека в обществе с помощью норм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ермин «нравственность» происходит из древнеславянского языка, где он  стал производным от термина «нравы», обозначающего обычаи, утвердившиеся в народе. В России слово «нравственность» определяется уже в «Словаре Академии Российской», вышедшем в 1793 го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равственный смысл жизни человека состоит в служении Добру, поскольку «…существенная норма для жизни человеческой, есть Добро само по себе»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В.С. Соловье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блема нравственности в зарубежной психологии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рамках психодинамической теории З. Фрейда мораль рассматривается как нечто навязываемое обществом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налитическая теория личности К.Г. Юнга добав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ет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понятие коллективного бессознательного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Гуманистическая теория личности (К. Роджерс, А. Маслоу, В. Франкл) главным в человеке считает врождённые тенденции к самоактуализации, к полному проявлению своих творческих потенци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веденческая теория (бихевиоризм) (Б. Скиннер, Э.Ч. Толмен; Дж. Локк и др.) рассматривает личность как систему, состоящую из социальных навыков и условных рефлексов, с одной стороны, и из внутренних факторов: самоэффективности, значимости и доступности вознаграждения — с другой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. Франкл нравственность видит как нечто присущее только человеку и только в ней человек и удостоверяет своё бытие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Э. Эриксон писал, что формирование «этической способности» у молодежи становится «истинным критерием идентичности», а «формирование общечеловеческой идентичности – абсолютной необходимостью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. Кант выделил нравственную способность человека подняться над миром необходимости, жестокости, стихийности и самому определить свое поведение по высшим законам человечест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блема нравственности в отечественной психолог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.Л. Рубинштейн рассматривает нравственность, добродетель: «Смысл этики состоит в том, чтобы... открыть глаза человеку на богатство его душевного содержания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Б.С. Братусь рассматривает нравственность в связи с уровнем структуры личности, исходя из которого строятся отношения к другому человеку и самому себе. Его деятельность направляется не только собственным благом и благом группы, но пользой всем людям, даже незнакомым, а в пределе — человечеству в целом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.В. Знаков отмечает, что в большинстве этических учений нравственность отождествляют с моралью: «Нравственность – понятие, являющееся синонимом морали.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жно различать мораль как форму общественного сознания и нравственность как характеристику психологической структуры личности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нтилогова пишет, что индивидуальное нравственное сознание личности - это интегральное личностное образование, отражающее с позиций добра и зла мир моральных ценностей, ориентирующее индивида на гуманное отношение к людям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22040" y="2960640"/>
            <a:ext cx="7551720" cy="16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Arial"/>
                <a:ea typeface="Arial"/>
              </a:rPr>
              <a:t>«Размышляем о жизненном опыте»</a:t>
            </a:r>
            <a:br>
              <a:rPr sz="4400"/>
            </a:br>
            <a:br>
              <a:rPr sz="34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e5e5ff"/>
                </a:solidFill>
                <a:latin typeface="Arial"/>
                <a:ea typeface="Arial"/>
              </a:rPr>
              <a:t>Результаты диагностики учащихся г.Волжска, 2011г.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09:09:18Z</dcterms:created>
  <dc:creator>user</dc:creator>
  <dc:description/>
  <dc:language>en-US</dc:language>
  <cp:lastModifiedBy>1</cp:lastModifiedBy>
  <dcterms:modified xsi:type="dcterms:W3CDTF">2012-10-03T06:07:37Z</dcterms:modified>
  <cp:revision>35</cp:revision>
  <dc:subject/>
  <dc:title>Диагностика качеств личности специалистов ЦПМСС «Лабиринт». </dc:title>
</cp:coreProperties>
</file>