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362D-4184-46A0-9CBC-7D3DD817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9C73-0B8E-4582-AF29-405BC793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1633-CE6B-45FA-A91F-C432A255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3CF0-3C91-4DAF-AF26-BAD29C1E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728-9864-4481-8033-D8E0E8D1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A4D-7518-47A8-AF2D-74B80A86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6F65-CC98-4530-9DF4-EFD58050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30BB-1CF2-4320-BCD7-6DA22D84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678-99DA-4670-BF9B-FE0C5D38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87A-6954-48C5-8854-CC8BF14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4C5-CD4E-415A-8C4E-6B5F15E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5BA8-AC91-4489-B1CA-73EF036F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B27D-5E08-422E-9860-E04D36B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782-3674-42F3-84C3-DF3CB85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A606-0C2E-4F2C-A1E4-AFE075AB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2EB2-9FA1-46AB-833D-CC9D6BEE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5F04-2A9C-44EF-8E78-816FBF0E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22F5-2A76-4105-948D-06CF4199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33A7-B161-4255-ABFC-4FFB9AB5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5E60-E91E-496C-BED7-449D8E75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0672-B9A1-49CB-B09F-2C0D095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F58E-8688-43A4-BC53-0B8B252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2BD1-0DA6-4156-AC71-3645EC5C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6183-A544-486B-9488-3EB7232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2815-B372-448C-8F6E-635B7C24E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2CF7-B874-4152-BE0B-785F20702B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к.псх.н., педагог-психолог Митюхина Н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ай, 2012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0880" y="612720"/>
            <a:ext cx="86108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спуб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нская научно-практическая конферен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Просвещение и нравствен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бота государства, церкв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общества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РАЛЬНО - НРАВСТВЕННОЕ РАЗВИТИЕ ЛИЧНОСТИ ПОДРОСТК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Д.В. Колесов считает, что в сферу нравственной регуляции деятельности входит и отношение человека к самому себ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четыре основания нравственно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правильно сформированная потребность человека в другом человеке, реализующаяся путем общения (в основе лежат механизмы идентификации и эмпатии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сознание общности всех люде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сформированный с детства эмоционально насыщенный образ родного дом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наличие эмоционально-насыщенного и хорошо сформированного представления о своем жизненном пути как целост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5e5ff"/>
                </a:solidFill>
                <a:latin typeface="Arial"/>
                <a:ea typeface="Arial"/>
              </a:rPr>
              <a:t>«НА ПУТИ СТОИТ ЧЕЛОВЕК. ВАМ НАДО ПРОЙТИ. ЧТО ДЕЛАЕТЕ?» </a:t>
            </a:r>
            <a:endParaRPr b="1" lang="en-US" sz="41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Content Placeholder 3"/>
          <p:cNvGraphicFramePr/>
          <p:nvPr/>
        </p:nvGraphicFramePr>
        <p:xfrm>
          <a:off x="684360" y="2286000"/>
          <a:ext cx="7775280" cy="41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86000"/>
                    <a:ext cx="7775280" cy="41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500960" cy="1592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Arial"/>
                <a:ea typeface="Arial"/>
              </a:rPr>
              <a:t>«ВЫ ЗАМЕЧАЕТЕ СРЕДИ ГОСТЕЙ НЕВЗРАЧНУЮ ДЕВУШКУ (ЮНОШУ), КОТОРАЯ (КОТОРЫЙ) ОДИНОКО СИДИТ В СТОРОНЕ. ЧТО ДЕЛАЕТЕ?»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Content Placeholder 3"/>
          <p:cNvGraphicFramePr/>
          <p:nvPr/>
        </p:nvGraphicFramePr>
        <p:xfrm>
          <a:off x="826920" y="2492280"/>
          <a:ext cx="756144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7561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4096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5e5ff"/>
                </a:solidFill>
                <a:latin typeface="Arial"/>
                <a:ea typeface="Arial"/>
              </a:rPr>
              <a:t>«Вам взвешивают последний оставшийся килограмм клубники. Слышите голос, сожалеющий о том, что не хватило клубники для сына в больницу. Как реагируете на голос?» </a:t>
            </a:r>
            <a:endParaRPr b="1" lang="en-US" sz="2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Content Placeholder 3"/>
          <p:cNvGraphicFramePr/>
          <p:nvPr/>
        </p:nvGraphicFramePr>
        <p:xfrm>
          <a:off x="971640" y="2565360"/>
          <a:ext cx="7345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7345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ы пришли на субботник и видите, что все орудия труда разобраны. Что предпримете Вы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Content Placeholder 3" descr=""/>
          <p:cNvPicPr/>
          <p:nvPr/>
        </p:nvPicPr>
        <p:blipFill>
          <a:blip r:embed="rId1"/>
          <a:stretch/>
        </p:blipFill>
        <p:spPr>
          <a:xfrm>
            <a:off x="695160" y="2133720"/>
            <a:ext cx="7742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ам дают общественное поручение. Выполнять его не хочется. Как Вы поступи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706320" y="2060640"/>
            <a:ext cx="7731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ам предлагают послать книги в далекое горное село. Что делае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Content Placeholder 3"/>
          <p:cNvGraphicFramePr/>
          <p:nvPr/>
        </p:nvGraphicFramePr>
        <p:xfrm>
          <a:off x="762120" y="2286000"/>
          <a:ext cx="7716600" cy="36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771660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Уезжая надолго из дома, как Вы себя чувствуете вдали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Content Placeholder 3"/>
          <p:cNvGraphicFramePr/>
          <p:nvPr/>
        </p:nvGraphicFramePr>
        <p:xfrm>
          <a:off x="712800" y="2362320"/>
          <a:ext cx="771696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62320"/>
                    <a:ext cx="77169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Можете ли Вы назвать пять дорогих Вам мест на Земле пять дорогих Вам исторических событий, пять дорогих Вам имен великих людей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Content Placeholder 3"/>
          <p:cNvGraphicFramePr/>
          <p:nvPr/>
        </p:nvGraphicFramePr>
        <p:xfrm>
          <a:off x="588960" y="3087720"/>
          <a:ext cx="7716960" cy="33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3087720"/>
                    <a:ext cx="771696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Arial"/>
                <a:ea typeface="Arial"/>
              </a:rPr>
              <a:t>«Вы дежурный. Подметая пол, Вы находите деньги. Что делаете?»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Content Placeholder 5"/>
          <p:cNvGraphicFramePr/>
          <p:nvPr/>
        </p:nvGraphicFramePr>
        <p:xfrm>
          <a:off x="712800" y="2205000"/>
          <a:ext cx="771696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205000"/>
                    <a:ext cx="771696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«Весь мир ничто в сравнении  с человеческой личностью, с единственным лицом человека, с единственной его судьбой»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(Н.А. Бердяев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Сдаете экзамен (пишите итоговую контрольную). На что рассчитывае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Content Placeholder 6" descr=""/>
          <p:cNvPicPr/>
          <p:nvPr/>
        </p:nvPicPr>
        <p:blipFill>
          <a:blip r:embed="rId1"/>
          <a:stretch/>
        </p:blipFill>
        <p:spPr>
          <a:xfrm>
            <a:off x="706320" y="2205000"/>
            <a:ext cx="77313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ам предстоит выбрать профессию. Как будете это делать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Content Placeholder 4" descr=""/>
          <p:cNvPicPr/>
          <p:nvPr/>
        </p:nvPicPr>
        <p:blipFill>
          <a:blip r:embed="rId1"/>
          <a:stretch/>
        </p:blipFill>
        <p:spPr>
          <a:xfrm>
            <a:off x="706320" y="2060640"/>
            <a:ext cx="78264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312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олшебник предлагает Вам устроить Вашу жизнь обеспеченной без необхо-димости работать. Что Вы ему ответи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450720" y="2492280"/>
            <a:ext cx="798696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219320" y="1981080"/>
            <a:ext cx="61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Л. Рубинштейн полагал, что человек способен при поддерж­ке внешних и внутренних условий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менить самого себя или морально поддержать другого человека, укрепив своим отношением его человеческую сущность, то лучшее, сильное, доброе, что есть в нем, но не видится им самим в данных обстоятельства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403280" y="1557360"/>
            <a:ext cx="6048360" cy="31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стоящее время многие ученые (Л.М. Аболин, К.А. Абульханова, Г.А. Аминев, В И. Андреев, С.К. Бондырева, Д.В. Колесов, А.В. Брушлинский, В.В. Давыдов, В.П. Зинченко, Л.М. Попов и др.), отмечают рост интереса к проблемам морально-нравственного развития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Новейший философский словарь / Сост. А.А.Грицано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ораль [фр. morale, лат. morālis – нравственный] – правила нравственности, нравственные нормы поведения, отношений с людьми, а также сама нравствен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ал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от лат. moralis – нравственный) – особая форма общественного сознания и вид общественных отношений (моральные отношения); один из основных способов регуляции действий человека в обществе с помощью нор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рмин «нравственность» происходит из древнеславянского языка, где он  стал производным от термина «нравы», обозначающего обычаи, утвердившиеся в народе. В России слово «нравственность» определяется уже в «Словаре Академии Российской», вышедшем в 1793 г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равственный смысл жизни человека состоит в служении Добру, поскольку «…существенная норма для жизни человеческой, есть Добро само по себе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В.С. Соловье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зарубежной психологии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рамках психодинамической теории З. Фрейда мораль рассматривается как нечто навязываемое общество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налитическая теория личности К.Г. Юнга добав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е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понятие коллективного бессознательно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Гуманистическая теория личности (К. Роджерс, А. Маслоу, В. Франкл) главным в человеке считает врождённые тенденции к самоактуализации, к полному проявлению своих творческих потенц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веденческая теория (бихевиоризм) (Б. Скиннер, Э.Ч. Толмен; Дж. Локк и др.) рассматривает личность как систему, состоящую из социальных навыков и условных рефлексов, с одной стороны, и из внутренних факторов: самоэффективности, значимости и доступности вознаграждения — с друго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. Франкл нравственность видит как нечто присущее только человеку и только в ней человек и удостоверяет своё быти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Э. Эриксон писал, что формирование «этической способности» у молодежи становится «истинным критерием идентичности», а «формирование общечеловеческой идентичности – абсолютной необходимостью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. Кант выделил нравственную способность человека подняться над миром необходимости, жестокости, стихийности и самому определить свое поведение по высшим законам человече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отечественной психолог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.Л. Рубинштейн рассматривает нравственность, добродетель: «Смысл этики состоит в том, чтобы... открыть глаза человеку на богатство его душевного содержания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.С. Братусь рассматривает нравственность в связи с уровнем структуры личности, исходя из которого строятся отношения к другому человеку и самому себе. Его деятельность направляется не только собственным благом и благом группы, но пользой всем людям, даже незнакомым, а в пределе — человечеству в цело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.В. Знаков отмечает, что в большинстве этических учений нравственность отождествляют с моралью: «Нравственность – понятие, являющееся синонимом морали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жно различать мораль как форму общественного сознания и нравственность как характеристику психологической структуры личности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нтилогова пишет, что индивидуальное нравственное сознание личности - это интегральное личностное образование, отражающее с позиций добра и зла мир моральных ценностей, ориентирующее индивида на гуманное отношение к людя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Arial"/>
                <a:ea typeface="Arial"/>
              </a:rPr>
              <a:t>«Размышляем о жизненном опыте»</a:t>
            </a:r>
            <a:br>
              <a:rPr sz="4400"/>
            </a:br>
            <a:br>
              <a:rPr sz="34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Arial"/>
                <a:ea typeface="Arial"/>
              </a:rPr>
              <a:t>Результаты диагностики учащихся г.Волжска, 2011г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9:09:18Z</dcterms:created>
  <dc:creator>user</dc:creator>
  <dc:description/>
  <dc:language>en-US</dc:language>
  <cp:lastModifiedBy>1</cp:lastModifiedBy>
  <dcterms:modified xsi:type="dcterms:W3CDTF">2012-10-03T06:07:37Z</dcterms:modified>
  <cp:revision>35</cp:revision>
  <dc:subject/>
  <dc:title>Диагностика качеств личности специалистов ЦПМСС «Лабиринт». </dc:title>
</cp:coreProperties>
</file>