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gif" ContentType="image/gif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F774-EE39-4209-AD3C-F7F0ED8A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1FC-7792-44B5-A127-8D44E3BA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ACCC-EFD2-4839-A3DF-9904A340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E88-4BE1-441A-BB39-78369121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D430-4DBC-4F08-A39F-DB104CA9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813E-A638-467E-91EF-A30962BC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4A21-C7BF-449C-9375-BCA3AD61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F937-D778-41A6-8EBE-35FAB86F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0F59-FE41-4520-AC90-77A7F0CEB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F10E-C6E8-4CBD-B54A-6054E0EF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CE8B-90DD-4604-B9B0-C6B5E695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2507-C14E-4638-93F3-7F1C3937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B98F-927A-4914-BB40-C85F2EA9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0B214-8724-43BD-B8DD-D83013A3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2CC7-01A3-4E6E-B0CE-64156E61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DA84-904A-4861-BF0C-DD1C4697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1F4C-F179-4E48-AE6E-D05F8CD1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A254-7C86-4E9C-92A9-3CF29269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B277-D1B4-4FBB-A1CC-4C64465E1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5D68-D481-47E1-866C-3204ECB1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74BF6-0214-4BF1-BD20-0E5A16D8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01577-7891-4A0E-92BD-AFE92B9D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AC33-7500-4CC0-B900-81BB80FE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982AF-894C-4C4F-A223-DC248559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2825-ED16-48CC-B94B-F33BCC14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B67A-2569-4FD7-BFC4-7974C9E5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FC86-DC21-4B03-8342-159FCFB5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FEE6-39D9-4D39-A753-0E64E3C91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9445-18F0-40FA-9861-70B298D6F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E72F-19B4-4843-B399-FFF50609F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A3551-8563-4679-9E03-62CDAD5E8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E7708-0773-4340-A689-D9259C8C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1BEA5-8A87-48B2-BAD3-9CEEC2E1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F8EF-2334-438F-935E-E65FB4C6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21D4E-2A9E-414F-B437-A43923EA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237A2-63BF-4C17-8A2A-989EB0F2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2D90A-C382-41EB-9002-8278E813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559AB-BFF0-4083-AC1B-622BC402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9DF9D-F37B-4F97-A14B-3A1966B9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3200D-A655-4236-BE59-788A6FA3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77187-1835-4B91-B9BF-B3208551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70C70-88DD-48F4-AF76-6952DB82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F21D8-1093-4DAE-8A6E-EA48C84C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A1B510-9F1D-484F-ACC1-FBE340D7E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F7ED-EAF7-4D40-BB6A-EE7AFAD5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2B15F-8D6C-41ED-A186-9042B1F2F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25647-2ABE-4760-A610-D9DCFFB77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5612B-AFC5-4E68-ABC0-94C6670A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B75ED-CB1C-48E7-AC09-360BB7BC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D5259-5BB0-4ED0-8B69-007325E2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6DF2A-75F4-443D-9422-D37B041D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62E63-A5BD-4991-BC6A-30DD8E86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41F51-6436-4C6A-8415-69E36827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381F9-CF66-4C2E-966E-CC9501B7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83FC0-8354-42AD-821A-E2A6100B9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175-50DF-4E2A-B061-76714D94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0D320-5576-4F84-9561-B2894473E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8A34D-C1B1-40D6-A375-476F7F2F1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F5954-9B18-482E-8386-31EE929B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D7D52-82F1-4A2C-AD67-34138FED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AC4CC0-64CE-41F0-8B17-16AFE4F5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BDE99-4F4D-49A3-8622-DE6C08D0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5EBB5-0F70-4853-9B5E-802BFF3E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7B78D-E7B3-41EA-B46D-C71E1481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346AF-33B1-4A89-A61F-385E6573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649F2-472F-47EB-A3C7-278CFB91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D3A1-725C-44EE-B531-273F36C9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F829D-76C4-4A60-A2DA-661985C3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7584E-0B19-4107-836D-6F83E0AB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6BB5B-9BC1-428C-8DCA-956026A8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0351-39C6-4891-BC0E-A8C376F0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B2A1-AC75-4EA8-BB43-937517AB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A0B5-A1FD-49E7-A66D-9323B1E6A87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F4AE-FCC7-46EC-AA06-6F2A7A2491E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1A6B8-C2F6-4F48-84D3-F4D47F407CD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B41C-FA87-4712-86E1-19EB97781AE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4AC0-99D4-4710-9AF2-E6931F9A531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60A7-9002-4DAB-9A1F-75A1845CF9F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80520" y="314136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43329"/>
                </a:solidFill>
                <a:latin typeface="Franklin Gothic Book"/>
              </a:rPr>
              <a:t>ПЕРЕНОС СЛОВ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3329"/>
                </a:solidFill>
                <a:latin typeface="Franklin Gothic Book"/>
              </a:rPr>
              <a:t>Н.Ю. Грибанова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3329"/>
                </a:solidFill>
                <a:latin typeface="Franklin Gothic Book"/>
              </a:rPr>
              <a:t>учитель начальных классов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3329"/>
                </a:solidFill>
                <a:latin typeface="Franklin Gothic Book"/>
              </a:rPr>
              <a:t>МАОУ «СОШ №2  п. Карымское»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778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644e"/>
                </a:solidFill>
                <a:latin typeface="Arial"/>
              </a:rPr>
              <a:t>Урок русского языка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644e"/>
                </a:solidFill>
                <a:latin typeface="Arial"/>
              </a:rPr>
              <a:t>во  2 классе (программа Л.В.Занкова)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ranklin Gothic Book"/>
              </a:rPr>
              <a:t>Согласный,  звонкий,  </a:t>
            </a:r>
            <a:r>
              <a:rPr b="1" lang="en-US" sz="5400" spc="-1" strike="noStrike" u="sng">
                <a:solidFill>
                  <a:srgbClr val="0000ff"/>
                </a:solidFill>
                <a:uFillTx/>
                <a:latin typeface="Franklin Gothic Book"/>
              </a:rPr>
              <a:t>всегда</a:t>
            </a:r>
            <a:r>
              <a:rPr b="1" lang="en-US" sz="5400" spc="-1" strike="noStrike">
                <a:solidFill>
                  <a:srgbClr val="0000ff"/>
                </a:solidFill>
                <a:latin typeface="Franklin Gothic Book"/>
              </a:rPr>
              <a:t>   мягкий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ranklin Gothic Book"/>
              </a:rPr>
              <a:t>Вывод:  букву  й  нельзя  отделять  от  стоящей  впереди  буквы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Рейка                                            Лей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ручейки                                        линей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слушайте                                      бегайт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знойное                                        спокойный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стройка                                         сой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скамейка                                     балалайка</a:t>
            </a:r>
            <a:r>
              <a:rPr b="1" lang="en-US" sz="1200" spc="-1" strike="noStrike">
                <a:solidFill>
                  <a:srgbClr val="0000ff"/>
                </a:solidFill>
                <a:latin typeface="Franklin Gothic Book"/>
              </a:rPr>
              <a:t>                                   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Рей-ка                                      Лей-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ру-чей-ки                                  ли-ней-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слу-шай-те                                бе-гай-т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зной-ное                                   спо-кой-ный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строй-ка                                    сой-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ска-мей-ка                                ба-ла-лай-к</a:t>
            </a:r>
            <a:r>
              <a:rPr b="1" lang="ru-RU" sz="12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а</a:t>
            </a:r>
            <a:r>
              <a:rPr b="1" lang="ru-RU" sz="1200" spc="-1" strike="noStrike">
                <a:solidFill>
                  <a:srgbClr val="0000ff"/>
                </a:solidFill>
                <a:latin typeface="Franklin Gothic Book"/>
              </a:rPr>
              <a:t>                                 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3"/>
          <p:cNvSpPr/>
          <p:nvPr/>
        </p:nvSpPr>
        <p:spPr>
          <a:xfrm>
            <a:off x="428760" y="19288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Для разминки из-за пар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Поднимаемся. На старт!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Бег на месте. Веселей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И быстрей, быстрей, быстрей!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Делаем вперёд наклоны –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Раз – два – три – четыре – пять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Мельницу руками крутим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Чтобы плечики размять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чинаем приседать -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Раз – два – три – четыре – пять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А потом прыжки на месте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Выше прыгаем все вместе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Руки к солнышку потяне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Руки в стороны растяне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А теперь пора учить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Да прилежно, не лениться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8" name="Прямоугольник 5" descr=""/>
          <p:cNvPicPr/>
          <p:nvPr/>
        </p:nvPicPr>
        <p:blipFill>
          <a:blip r:embed="rId2"/>
          <a:stretch/>
        </p:blipFill>
        <p:spPr>
          <a:xfrm>
            <a:off x="237960" y="353880"/>
            <a:ext cx="5877000" cy="2621160"/>
          </a:xfrm>
          <a:prstGeom prst="rect">
            <a:avLst/>
          </a:prstGeom>
          <a:ln w="0">
            <a:noFill/>
          </a:ln>
        </p:spPr>
      </p:pic>
      <p:pic>
        <p:nvPicPr>
          <p:cNvPr id="279" name="ФОН 2 - копия.mp3" descr=""/>
          <p:cNvPicPr/>
          <p:nvPr/>
        </p:nvPicPr>
        <p:blipFill>
          <a:blip r:embed="rId3"/>
          <a:stretch/>
        </p:blipFill>
        <p:spPr>
          <a:xfrm>
            <a:off x="842976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http://www.smayli.ru/data/smiles/detia-514.gif"/>
          <p:cNvPicPr/>
          <p:nvPr/>
        </p:nvPicPr>
        <p:blipFill>
          <a:blip r:embed="rId4"/>
          <a:stretch/>
        </p:blipFill>
        <p:spPr>
          <a:xfrm>
            <a:off x="4286160" y="3000240"/>
            <a:ext cx="2009880" cy="2928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http://www.smayli.ru/data/smiles/detia-815.gif"/>
          <p:cNvPicPr/>
          <p:nvPr/>
        </p:nvPicPr>
        <p:blipFill>
          <a:blip r:embed="rId5"/>
          <a:stretch/>
        </p:blipFill>
        <p:spPr>
          <a:xfrm>
            <a:off x="6143760" y="2428920"/>
            <a:ext cx="24573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Больше  всего  мне  понравилось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Самым  полезным  для  меня  было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Я  затруднялся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Домашнее   задание: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Стр. 40, упр. 70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0" y="1214280"/>
            <a:ext cx="4819680" cy="42148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0" y="2428920"/>
            <a:ext cx="45720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Franklin Gothic Medium"/>
              </a:rPr>
              <a:t>Вы сегодня - молодцы!                                      Отвечали как бойцы!                                                Всем спасибо за урок!                                                         А теперь звенит звонок!</a:t>
            </a:r>
            <a:br>
              <a:rPr sz="36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923C-F3D8-4388-810D-EA5CE4DE009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EC44-17AB-4E32-9A6B-B7B296104F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8" name="Прямоугольник 5" descr=""/>
          <p:cNvPicPr/>
          <p:nvPr/>
        </p:nvPicPr>
        <p:blipFill>
          <a:blip r:embed="rId2"/>
          <a:stretch/>
        </p:blipFill>
        <p:spPr>
          <a:xfrm>
            <a:off x="950760" y="878040"/>
            <a:ext cx="7570800" cy="4559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Loner\Рабочий стол\МОЯ\alfavit.png"/>
          <p:cNvPicPr/>
          <p:nvPr/>
        </p:nvPicPr>
        <p:blipFill>
          <a:blip r:embed="rId3"/>
          <a:stretch/>
        </p:blipFill>
        <p:spPr>
          <a:xfrm>
            <a:off x="201600" y="2214720"/>
            <a:ext cx="2155680" cy="198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G:\raznoe004.gif"/>
          <p:cNvPicPr/>
          <p:nvPr/>
        </p:nvPicPr>
        <p:blipFill>
          <a:blip r:embed="rId4"/>
          <a:stretch/>
        </p:blipFill>
        <p:spPr>
          <a:xfrm>
            <a:off x="3287880" y="331920"/>
            <a:ext cx="2212920" cy="12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28   с</a:t>
            </a:r>
            <a:r>
              <a:rPr b="1" lang="en-US" sz="5400" spc="-1" strike="noStrike" u="sng">
                <a:solidFill>
                  <a:srgbClr val="4e3b30"/>
                </a:solidFill>
                <a:uFillTx/>
                <a:latin typeface="Franklin Gothic Book"/>
              </a:rPr>
              <a:t>е</a:t>
            </a: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нт</a:t>
            </a:r>
            <a:r>
              <a:rPr b="1" lang="en-US" sz="5400" spc="-1" strike="noStrike" u="sng">
                <a:solidFill>
                  <a:srgbClr val="4e3b30"/>
                </a:solidFill>
                <a:uFillTx/>
                <a:latin typeface="Franklin Gothic Book"/>
              </a:rPr>
              <a:t>я</a:t>
            </a: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бря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Кла</a:t>
            </a:r>
            <a:r>
              <a:rPr b="1" lang="en-US" sz="5400" spc="-1" strike="noStrike" u="sng">
                <a:solidFill>
                  <a:srgbClr val="4e3b30"/>
                </a:solidFill>
                <a:uFillTx/>
                <a:latin typeface="Franklin Gothic Book"/>
              </a:rPr>
              <a:t>сс</a:t>
            </a: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ная   р</a:t>
            </a:r>
            <a:r>
              <a:rPr b="1" lang="en-US" sz="5400" spc="-1" strike="noStrike" u="sng">
                <a:solidFill>
                  <a:srgbClr val="4e3b30"/>
                </a:solidFill>
                <a:uFillTx/>
                <a:latin typeface="Franklin Gothic Book"/>
              </a:rPr>
              <a:t>а</a:t>
            </a: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бота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0920" y="1916280"/>
            <a:ext cx="8893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   Ж   У   Т   Ы   Р   Е  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desk1"/>
          <p:cNvSpPr/>
          <p:nvPr/>
        </p:nvSpPr>
        <p:spPr>
          <a:xfrm>
            <a:off x="0" y="3429000"/>
            <a:ext cx="9144000" cy="3429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50920" y="1916280"/>
            <a:ext cx="8893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   Ж   У   Т   Ы   Р   Е  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09040" y="547560"/>
            <a:ext cx="87674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en-US" sz="3200" spc="-1" strike="noStrike">
                <a:solidFill>
                  <a:srgbClr val="ad1f1f"/>
                </a:solidFill>
                <a:latin typeface="Arial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дарным слогом  называется тот, который произносится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в  слов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сильнее других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первый по счету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. Знак ударения ставится над буквой, которая обозначае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ударный гласный звук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любой гласный звук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3. В слове может быть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столько ударных гласных, сколько их в слов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один ударный гласный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4. Слог -  эт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часть реч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часть слов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5.  В слове столько слогов, сколько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гласных букв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 согласных бук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09040" y="547560"/>
            <a:ext cx="87674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en-US" sz="3200" spc="-1" strike="noStrike">
                <a:solidFill>
                  <a:srgbClr val="ad1f1f"/>
                </a:solidFill>
                <a:latin typeface="Arial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дарным слогом  называется тот, который произносится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в  слов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ad1f1f"/>
                </a:solidFill>
                <a:latin typeface="Arial"/>
              </a:rPr>
              <a:t>А)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сильнее других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первый по счету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. Знак ударения ставится над буквой, которая обозначае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ad1f1f"/>
                </a:solidFill>
                <a:latin typeface="Arial"/>
              </a:rPr>
              <a:t>А)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ударный гласный звук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любой гласный звук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3. В слове может быть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столько ударных гласных, сколько их в слов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ad1f1f"/>
                </a:solidFill>
                <a:latin typeface="Arial"/>
              </a:rPr>
              <a:t>Б)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один ударный гласный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4. Слог -  эт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часть реч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ad1f1f"/>
                </a:solidFill>
                <a:latin typeface="Arial"/>
              </a:rPr>
              <a:t>Б)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часть слов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5.  В слове столько слогов, сколько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ad1f1f"/>
                </a:solidFill>
                <a:latin typeface="Arial"/>
              </a:rPr>
              <a:t>А)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гласных букв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 согласных бук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a5644e"/>
              </a:gs>
              <a:gs pos="100000">
                <a:srgbClr val="4c2e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advTm="1000"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98" dur="3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95280" y="2924280"/>
            <a:ext cx="1008000" cy="936360"/>
          </a:xfrm>
          <a:prstGeom prst="ellipse">
            <a:avLst/>
          </a:prstGeom>
          <a:gradFill rotWithShape="0">
            <a:gsLst>
              <a:gs pos="0">
                <a:srgbClr val="f1091f"/>
              </a:gs>
              <a:gs pos="100000">
                <a:srgbClr val="6f040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108" dur="3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Franklin Gothic Book"/>
              </a:rPr>
              <a:t>В   час   по   чайной   ложке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6:19:45Z</dcterms:created>
  <dc:creator>Admin</dc:creator>
  <dc:description/>
  <dc:language>en-US</dc:language>
  <cp:lastModifiedBy>Admin</cp:lastModifiedBy>
  <dcterms:modified xsi:type="dcterms:W3CDTF">2012-09-27T11:07:21Z</dcterms:modified>
  <cp:revision>30</cp:revision>
  <dc:subject/>
  <dc:title>Урок русского языка 1 класс ( программа Л.В.Занкова)</dc:title>
</cp:coreProperties>
</file>