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13.gif" ContentType="image/gif"/>
  <Override PartName="/ppt/media/image5.gif" ContentType="image/gi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gif" ContentType="image/gif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9A05-8BF0-4E70-8935-80C9C1F68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6C34-94C4-47E8-ABD7-40A4876E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8A-E257-47A9-8F46-ADC51CCD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ADDC-E9F8-4CBC-B21E-1A0F01E1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9CA6-D01A-46C2-A48B-2673FB3D4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1FF6-AE64-4765-B59A-C6322DC4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E46D-9038-4D87-A8CC-AB5B274FA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47D6-C10A-4AAF-9177-783E8DD1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29801-84F1-4B34-8A03-AA7F0CCD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FF63B-8436-47C0-8FD9-A9521123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9860A-45AA-4CAD-904A-7D5E46D62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6CDF-FF50-4CFB-B1C0-EA8006A8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74D9C-81FE-4B42-9C2F-FA29FEFA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05474-757C-4C7A-A7C7-8471ECB1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1881D-151A-4657-8793-6424944A5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04D6-1056-464E-991B-F7E7E1A99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65E16-DB4F-4A9B-9B53-DF02E7E2D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3177C-0723-4B0E-855C-2A7296B8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D399A-877D-4FDE-8208-6A5E42372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9B1C6-6A8A-4A45-8ECC-9BEB4CF9F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29CB6-266B-4EC5-BEDA-44983167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24163-A99F-4944-9F7F-046A1A5F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CFA1-07A9-48F0-AD8C-CEDBA7F0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3142E-BCA3-45A2-AFD3-45753A0D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232DC-7669-4A29-B7E3-19190CB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E78DE-BB05-4E5F-B878-6C6F7A12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B7FF-E2A3-46CC-802D-F3486408A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2223D-B825-41F7-9095-B14E1970F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28D8E-2C56-4355-AC99-1C96C5A1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284A5-AD93-447F-9D12-738C0BEC9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864AB-5080-4D90-8652-40CAAFE9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A1378-6231-4BD0-B347-EC32BCCA9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DB3C5-098A-4C31-BC98-77CC2220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46F5-FBAD-4A88-85A1-9FA5A84E6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98BD6-7CE3-4733-A619-FA0401FF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BC81-0182-45EA-A6A9-9311C5D1C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DF46F-A886-4769-8C04-C81438DC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62D6C-4489-4D5C-815F-A0902E9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5F7F8C-CE97-45F6-BE06-2648E4E4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C3A34-92F8-4170-8874-B42896D4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663A3-ED6B-4271-A131-103F13EE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FD588-2B4D-4081-AC1C-4BEF13340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6D6E8-F030-4DCB-B819-F103300F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9C569-B802-4DF8-8D69-007BFA081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2C3D-8222-4CD1-A353-980383DE1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81E6E-F712-4C39-8F62-BB55E6C9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25E9B-1404-406B-A3E6-8F4AC772B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AE316-E5C6-452A-9C61-FE9BB5EDF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C9E24B-FB26-49A6-A278-64A3203D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FB799-96E9-4EF2-9BEC-B60AF5BB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9630E-7DCD-4862-A25D-E8CABE8C6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B16FB-69F2-4957-8511-57C3363D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688B-A55F-471F-AF72-3FFBDECB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93A748-FF2B-46C0-A6BD-7C75DA50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46E21-00F2-4F8F-990B-CEA5E2F9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45B5-FC44-46C7-B86C-725EF4287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C4268-BCA6-4935-8455-1E59FC2C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8C29DF-3D90-41B0-9D34-19FCE456F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973303-0EB6-4AA9-AF8F-0EFF2400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E7B4F-F618-4643-A9B1-45AD5B6D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0DDB9-D2BD-4AA7-B57C-F546D7FC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FA59D-5B24-403E-B41B-02992B384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3B1C6-EA8F-4085-AE54-00C932D1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D1684-320C-45AC-9C57-488CD659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A9AA1-10A1-4EF3-9E7B-C4979266F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2C46B-85E6-4F08-A22F-AF2BC584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1AA0-6C32-43A8-B851-2EEB0607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A2E2A-88CC-4BAC-9781-8EFCD5C6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27C89-7B57-4682-8BC0-FF6FDAB14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AD114E-9101-483B-B753-45CB39585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513C-B225-4588-BE9E-06910CF0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1656-047C-4F8E-8FCD-463B918D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1608-ADBE-4F8A-9FDF-632F8120B8C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119EE-C68A-4C60-ADE4-864E659942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0D38-7867-4AEC-8001-192F5BA56EB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7A664-552F-4B40-834C-A13996B14DE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4376-A62F-4D1C-A390-43A67675D4C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6688-6808-4F67-BFBC-B5F7BF70A1B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380520" y="314136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43329"/>
                </a:solidFill>
                <a:latin typeface="Franklin Gothic Book"/>
              </a:rPr>
              <a:t>ПЕРЕНОС СЛОВ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Н.Ю. Грибанова,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учитель начальных классов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43329"/>
                </a:solidFill>
                <a:latin typeface="Franklin Gothic Book"/>
              </a:rPr>
              <a:t>МАОУ «СОШ №2  п. Карымское»»</a:t>
            </a:r>
            <a:endParaRPr b="0" lang="en-US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"/>
          <p:cNvSpPr/>
          <p:nvPr/>
        </p:nvSpPr>
        <p:spPr>
          <a:xfrm>
            <a:off x="395280" y="577800"/>
            <a:ext cx="80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44e"/>
                </a:solidFill>
                <a:latin typeface="Arial"/>
              </a:rPr>
              <a:t>Урок русского языка  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a5644e"/>
                </a:solidFill>
                <a:latin typeface="Arial"/>
              </a:rPr>
              <a:t>во  2 классе (программа Л.В.Занкова)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Согласный,  звонкий,  </a:t>
            </a:r>
            <a:r>
              <a:rPr b="1" lang="en-US" sz="5400" spc="-1" strike="noStrike" u="sng">
                <a:solidFill>
                  <a:srgbClr val="0000ff"/>
                </a:solidFill>
                <a:uFillTx/>
                <a:latin typeface="Franklin Gothic Book"/>
              </a:rPr>
              <a:t>всегда</a:t>
            </a: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   мягкий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Franklin Gothic Book"/>
              </a:rPr>
              <a:t>Вывод:  букву  й  нельзя  отделять  от  стоящей  впереди  буквы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Рейка                                            Ле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ручейки                                        лине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лушайте                                      бегай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знойное                                        спокойны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тройка                                         сой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Franklin Gothic Book"/>
              </a:rPr>
              <a:t>скамейка                                     балалайка</a:t>
            </a:r>
            <a:r>
              <a:rPr b="1" lang="en-US" sz="1200" spc="-1" strike="noStrike">
                <a:solidFill>
                  <a:srgbClr val="0000ff"/>
                </a:solidFill>
                <a:latin typeface="Franklin Gothic Book"/>
              </a:rPr>
              <a:t>  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Рей-ка                                      Ле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ру-чей-ки                                  ли-не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лу-шай-те                                бе-гай-те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зной-ное                                   спо-кой-ный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трой-ка                                    сой-ка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ска-мей-ка                                ба-ла-лай-к</a:t>
            </a:r>
            <a:r>
              <a:rPr b="1" lang="ru-RU" sz="1200" spc="-1" strike="noStrike">
                <a:solidFill>
                  <a:srgbClr val="0000ff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Franklin Gothic Book"/>
              </a:rPr>
              <a:t>а</a:t>
            </a:r>
            <a:r>
              <a:rPr b="1" lang="ru-RU" sz="1200" spc="-1" strike="noStrike">
                <a:solidFill>
                  <a:srgbClr val="0000ff"/>
                </a:solidFill>
                <a:latin typeface="Franklin Gothic Book"/>
              </a:rPr>
              <a:t>                                   </a:t>
            </a:r>
            <a:endParaRPr b="0" lang="en-US" sz="1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3"/>
          <p:cNvSpPr/>
          <p:nvPr/>
        </p:nvSpPr>
        <p:spPr>
          <a:xfrm>
            <a:off x="428760" y="192888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ля разминки из-за пар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Поднимаемся. На старт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Бег на месте. Веселей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И быстрей, быстрей, быстрей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елаем вперёд наклоны –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Мельницу руками крутим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Чтобы плечики разм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Начинаем приседать -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аз – два – три – четыре – пять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А потом прыжки на месте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ше прыгаем все вместе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уки к солнышку потяне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Руки в стороны растяне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А теперь пора учиться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  <a:ea typeface="Arial"/>
              </a:rPr>
              <a:t>Да прилежно, не лениться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8" name="Прямоугольник 5" descr=""/>
          <p:cNvPicPr/>
          <p:nvPr/>
        </p:nvPicPr>
        <p:blipFill>
          <a:blip r:embed="rId2"/>
          <a:stretch/>
        </p:blipFill>
        <p:spPr>
          <a:xfrm>
            <a:off x="237960" y="353880"/>
            <a:ext cx="5877000" cy="2621160"/>
          </a:xfrm>
          <a:prstGeom prst="rect">
            <a:avLst/>
          </a:prstGeom>
          <a:ln w="0">
            <a:noFill/>
          </a:ln>
        </p:spPr>
      </p:pic>
      <p:pic>
        <p:nvPicPr>
          <p:cNvPr id="279" name="ФОН 2 - копия.mp3" descr=""/>
          <p:cNvPicPr/>
          <p:nvPr/>
        </p:nvPicPr>
        <p:blipFill>
          <a:blip r:embed="rId3"/>
          <a:stretch/>
        </p:blipFill>
        <p:spPr>
          <a:xfrm>
            <a:off x="8429760" y="6143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1" descr="http://www.smayli.ru/data/smiles/detia-514.gif"/>
          <p:cNvPicPr/>
          <p:nvPr/>
        </p:nvPicPr>
        <p:blipFill>
          <a:blip r:embed="rId4"/>
          <a:stretch/>
        </p:blipFill>
        <p:spPr>
          <a:xfrm>
            <a:off x="4286160" y="3000240"/>
            <a:ext cx="2009880" cy="292896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0" descr="http://www.smayli.ru/data/smiles/detia-815.gif"/>
          <p:cNvPicPr/>
          <p:nvPr/>
        </p:nvPicPr>
        <p:blipFill>
          <a:blip r:embed="rId5"/>
          <a:stretch/>
        </p:blipFill>
        <p:spPr>
          <a:xfrm>
            <a:off x="6143760" y="2428920"/>
            <a:ext cx="24573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Больше  всего  мне  понравилось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Самым  полезным  для  меня  было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0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3b30"/>
                </a:solidFill>
                <a:latin typeface="Franklin Gothic Book"/>
              </a:rPr>
              <a:t>Я  затруднялся…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Домашнее   задание: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e3b30"/>
                </a:solidFill>
                <a:latin typeface="Franklin Gothic Book"/>
              </a:rPr>
              <a:t>Стр. 40, упр. 70</a:t>
            </a:r>
            <a:endParaRPr b="0" lang="en-US" sz="4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4" descr=""/>
          <p:cNvPicPr/>
          <p:nvPr/>
        </p:nvPicPr>
        <p:blipFill>
          <a:blip r:embed="rId2"/>
          <a:stretch/>
        </p:blipFill>
        <p:spPr>
          <a:xfrm>
            <a:off x="0" y="1214280"/>
            <a:ext cx="4819680" cy="421488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0" y="2428920"/>
            <a:ext cx="45720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253f"/>
                </a:solidFill>
                <a:latin typeface="Franklin Gothic Medium"/>
              </a:rPr>
              <a:t>Вы сегодня - молодцы!                                      Отвечали как бойцы!                                                Всем спасибо за урок!                                                         А теперь звенит звонок!</a:t>
            </a:r>
            <a:br>
              <a:rPr sz="3600"/>
            </a:b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2D48-EA6B-4283-88B7-E42572510FA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5F1E-186B-468B-9562-9C696BFA66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88" name="Прямоугольник 5" descr=""/>
          <p:cNvPicPr/>
          <p:nvPr/>
        </p:nvPicPr>
        <p:blipFill>
          <a:blip r:embed="rId2"/>
          <a:stretch/>
        </p:blipFill>
        <p:spPr>
          <a:xfrm>
            <a:off x="950760" y="878040"/>
            <a:ext cx="7570800" cy="455904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" descr="C:\Documents and Settings\Loner\Рабочий стол\МОЯ\alfavit.png"/>
          <p:cNvPicPr/>
          <p:nvPr/>
        </p:nvPicPr>
        <p:blipFill>
          <a:blip r:embed="rId3"/>
          <a:stretch/>
        </p:blipFill>
        <p:spPr>
          <a:xfrm>
            <a:off x="201600" y="2214720"/>
            <a:ext cx="2155680" cy="198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G:\raznoe004.gif"/>
          <p:cNvPicPr/>
          <p:nvPr/>
        </p:nvPicPr>
        <p:blipFill>
          <a:blip r:embed="rId4"/>
          <a:stretch/>
        </p:blipFill>
        <p:spPr>
          <a:xfrm>
            <a:off x="3287880" y="331920"/>
            <a:ext cx="2212920" cy="123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28   с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е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нт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я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бря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Кла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сс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ная   р</a:t>
            </a:r>
            <a:r>
              <a:rPr b="1" lang="en-US" sz="5400" spc="-1" strike="noStrike" u="sng">
                <a:solidFill>
                  <a:srgbClr val="4e3b30"/>
                </a:solidFill>
                <a:uFillTx/>
                <a:latin typeface="Franklin Gothic Book"/>
              </a:rPr>
              <a:t>а</a:t>
            </a:r>
            <a:r>
              <a:rPr b="1" lang="en-US" sz="5400" spc="-1" strike="noStrike">
                <a:solidFill>
                  <a:srgbClr val="4e3b30"/>
                </a:solidFill>
                <a:latin typeface="Franklin Gothic Book"/>
              </a:rPr>
              <a:t>бота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50920" y="1916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   Ж   У   Т   Ы   Р   Е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65" name="desk1"/>
          <p:cNvSpPr/>
          <p:nvPr/>
        </p:nvSpPr>
        <p:spPr>
          <a:xfrm>
            <a:off x="0" y="3429000"/>
            <a:ext cx="9144000" cy="342900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50920" y="1916280"/>
            <a:ext cx="889308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Й   Ж   У   Т   Ы   Р   Е  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509040" y="547560"/>
            <a:ext cx="8767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3200" spc="-1" strike="noStrike">
                <a:solidFill>
                  <a:srgbClr val="ad1f1f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дарным слогом  называется тот, который произноситс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ильнее други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первый по счету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. Знак ударения ставится над буквой, которая обозначае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ударны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любо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. В слове может быть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только ударных гласных, сколько их в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один ударный гласны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4. Слог -  эт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часть реч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часть слов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.  В слове столько слогов, сколько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гласных бук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 согласных бук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509040" y="547560"/>
            <a:ext cx="8767440" cy="57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</a:t>
            </a:r>
            <a:r>
              <a:rPr b="1" i="1" lang="en-US" sz="3200" spc="-1" strike="noStrike">
                <a:solidFill>
                  <a:srgbClr val="ad1f1f"/>
                </a:solidFill>
                <a:latin typeface="Arial"/>
              </a:rPr>
              <a:t>ТЕС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Ударным слогом  называется тот, который произносится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в 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сильнее други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первый по счету 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. Знак ударения ставится над буквой, которая обозначае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ударны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любой гласный звук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. В слове может быть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столько ударных гласных, сколько их в слове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один ударный гласный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4. Слог -  эт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А) часть речи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Б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часть слов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5.  В слове столько слогов, сколько 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ad1f1f"/>
                </a:solidFill>
                <a:latin typeface="Arial"/>
              </a:rPr>
              <a:t>А)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гласных букв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Б)  согласных букв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82760" y="2766960"/>
            <a:ext cx="1008000" cy="936720"/>
          </a:xfrm>
          <a:prstGeom prst="ellipse">
            <a:avLst/>
          </a:prstGeom>
          <a:gradFill rotWithShape="0">
            <a:gsLst>
              <a:gs pos="0">
                <a:srgbClr val="a5644e"/>
              </a:gs>
              <a:gs pos="100000">
                <a:srgbClr val="4c2e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advTm="1000">
    <p:comb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1 0.01896 C -0.01961 -0.12902 0.07639 -0.25156 0.19271 -0.25156 C 0.33004 -0.25156 0.37969 -0.11561 0.40018 -0.03445 L 0.42171 0.07283 C 0.44306 0.15376 0.49619 0.28763 0.65087 0.28763 C 0.75 0.28763 0.86198 0.16671 0.86198 0.01896 C 0.86198 -0.12902 0.75 -0.25156 0.65087 -0.25156 C 0.49619 -0.25156 0.44306 -0.11561 0.42171 -0.03445 L 0.40018 0.07283 C 0.37969 0.15376 0.33004 0.28763 0.19271 0.28763 C 0.07639 0.28763 -0.01961 0.16671 -0.01961 0.01896 Z">
                                      <p:cBhvr>
                                        <p:cTn id="98" dur="3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95280" y="2924280"/>
            <a:ext cx="1008000" cy="936360"/>
          </a:xfrm>
          <a:prstGeom prst="ellipse">
            <a:avLst/>
          </a:prstGeom>
          <a:gradFill rotWithShape="0">
            <a:gsLst>
              <a:gs pos="0">
                <a:srgbClr val="f1091f"/>
              </a:gs>
              <a:gs pos="100000">
                <a:srgbClr val="6f040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3708360" y="4292640"/>
            <a:ext cx="18734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mph" presetID="35" repeatCount="5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22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25 0.00833 C -0.0276 -0.1452 0.06841 -0.2726 0.18473 -0.2726 C 0.32205 -0.2726 0.37171 -0.13133 0.39219 -0.04717 L 0.41372 0.06428 C 0.43507 0.14821 0.4882 0.28786 0.64289 0.28786 C 0.74202 0.28786 0.854 0.16208 0.854 0.00833 C 0.85365 -0.1452 0.74202 -0.2726 0.64289 -0.2726 C 0.4882 -0.2726 0.43507 -0.13133 0.41372 -0.04717 L 0.39219 0.06428 C 0.37171 0.14844 0.32205 0.28786 0.18473 0.28786 C 0.06841 0.28786 -0.0276 0.16208 -0.02725 0.00833 Z">
                                      <p:cBhvr>
                                        <p:cTn id="108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25092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Franklin Gothic Book"/>
              </a:rPr>
              <a:t>В   час   по   чайной   ложке.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8,100,-91)"/>
                                          </p:val>
                                        </p:tav>
                                        <p:tav tm="50000">
                                          <p:val>
                                            <p:strVal val="rgb(31,31,-8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8T16:19:45Z</dcterms:created>
  <dc:creator>Admin</dc:creator>
  <dc:description/>
  <dc:language>en-US</dc:language>
  <cp:lastModifiedBy>Admin</cp:lastModifiedBy>
  <dcterms:modified xsi:type="dcterms:W3CDTF">2012-09-27T11:07:21Z</dcterms:modified>
  <cp:revision>30</cp:revision>
  <dc:subject/>
  <dc:title>Урок русского языка 1 класс ( программа Л.В.Занкова)</dc:title>
</cp:coreProperties>
</file>