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46AF-DC76-4BD7-BA18-73F45F4FF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1944-F8B7-4EE2-91B7-BDA7F5D6F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3C29-CA7E-4A30-9C0C-BAD94F8A4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FB20-D18E-4105-AC63-FA5C17C16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B59C-2F38-4BD6-B591-0B06B4116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EDB03-D791-427A-9138-28DC877E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DBD69-3D39-494D-ACC2-3DD9B39D1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5847-4D2B-477C-8E9B-8946F9732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9BB7-5B85-48F2-8CB2-D5E5EB81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471CA-6948-4EAB-A723-F11ECF1E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8283-191C-4F03-8B43-3F46FC497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7518-1688-43EE-89B6-56D358D3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D4DA-65A1-457A-9162-0B2E253F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EE4D-A2B8-451D-BD43-FC6C19B2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00ED-F9E1-4DAE-83D3-596BE4EC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14640-C794-4002-BDE2-7EE282BDC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74B49-4E4D-457E-841C-10B733935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10B6-BD17-4E49-9502-7981DB32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407C-457E-4F11-8975-57595E730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E91E-E8C9-4DAE-9821-125D0D06C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9B67-3594-4660-84F6-4A382755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3DA1-BF1F-4C88-9E45-DA53BD1F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61EE-D974-409B-BD10-0DF902F9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93B7-18E7-4A5E-9344-3A8401DE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2932F-62D4-441E-AC32-50CB0BBED82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7715-56EE-42B1-8A0F-530655C6993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0" y="3860280"/>
            <a:ext cx="6400800" cy="1752840"/>
          </a:xfrm>
          <a:prstGeom prst="rect">
            <a:avLst/>
          </a:prstGeom>
          <a:noFill/>
          <a:ln w="0">
            <a:noFill/>
          </a:ln>
          <a:effectLst>
            <a:outerShdw dist="56832" dir="3796358" blurRad="0" rotWithShape="0">
              <a:srgbClr val="7e9ce8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00"/>
                </a:solidFill>
                <a:latin typeface="Arial"/>
              </a:rPr>
              <a:t>Живописец –пейзажис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476360" y="1197000"/>
            <a:ext cx="531180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90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лексе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ндратьевич Саврасов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60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714680" y="1136520"/>
            <a:ext cx="5715000" cy="398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03160" y="122400"/>
            <a:ext cx="7537680" cy="60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286000" y="1562040"/>
            <a:ext cx="4572000" cy="31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714680" y="1136520"/>
            <a:ext cx="5715000" cy="398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714680" y="939960"/>
            <a:ext cx="5715000" cy="437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373480" y="122400"/>
            <a:ext cx="4397040" cy="60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714680" y="939960"/>
            <a:ext cx="5715000" cy="437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523880" y="993600"/>
            <a:ext cx="6096240" cy="426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382840" y="122400"/>
            <a:ext cx="4378320" cy="60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762200" y="1200240"/>
            <a:ext cx="5619600" cy="38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О великом художнике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47440"/>
            <a:ext cx="77868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Алексей Кондратьевич Саврасов (родился 12 (24) мая 1830 года - умер 26 сентября (8 октября) 1897 года) - один из самых известных российских живописцев-пейзажистов.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чился живописи в Московском училище живописи, ваяния и зодчества у К. И. Рабуса.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Являлся членом-учредителем Товарищества передвижных художественных выставок. Творчество Саврасова оказало огромное влияние на русских пейзажистов конца 19 - начала 20 века.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есмотря на кажущуюся простоту, творчество Саврасова глубоко и доступно пониманию далеко не каждого зрителя. Известно, что русский искусствовед А.Н.Бенуа даже назвал Саврасова "художником-неумехой", который каким-то чудом умудрился написать одну порядочную картину (Грачи прилетели). Несмотря на такую критику, Саврасов уже много лет остается одним из любимейших русских художников, картины которого хранятся в сердце каждого русского человека. Глядя на его печальные пейзажи, мы чувствуем хрупкую и ранимую душу, которой обладал этот могучий на вид художник.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73120" y="122400"/>
            <a:ext cx="7996320" cy="60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238400" y="1165320"/>
            <a:ext cx="6667200" cy="39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238400" y="1165320"/>
            <a:ext cx="6667200" cy="39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185920" y="122400"/>
            <a:ext cx="4770360" cy="60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419120" y="1282680"/>
            <a:ext cx="6305760" cy="36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523880" y="1150920"/>
            <a:ext cx="6096240" cy="395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243160" y="122400"/>
            <a:ext cx="4656240" cy="60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276640" y="122400"/>
            <a:ext cx="4589280" cy="60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820800" y="122400"/>
            <a:ext cx="7502400" cy="60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320920" y="122400"/>
            <a:ext cx="4502160" cy="60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238400" y="1165320"/>
            <a:ext cx="6667200" cy="392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523880" y="749160"/>
            <a:ext cx="6096240" cy="475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481040" y="1049400"/>
            <a:ext cx="6181920" cy="415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905120" y="1428840"/>
            <a:ext cx="5333760" cy="33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828720" y="192240"/>
            <a:ext cx="7486560" cy="58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263680" y="122400"/>
            <a:ext cx="4616640" cy="60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57200" y="299880"/>
            <a:ext cx="8229600" cy="56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57200" y="181080"/>
            <a:ext cx="8229600" cy="589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359080" y="122400"/>
            <a:ext cx="4424400" cy="60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36680" y="122400"/>
            <a:ext cx="4668840" cy="60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714680" y="1136520"/>
            <a:ext cx="5715000" cy="398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5873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13:59:48Z</dcterms:created>
  <dc:creator>user445</dc:creator>
  <dc:description/>
  <dc:language>en-US</dc:language>
  <cp:lastModifiedBy>user445</cp:lastModifiedBy>
  <dcterms:modified xsi:type="dcterms:W3CDTF">2012-09-19T14:38:01Z</dcterms:modified>
  <cp:revision>3</cp:revision>
  <dc:subject/>
  <dc:title>Слайд 1</dc:title>
</cp:coreProperties>
</file>