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BE2F-2E0E-4424-97C4-5DDBBFE6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010F-C238-4B77-BB2C-C9902F55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2FD2-2D4D-460C-96B7-1B8B2E224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334A-02E4-4C80-A4CF-D1EA7377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6DD9-CE6E-4C7F-BB13-4E2FD903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CD6F-D258-4AEE-A2AB-80C12DE95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0C892-FCF1-4B60-9ED4-85C5789D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F957-D905-4CA5-B38D-42C5C750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9773-B7C2-4CF8-99DB-F1FE060A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9A3E-9EC9-455B-A505-32290AEF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8475-032E-4EDF-9ABB-936D1C55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EB1-3828-4880-93D8-36B2D7B4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7212-10D7-4C01-9597-F0C487B6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978A-1D3D-4B7B-A65D-167E32A3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8407-66FA-41B9-87BD-7AAAA8DD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70E4-6EE0-49EC-A2C5-6A486CDD7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9E99-D892-42D4-A637-3782D0AB4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5481-86B2-4EAB-9AFB-F9100F70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D7A3-E514-4C2C-A3FE-6EE0F05A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FD8C-1B3D-4A80-9077-520D2FF3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8A6C-AEB3-46BD-A0CC-1EA9A45EC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ADE-61A4-46CC-B9F0-5FB58DB4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7B5D-7F68-4E0A-9959-8FC43CC7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37E7-EA77-423A-A3D3-D6C9C77E4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C06F-4D56-491B-AD1F-9173C2E410E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4187-49C2-4AD6-AE15-9157AAF5A7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7e9ce8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Живописец –пейзажи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76360" y="1197000"/>
            <a:ext cx="5311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екс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дратьевич Саврасов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14680" y="1136520"/>
            <a:ext cx="5715000" cy="39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3160" y="122400"/>
            <a:ext cx="753768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1562040"/>
            <a:ext cx="457200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14680" y="1136520"/>
            <a:ext cx="5715000" cy="39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14680" y="939960"/>
            <a:ext cx="571500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73480" y="122400"/>
            <a:ext cx="43970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14680" y="939960"/>
            <a:ext cx="571500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993600"/>
            <a:ext cx="609624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82840" y="122400"/>
            <a:ext cx="437832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2200" y="1200240"/>
            <a:ext cx="561960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 великом художнике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47440"/>
            <a:ext cx="7786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лексей Кондратьевич Саврасов (родился 12 (24) мая 1830 года - умер 26 сентября (8 октября) 1897 года) - один из самых известных российских живописцев-пейзажистов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ился живописи в Московском училище живописи, ваяния и зодчества у К. И. Рабус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Являлся членом-учредителем Товарищества передвижных художественных выставок. Творчество Саврасова оказало огромное влияние на русских пейзажистов конца 19 - начала 20 век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смотря на кажущуюся простоту, творчество Саврасова глубоко и доступно пониманию далеко не каждого зрителя. Известно, что русский искусствовед А.Н.Бенуа даже назвал Саврасова "художником-неумехой", который каким-то чудом умудрился написать одну порядочную картину (Грачи прилетели). Несмотря на такую критику, Саврасов уже много лет остается одним из любимейших русских художников, картины которого хранятся в сердце каждого русского человека. Глядя на его печальные пейзажи, мы чувствуем хрупкую и ранимую душу, которой обладал этот могучий на вид художник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3120" y="122400"/>
            <a:ext cx="799632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38400" y="1165320"/>
            <a:ext cx="666720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38400" y="1165320"/>
            <a:ext cx="666720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85920" y="122400"/>
            <a:ext cx="477036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19120" y="1282680"/>
            <a:ext cx="630576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150920"/>
            <a:ext cx="609624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43160" y="122400"/>
            <a:ext cx="46562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76640" y="122400"/>
            <a:ext cx="458928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0800" y="122400"/>
            <a:ext cx="750240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320920" y="122400"/>
            <a:ext cx="450216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38400" y="1165320"/>
            <a:ext cx="666720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749160"/>
            <a:ext cx="6096240" cy="47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81040" y="1049400"/>
            <a:ext cx="6181920" cy="41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8720" y="192240"/>
            <a:ext cx="7486560" cy="58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63680" y="122400"/>
            <a:ext cx="46166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99880"/>
            <a:ext cx="822960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81080"/>
            <a:ext cx="8229600" cy="58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59080" y="122400"/>
            <a:ext cx="442440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36680" y="122400"/>
            <a:ext cx="46688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14680" y="1136520"/>
            <a:ext cx="5715000" cy="39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87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3:59:48Z</dcterms:created>
  <dc:creator>user445</dc:creator>
  <dc:description/>
  <dc:language>en-US</dc:language>
  <cp:lastModifiedBy>user445</cp:lastModifiedBy>
  <dcterms:modified xsi:type="dcterms:W3CDTF">2012-09-19T14:38:01Z</dcterms:modified>
  <cp:revision>3</cp:revision>
  <dc:subject/>
  <dc:title>Слайд 1</dc:title>
</cp:coreProperties>
</file>