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76A-D335-45AB-BAF6-66694528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58B-0371-4C3D-9201-646CA04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DD0-5C1B-4033-AF2F-A049379B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6E6-77D2-436B-9A75-4530B397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06A-74D6-44E4-83AC-CEFA25F9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23A-9D32-4AC3-83B0-CCE341FA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320-BF3C-472F-A808-161717DA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F90-1DFF-4B2B-8AF6-B370D3F2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E66-964E-42E9-8DE9-F024D60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956-03C1-4F8E-9A8E-F199DB4E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1D3-E422-4C36-A3E1-66D51F69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92E-6A52-4E10-8E3D-85A5981C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EBF2-CD6F-4917-9195-BEF6D1F72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009900"/>
                </a:solidFill>
                <a:latin typeface="Garamond"/>
              </a:rPr>
              <a:t>ЗИМНИЕ ЗАБА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19452600">
            <a:off x="2590920" y="2743200"/>
            <a:ext cx="152388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9012800">
            <a:off x="914400" y="2971440"/>
            <a:ext cx="144792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8985800">
            <a:off x="1295280" y="2742840"/>
            <a:ext cx="152424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2666880"/>
            <a:ext cx="152424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2819520"/>
            <a:ext cx="1524240" cy="259056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1549440" cy="16002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6120" y="685800"/>
            <a:ext cx="1461960" cy="16002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514600" y="642960"/>
            <a:ext cx="2133720" cy="16621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7010280" y="762120"/>
            <a:ext cx="1828800" cy="1523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51" name=""/>
          <p:cNvSpPr/>
          <p:nvPr/>
        </p:nvSpPr>
        <p:spPr>
          <a:xfrm rot="20632200">
            <a:off x="4419720" y="2666880"/>
            <a:ext cx="152388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632200">
            <a:off x="4876920" y="2743200"/>
            <a:ext cx="1523880" cy="259092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452600">
            <a:off x="3047760" y="2590920"/>
            <a:ext cx="1523880" cy="2590560"/>
          </a:xfrm>
          <a:custGeom>
            <a:avLst/>
            <a:gdLst/>
            <a:ahLst/>
            <a:rect l="l" t="t" r="r" b="b"/>
            <a:pathLst>
              <a:path w="960" h="1632">
                <a:moveTo>
                  <a:pt x="960" y="0"/>
                </a:moveTo>
                <a:cubicBezTo>
                  <a:pt x="824" y="104"/>
                  <a:pt x="688" y="208"/>
                  <a:pt x="672" y="288"/>
                </a:cubicBezTo>
                <a:cubicBezTo>
                  <a:pt x="656" y="368"/>
                  <a:pt x="864" y="376"/>
                  <a:pt x="864" y="480"/>
                </a:cubicBezTo>
                <a:cubicBezTo>
                  <a:pt x="864" y="584"/>
                  <a:pt x="736" y="832"/>
                  <a:pt x="672" y="912"/>
                </a:cubicBezTo>
                <a:cubicBezTo>
                  <a:pt x="608" y="992"/>
                  <a:pt x="536" y="936"/>
                  <a:pt x="480" y="960"/>
                </a:cubicBezTo>
                <a:cubicBezTo>
                  <a:pt x="424" y="984"/>
                  <a:pt x="352" y="976"/>
                  <a:pt x="336" y="1056"/>
                </a:cubicBezTo>
                <a:cubicBezTo>
                  <a:pt x="320" y="1136"/>
                  <a:pt x="440" y="1344"/>
                  <a:pt x="384" y="1440"/>
                </a:cubicBezTo>
                <a:cubicBezTo>
                  <a:pt x="328" y="1536"/>
                  <a:pt x="64" y="1600"/>
                  <a:pt x="0" y="1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38600">
            <a:off x="3962160" y="579096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347800">
            <a:off x="3048120" y="5866920"/>
            <a:ext cx="304560" cy="685800"/>
          </a:xfrm>
          <a:prstGeom prst="upArrow">
            <a:avLst>
              <a:gd name="adj1" fmla="val 50000"/>
              <a:gd name="adj2" fmla="val 516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687600">
            <a:off x="4876920" y="579132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38200">
            <a:off x="5714640" y="586692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2395" t="19110" r="13280" b="10536"/>
          <a:stretch/>
        </p:blipFill>
        <p:spPr>
          <a:xfrm>
            <a:off x="2362320" y="533520"/>
            <a:ext cx="4591080" cy="5867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12000"/>
          </a:blip>
          <a:srcRect l="2775" t="15687" r="3360" b="3628"/>
          <a:stretch/>
        </p:blipFill>
        <p:spPr>
          <a:xfrm>
            <a:off x="2438280" y="457200"/>
            <a:ext cx="4194360" cy="5867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024"/>
          <a:stretch/>
        </p:blipFill>
        <p:spPr>
          <a:xfrm>
            <a:off x="2209680" y="380880"/>
            <a:ext cx="4818240" cy="60199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77320" cy="51084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964"/>
          <a:stretch/>
        </p:blipFill>
        <p:spPr>
          <a:xfrm>
            <a:off x="380880" y="542880"/>
            <a:ext cx="8534520" cy="5635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09680" y="2438280"/>
          <a:ext cx="5410080" cy="1567080"/>
        </p:xfrm>
        <a:graphic>
          <a:graphicData uri="http://schemas.openxmlformats.org/drawingml/2006/table">
            <a:tbl>
              <a:tblPr/>
              <a:tblGrid>
                <a:gridCol w="5410080"/>
              </a:tblGrid>
              <a:tr h="15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Автор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иколаева Ирина Анатольев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Воспитатель МБДОУ «Детский сад № 22 «Журавлёно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орода Новочебоксарска Чувашской Республ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</cp:lastModifiedBy>
  <dcterms:modified xsi:type="dcterms:W3CDTF">2011-11-08T13:33:0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