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0DE8-A521-4D86-9B32-74212077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33A-B57D-4C5E-956E-5F64094A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824D-0706-41BD-AAF9-21DB05ED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402-688C-4207-BE8E-31F96F74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17A0-9AD0-497B-BBFF-D9E275BB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18D7-217C-4CDB-96F8-84F25781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7B52-EA42-4C43-8570-E1DCEC4A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39B2-F345-4B84-8633-21F6956E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0114-3878-4887-A102-E1F6DF6A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5AF4-FA0C-4442-978B-01D45AF8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B9AE-2C69-45AD-9E85-7C52BCD6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8C5-BDC0-4B79-85D9-6B61CE99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BB96-197F-4047-BA21-3837D415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BD97-D2F7-4AC9-AE69-EBB0D4B4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02BF-A4AB-4A2C-B2C4-BC0C70EF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4164-A42E-4275-AEDD-3C63415E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3DC2-BBBB-4953-84A4-40456F48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E630-998C-4393-AAC2-E6EE3E0B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0FF1-80CB-4BF9-94D6-1475CB34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EFE-1955-4461-8CA2-2FC163D8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D83-12A0-49F6-9CF0-76765FB0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0A8-B858-44EE-8866-647AC021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FD3D-FF22-4C3C-AF1F-3DBDB4D6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7EE2-6EEE-4080-8E76-2E139F08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5DB5-3EB6-45F8-90A9-39B81A3E60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4A53-6907-466F-9D7F-1FAB7B3CB7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lazur.ru/galery/valentina/slides/IMG_1821.html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Муниципальное образовательное учреждение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«Майская гимназия Белгородского района»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          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Творческий проект по те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           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«Какая  она, золотая осень?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580000" y="2737440"/>
            <a:ext cx="324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Андреева Виктори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Манько Ирин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Шаимов Тимур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Ученики 1-г клас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МОУ «Майская гимназ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Белгородского район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Олейникова Нина Александровн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419640" y="594936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п.Майск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2011 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Рисунок 1" descr="C:\Documents and Settings\Лизун\Мои документы\Мои рисунки\golden-autumn00020-700x535.jpg"/>
          <p:cNvPicPr/>
          <p:nvPr/>
        </p:nvPicPr>
        <p:blipFill>
          <a:blip r:embed="rId1"/>
          <a:stretch/>
        </p:blipFill>
        <p:spPr>
          <a:xfrm>
            <a:off x="900000" y="2997360"/>
            <a:ext cx="4319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«Сентябрь  птиц в дорогу торопит»- гласит пословиц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Как ни хороша осенняя погода, как не сытен сентябрьский лес, а улетать надо- путь предстоит неблизк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8" descr="0_59c0d_3638c96_XL"/>
          <p:cNvPicPr/>
          <p:nvPr/>
        </p:nvPicPr>
        <p:blipFill>
          <a:blip r:embed="rId1"/>
          <a:stretch/>
        </p:blipFill>
        <p:spPr>
          <a:xfrm>
            <a:off x="395280" y="1052640"/>
            <a:ext cx="4608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Сентябрь – самый сухой месяц осени. Эти теплые деньки осени называются бабьим летом. Бабье лето обычно продолжается одну-две недели. Это самое лучшее время для сбора гриб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78654073_4426848_b28a28b2adc7c07038d63c7aafe60051"/>
          <p:cNvPicPr/>
          <p:nvPr/>
        </p:nvPicPr>
        <p:blipFill>
          <a:blip r:embed="rId1"/>
          <a:stretch/>
        </p:blipFill>
        <p:spPr>
          <a:xfrm>
            <a:off x="4356000" y="404640"/>
            <a:ext cx="3102120" cy="3181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56"/>
          <p:cNvPicPr/>
          <p:nvPr/>
        </p:nvPicPr>
        <p:blipFill>
          <a:blip r:embed="rId2"/>
          <a:stretch/>
        </p:blipFill>
        <p:spPr>
          <a:xfrm>
            <a:off x="5580000" y="3789360"/>
            <a:ext cx="3311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Как ни хороша осенняя погода, как ни сытен сентябрьский лес, а улетать надо – путь предстоит неблизкий. Одни птицы покидают родные места днём, другие – ночью, одни летят поодиночке, другие – стаями. Но большинство птиц улетает стаями. Утки выстраиваются в косой ряд, чибисы – в длинные цепочки, а журавли и гуси летят клин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76" descr="0_59c0d_3638c96_XL"/>
          <p:cNvPicPr/>
          <p:nvPr/>
        </p:nvPicPr>
        <p:blipFill>
          <a:blip r:embed="rId1"/>
          <a:stretch/>
        </p:blipFill>
        <p:spPr>
          <a:xfrm>
            <a:off x="4643280" y="1282680"/>
            <a:ext cx="403236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Из  Интернета мы узнали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В октябре собрались и полетели утки в дальнюю дорогу.</a:t>
            </a:r>
            <a:br>
              <a:rPr sz="2400"/>
            </a:b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Под корнями старой ели мастерит медведь берлогу.</a:t>
            </a:r>
            <a:br>
              <a:rPr sz="2400"/>
            </a:b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Заяц в мех оделся белый, стало зайчику тепло.</a:t>
            </a:r>
            <a:br>
              <a:rPr sz="2400"/>
            </a:b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Носит белка месяц целый про запас грибы в дупло.</a:t>
            </a:r>
            <a:br>
              <a:rPr sz="2400"/>
            </a:b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Прячет на зиму кедровка в старый мох орехи ловко.</a:t>
            </a:r>
            <a:br>
              <a:rPr sz="2400"/>
            </a:b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Хвою щиплют глухари ...</a:t>
            </a:r>
            <a:br>
              <a:rPr sz="2400"/>
            </a:b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Зимовать к нам прилетели северяне-снегири.(С.Голов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7" descr="M2O38CAYM2J5CCA8Z5TWTCAK9A14UCA1105BJCAOM0PQKCA7KJ5RMCAQ4IK9DCAR5GW9ECA428PJBCAL3LLDACAJWJZ97CAJA16JICAYICIKLCA3D23R0CATL6CH8CAC4LFVXCAGJ6A33CAFCL54OCAD8YQIR"/>
          <p:cNvPicPr/>
          <p:nvPr/>
        </p:nvPicPr>
        <p:blipFill>
          <a:blip r:embed="rId1"/>
          <a:stretch/>
        </p:blipFill>
        <p:spPr>
          <a:xfrm>
            <a:off x="4067280" y="1341360"/>
            <a:ext cx="2160360" cy="1511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0_57c6a_e980087d_XL"/>
          <p:cNvPicPr/>
          <p:nvPr/>
        </p:nvPicPr>
        <p:blipFill>
          <a:blip r:embed="rId2"/>
          <a:stretch/>
        </p:blipFill>
        <p:spPr>
          <a:xfrm>
            <a:off x="4643280" y="4392720"/>
            <a:ext cx="2880000" cy="2104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000054"/>
          <p:cNvPicPr/>
          <p:nvPr/>
        </p:nvPicPr>
        <p:blipFill>
          <a:blip r:embed="rId3"/>
          <a:stretch/>
        </p:blipFill>
        <p:spPr>
          <a:xfrm>
            <a:off x="6372360" y="2492280"/>
            <a:ext cx="22255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971640" y="1484280"/>
            <a:ext cx="691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Ноябр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Давно отшумели стаи грачей и скворцов, других перелётных птиц. Покинули они наши края, подались на юг. На смену им прилетели гости с севера – красногрудые снегири, суетливые чечётки, красавцы свиристели. Лакомятся румяными ягодами рябины и боярышника. Звери давно успели сменить свой наряд на тёплый, зим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8" descr="KFCCLCAZ2O1CBCAGMZP7MCA9YMM37CAGIQHSHCAG3OAC2CAZHIWY8CASAWL5ICAFNWC5YCAM282KBCAJN10M1CAM3GZTQCAD0W4ESCAMY718HCAP6O3W2CAEILS01CA9E751OCAGT25IACAC0PG8WCA7I1AQG"/>
          <p:cNvPicPr/>
          <p:nvPr/>
        </p:nvPicPr>
        <p:blipFill>
          <a:blip r:embed="rId1"/>
          <a:stretch/>
        </p:blipFill>
        <p:spPr>
          <a:xfrm>
            <a:off x="4643280" y="692280"/>
            <a:ext cx="2448000" cy="2139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0_2275f_f578765c_XL"/>
          <p:cNvPicPr/>
          <p:nvPr/>
        </p:nvPicPr>
        <p:blipFill>
          <a:blip r:embed="rId2"/>
          <a:stretch/>
        </p:blipFill>
        <p:spPr>
          <a:xfrm>
            <a:off x="5435640" y="2924280"/>
            <a:ext cx="2855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Изучая и анализируя литературу, мы пришли к выводу: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-360" y="1412640"/>
            <a:ext cx="4608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Осень забрала все золотые солнечные лучи  и зажгла их в солнечных листьях. Листва берёз стала янтарной, дуба – тёмно- жёлтой,  листья рябины горят яркими фонариками. Листья долго не задерживаются на веточках и осыпаются на землю золотым дождём. Лишь последние золотые пряди берёз будут напоминать нам об удивительном празднике солнечного света и синего неб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Рисунок 1" descr="C:\Documents and Settings\Лизун\Мои документы\Мои рисунки\golden-autumn00010-700x466.jpg"/>
          <p:cNvPicPr/>
          <p:nvPr/>
        </p:nvPicPr>
        <p:blipFill>
          <a:blip r:embed="rId1"/>
          <a:stretch/>
        </p:blipFill>
        <p:spPr>
          <a:xfrm>
            <a:off x="4788000" y="1341360"/>
            <a:ext cx="2592360" cy="2389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golden-autumn00006-700x525"/>
          <p:cNvPicPr/>
          <p:nvPr/>
        </p:nvPicPr>
        <p:blipFill>
          <a:blip r:embed="rId2"/>
          <a:stretch/>
        </p:blipFill>
        <p:spPr>
          <a:xfrm>
            <a:off x="5076720" y="3860640"/>
            <a:ext cx="36356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Выставка лучших  творческих работ: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«Осенний вернисаж»</a:t>
            </a: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72" name="Рисунок 27" descr="F:\DCIM\107_PANA\P1070227.JPG"/>
          <p:cNvPicPr/>
          <p:nvPr/>
        </p:nvPicPr>
        <p:blipFill>
          <a:blip r:embed="rId1"/>
          <a:stretch/>
        </p:blipFill>
        <p:spPr>
          <a:xfrm>
            <a:off x="395280" y="1484280"/>
            <a:ext cx="4105440" cy="34750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29" descr="F:\DCIM\107_PANA\P1070229.JPG"/>
          <p:cNvPicPr/>
          <p:nvPr/>
        </p:nvPicPr>
        <p:blipFill>
          <a:blip r:embed="rId2"/>
          <a:stretch/>
        </p:blipFill>
        <p:spPr>
          <a:xfrm>
            <a:off x="4788000" y="3246480"/>
            <a:ext cx="4086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28" descr="F:\DCIM\107_PANA\P1070228.JPG"/>
          <p:cNvPicPr/>
          <p:nvPr/>
        </p:nvPicPr>
        <p:blipFill>
          <a:blip r:embed="rId1"/>
          <a:stretch/>
        </p:blipFill>
        <p:spPr>
          <a:xfrm>
            <a:off x="1476360" y="907920"/>
            <a:ext cx="63356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30" descr="F:\DCIM\107_PANA\P1070230.JPG"/>
          <p:cNvPicPr/>
          <p:nvPr/>
        </p:nvPicPr>
        <p:blipFill>
          <a:blip r:embed="rId1"/>
          <a:stretch/>
        </p:blipFill>
        <p:spPr>
          <a:xfrm>
            <a:off x="0" y="333360"/>
            <a:ext cx="3819600" cy="44640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31" descr="F:\DCIM\107_PANA\P1070231.JPG"/>
          <p:cNvPicPr/>
          <p:nvPr/>
        </p:nvPicPr>
        <p:blipFill>
          <a:blip r:embed="rId2"/>
          <a:stretch/>
        </p:blipFill>
        <p:spPr>
          <a:xfrm>
            <a:off x="4140360" y="2276640"/>
            <a:ext cx="477504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Изобразительное искусство.</a:t>
            </a: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ппликация « Наш посёлок – осень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Рисунок 33" descr="F:\DCIM\107_PANA\P1070223.JPG"/>
          <p:cNvPicPr/>
          <p:nvPr/>
        </p:nvPicPr>
        <p:blipFill>
          <a:blip r:embed="rId1"/>
          <a:stretch/>
        </p:blipFill>
        <p:spPr>
          <a:xfrm>
            <a:off x="395280" y="2708280"/>
            <a:ext cx="403848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Глядя на прекрасное и слушая о прекрасном, 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человек улучшается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«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Какая  она, золотая осень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Нам  нравится и ранняя осень, когда появляются первые разноцветные листья на деревьях, и поздняя, когда завершается листопад и жизнь замирает, готовясь принять белый наряд. Но больше всего мы любим золотую осень. В это время в лесу становится веселее и наряднее. Кроны деревьев расцвечены всеми оттенками от зеленых до пурпурных. Красный, желтый, бурый, золотистый ложится на землю лист. Природа становится пышной, величавой и удивительно красивой.  У многих поэтов осень тоже была любимым временем года. Изучая это красивое время года, нам захотелось обратить внимание наших одноклассников на красоту природы осен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Коллективная творческая работа:</a:t>
            </a:r>
            <a:br>
              <a:rPr sz="4000"/>
            </a:b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«Осень в нашем посёлке »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1" name="Рисунок 33" descr="F:\DCIM\107_PANA\P1070223.JPG"/>
          <p:cNvPicPr/>
          <p:nvPr/>
        </p:nvPicPr>
        <p:blipFill>
          <a:blip r:embed="rId1"/>
          <a:stretch/>
        </p:blipFill>
        <p:spPr>
          <a:xfrm>
            <a:off x="1765440" y="1636560"/>
            <a:ext cx="5611680" cy="44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	</a:t>
            </a: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Литература:</a:t>
            </a: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1.Экология: Детская энциклопедия. М.,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2.Корчагина В.А. Ботаника. М.: Просвещение,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3.Биология: Справочник школьника.- М.: Филолог. Об-во «Слово»: Ключ-С: АСТ: МГУ им. М. В. Ломоносова, 1996.- 576 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4.Курт Гильзенбах Х.  Деревья.- М.: Слово/Slovo, 1997.- 48 с.: ил.- (Что есть что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5.Осипов Н.Ф. Занимательная ботаническая энциклопедия.- М.: Педагогика-Пресс, 1998.- 208 с.: и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6.Петров В.В. Из жизни зеленого мира: Пособие для учащихся.- М.: Просвещение, 1982.- 127 с.: 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7.Растительный мир Земли: В 2-х т.- М.: Мир, 19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8.Селберг И. Деревья и листья.- М.: АСТ-ПРЕСС, 1997.- 32 с.: ил.- (Юный натуралист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9.Энциклопедический справочник школьника. В 2-х т. Том 1. Естественные науки.- М.: Русское энциклопедическ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14716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Интернет, ресурсы </a:t>
            </a:r>
            <a:br>
              <a:rPr sz="2800"/>
            </a:b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Список веб-адресов, необходимых для проведения проекта в учебном процессе:</a:t>
            </a:r>
            <a:br>
              <a:rPr sz="28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ирель. 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lazur.ru/galery/valentina/slides/IMG_1821.ht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енние листья http://fotki.yandex.ru/tags/%D0%BB%D0%B8%D1%81%D1%82%D1%8C%D1%8F/?how=w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ень http://fotki.yandex.ru/tags/%D0%BE%D1%81%D0%B5%D0%BD%D1%8C/?how=w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ски и звуки осени http://uchitel.21310s08.edusite.ru/p14aa1.ht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900000" y="1412640"/>
            <a:ext cx="73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Жизнь животных осенью http://ou.tsu.ru/school2/nach/metod/ecolog2/2-5.ht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года осенью http://ou.tsu.ru/school2/nach/metod/ecolog2/2-2.ht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нятия людей осенью http://ou.tsu.ru/school2/nach/metod/ecolog2/2-6.ht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ма осени в произведениях художников, поэтов, композиторов. http://ou.tsu.ru/school2/nach/metod/ecolog2/2-7.htm 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сенние явления в мире растений  http://ou.tsu.ru/school2/nach/metod/ecolog2/2-4.ht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ихи про осень. http://materinstvo.ru/art/788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товарищество, 2004.- 1214 с.: и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10.Алпатов М.В. Искусство / Книга для чтения. Живопись, скульптура, графика, архитектура. – М.: Просвещение, 196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11.Плешаков А.А. Мир вокруг нас. Учебник для 2 класса начальной школы. В 2 ч. - М.: Просвещение, 20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12.Плешаков А.А. Великан на поляне, или Первые уроки экологической эти­ки: Кн. для учащихся нач. классов. - М.: Просвещение, 20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13.Плешаков А.А. От земли до неба: Атлас - определитель по природоведению и экологии для учащихся нач. классов. - 2-е изд. - М.: Просвещение,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14.Плешаков А.А. Природа. Учебное пособие для начальной школы. - Самара: Издательство «Самарский дом печати», 199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15.Голицын М.С. Сокровища Земли. - М.: АСТ, 2001. (Детская энциклопедия: Я познаю мир.)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17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Дитрих А.К., Юрмин Г.А., Кошурникова Р.В. Почемучка. - М.: Педагогика-Пресс, 199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800000"/>
                </a:solidFill>
                <a:latin typeface="Times New Roman"/>
              </a:rPr>
              <a:t>Цель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разработать сценарий праздника «Осенние мотив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b65361d6576a"/>
          <p:cNvPicPr/>
          <p:nvPr/>
        </p:nvPicPr>
        <p:blipFill>
          <a:blip r:embed="rId1"/>
          <a:stretch/>
        </p:blipFill>
        <p:spPr>
          <a:xfrm>
            <a:off x="4648320" y="1628640"/>
            <a:ext cx="4171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аучится самостоятельно находить нужную информац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об осенних изменениях в природе и систематизировать её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ознакомиться с произведениями поэтов-классик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одобрать загадки, пословиц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овести конкурс рисунков, сделать фоторепортаж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47014953_1249158239_4"/>
          <p:cNvPicPr/>
          <p:nvPr/>
        </p:nvPicPr>
        <p:blipFill>
          <a:blip r:embed="rId1"/>
          <a:stretch/>
        </p:blipFill>
        <p:spPr>
          <a:xfrm>
            <a:off x="457200" y="1628640"/>
            <a:ext cx="42591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План работы над проектом «Какая она, золотая осень»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Собрать материал для сценария празд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Подобрать пословицы, поговорки, загад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Составить презент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Организовать и провести праздни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original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Из занимательной ботанической энциклопедии Осипова Н.Ф. мы узнали: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 старину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ентябрь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именовался руен – за жёлтый цвет, господствующий в лесах; ревуном был наречён – за непогоду; ославлен хмурнем – дни короткие, плотно тучи кроют небо; ещё одно древнерусское имя сентября – вересень – месяц первых инее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Рисунок 0" descr="00039157.jpg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Октябрь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называют вершиной осени. Почему? (это середина осени). Хмурень – так называли октябрь в старину. Называют его еще вечером года. В это время природа готовится ко сну. Дел у всех невпроворот. Деревьям надо вовремя сбросить листву, насекомым – схорониться в лесную подстилку или забиться в щели, последним птицам поспешить с отлет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0" descr="6676"/>
          <p:cNvPicPr/>
          <p:nvPr/>
        </p:nvPicPr>
        <p:blipFill>
          <a:blip r:embed="rId1"/>
          <a:stretch/>
        </p:blipFill>
        <p:spPr>
          <a:xfrm>
            <a:off x="4427640" y="907920"/>
            <a:ext cx="43923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Times New Roman"/>
              </a:rPr>
              <a:t>Ноябрь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 – ворота зимы, месяц молодого, звонкого ль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В ноябре рассвет с сумерками среди дня     встречаю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Плачут по солнцу в ноябре окон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«Ноябрь – сентябрёв внук, октябрёв сын, зиме родной батюш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В народе его зовут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олузимником,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 потому что он как бы наполовину уходит в зиму, и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ледовым кузнецом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, потому что в ноябре покрываются льдом реки и озёра.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0" descr="8862fdb80b6b"/>
          <p:cNvPicPr/>
          <p:nvPr/>
        </p:nvPicPr>
        <p:blipFill>
          <a:blip r:embed="rId1"/>
          <a:stretch/>
        </p:blipFill>
        <p:spPr>
          <a:xfrm>
            <a:off x="971640" y="3413160"/>
            <a:ext cx="684036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Из рассказа бабушки мы узнали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Сентябрь ещё называют  месяцем синиц. В сентябре синица просит в г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Холоден братец сентябрь, да кормить гораз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8" descr="0_4e31d_87e28c96_L"/>
          <p:cNvPicPr/>
          <p:nvPr/>
        </p:nvPicPr>
        <p:blipFill>
          <a:blip r:embed="rId1"/>
          <a:stretch/>
        </p:blipFill>
        <p:spPr>
          <a:xfrm>
            <a:off x="4075200" y="1700280"/>
            <a:ext cx="44798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06:38:55Z</dcterms:created>
  <dc:creator>Нина Александровна</dc:creator>
  <dc:description/>
  <dc:language>en-US</dc:language>
  <cp:lastModifiedBy>ЛИЗУШКА</cp:lastModifiedBy>
  <dcterms:modified xsi:type="dcterms:W3CDTF">2012-10-07T18:13:28Z</dcterms:modified>
  <cp:revision>14</cp:revision>
  <dc:subject/>
  <dc:title>Слайд 1</dc:title>
</cp:coreProperties>
</file>