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5.wmf" ContentType="image/x-wmf"/>
  <Override PartName="/ppt/media/image24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F8E-36DC-42D2-9EF7-75452377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D4B-3AB2-4BE1-AC13-31D0E42C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40E-ADEB-4563-AAA2-396DF683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388-E750-466E-AF10-84D31288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146-B998-4530-8D96-C3D3A7E7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10F7-213C-4976-AFAE-3A6AA07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9F1-1484-4486-9115-30F8036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E870-AF28-454E-A14D-9CEADD6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3B3-E43A-404B-BFCB-7AAA9E5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BB3-F2DD-4C03-A1D9-314C398A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68FC-F611-4EBD-A8BD-7EBF3FA9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150-70D0-4F0F-9BFE-5FBB1E7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F85A-953E-4754-9CE7-10666AC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FCD1-DB5A-4D8D-8A5E-7610540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369C-F423-4AD1-95A5-620B87D6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27CE-1A36-454A-AAE1-531484C1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7996-9369-4B37-8742-8B67413A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95A-8EBD-4956-818E-7A79753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A50-54A7-4260-86B1-F3C42FAE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13E-9D9F-4B61-929E-A2C2998D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D7D-A8C3-4177-AEF1-489BFDA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016-3AE8-4654-A08D-78BFCCE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F84-B2E9-4EA6-A176-5E666C9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A16-D60E-490C-914D-B83B8F9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FFF6-4AC1-4422-98D1-855ACD85441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400F-DC28-4EAC-9C9F-BF429974CEA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Создание виртуальных сообществ как один из способов оказания помощи учителям в решении проблем, связанных с внедрением ФГОС НОО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кладчик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адыкова Ф.В.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учитель начальных классов высшей кв.кат. СОШ №5 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ахматуллина Г.Н.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учитель начальных классов 1 кв.кат. СОШ №5 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j0195384"/>
          <p:cNvPicPr/>
          <p:nvPr/>
        </p:nvPicPr>
        <p:blipFill>
          <a:blip r:embed="rId1"/>
          <a:stretch/>
        </p:blipFill>
        <p:spPr>
          <a:xfrm>
            <a:off x="762120" y="3505320"/>
            <a:ext cx="26859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На новой странице в левом нижнем угл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йти надпись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5486400" cy="4119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  На новой странице с тем же рисунком снова в левом нижнем углу найти надпис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бщ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56236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819520" y="304920"/>
            <a:ext cx="6324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   Выйдет страница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бщ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5562720" cy="4176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066680" y="5334120"/>
            <a:ext cx="6782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и множества сообществ находим самое нужное сообщество «Работаем по-новому, работаем по ФГОС НО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04920" y="2743200"/>
            <a:ext cx="853416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ЕМЫЕ КОЛЛЕГ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ОВЕРШЕНСТВОВАНИЯ ВА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j0205582"/>
          <p:cNvPicPr/>
          <p:nvPr/>
        </p:nvPicPr>
        <p:blipFill>
          <a:blip r:embed="rId1"/>
          <a:stretch/>
        </p:blipFill>
        <p:spPr>
          <a:xfrm>
            <a:off x="3733920" y="22860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205466"/>
          <p:cNvPicPr/>
          <p:nvPr/>
        </p:nvPicPr>
        <p:blipFill>
          <a:blip r:embed="rId2"/>
          <a:stretch/>
        </p:blipFill>
        <p:spPr>
          <a:xfrm>
            <a:off x="6781680" y="22860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едует поддержать развитие сетевых педагогических сообществ, интерактивных методических кабинетов –словом, всего того, что формирует профессиональную сред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УТИН В.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01360" y="8341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общество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Работаем по-новому, работаем по ФГОС НО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124440" cy="17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12408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дминистратор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Садыкова Ф"/>
          <p:cNvPicPr/>
          <p:nvPr/>
        </p:nvPicPr>
        <p:blipFill>
          <a:blip r:embed="rId2"/>
          <a:stretch/>
        </p:blipFill>
        <p:spPr>
          <a:xfrm>
            <a:off x="5181480" y="25146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2820600" y="312408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хматулл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ульша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ургали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783840" y="31240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адык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ари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агиз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052640" y="4456080"/>
            <a:ext cx="22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начальны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лассов СОШ №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вой кв.ка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107320" y="4419720"/>
            <a:ext cx="22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начальны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лассов СОШ №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Буинска Р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шей кв.ка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4824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0960" y="-232920"/>
            <a:ext cx="8922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и и задачи виртуального сообществ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7693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зация дистанционного взаимодействия учителей первых классов, начавших работать по новым стандарта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базы данных по программным продуктам учебного назначения и опыту их применения на уроках и во внеурочной деятельности по ФГОС НОО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азание методической поддержки педагогов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зентация современного программного обеспечения, учебных и методических материалов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дрение в образовательный процесс инновационных технолог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87005"/>
          <p:cNvPicPr/>
          <p:nvPr/>
        </p:nvPicPr>
        <p:blipFill>
          <a:blip r:embed="rId1"/>
          <a:stretch/>
        </p:blipFill>
        <p:spPr>
          <a:xfrm>
            <a:off x="7391520" y="2590920"/>
            <a:ext cx="15523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440" y="28800"/>
            <a:ext cx="939132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 сообществе «Работаем по-новому, работаем по ФГОС НОО» состоят: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4" descr="Галимова И"/>
          <p:cNvPicPr/>
          <p:nvPr/>
        </p:nvPicPr>
        <p:blipFill>
          <a:blip r:embed="rId1"/>
          <a:stretch/>
        </p:blipFill>
        <p:spPr>
          <a:xfrm>
            <a:off x="990720" y="23623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ружинина Т"/>
          <p:cNvPicPr/>
          <p:nvPr/>
        </p:nvPicPr>
        <p:blipFill>
          <a:blip r:embed="rId2"/>
          <a:stretch/>
        </p:blipFill>
        <p:spPr>
          <a:xfrm>
            <a:off x="716292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Петрова Эльмира Ильдаровна"/>
          <p:cNvPicPr/>
          <p:nvPr/>
        </p:nvPicPr>
        <p:blipFill>
          <a:blip r:embed="rId3"/>
          <a:stretch/>
        </p:blipFill>
        <p:spPr>
          <a:xfrm>
            <a:off x="7238880" y="23623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Михайлова С"/>
          <p:cNvPicPr/>
          <p:nvPr/>
        </p:nvPicPr>
        <p:blipFill>
          <a:blip r:embed="rId4"/>
          <a:stretch/>
        </p:blipFill>
        <p:spPr>
          <a:xfrm>
            <a:off x="5715000" y="23623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Ишимова С"/>
          <p:cNvPicPr/>
          <p:nvPr/>
        </p:nvPicPr>
        <p:blipFill>
          <a:blip r:embed="rId5"/>
          <a:stretch/>
        </p:blipFill>
        <p:spPr>
          <a:xfrm>
            <a:off x="556272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Замалеева Э"/>
          <p:cNvPicPr/>
          <p:nvPr/>
        </p:nvPicPr>
        <p:blipFill>
          <a:blip r:embed="rId6"/>
          <a:stretch/>
        </p:blipFill>
        <p:spPr>
          <a:xfrm>
            <a:off x="403848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Сабитова Т"/>
          <p:cNvPicPr/>
          <p:nvPr/>
        </p:nvPicPr>
        <p:blipFill>
          <a:blip r:embed="rId7"/>
          <a:stretch/>
        </p:blipFill>
        <p:spPr>
          <a:xfrm>
            <a:off x="2476440" y="4572000"/>
            <a:ext cx="1333440" cy="1778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Садриева Э"/>
          <p:cNvPicPr/>
          <p:nvPr/>
        </p:nvPicPr>
        <p:blipFill>
          <a:blip r:embed="rId8"/>
          <a:stretch/>
        </p:blipFill>
        <p:spPr>
          <a:xfrm>
            <a:off x="914400" y="4572000"/>
            <a:ext cx="1349280" cy="180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Садыкова Ф"/>
          <p:cNvPicPr/>
          <p:nvPr/>
        </p:nvPicPr>
        <p:blipFill>
          <a:blip r:embed="rId9"/>
          <a:stretch/>
        </p:blipFill>
        <p:spPr>
          <a:xfrm>
            <a:off x="4191120" y="2362320"/>
            <a:ext cx="125712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Ханафеева Э"/>
          <p:cNvPicPr/>
          <p:nvPr/>
        </p:nvPicPr>
        <p:blipFill>
          <a:blip r:embed="rId10"/>
          <a:stretch/>
        </p:blipFill>
        <p:spPr>
          <a:xfrm>
            <a:off x="2590920" y="2362320"/>
            <a:ext cx="1257120" cy="1676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437200" y="41148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анафеева Э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839160" y="41148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алимова И.Г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4037760" y="41148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дыкова Ф.Ф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562720" y="41148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ихайлова С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7314480" y="411480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трова Э.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64008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дриева Э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361600" y="640080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абитова Т.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961440" y="640080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амалеева Э.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487120" y="640080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шимова С.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7086240" y="64008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ружинина Т.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1163520" y="190512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а в сообществе 143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42040" y="685800"/>
            <a:ext cx="79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составе сообщества состоят учителя начальных классов из разны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йонов республики Татарстан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тюшского, Дрожжановского, Кукморского, Апастовского, Нурлатского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услюмовского, Ютазинского, Мамадышского, Лаишевского и д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600" y="871920"/>
            <a:ext cx="519012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страницах сообществ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5181480" y="114300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311472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38760" y="186120"/>
            <a:ext cx="854280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атериалы на страницах сообщества по ФГОС НОО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едеральный государственный образовательный стандарт начального образ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каз о ФГОС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бования к структуре основной общеобразовательной программы общего образования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ФГОС через УМК «Школа 2100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оретические основы организации внеуроч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ы внеуроч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хнология достижений результа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ание и социализация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зисный учебный пла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чая программа по русскому языку с УУД и д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найти сообщество «Работаем по-новому, работаем по ФГОС» в интернет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9320" y="54864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йти в Электронное образование в Республике Татарст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tart_sp"/>
          <p:cNvPicPr/>
          <p:nvPr/>
        </p:nvPicPr>
        <p:blipFill>
          <a:blip r:embed="rId1"/>
          <a:stretch/>
        </p:blipFill>
        <p:spPr>
          <a:xfrm>
            <a:off x="1828800" y="2438280"/>
            <a:ext cx="586728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990720" y="838080"/>
            <a:ext cx="6781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йти в Личный кабинет, найти надпись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ит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арида</cp:lastModifiedBy>
  <dcterms:modified xsi:type="dcterms:W3CDTF">2012-10-08T19:52:1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