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5.wmf" ContentType="image/x-wmf"/>
  <Override PartName="/ppt/media/image24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C50-BC9E-4AC5-9940-1FBA79F8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AE9-FD01-46EC-970D-1C2A46E2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8CE-5832-44F0-9E0F-80C6A810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72B-0DDC-4082-AAD4-9D00393D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6173-A96E-4CAA-895A-C51C563D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87D3-BC46-4323-B5CC-D4DAFA7E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2439-D85F-4398-8C1F-8609C8DF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83F0-2C7B-4BEC-938D-E6AD923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D3E7-C7B0-478C-96D4-FD9A01B9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E9EC-A2D4-48F8-8BA8-F77EFDC9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2827-7D41-4C50-AA7F-2E273AF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5CD-8BEE-4F19-85A7-D1BE2879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4B6E-4499-4395-BD4F-50B9EA6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7FB2-79D8-4EF3-8753-707DC048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C27D-64B9-4D83-AE00-F2310B1B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59C8-A0D5-4906-BE48-E971302D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9CCB-2FBC-42BA-8821-93D6B08B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98F-E977-4403-B256-8DEC9D35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B6D-8F6D-4DBA-92E1-9CFB2AC7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2EB-564F-4CCA-A056-ECEFD2B5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086-08D0-4EC1-A116-66CF061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905-5DDA-4B84-9AD1-41BF11A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BE7-C92D-4432-805E-F8A8A74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C4B-5F65-4768-B83F-0F9D38B6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0E0-C08C-4E3D-8814-6B29CDC1F34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D80D-C5F2-4043-9A87-D91C6D9615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Создание виртуальных сообществ как один из способов оказания помощи учителям в решении проблем, связанных с внедрением ФГОС НОО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Докладчики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адыкова Ф.В.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учитель начальных классов высшей кв.кат. СОШ №5 г.Буинска Р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Рахматуллина Г.Н.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учитель начальных классов 1 кв.кат. СОШ №5 г.Буинска Р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j0195384"/>
          <p:cNvPicPr/>
          <p:nvPr/>
        </p:nvPicPr>
        <p:blipFill>
          <a:blip r:embed="rId1"/>
          <a:stretch/>
        </p:blipFill>
        <p:spPr>
          <a:xfrm>
            <a:off x="762120" y="3505320"/>
            <a:ext cx="268596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990720" y="838080"/>
            <a:ext cx="6781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На новой странице в левом нижнем угл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йти надпись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5486400" cy="4119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990720" y="838080"/>
            <a:ext cx="6781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   На новой странице с тем же рисунком снова в левом нижнем углу найти надпись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бщ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56236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819520" y="304920"/>
            <a:ext cx="6324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.    Выйдет страница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бщ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5562720" cy="4176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1066680" y="5334120"/>
            <a:ext cx="6782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и множества сообществ находим самое нужное сообщество «Работаем по-новому, работаем по ФГОС НОО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04920" y="2743200"/>
            <a:ext cx="853416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ВАЖАЕМЫЕ КОЛЛЕГ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ОНАЛЬНОГ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ОВЕРШЕНСТВОВАНИЯ ВА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j0205582"/>
          <p:cNvPicPr/>
          <p:nvPr/>
        </p:nvPicPr>
        <p:blipFill>
          <a:blip r:embed="rId1"/>
          <a:stretch/>
        </p:blipFill>
        <p:spPr>
          <a:xfrm>
            <a:off x="3733920" y="22860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j0205466"/>
          <p:cNvPicPr/>
          <p:nvPr/>
        </p:nvPicPr>
        <p:blipFill>
          <a:blip r:embed="rId2"/>
          <a:stretch/>
        </p:blipFill>
        <p:spPr>
          <a:xfrm>
            <a:off x="6781680" y="22860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едует поддержать развитие сетевых педагогических сообществ, интерактивных методических кабинетов –словом, всего того, что формирует профессиональную сред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УТИН В.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501360" y="8341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общество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Работаем по-новому, работаем по ФГОС НО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124440" cy="1757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12408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дминистратор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7" descr="Садыкова Ф"/>
          <p:cNvPicPr/>
          <p:nvPr/>
        </p:nvPicPr>
        <p:blipFill>
          <a:blip r:embed="rId2"/>
          <a:stretch/>
        </p:blipFill>
        <p:spPr>
          <a:xfrm>
            <a:off x="5181480" y="251460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2820600" y="3124080"/>
            <a:ext cx="17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хматулл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ульша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ургалие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783840" y="31240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адык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арид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агиз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052640" y="4456080"/>
            <a:ext cx="22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итель начальны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лассов СОШ №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Буинска Р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ервой кв.ка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107320" y="4419720"/>
            <a:ext cx="22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итель начальны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лассов СОШ №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Буинска Р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шей кв.ка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4824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0960" y="-232920"/>
            <a:ext cx="8922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ли и задачи виртуального сообществ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7693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ганизация дистанционного взаимодействия учителей первых классов, начавших работать по новым стандарта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базы данных по программным продуктам учебного назначения и опыту их применения на уроках и во внеурочной деятельности по ФГОС НОО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азание методической поддержки педагогов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зентация современного программного обеспечения, учебных и методических материалов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дрение в образовательный процесс инновационных технолог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87005"/>
          <p:cNvPicPr/>
          <p:nvPr/>
        </p:nvPicPr>
        <p:blipFill>
          <a:blip r:embed="rId1"/>
          <a:stretch/>
        </p:blipFill>
        <p:spPr>
          <a:xfrm>
            <a:off x="7391520" y="2590920"/>
            <a:ext cx="155232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8440" y="28800"/>
            <a:ext cx="939132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 сообществе «Работаем по-новому, работаем по ФГОС НОО» состоят: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4" descr="Галимова И"/>
          <p:cNvPicPr/>
          <p:nvPr/>
        </p:nvPicPr>
        <p:blipFill>
          <a:blip r:embed="rId1"/>
          <a:stretch/>
        </p:blipFill>
        <p:spPr>
          <a:xfrm>
            <a:off x="990720" y="2362320"/>
            <a:ext cx="125712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ружинина Т"/>
          <p:cNvPicPr/>
          <p:nvPr/>
        </p:nvPicPr>
        <p:blipFill>
          <a:blip r:embed="rId2"/>
          <a:stretch/>
        </p:blipFill>
        <p:spPr>
          <a:xfrm>
            <a:off x="7162920" y="4572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Петрова Эльмира Ильдаровна"/>
          <p:cNvPicPr/>
          <p:nvPr/>
        </p:nvPicPr>
        <p:blipFill>
          <a:blip r:embed="rId3"/>
          <a:stretch/>
        </p:blipFill>
        <p:spPr>
          <a:xfrm>
            <a:off x="7238880" y="2362320"/>
            <a:ext cx="131472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Михайлова С"/>
          <p:cNvPicPr/>
          <p:nvPr/>
        </p:nvPicPr>
        <p:blipFill>
          <a:blip r:embed="rId4"/>
          <a:stretch/>
        </p:blipFill>
        <p:spPr>
          <a:xfrm>
            <a:off x="5715000" y="2362320"/>
            <a:ext cx="125748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Ишимова С"/>
          <p:cNvPicPr/>
          <p:nvPr/>
        </p:nvPicPr>
        <p:blipFill>
          <a:blip r:embed="rId5"/>
          <a:stretch/>
        </p:blipFill>
        <p:spPr>
          <a:xfrm>
            <a:off x="5562720" y="4572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Замалеева Э"/>
          <p:cNvPicPr/>
          <p:nvPr/>
        </p:nvPicPr>
        <p:blipFill>
          <a:blip r:embed="rId6"/>
          <a:stretch/>
        </p:blipFill>
        <p:spPr>
          <a:xfrm>
            <a:off x="4038480" y="4572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Сабитова Т"/>
          <p:cNvPicPr/>
          <p:nvPr/>
        </p:nvPicPr>
        <p:blipFill>
          <a:blip r:embed="rId7"/>
          <a:stretch/>
        </p:blipFill>
        <p:spPr>
          <a:xfrm>
            <a:off x="2476440" y="4572000"/>
            <a:ext cx="1333440" cy="1778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Садриева Э"/>
          <p:cNvPicPr/>
          <p:nvPr/>
        </p:nvPicPr>
        <p:blipFill>
          <a:blip r:embed="rId8"/>
          <a:stretch/>
        </p:blipFill>
        <p:spPr>
          <a:xfrm>
            <a:off x="914400" y="4572000"/>
            <a:ext cx="1349280" cy="180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Садыкова Ф"/>
          <p:cNvPicPr/>
          <p:nvPr/>
        </p:nvPicPr>
        <p:blipFill>
          <a:blip r:embed="rId9"/>
          <a:stretch/>
        </p:blipFill>
        <p:spPr>
          <a:xfrm>
            <a:off x="4191120" y="2362320"/>
            <a:ext cx="125712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Ханафеева Э"/>
          <p:cNvPicPr/>
          <p:nvPr/>
        </p:nvPicPr>
        <p:blipFill>
          <a:blip r:embed="rId10"/>
          <a:stretch/>
        </p:blipFill>
        <p:spPr>
          <a:xfrm>
            <a:off x="2590920" y="2362320"/>
            <a:ext cx="1257120" cy="1676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2437200" y="41148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Ханафеева Э.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839160" y="411480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алимова И.Г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4037760" y="41148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адыкова Ф.Ф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562720" y="41148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Михайлова С.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7314480" y="411480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етрова Э.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64008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адриева Э.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361600" y="640080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абитова Т.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961440" y="640080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Замалеева Э.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5487120" y="640080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шимова С.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7086240" y="640080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ружинина Т.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1163520" y="190512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а в сообществе 143 челове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42040" y="685800"/>
            <a:ext cx="79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составе сообщества состоят учителя начальных классов из разных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йонов республики Татарстан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етюшского, Дрожжановского, Кукморского, Апастовского, Нурлатского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услюмовского, Ютазинского, Мамадышского, Лаишевского и д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95600" y="871920"/>
            <a:ext cx="519012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 страницах сообщества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5181480" y="114300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5105520" y="4038480"/>
            <a:ext cx="3114720" cy="2333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38760" y="186120"/>
            <a:ext cx="854280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атериалы на страницах сообщества по ФГОС НОО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едеральный государственный образовательный стандарт начального образ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каз о ФГОС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ебования к структуре основной общеобразовательной программы общего образования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ФГОС через УМК «Школа 2100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оретические основы организации внеурочно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ы внеурочно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хнология достижений результат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спитание и социализация учащихс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зисный учебный пла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чая программа по русскому языку с УУД и д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 найти сообщество «Работаем по-новому, работаем по ФГОС» в интернете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9320" y="548640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йти в Электронное образование в Республике Татарст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tart_sp"/>
          <p:cNvPicPr/>
          <p:nvPr/>
        </p:nvPicPr>
        <p:blipFill>
          <a:blip r:embed="rId1"/>
          <a:stretch/>
        </p:blipFill>
        <p:spPr>
          <a:xfrm>
            <a:off x="1828800" y="2438280"/>
            <a:ext cx="5867280" cy="2917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990720" y="838080"/>
            <a:ext cx="6781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йти в Личный кабинет, найти надпись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чит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арида</cp:lastModifiedBy>
  <dcterms:modified xsi:type="dcterms:W3CDTF">2012-10-08T19:52:1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