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8F6-0A84-4B5C-AC2E-87B38360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8F0-FACE-4697-851B-975E2C7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299-7D1E-4BC6-9D68-020125BF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AF3-DD61-48B8-AD86-17C24D2E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A130-1C7F-4DC7-B7A0-25194F39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0CCC-54C9-4AFA-B200-F86DC68E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297-F474-449C-86E4-6BE7C5E3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8592-5A06-48B7-BD32-95D1AB3D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5B6D-6273-417E-B4AF-78457AB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45F6-FEDC-423E-9631-B56550A4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0565-97F4-4D05-88B3-2F0A88B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C3B-4B9D-4FE8-8A8A-B6043FE7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072-6E3C-4718-B571-1151497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F80D-31C7-44C2-9F7D-182DC9A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4CBF-4B61-43F5-975B-1937A568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B09D-7B54-4474-A078-D00B9E68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29F1-64DF-448C-AB37-FE0F348E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2AA99-A3EF-4024-8430-5A376BAE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3CBE1-8CC6-4AA5-B795-D81687C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68E73-7985-47DF-AAE1-136F753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BAC12-BA2C-42D5-A97E-EE62B44B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64197-58AD-46B0-9FEB-A9C98131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661-3CB6-41C9-9992-DE911207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90100-BA49-4844-AD88-4D4F457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15338-35B1-49AE-8B01-B2B86CC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26BB8-076C-4216-810F-E55ED56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3E5D8-2303-4BCC-8223-33A355F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A088B-9540-41F6-B9D0-D91566C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D1AB7-9184-4174-B868-E6D2117A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37772-A922-47BE-A395-12603D3D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12E4-7FD9-4344-8B28-7F252F02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E13E-589F-48BB-97D1-980121AF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67FA-909B-4778-807A-A468C3A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620-D22A-4C5F-A48E-6ADCC63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32A6-DED0-4F29-A9AD-5A6CA58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75A6-6858-47E1-84EF-D9E35248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79EC-D978-4FEB-9027-DD4938DA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93A4-4269-4706-9913-01EE15F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BB36-A5A4-4B97-9400-C01699F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2B92-8682-46F0-A5BE-F208E15B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E0D7-0AB9-4C1D-8E83-6A8609A2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987F-4EB6-44CF-9FC1-12260088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CA0F-A39B-4459-92D3-1AA53653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85141-00E1-450E-8A77-18694F35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8E8-0D80-4DF5-A80C-6386FF7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62F9D-D541-4844-B6E6-47D61C8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DEC49-C9D8-4293-9942-3C792864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FF913-D601-4A00-965D-962ADA8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C0E7C-780B-4E75-89E4-8B294596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5E810-9E8A-4A1E-A4A6-B32DD963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3362E-32B0-4FD0-ACFB-AB5B42E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2428D-496B-40A8-9533-5A122BF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0DD27-90AC-4818-B12B-542FCFC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12BB7-ADFF-46BD-9D3B-83F909B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82A9B-54AC-412A-8BCB-D93A2225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9E7-298B-44E7-A4C3-8F8FBFA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A794B-030D-4574-A5C4-65CE7F12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3CF26-28F7-4576-81D4-568BDB96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85DEF-5A36-4B18-B46E-EA3846F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080D3-0378-4D07-AC8F-0CD721B5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BC4B9-EC42-4083-ABB1-DA9E6BAF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39D71-30F0-4A92-BBBE-B7AF0AB4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0DB7D-589D-459D-8A15-FBF45F9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247EF-6B22-4E4D-B2E1-A2005D4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32364-72A6-4802-86C4-7B5E506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E93E1-6C63-4A9B-A1C5-164F5261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A2B-4BE0-4BCB-8B0A-3E68CB5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15162-A34A-45FC-AFF8-90FC9B4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7831C-A721-4823-90A0-38F8CA49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B6573-846A-4A4F-A728-4B2CA4CF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FF494-7DB1-4DD0-A26F-0DBCCD68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597A9-5404-4AC1-9ADA-30D1F27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603FB-C618-433C-904F-CD4A9CCB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589BB-B9E6-45F9-8463-7AE08DA5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56E6B-2509-4FD1-A7D0-C9E69B17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D10AC-EF43-404A-8822-69FEE0C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A9CD2-1EAA-4A5E-AABC-91B3725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177-E216-4F3D-A5ED-1BA6BD6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4FFE8-9A50-4C4A-B220-782FA96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010E9-8CD8-47B3-8E83-7129349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09286-DE59-4F8C-B859-2E79537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EC93F-0243-4BC3-9EF9-B4AA30F2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F6E40-E875-4269-9AAD-39E395FE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CEC-26C8-4CE3-8621-B64EBC3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3B0-810D-4B2B-B0EB-43FBB335B4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3303-2E61-4248-938F-3E82A3D16C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2D4D-797C-47D5-9850-BE6A184D37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E25-29B7-4FB5-AD79-D6C7F2D8B9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52C-011C-4C80-98D3-28138EC132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4CF7-C111-4FE0-9523-0B767B8BBC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11B8-A1CF-44B1-AAB0-C4DE28D85A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ОБЩАЯ ХАРАКТЕРИСТИКА СТИЛЕЙ РЕЧ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ФИЦИАЛЬНО-ДЕЛОВО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ИЗУЕТСЯ РЯДОМ ОБЩИХ ЧЕРТ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ТОЧНОСТЬ ФОРМУЛИРОВОК, СЖАТОСТЬ, КОМПАКТНОСТЬ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СТАНДАРТИЗОВАННОСТЬ СТИЛЯ, НЕРЕДКО ОБЯЗАТЕЛЬНОСТЬ ФОРМЫ, ОБИЛИЕ УСТОЙЧИВЫХ ОБОРОТОВ ДЕЛОВОЙ РЕЧИ: ПО ИСТЕЧЕНИИ СРОКА, ВСТУПАТЬ В ЗАКОННУЮ СИЛУ, В УСТАНОВЛЕННОМ ПОРЯДКЕ И ДР.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ШИРОКОЕ ИСПОЛЬЗОВАНИЕ ТЕРМИНОЛОГИИ, ЮРИДИЧЕСКИХ, ДИПЛОМАТИЧЕСКИХ, ВОЕННЫХ, АДМИНИСТРАТИВНЫХ НАИМЕНОВАНИ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ПУБЛИЦИСТИЧЕСКИЙ СТИЛЬ</a:t>
            </a:r>
            <a:br>
              <a:rPr sz="2700"/>
            </a:br>
            <a:br>
              <a:rPr sz="27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ИНФОРМИРОВАНИЕ, ПЕРЕДАЧА ОБЩЕСТВЕННО ЗНАЧИМОЙ ИНФОРМАЦИИ С ОДНОВРЕМЕННЫМ ВОЗДЕЙСТВИЕМ НА ЧИТАТЕЛЯ, СЛУШАТЕЛЯ, УБЕЖДЕНИЕМ ЕГО В ЧЕМ-ТО, ВНУШЕНИЕМ ЕМУ ОПРЕДЕЛЕННЫХ ИДЕЙ, ВЗГЛЯДОВ, ПОБУЖДЕНИЕМ К ОПРЕДЕЛЕННЫМ ПОСТУПКАМ, ДЕЙСТВИЯМ. ВЫСКАЗЫВАНИЕ ОБЫЧНО БЫВАЕТ ЗЛОБОДНЕВНЫМ ПО ТЕМАТИКЕ, ЯРКИМ, СТРАСТНЫМ, ПРИЗЫВНЫМ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58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 ПУБЛИЦИСТИКИ </a:t>
            </a: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– СТАТЬЯ В ГАЗЕТЕ, ЖУРНАЛЕ, ОЧЕРК, РЕПОРТАЖ, ИНТЕРВЬЮ, ФЕЛЬЕТОН И ПОД. В НИХ ЗАТРАГИВАЮТСЯ ЛЮБЫЕ АКТУАЛЬНЫЕ ВОПРОСЫ СОВРЕМЕННОСТИ, ПРЕДСТАВЛЯЮЩИЕ ИНТЕРЕС ДЛЯ ОБЩЕСТВА: ПОЛИТИЧЕСКИЕ, ЭКОНОМИЧЕСКИЕ, МОРАЛЬНЫЕ, ФИЛОСОФСКИЕ, ВОПРОСЫ КУЛЬТУРЫ, ВОСПИТАНИЯ, ПОВСЕДНЕВНОГО БЫТА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ДЛЯ ПУБЛИЦИСТИЧЕСКОГО СТИЛЯ </a:t>
            </a: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НЫ: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ЛОГИЧНОСТЬ, ДОСТОВЕРНОСТЬ, ТОЧНОСТЬ ФАКТОВ, КОНКРЕТНОСТЬ;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ЭМОЦИОНАЛЬНОСТЬ, ОБРАЗНОСТЬ, ОЦЕНОЧНОСТЬ, ПРИЗЫВНОСТЬ.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ХУДОЖЕСТВЕННЫЙ СТИЛЬ</a:t>
            </a:r>
            <a:br>
              <a:rPr sz="2700"/>
            </a:b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УДОЖЕСТВЕННЫ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ПРЕДНАЗНАЧЕН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ДЛЯ СОЗДАНИЯ ХУДОЖЕСТВЕННЫХ, ПОЭТИЧЕСКИХ ОБРАЗОВ, ЭМОЦИОНАЛЬНО-ЭСТЕТИЧЕСКОГО ВОЗДЕЙСТВИЯ, И ВСЕ ЯЗЫКОВЫЕ СРЕДСТВА, ВКЛЮЧАЕМЫЕ В ХУДОЖЕСТВЕННОЕ ПРОИЗВЕДЕНИЕ, МЕНЯЮТ СВОЮ ПЕРВИЧНУЮ ФУНКЦИЮ, ПОДЧИНЯЮТСЯ ЗАДАЧАМ ДАННОГО ХУДОЖЕСТВЕННОГО СТИЛЯ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 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ВОЗДЕЙСТВИЕ С ПОМОЩЬЮ СОЗДАННЫХ ОБРАЗОВ НА ЧУВСТВА И МЫСЛИ ЧИТАТЕЛЕЙ, СЛУШАТЕЛЕ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РЕДСТВА ВЫРАЗИТЕЛЬНОСТИ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ПИТЕТ, МЕТАФОРА, СРАВНЕНИЕ, ОЛИЦЕТВОРЕНИЕ, ГИПЕРБОЛА, ЛИТОТА, МЕТОНИМИЯ, СИНЕКДОХА, АЛЛЕГОРИЯ, ИРОНИЯ, ПЕРИФРАЗ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ТИЛИСТИЧЕСКИЕ ФИГУРЫ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АНАФОРА, ЭПИФОРА, АНТИТЕЗА, ГРАДАЦИЯ, ИНВЕРСИЯ, ОКСЮМОРОН, ПАРАЛЛЕЛИЗМ, ПАРЦЕЛЛЯЦ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ОВО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575f6d"/>
                </a:solidFill>
                <a:latin typeface="Century Schoolbook"/>
              </a:rPr>
              <a:t>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ДИТ ОТ ГРЕЧЕСКОГО СЛОВА         « СТИЛОС» – ПАЛОЧКА. В ДРЕВНОСТИ И В СРЕДНИЕ ВЕКА ПИСАЛИ СТЕРЖНЕМ ИЗ МЕТАЛЛА, КОСТИ, ДЕРЕВА. ОДИН КОНЕЦ СТЕРЖНЯ БЫЛ ЗАОСТРЕННЫМ, ИМ ПИСАЛИ, ДРУГОЙ – В ВИДЕ ЛОПАТОЧКИ, ИМ, ПОВЕРНУВ СТЕРЖЕНЬ-«СТИЛЬ», СТИРАЛИ НЕУДАЧНО НАПИСАННОЕ. ЧЕМ ЧАЩЕ ПОВОРАЧИВАЛИ СТИЛЬ, ТЕМ ЧАЩЕ СТИРАЛИ НЕУДАЧНО НАПИСАННО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ЖДЕНИЕ СЛОВА СТИЛЬ ПРОЯСНЯЕТ СУТЬ СТИЛИСТИКИ. А ИМЕННО: СТИЛИСТИКА ВСЕГДА СВЯЗАНА С ВЫБОРОМ. ОДНУ И ТУ ЖЕ МЫСЛЬ МОЖНО ВЫРАЗИТЬ И ТАК, И ПО-ДРУГОМУ, И ПО - ТРЕТЬЕМУ. ПОИСКАМИ ЛУЧШЕГО, ОПТИМАЛЬНОГО ВАРИАНТА ВЫРАЖЕНИЯ МЫСЛЕЙ В ДАННЫХ КОНКРЕТНЫХ УСЛОВИЯХ И УЧИТ СТИЛИСТИКА – НАУКА О СТИЛЯХ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В СООТВЕТСТВИИ С ФУНКЦИЯМИ ЯЗЫКА ВЫДЕЛЯЮТСЯ СЛЕДУЮЩИЕ СТИЛИ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РАЗГОВОРНЫЙ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(ФУНКЦИЯ 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, ОФИЦИАЛЬНО-ДЕЛОВО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СО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ХУДОЖЕСТВЕННЫЙ, ПУБЛИЦИСТИЧЕСКИ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ВОЗДЕЙСТВИЯ)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РАЗГОВОРНЫЙ СТИЛЬ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ФЕРА РАЗГОВОРНОГО СТИЛЯ – СФЕРА БЫТОВЫХ ОТНОШЕНИЙ, НЕПРИНУЖДЕННАЯ, НЕОФИЦИАЛЬНАЯ ОБСТАНОВКА: ДРУЖЕСКАЯ БЕСЕДА, ЧАСТНЫЙ РАЗГОВОР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3880" y="521460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К  ЯЗЫКОВЫМ ОСОБЕННОСТЯМ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АЗГОВОРНОЙ РЕЧИ ОТНОСЯ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1.ИСПОЛЬЗОВАНИЕ ВНЕЛЕКСИЧЕСКИХ СРЕДСТВ (ИНТОНАЦИЯ, ФРАЗОВОЕ И ЭМОЦИОНАЛЬНО-ВЫРАЗИТЕЛЬНОЕ УДАРЕНИЕ, ПАУЗЫ, ТЕМП РЕЧИ, РИТМ)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2.ШИРОКОЕ УПОТРЕБЛЕНИЕ ОБИХОДНО-БЫТОВОЙ ЛЕКСИКИ И ФРАЗЕОЛОГИИ, ЛЕКСИКИ ЭМОЦИОНАЛЬНО-ЭКСПРЕССИВНОЙ (ВКЛЮЧАЯ ЧАСТИЦЫ, МЕЖДОМЕТИЯ), РАЗНЫХ ГРУПП ВВОДНЫХ СЛОВ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3.СВОЕОБРАЗИЕ СИНТАКСИСА (НЕПОЛНЫЕ ПРЕДЛОЖЕНИЯ, СЛОВА-ПРЕДЛОЖЕНИЯ, СЛОВА-ОБРАЩЕНИЯ, ПОВТОРЫ СЛОВ, ПРЕОБЛАДАНИЕ ДИАЛОГА И ДР.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НАУЧНЫЙ СТИЛЬ</a:t>
            </a: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РОССИИ НАУЧНЫЙ ЯЗЫК И СТИЛЬ НАЧАЛ СКЛАДЫВАТЬСЯ В ПЕРВЫЕ ДЕСЯТИЛЕТИЯ 18 ВЕКА, КОГДА АВТОРЫ НАУЧНЫХ КНИГ И ПЕРЕВОДЧИКИ СТАЛИ СОЗДАВАТЬ РУССКУЮ НАУЧНУЮ ТЕРМИНОЛОГИЯ. ВО ВТОРОЙ ПОЛОВИНЕ ЭТОГО ВЕКА БЛАГОДАРЯ РАБОТАМ М.В. ЛОМОНОСОВА И ЕГО УЧЕНИКОВ ФОРМИРОВАНИЕ НАУЧНОГО СТИЛЯ СДЕЛАЛО ШАГ ВПЕРЕД, НО ОКОНЧАТЕЛЬНО ОН СЛОЖИЛСЯ ВО ВТОРОЙ ПОЛОВИНЕ 19 ВЕКА ВМЕСТЕ С НАУЧНОЙ ДЕЯТЕЛЬНОСТЬЮ КРУПНЕЙШИХ УЧЕНЫХ ТОГО ВРЕМЕНИ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 СТИЛЯ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СООБЩЕНИЕ НАУЧНЫХ СВЕДЕНИЙ, НАУЧНОЕ ОБЪЯСНЕНИЕ ФАКТОВ.</a:t>
            </a: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: НАУЧНАЯ СТАТЬЯ, НАУЧНЫЙ ДОКЛАД, УЧЕБНАЯ ЛИТЕРАТУРА, ДИССЕРТАЦИЯ И ДР.</a:t>
            </a:r>
            <a:br>
              <a:rPr sz="2800"/>
            </a:br>
            <a:br>
              <a:rPr sz="2800"/>
            </a:b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 СТИЛЬ ХАРАКТЕРИЗУЕ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ЛОГИЧЕСКОЙ ПОСЛЕДОВАТЕЛЬНОСТЬЮ ИЗЛОЖЕНИЯ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ТВЛЕЧЕННОСТЬЮ И ОБОБЩЕН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БЪЕКТИВ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СТРЕМЛЕНИЕМ АВТОРА К ТОЧНОСТИ, СЖАТОСТИ, ОДНОЗНАЧНОСТИ ВЫСКАЗЫВАНИ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НАСЫЩЕННОСТЬ РАБОТ НАУЧНЫМИ ТЕРМИНАМИ.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НАУЧНОМ СТИЛЕ МОЖНО ВЫДЕЛИТ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СКОЛЬКО ПОДСТИЛЕЙ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СОБСТВЕННО НАУЧНЫЙ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(НАИБОЛЕЕ СТРОГИЙ, ТОЧНЫЙ; ИМ ПИШУТСЯ ДИССЕРТАЦИИ, МОНОГРАФИИ, ГОСТЫ, ЭНЦИКЛОПЕДИИ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ПОПУЛЯР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ИМ ПИШУТСЯ НАУЧНЫЕ СТАТЬИ В ЖУРНАЛАХ, НАУЧНО-ПОПУЛЯРНЫЕ КНИГИ. СЮДА ОТНОСЯТСЯ ПУБЛИЧНЫЕ ВЫСТУПЛЕНИЯ ПО РАДИО, ТЕЛЕВИДЕНИЮ НА НАУЧНЫЕ ТЕМЫ, ВЫСТУПЛЕНИЯ УЧЕНЫХ ПЕРЕД МАССОВОЙ АУДИТОРИЕЙ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УЧЕБ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УЧЕБНАЯ ЛИТЕРАТУРА, СПРАВОЧНИКИ, ПОСОБИЯ)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ФИЦИАЛЬНО-ДЕЛОВОЙ СТИЛЬ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СТИЛЬ ДОКУМЕНТОВ (МЕЖДУНАРОДНЫХ ДОГОВОРОВ, ГОСУДАРСТВЕННЫХ АКТОВ, ЮРИДИЧЕСКИХ ЗАКОНОВ, ПОСТАНОВЛЕНИЙ, УСТАВОВ, ИНСТРУКЦИЙ, СЛУЖЕБНОЙ ПЕРЕПИСКИ, ДЕЛОВЫХ БУМАГ И Т.Д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 НЕМ МОЖНО ВЫДЕЛИТЬ: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1.ОФИЦИАЛЬНО-ДОКУМЕНТАЛЬНЫЙ 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(ЗАКОНОДАТЕЛЬНЫЕ ДОКУМЕНТЫ,  ДИПЛОМАТИЧЕСКИЕ АКТЫ, МЕЖДУНАРОДНЫЕ СОГЛАШЕНИЯ).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2.ОБИХОДНО-ДЕЛОВОЙ СТИЛЬ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(СЛУЖЕБНАЯ ПЕРЕПИСКА, ЧАСТНЫЕ ДЕЛОВЫЕ БУМАГИ)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0:56Z</dcterms:created>
  <dc:creator>User</dc:creator>
  <dc:description/>
  <dc:language>en-US</dc:language>
  <cp:lastModifiedBy>ТАТЬЯНА</cp:lastModifiedBy>
  <dcterms:modified xsi:type="dcterms:W3CDTF">2012-10-08T17:54:56Z</dcterms:modified>
  <cp:revision>14</cp:revision>
  <dc:subject/>
  <dc:title>Общая характеристика стилей речи</dc:title>
</cp:coreProperties>
</file>