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8C0-33B3-439E-93E2-64919C9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3D6-9454-4298-A9DF-C3284E9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045-FBA4-47C7-A9CE-DE2D46A3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012-DC2D-4921-BB39-BFEC066D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B4A-0BDB-4BAE-ABD9-B2697DA1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E33D-055E-4620-A59C-3DB907C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6DEB-6F01-4B11-9309-11969C7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B87-3BAD-4FA7-BE5B-10808C7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ED5E-1234-4EF4-9A45-6D73E8F1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2DE0-2301-47DC-BA44-FCB94A7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A6B7-CD1C-4F11-ABC3-85D8703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39F-FC31-4C8C-832C-2134B6F8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7E73-0F1E-4963-BCA8-6D7E979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66C-6BDF-4864-8B3E-CB4CB4C1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7B82-BDD4-4DE8-B7DB-9688779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BC43-A7D0-40E3-BAD2-403DAAF5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FEB8-3E66-4E61-BD40-60BB90DF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B9F76-4408-4D00-89A6-3B469464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A20F2-F298-484B-AA62-5D42982D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33346-9FA3-48B2-986A-6E10822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98EA2-CC02-4529-8D09-1F8583C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215D3-EDCA-4591-BA6E-FF7AD32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5FB-325E-4906-BCD7-6D771459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63EE7-DA92-4B35-B2CC-010925D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08D6-1775-4B92-B7F4-D9BBA96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E75C0-6AC5-4EBE-9B07-D76CD4F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39410-40C6-499F-8E30-0F1D8FB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2390A-52E7-42D5-9CDD-EFFE877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5EB16-A17F-4DE3-A648-51F01372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FF77-8213-46CE-82DA-E7C0786E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50CC-AB4B-46DD-A27B-A0F59363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8F31-A9D4-4627-8D3E-CF553B9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CC32-17D5-4193-9D7C-97CCA735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7F5-DCDC-4B04-985C-61ACADC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4456-13E9-4D00-BF68-5275149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C5E7-AC55-4339-BBE7-7ACE0C1C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A5EC-53C0-4E93-8DFB-3D576A54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5E67-1DEC-45B7-9EE8-9160697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3D91-B9F3-4EE4-9AC7-F44CD7B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869A-A49F-43E4-9A82-DB77B48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1229-0124-4424-A1EB-176AD92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4D16-5610-44F8-81EE-F84AE280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93AC-44A5-4AA5-8BD1-99617C40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B1C0C-4E47-46ED-A1B7-B965CC8A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5F8-03D4-4A6D-B21E-D5DFDAB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D347D-A313-45B9-9A74-F7A19F6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DC34E-940E-4097-9AFD-228075E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CE628-5B21-44AD-AFE6-E576513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E6E8E-09F9-4F6C-B997-DE8939C6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51F29-E020-4C94-A6B3-9FA5392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CE965-CB77-4671-8EDE-5F5FD8B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B27CB-3A1F-4433-B0A5-70577A8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5AA0E-B960-4441-879A-68BF463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A759A-55D5-43A0-A26D-7EDC0079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E87F9-5CFA-4C7F-9AAE-4397B31C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A63-2296-47DF-90A3-612FFD15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ED424-FBD7-4BDE-BA22-E2D1C859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4D8D3-AA42-4C68-B1D8-9C90A884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C42AC-95CA-41C3-9236-419D603C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FFE42-7C4F-4EBF-881D-EF4C074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0B893-081A-4A35-B5CB-342615F1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6135C-80FB-4976-9BE6-0EF1C08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EF685-AE00-4FCC-B05A-D5492D8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682AA-1B76-42DF-9AEF-28D4AB3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195B7-7D68-4F76-9D4A-F3B98FE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5158C-4ADD-4010-846E-866366C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C36-3BD6-481E-B4E5-EA06C39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A4638-C916-4274-8DEC-C2804EC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9E924-CD63-4070-AF2A-D4D2B50C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A3DBF-41BC-4772-B868-1E2ADB7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405B8-59CD-4D34-8C84-554FFAF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FAB48-BD4D-4C6F-AF85-52F8E09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F1554-D8BA-474F-9B06-C009785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9EB42-1227-43C6-825B-B8853D2C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BF15B-8507-4638-855A-C6E3DCB1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4EB5F-5C9E-457C-9490-65B70370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2D619-CEA3-4E93-82D7-C092279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CB6-2340-4527-B99A-EAD93B70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27708-28FC-4958-9BF2-F83C5B6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E923D-6DFF-4289-A290-6CBF547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B4454-E440-4600-BF95-E396D05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3D842-679F-4341-81C8-0EA19C2A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3AA71-1363-4AEF-8F7B-A9103417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F2E-151F-4D59-93CD-F3FDBF1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D4B-6C99-4429-90B7-AC6420508A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725-6B2D-401F-AAEF-11274BDD93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5ACD-8D3D-48E1-AEA8-1F0ECCADCD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F42D-7D2E-4302-AE02-6150117C48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29F-E202-4D19-90CC-FCC86F3383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2EF-9871-40D1-9D7B-04EFE4B797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145-B791-4DDA-850A-FC73758CCD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ОБЩАЯ ХАРАКТЕРИСТИКА СТИЛЕЙ РЕЧ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ФИЦИАЛЬНО-ДЕЛОВО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ИЗУЕТСЯ РЯДОМ ОБЩИХ ЧЕРТ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ТОЧНОСТЬ ФОРМУЛИРОВОК, СЖАТОСТЬ, КОМПАКТНОСТЬ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СТАНДАРТИЗОВАННОСТЬ СТИЛЯ, НЕРЕДКО ОБЯЗАТЕЛЬНОСТЬ ФОРМЫ, ОБИЛИЕ УСТОЙЧИВЫХ ОБОРОТОВ ДЕЛОВОЙ РЕЧИ: ПО ИСТЕЧЕНИИ СРОКА, ВСТУПАТЬ В ЗАКОННУЮ СИЛУ, В УСТАНОВЛЕННОМ ПОРЯДКЕ И ДР.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ШИРОКОЕ ИСПОЛЬЗОВАНИЕ ТЕРМИНОЛОГИИ, ЮРИДИЧЕСКИХ, ДИПЛОМАТИЧЕСКИХ, ВОЕННЫХ, АДМИНИСТРАТИВНЫХ НАИМЕНОВАНИ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ПУБЛИЦИСТИЧЕСКИЙ СТИЛЬ</a:t>
            </a:r>
            <a:br>
              <a:rPr sz="2700"/>
            </a:br>
            <a:br>
              <a:rPr sz="27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ИНФОРМИРОВАНИЕ, ПЕРЕДАЧА ОБЩЕСТВЕННО ЗНАЧИМОЙ ИНФОРМАЦИИ С ОДНОВРЕМЕННЫМ ВОЗДЕЙСТВИЕМ НА ЧИТАТЕЛЯ, СЛУШАТЕЛЯ, УБЕЖДЕНИЕМ ЕГО В ЧЕМ-ТО, ВНУШЕНИЕМ ЕМУ ОПРЕДЕЛЕННЫХ ИДЕЙ, ВЗГЛЯДОВ, ПОБУЖДЕНИЕМ К ОПРЕДЕЛЕННЫМ ПОСТУПКАМ, ДЕЙСТВИЯМ. ВЫСКАЗЫВАНИЕ ОБЫЧНО БЫВАЕТ ЗЛОБОДНЕВНЫМ ПО ТЕМАТИКЕ, ЯРКИМ, СТРАСТНЫМ, ПРИЗЫВНЫМ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8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 ПУБЛИЦИСТИКИ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– СТАТЬЯ В ГАЗЕТЕ, ЖУРНАЛЕ, ОЧЕРК, РЕПОРТАЖ, ИНТЕРВЬЮ, ФЕЛЬЕТОН И ПОД. В НИХ ЗАТРАГИВАЮТСЯ ЛЮБЫЕ АКТУАЛЬНЫЕ ВОПРОСЫ СОВРЕМЕННОСТИ, ПРЕДСТАВЛЯЮЩИЕ ИНТЕРЕС ДЛЯ ОБЩЕСТВА: ПОЛИТИЧЕСКИЕ, ЭКОНОМИЧЕСКИЕ, МОРАЛЬНЫЕ, ФИЛОСОФСКИЕ, ВОПРОСЫ КУЛЬТУРЫ, ВОСПИТАНИЯ, ПОВСЕДНЕВНОГО БЫТА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ДЛЯ ПУБЛИЦИСТИЧЕСКОГО СТИЛЯ </a:t>
            </a:r>
            <a:r>
              <a:rPr b="0" lang="ru-RU" sz="2500" spc="-1" strike="noStrike" u="sng">
                <a:solidFill>
                  <a:srgbClr val="575f6d"/>
                </a:solidFill>
                <a:uFillTx/>
                <a:latin typeface="Century Schoolbook"/>
              </a:rPr>
              <a:t>ХАРАКТЕРНЫ: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ЛОГИЧНОСТЬ, ДОСТОВЕРНОСТЬ, ТОЧНОСТЬ ФАКТОВ, КОНКРЕТНОСТЬ;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-ЭМОЦИОНАЛЬНОСТЬ, ОБРАЗНОСТЬ, ОЦЕНОЧНОСТЬ, ПРИЗЫВНОСТЬ.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ХУДОЖЕСТВЕННЫЙ СТИЛЬ</a:t>
            </a:r>
            <a:br>
              <a:rPr sz="2700"/>
            </a:b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УДОЖЕСТВЕННЫЙ СТИЛ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ПРЕДНАЗНАЧЕН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ДЛЯ СОЗДАНИЯ ХУДОЖЕСТВЕННЫХ, ПОЭТИЧЕСКИХ ОБРАЗОВ, ЭМОЦИОНАЛЬНО-ЭСТЕТИЧЕСКОГО ВОЗДЕЙСТВИЯ, И ВСЕ ЯЗЫКОВЫЕ СРЕДСТВА, ВКЛЮЧАЕМЫЕ В ХУДОЖЕСТВЕННОЕ ПРОИЗВЕДЕНИЕ, МЕНЯЮТ СВОЮ ПЕРВИЧНУЮ ФУНКЦИЮ, ПОДЧИНЯЮТСЯ ЗАДАЧАМ ДАННОГО ХУДОЖЕСТВЕННОГО СТИЛ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ЦЕЛЬ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ВОЗДЕЙСТВИЕ С ПОМОЩЬЮ СОЗДАННЫХ ОБРАЗОВ НА ЧУВСТВА И МЫСЛИ ЧИТАТЕЛЕЙ, СЛУШАТЕЛЕЙ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РЕДСТВА ВЫРАЗИТЕЛЬНОСТИ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ПИТЕТ, МЕТАФОРА, СРАВНЕНИЕ, ОЛИЦЕТВОРЕНИЕ, ГИПЕРБОЛА, ЛИТОТА, МЕТОНИМИЯ, СИНЕКДОХА, АЛЛЕГОРИЯ, ИРОНИЯ, ПЕРИФРАЗ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ТИЛИСТИЧЕСКИЕ ФИГУРЫ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АНАФОРА, ЭПИФОРА, АНТИТЕЗА, ГРАДАЦИЯ, ИНВЕРСИЯ, ОКСЮМОРОН, ПАРАЛЛЕЛИЗМ, ПАРЦЕЛЛЯЦ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СЛОВО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575f6d"/>
                </a:solidFill>
                <a:latin typeface="Century Schoolbook"/>
              </a:rPr>
              <a:t>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ДИТ ОТ ГРЕЧЕСКОГО СЛОВА         « СТИЛОС» – ПАЛОЧКА. В ДРЕВНОСТИ И В СРЕДНИЕ ВЕКА ПИСАЛИ СТЕРЖНЕМ ИЗ МЕТАЛЛА, КОСТИ, ДЕРЕВА. ОДИН КОНЕЦ СТЕРЖНЯ БЫЛ ЗАОСТРЕННЫМ, ИМ ПИСАЛИ, ДРУГОЙ – В ВИДЕ ЛОПАТОЧКИ, ИМ, ПОВЕРНУВ СТЕРЖЕНЬ-«СТИЛЬ», СТИРАЛИ НЕУДАЧНО НАПИСАННОЕ. ЧЕМ ЧАЩЕ ПОВОРАЧИВАЛИ СТИЛЬ, ТЕМ ЧАЩЕ СТИРАЛИ НЕУДАЧНО НАПИСАННО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ПРОИСХОЖДЕНИЕ СЛОВА СТИЛЬ ПРОЯСНЯЕТ СУТЬ СТИЛИСТИКИ. А ИМЕННО: СТИЛИСТИКА ВСЕГДА СВЯЗАНА С ВЫБОРОМ. ОДНУ И ТУ ЖЕ МЫСЛЬ МОЖНО ВЫРАЗИТЬ И ТАК, И ПО-ДРУГОМУ, И ПО - ТРЕТЬЕМУ. ПОИСКАМИ ЛУЧШЕГО, ОПТИМАЛЬНОГО ВАРИАНТА ВЫРАЖЕНИЯ МЫСЛЕЙ В ДАННЫХ КОНКРЕТНЫХ УСЛОВИЯХ И УЧИТ СТИЛИСТИКА – НАУКА О СТИЛЯХ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6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 СООТВЕТСТВИИ С ФУНКЦИЯМИ ЯЗЫКА ВЫДЕЛЯЮТСЯ СЛЕДУЮЩИЕ СТИЛИ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РАЗГОВОРНЫЙ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 (ФУНКЦИЯ 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, ОФИЦИАЛЬНО-ДЕЛОВО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СООБЩЕНИЯ)</a:t>
            </a:r>
            <a:br>
              <a:rPr sz="3200"/>
            </a:br>
            <a:r>
              <a:rPr b="0" lang="ru-RU" sz="3200" spc="-1" strike="noStrike" u="sng">
                <a:solidFill>
                  <a:srgbClr val="575f6d"/>
                </a:solidFill>
                <a:uFillTx/>
                <a:latin typeface="Century Schoolbook"/>
              </a:rPr>
              <a:t>ХУДОЖЕСТВЕННЫЙ, ПУБЛИЦИСТИЧЕСКИЙ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(ФУНКЦИЯ ВОЗДЕЙСТВИЯ)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РАЗГОВОРНЫЙ СТИЛЬ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ФЕРА РАЗГОВОРНОГО СТИЛЯ – СФЕРА БЫТОВЫХ ОТНОШЕНИЙ, НЕПРИНУЖДЕННАЯ, НЕОФИЦИАЛЬНАЯ ОБСТАНОВКА: ДРУЖЕСКАЯ БЕСЕДА, ЧАСТНЫЙ РАЗГОВОР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3880" y="521460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К  ЯЗЫКОВЫМ ОСОБЕННОСТЯМ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РАЗГОВОРНОЙ РЕЧИ ОТНОСЯ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1.ИСПОЛЬЗОВАНИЕ ВНЕЛЕКСИЧЕСКИХ СРЕДСТВ (ИНТОНАЦИЯ, ФРАЗОВОЕ И ЭМОЦИОНАЛЬНО-ВЫРАЗИТЕЛЬНОЕ УДАРЕНИЕ, ПАУЗЫ, ТЕМП РЕЧИ, РИТМ)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2.ШИРОКОЕ УПОТРЕБЛЕНИЕ ОБИХОДНО-БЫТОВОЙ ЛЕКСИКИ И ФРАЗЕОЛОГИИ, ЛЕКСИКИ ЭМОЦИОНАЛЬНО-ЭКСПРЕССИВНОЙ (ВКЛЮЧАЯ ЧАСТИЦЫ, МЕЖДОМЕТИЯ), РАЗНЫХ ГРУПП ВВОДНЫХ СЛОВ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3.СВОЕОБРАЗИЕ СИНТАКСИСА (НЕПОЛНЫЕ ПРЕДЛОЖЕНИЯ, СЛОВА-ПРЕДЛОЖЕНИЯ, СЛОВА-ОБРАЩЕНИЯ, ПОВТОРЫ СЛОВ, ПРЕОБЛАДАНИЕ ДИАЛОГА И ДР.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НАУЧНЫЙ СТИЛЬ</a:t>
            </a:r>
            <a:br>
              <a:rPr sz="27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РОССИИ НАУЧНЫЙ ЯЗЫК И СТИЛЬ НАЧАЛ СКЛАДЫВАТЬСЯ В ПЕРВЫЕ ДЕСЯТИЛЕТИЯ 18 ВЕКА, КОГДА АВТОРЫ НАУЧНЫХ КНИГ И ПЕРЕВОДЧИКИ СТАЛИ СОЗДАВАТЬ РУССКУЮ НАУЧНУЮ ТЕРМИНОЛОГИЯ. ВО ВТОРОЙ ПОЛОВИНЕ ЭТОГО ВЕКА БЛАГОДАРЯ РАБОТАМ М.В. ЛОМОНОСОВА И ЕГО УЧЕНИКОВ ФОРМИРОВАНИЕ НАУЧНОГО СТИЛЯ СДЕЛАЛО ШАГ ВПЕРЕД, НО ОКОНЧАТЕЛЬНО ОН СЛОЖИЛСЯ ВО ВТОРОЙ ПОЛОВИНЕ 19 ВЕКА ВМЕСТЕ С НАУЧНОЙ ДЕЯТЕЛЬНОСТЬЮ КРУПНЕЙШИХ УЧЕНЫХ ТОГО ВРЕМЕН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ЦЕЛЬ СТИЛЯ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– СООБЩЕНИЕ НАУЧНЫХ СВЕДЕНИЙ, НАУЧНОЕ ОБЪЯСНЕНИЕ ФАКТОВ.</a:t>
            </a:r>
            <a:br>
              <a:rPr sz="2800"/>
            </a:b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ЖАНРЫ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: НАУЧНАЯ СТАТЬЯ, НАУЧНЫЙ ДОКЛАД, УЧЕБНАЯ ЛИТЕРАТУРА, ДИССЕРТАЦИЯ И ДР.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575f6d"/>
                </a:solidFill>
                <a:uFillTx/>
                <a:latin typeface="Century Schoolbook"/>
              </a:rPr>
              <a:t>НАУЧНЫЙ СТИЛЬ ХАРАКТЕРИЗУЕТСЯ: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ЛОГИЧЕСКОЙ ПОСЛЕДОВАТЕЛЬНОСТЬЮ ИЗЛОЖЕНИЯ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ТВЛЕЧЕННОСТЬЮ И ОБОБЩЕН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ОБЪЕКТИВНОСТЬЮ,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СТРЕМЛЕНИЕМ АВТОРА К ТОЧНОСТИ, СЖАТОСТИ, ОДНОЗНАЧНОСТИ ВЫСКАЗЫВАНИЯ.</a:t>
            </a: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-НАСЫЩЕННОСТЬ РАБОТ НАУЧНЫМИ ТЕРМИНАМИ.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В НАУЧНОМ СТИЛЕ МОЖНО ВЫДЕЛИТЬ </a:t>
            </a:r>
            <a:r>
              <a:rPr b="0" lang="ru-RU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СКОЛЬКО ПОДСТИЛЕЙ: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ОБСТВЕННО НАУЧНЫЙ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(НАИБОЛЕЕ СТРОГИЙ, ТОЧНЫЙ; ИМ ПИШУТСЯ ДИССЕРТАЦИИ, МОНОГРАФИИ, ГОСТЫ, ЭНЦИКЛОПЕДИИ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ПОПУЛЯР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ИМ ПИШУТСЯ НАУЧНЫЕ СТАТЬИ В ЖУРНАЛАХ, НАУЧНО-ПОПУЛЯРНЫЕ КНИГИ. СЮДА ОТНОСЯТСЯ ПУБЛИЧНЫЕ ВЫСТУПЛЕНИЯ ПО РАДИО, ТЕЛЕВИДЕНИЮ НА НАУЧНЫЕ ТЕМЫ, ВЫСТУПЛЕНИЯ УЧЕНЫХ ПЕРЕД МАССОВОЙ АУДИТОРИЕЙ);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НО-УЧЕБНЫЙ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(УЧЕБНАЯ ЛИТЕРАТУРА, СПРАВОЧНИКИ, ПОСОБИЯ)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ФИЦИАЛЬНО-ДЕЛОВОЙ СТИЛЬ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ЭТО СТИЛЬ ДОКУМЕНТОВ (МЕЖДУНАРОДНЫХ ДОГОВОРОВ, ГОСУДАРСТВЕННЫХ АКТОВ, ЮРИДИЧЕСКИХ ЗАКОНОВ, ПОСТАНОВЛЕНИЙ, УСТАВОВ, ИНСТРУКЦИЙ, СЛУЖЕБНОЙ ПЕРЕПИСКИ, ДЕЛОВЫХ БУМАГ И Т.Д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НЕМ МОЖНО ВЫДЕЛИТЬ: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1.ОФИЦИАЛЬНО-ДОКУМЕНТАЛЬНЫЙ СТИЛЬ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(ЗАКОНОДАТЕЛЬНЫЕ ДОКУМЕНТЫ,  ДИПЛОМАТИЧЕСКИЕ АКТЫ, МЕЖДУНАРОДНЫЕ СОГЛАШЕНИЯ).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2.ОБИХОДНО-ДЕЛОВОЙ СТИЛЬ 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(СЛУЖЕБНАЯ ПЕРЕПИСКА, ЧАСТНЫЕ ДЕЛОВЫЕ БУМАГИ)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0:56Z</dcterms:created>
  <dc:creator>User</dc:creator>
  <dc:description/>
  <dc:language>en-US</dc:language>
  <cp:lastModifiedBy>ТАТЬЯНА</cp:lastModifiedBy>
  <dcterms:modified xsi:type="dcterms:W3CDTF">2012-10-08T17:54:56Z</dcterms:modified>
  <cp:revision>14</cp:revision>
  <dc:subject/>
  <dc:title>Общая характеристика стилей речи</dc:title>
</cp:coreProperties>
</file>