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985FE-016C-4F6D-B511-01AFD143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EA2F-BD7D-4357-B00D-3859990C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79162-5294-4435-8075-4092F124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3DD27-082C-48A9-BD9F-080D50C3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31C4-F9DA-434D-8B46-492E1728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9DD9-2462-436D-88E8-A8DF6223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E75E-088A-469B-AC5B-F1C3A53B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EF22-68D3-4CB3-A7D6-D115CD73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5C47-6A37-4419-89EF-645C9E62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5EEA-0171-4B21-90B9-A1F27FFB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4C8D-AE62-4F5A-A768-E992A058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7FDB0-033D-4425-BA09-309AD9AF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C6DA-5378-49C8-8DF0-CFC8EAC7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7690-9C8A-4952-A2A4-5B26873B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145C-FF18-4492-8C0E-236CCFCB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9082-38C3-4CD0-8A9B-E8DA11E6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9E24-6C11-4888-807E-D4CF9AF9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7A7B7-95A3-47CA-836C-3149B090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B7164-8C23-466B-872F-32D0FD6A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8AE96-C539-47F8-BE6C-629C268D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9B73C-D374-4463-BA4C-9A9F9579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91C3B-714D-436D-900E-774EFC6C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9A8B8-73E6-4247-AB94-901B5FF5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6310E-F0D7-4245-92C4-3291C9B6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A92C-173D-4753-8BC5-1EE86CF1DD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EE7B-F313-4BAD-87C2-C53B890BDD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Республиканская научно-практическая конференция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«Психолого-педагогические проблемы совершенствования системы повышения квалификации»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1 февраля 2007г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«Доброта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0" y="1773360"/>
            <a:ext cx="4176720" cy="3049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3298680"/>
            <a:ext cx="3887640" cy="2838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«Доброта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140360" y="4076640"/>
            <a:ext cx="3166920" cy="2276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580000" y="1628640"/>
            <a:ext cx="3168720" cy="2314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68360" y="3429000"/>
            <a:ext cx="2181240" cy="2987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268360" y="1700280"/>
            <a:ext cx="2664000" cy="2144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403280" y="836640"/>
            <a:ext cx="51847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ворчество — это коп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лубже, смотреть дваж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справлять ошиб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еседовать с кошкой, ныр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глубину, проходить скво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кры­тую дверь, зажиг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олнце, хотеть знать, бы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ервооткрывателе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троить замок из песка, пе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вою песню, обменива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укопожатием с будущ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/Е. П. Торренс/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 rot="709800">
            <a:off x="5724000" y="2133360"/>
            <a:ext cx="3606840" cy="3835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2087640"/>
            <a:ext cx="7924680" cy="18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9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Book Antiqua"/>
              </a:rPr>
              <a:t>Творческих Вам успехов!</a:t>
            </a:r>
            <a:endParaRPr b="1" i="1" lang="en-US" sz="18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780000" y="4076640"/>
            <a:ext cx="158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007г.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31640" y="155736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ЗВИТИЕ ТВОРЧЕСКОЙ АКТИВНОСТИ У ПОДРОСТКОВ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СРЕДСТВОМ СЕМИОТИЧЕСКОЙ ДЕЯТЕЛЬНОСТ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Митюхина Н.П.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едагог-психолог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ЦПМСС «Лабиринт» г. Волжск, РМЭ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18920" y="62028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Творчество 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(психологический словарь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47640" y="2204640"/>
            <a:ext cx="7010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1560" y="2158920"/>
            <a:ext cx="7343640" cy="381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Деятельность, результатом которой является создание новых материальных и духовных ценносте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92000" y="62028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Креативность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(психологический словарь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64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63720" y="1979640"/>
            <a:ext cx="7292880" cy="399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реативность (от лат. creatio – созидание) — творческие способности индивида, характеризующиеся готовностью к продуцированию принципиально новых идей и входящие в структуру одаренности в качестве независимого фактора. По мнению П.Торренса, креативность включает в себя повышенную чувствительность к проблемам, действия по определению этих проблем, по поиску их решений на основе выдвижения изменению гипотез, по формулированию результата решения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84240" y="1138320"/>
            <a:ext cx="7423200" cy="422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Ж.Пиаже принадлежат термины - «символическая», «семиотическая», или знаковая функция, под которой он понимает «приобретаемую на втором году жизни спо­собность представлять отсутствующий объект или непо­средственно не воспринимаемое событие посредством символов или знаков, т. е. обозначающих, дифференци­рованных от своих обозначаемых»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292720" y="1887840"/>
            <a:ext cx="2651040" cy="3903120"/>
          </a:xfrm>
          <a:custGeom>
            <a:avLst/>
            <a:gdLst>
              <a:gd name="textAreaLeft" fmla="*/ 129240 w 2651040"/>
              <a:gd name="textAreaRight" fmla="*/ 2521800 w 2651040"/>
              <a:gd name="textAreaTop" fmla="*/ 129240 h 3903120"/>
              <a:gd name="textAreaBottom" fmla="*/ 3773880 h 3903120"/>
            </a:gdLst>
            <a:ahLst/>
            <a:rect l="textAreaLeft" t="textAreaTop" r="textAreaRight" b="textAreaBottom"/>
            <a:pathLst>
              <a:path w="21600" h="31800">
                <a:moveTo>
                  <a:pt x="3600" y="0"/>
                </a:moveTo>
                <a:arcTo wR="3600" hR="3600" stAng="16200000" swAng="-5400000"/>
                <a:lnTo>
                  <a:pt x="0" y="28200"/>
                </a:lnTo>
                <a:arcTo wR="3600" hR="3600" stAng="10800000" swAng="-5400000"/>
                <a:lnTo>
                  <a:pt x="18000" y="31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БУЧАЮЩИЙ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47640" y="410040"/>
            <a:ext cx="7596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Характерологические качества творческой личности: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1561320"/>
            <a:ext cx="3962520" cy="917280"/>
          </a:xfrm>
          <a:prstGeom prst="rightArrowCallout">
            <a:avLst>
              <a:gd name="adj1" fmla="val 25002"/>
              <a:gd name="adj2" fmla="val 25000"/>
              <a:gd name="adj3" fmla="val 71998"/>
              <a:gd name="adj4" fmla="val 66667"/>
            </a:avLst>
          </a:prstGeom>
          <a:gradFill rotWithShape="0">
            <a:gsLst>
              <a:gs pos="0">
                <a:srgbClr val="99ff33"/>
              </a:gs>
              <a:gs pos="100000">
                <a:srgbClr val="467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стематический поиск нерешенных актуальных задач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2561400"/>
            <a:ext cx="5040360" cy="917280"/>
          </a:xfrm>
          <a:prstGeom prst="rightArrowCallout">
            <a:avLst>
              <a:gd name="adj1" fmla="val 25002"/>
              <a:gd name="adj2" fmla="val 17856"/>
              <a:gd name="adj3" fmla="val 91582"/>
              <a:gd name="adj4" fmla="val 66667"/>
            </a:avLst>
          </a:prstGeom>
          <a:gradFill rotWithShape="0">
            <a:gsLst>
              <a:gs pos="0">
                <a:srgbClr val="ff66ff"/>
              </a:gs>
              <a:gs pos="100000">
                <a:srgbClr val="75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стоянный поиск новых путей решения возникающих проблем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3296880"/>
            <a:ext cx="3816360" cy="1190160"/>
          </a:xfrm>
          <a:prstGeom prst="rightArrowCallout">
            <a:avLst>
              <a:gd name="adj1" fmla="val 25002"/>
              <a:gd name="adj2" fmla="val 25000"/>
              <a:gd name="adj3" fmla="val 53443"/>
              <a:gd name="adj4" fmla="val 66667"/>
            </a:avLst>
          </a:prstGeom>
          <a:gradFill rotWithShape="0">
            <a:gsLst>
              <a:gs pos="0">
                <a:srgbClr val="9933ff"/>
              </a:gs>
              <a:gs pos="100000">
                <a:srgbClr val="4617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прерывное совершенствование своей деятельности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1276560" cy="2720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4000" y="4369680"/>
            <a:ext cx="5111640" cy="917280"/>
          </a:xfrm>
          <a:prstGeom prst="rightArrowCallout">
            <a:avLst>
              <a:gd name="adj1" fmla="val 25002"/>
              <a:gd name="adj2" fmla="val 25000"/>
              <a:gd name="adj3" fmla="val 92877"/>
              <a:gd name="adj4" fmla="val 66667"/>
            </a:avLst>
          </a:prstGeom>
          <a:gradFill rotWithShape="0">
            <a:gsLst>
              <a:gs pos="0">
                <a:srgbClr val="99ff33"/>
              </a:gs>
              <a:gs pos="100000">
                <a:srgbClr val="467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стематический поиск нерешенных актуальных задач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5304960"/>
            <a:ext cx="5257800" cy="1191600"/>
          </a:xfrm>
          <a:prstGeom prst="rightArrowCallout">
            <a:avLst>
              <a:gd name="adj1" fmla="val 25002"/>
              <a:gd name="adj2" fmla="val 25000"/>
              <a:gd name="adj3" fmla="val 73540"/>
              <a:gd name="adj4" fmla="val 66667"/>
            </a:avLst>
          </a:prstGeom>
          <a:gradFill rotWithShape="0">
            <a:gsLst>
              <a:gs pos="0">
                <a:srgbClr val="ff66ff"/>
              </a:gs>
              <a:gs pos="100000">
                <a:srgbClr val="75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пособность быстро отказаться от сложившегося стереотипа в мышлении и деятельност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4716720" y="189000"/>
            <a:ext cx="4426920" cy="3368160"/>
            <a:chOff x="4716720" y="189000"/>
            <a:chExt cx="4426920" cy="3368160"/>
          </a:xfrm>
        </p:grpSpPr>
        <p:grpSp>
          <p:nvGrpSpPr>
            <p:cNvPr id="134" name=""/>
            <p:cNvGrpSpPr/>
            <p:nvPr/>
          </p:nvGrpSpPr>
          <p:grpSpPr>
            <a:xfrm>
              <a:off x="4716720" y="189000"/>
              <a:ext cx="4426920" cy="3368160"/>
              <a:chOff x="4716720" y="189000"/>
              <a:chExt cx="4426920" cy="3368160"/>
            </a:xfrm>
          </p:grpSpPr>
          <p:sp>
            <p:nvSpPr>
              <p:cNvPr id="135" name=""/>
              <p:cNvSpPr/>
              <p:nvPr/>
            </p:nvSpPr>
            <p:spPr>
              <a:xfrm flipH="1">
                <a:off x="4716360" y="189000"/>
                <a:ext cx="4426920" cy="3368160"/>
              </a:xfrm>
              <a:custGeom>
                <a:avLst/>
                <a:gdLst/>
                <a:ahLst/>
                <a:rect l="l" t="t" r="r" b="b"/>
                <a:pathLst>
                  <a:path w="3800" h="3840">
                    <a:moveTo>
                      <a:pt x="3760" y="3060"/>
                    </a:moveTo>
                    <a:lnTo>
                      <a:pt x="1155" y="3840"/>
                    </a:lnTo>
                    <a:lnTo>
                      <a:pt x="970" y="3782"/>
                    </a:lnTo>
                    <a:lnTo>
                      <a:pt x="753" y="2970"/>
                    </a:lnTo>
                    <a:lnTo>
                      <a:pt x="279" y="3158"/>
                    </a:lnTo>
                    <a:lnTo>
                      <a:pt x="169" y="3037"/>
                    </a:lnTo>
                    <a:lnTo>
                      <a:pt x="518" y="2257"/>
                    </a:lnTo>
                    <a:lnTo>
                      <a:pt x="0" y="641"/>
                    </a:lnTo>
                    <a:lnTo>
                      <a:pt x="162" y="543"/>
                    </a:lnTo>
                    <a:lnTo>
                      <a:pt x="3267" y="0"/>
                    </a:lnTo>
                    <a:lnTo>
                      <a:pt x="3715" y="2733"/>
                    </a:lnTo>
                    <a:lnTo>
                      <a:pt x="3800" y="2708"/>
                    </a:lnTo>
                    <a:lnTo>
                      <a:pt x="3800" y="2711"/>
                    </a:lnTo>
                    <a:lnTo>
                      <a:pt x="3800" y="2725"/>
                    </a:lnTo>
                    <a:lnTo>
                      <a:pt x="3798" y="2742"/>
                    </a:lnTo>
                    <a:lnTo>
                      <a:pt x="3794" y="2767"/>
                    </a:lnTo>
                    <a:lnTo>
                      <a:pt x="3787" y="2796"/>
                    </a:lnTo>
                    <a:lnTo>
                      <a:pt x="3777" y="2827"/>
                    </a:lnTo>
                    <a:lnTo>
                      <a:pt x="3762" y="2858"/>
                    </a:lnTo>
                    <a:lnTo>
                      <a:pt x="3740" y="2891"/>
                    </a:lnTo>
                    <a:lnTo>
                      <a:pt x="3760" y="306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7925400" y="760680"/>
                <a:ext cx="1074240" cy="2572200"/>
              </a:xfrm>
              <a:custGeom>
                <a:avLst/>
                <a:gdLst/>
                <a:ahLst/>
                <a:rect l="l" t="t" r="r" b="b"/>
                <a:pathLst>
                  <a:path w="922" h="2931">
                    <a:moveTo>
                      <a:pt x="108" y="0"/>
                    </a:moveTo>
                    <a:lnTo>
                      <a:pt x="0" y="61"/>
                    </a:lnTo>
                    <a:lnTo>
                      <a:pt x="884" y="2910"/>
                    </a:lnTo>
                    <a:lnTo>
                      <a:pt x="922" y="2931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2663ff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8561160" y="2348640"/>
                <a:ext cx="272520" cy="519120"/>
              </a:xfrm>
              <a:custGeom>
                <a:avLst/>
                <a:gdLst/>
                <a:ahLst/>
                <a:rect l="l" t="t" r="r" b="b"/>
                <a:pathLst>
                  <a:path w="235" h="593">
                    <a:moveTo>
                      <a:pt x="235" y="0"/>
                    </a:moveTo>
                    <a:lnTo>
                      <a:pt x="0" y="551"/>
                    </a:lnTo>
                    <a:lnTo>
                      <a:pt x="17" y="593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1951ff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4980240" y="392040"/>
                <a:ext cx="3502080" cy="2721240"/>
              </a:xfrm>
              <a:custGeom>
                <a:avLst/>
                <a:gdLst/>
                <a:ahLst/>
                <a:rect l="l" t="t" r="r" b="b"/>
                <a:pathLst>
                  <a:path w="3007" h="3103">
                    <a:moveTo>
                      <a:pt x="0" y="480"/>
                    </a:moveTo>
                    <a:lnTo>
                      <a:pt x="2566" y="0"/>
                    </a:lnTo>
                    <a:lnTo>
                      <a:pt x="3007" y="2457"/>
                    </a:lnTo>
                    <a:lnTo>
                      <a:pt x="753" y="3103"/>
                    </a:lnTo>
                    <a:lnTo>
                      <a:pt x="0" y="480"/>
                    </a:lnTo>
                    <a:close/>
                  </a:path>
                </a:pathLst>
              </a:custGeom>
              <a:solidFill>
                <a:srgbClr val="eaedbf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7717680" y="823680"/>
                <a:ext cx="894600" cy="2280960"/>
              </a:xfrm>
              <a:custGeom>
                <a:avLst/>
                <a:gdLst/>
                <a:ahLst/>
                <a:rect l="l" t="t" r="r" b="b"/>
                <a:pathLst>
                  <a:path w="768" h="2600">
                    <a:moveTo>
                      <a:pt x="54" y="0"/>
                    </a:moveTo>
                    <a:lnTo>
                      <a:pt x="768" y="2600"/>
                    </a:lnTo>
                    <a:lnTo>
                      <a:pt x="0" y="56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5693040" y="460440"/>
                <a:ext cx="2719080" cy="1710720"/>
              </a:xfrm>
              <a:custGeom>
                <a:avLst/>
                <a:gdLst/>
                <a:ahLst/>
                <a:rect l="l" t="t" r="r" b="b"/>
                <a:pathLst>
                  <a:path w="2335" h="1951">
                    <a:moveTo>
                      <a:pt x="446" y="1951"/>
                    </a:moveTo>
                    <a:lnTo>
                      <a:pt x="0" y="435"/>
                    </a:lnTo>
                    <a:lnTo>
                      <a:pt x="2335" y="0"/>
                    </a:lnTo>
                    <a:lnTo>
                      <a:pt x="2329" y="2"/>
                    </a:lnTo>
                    <a:lnTo>
                      <a:pt x="2312" y="6"/>
                    </a:lnTo>
                    <a:lnTo>
                      <a:pt x="2285" y="12"/>
                    </a:lnTo>
                    <a:lnTo>
                      <a:pt x="2246" y="21"/>
                    </a:lnTo>
                    <a:lnTo>
                      <a:pt x="2200" y="33"/>
                    </a:lnTo>
                    <a:lnTo>
                      <a:pt x="2146" y="48"/>
                    </a:lnTo>
                    <a:lnTo>
                      <a:pt x="2083" y="67"/>
                    </a:lnTo>
                    <a:lnTo>
                      <a:pt x="2015" y="89"/>
                    </a:lnTo>
                    <a:lnTo>
                      <a:pt x="1940" y="114"/>
                    </a:lnTo>
                    <a:lnTo>
                      <a:pt x="1861" y="143"/>
                    </a:lnTo>
                    <a:lnTo>
                      <a:pt x="1778" y="175"/>
                    </a:lnTo>
                    <a:lnTo>
                      <a:pt x="1690" y="212"/>
                    </a:lnTo>
                    <a:lnTo>
                      <a:pt x="1601" y="252"/>
                    </a:lnTo>
                    <a:lnTo>
                      <a:pt x="1509" y="297"/>
                    </a:lnTo>
                    <a:lnTo>
                      <a:pt x="1416" y="345"/>
                    </a:lnTo>
                    <a:lnTo>
                      <a:pt x="1324" y="399"/>
                    </a:lnTo>
                    <a:lnTo>
                      <a:pt x="1232" y="456"/>
                    </a:lnTo>
                    <a:lnTo>
                      <a:pt x="1141" y="518"/>
                    </a:lnTo>
                    <a:lnTo>
                      <a:pt x="1053" y="585"/>
                    </a:lnTo>
                    <a:lnTo>
                      <a:pt x="966" y="657"/>
                    </a:lnTo>
                    <a:lnTo>
                      <a:pt x="883" y="734"/>
                    </a:lnTo>
                    <a:lnTo>
                      <a:pt x="806" y="817"/>
                    </a:lnTo>
                    <a:lnTo>
                      <a:pt x="733" y="903"/>
                    </a:lnTo>
                    <a:lnTo>
                      <a:pt x="666" y="998"/>
                    </a:lnTo>
                    <a:lnTo>
                      <a:pt x="606" y="1096"/>
                    </a:lnTo>
                    <a:lnTo>
                      <a:pt x="554" y="1200"/>
                    </a:lnTo>
                    <a:lnTo>
                      <a:pt x="512" y="1310"/>
                    </a:lnTo>
                    <a:lnTo>
                      <a:pt x="477" y="1425"/>
                    </a:lnTo>
                    <a:lnTo>
                      <a:pt x="452" y="1546"/>
                    </a:lnTo>
                    <a:lnTo>
                      <a:pt x="439" y="1675"/>
                    </a:lnTo>
                    <a:lnTo>
                      <a:pt x="437" y="1810"/>
                    </a:lnTo>
                    <a:lnTo>
                      <a:pt x="446" y="1951"/>
                    </a:lnTo>
                    <a:close/>
                  </a:path>
                </a:pathLst>
              </a:custGeom>
              <a:solidFill>
                <a:srgbClr val="c6c687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6890400" y="3099240"/>
                <a:ext cx="808200" cy="180720"/>
              </a:xfrm>
              <a:custGeom>
                <a:avLst/>
                <a:gdLst/>
                <a:ahLst/>
                <a:rect l="l" t="t" r="r" b="b"/>
                <a:pathLst>
                  <a:path w="695" h="206">
                    <a:moveTo>
                      <a:pt x="0" y="206"/>
                    </a:moveTo>
                    <a:lnTo>
                      <a:pt x="693" y="0"/>
                    </a:lnTo>
                    <a:lnTo>
                      <a:pt x="693" y="2"/>
                    </a:lnTo>
                    <a:lnTo>
                      <a:pt x="695" y="6"/>
                    </a:lnTo>
                    <a:lnTo>
                      <a:pt x="695" y="14"/>
                    </a:lnTo>
                    <a:lnTo>
                      <a:pt x="693" y="25"/>
                    </a:lnTo>
                    <a:lnTo>
                      <a:pt x="689" y="37"/>
                    </a:lnTo>
                    <a:lnTo>
                      <a:pt x="683" y="50"/>
                    </a:lnTo>
                    <a:lnTo>
                      <a:pt x="674" y="66"/>
                    </a:lnTo>
                    <a:lnTo>
                      <a:pt x="660" y="81"/>
                    </a:lnTo>
                    <a:lnTo>
                      <a:pt x="641" y="98"/>
                    </a:lnTo>
                    <a:lnTo>
                      <a:pt x="616" y="116"/>
                    </a:lnTo>
                    <a:lnTo>
                      <a:pt x="583" y="131"/>
                    </a:lnTo>
                    <a:lnTo>
                      <a:pt x="543" y="148"/>
                    </a:lnTo>
                    <a:lnTo>
                      <a:pt x="495" y="164"/>
                    </a:lnTo>
                    <a:lnTo>
                      <a:pt x="437" y="177"/>
                    </a:lnTo>
                    <a:lnTo>
                      <a:pt x="369" y="191"/>
                    </a:lnTo>
                    <a:lnTo>
                      <a:pt x="290" y="200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4826160" y="2641320"/>
                <a:ext cx="787680" cy="182520"/>
              </a:xfrm>
              <a:custGeom>
                <a:avLst/>
                <a:gdLst/>
                <a:ahLst/>
                <a:rect l="l" t="t" r="r" b="b"/>
                <a:pathLst>
                  <a:path w="676" h="208">
                    <a:moveTo>
                      <a:pt x="0" y="199"/>
                    </a:moveTo>
                    <a:lnTo>
                      <a:pt x="676" y="0"/>
                    </a:lnTo>
                    <a:lnTo>
                      <a:pt x="676" y="2"/>
                    </a:lnTo>
                    <a:lnTo>
                      <a:pt x="674" y="6"/>
                    </a:lnTo>
                    <a:lnTo>
                      <a:pt x="670" y="14"/>
                    </a:lnTo>
                    <a:lnTo>
                      <a:pt x="664" y="25"/>
                    </a:lnTo>
                    <a:lnTo>
                      <a:pt x="657" y="37"/>
                    </a:lnTo>
                    <a:lnTo>
                      <a:pt x="645" y="52"/>
                    </a:lnTo>
                    <a:lnTo>
                      <a:pt x="630" y="68"/>
                    </a:lnTo>
                    <a:lnTo>
                      <a:pt x="612" y="83"/>
                    </a:lnTo>
                    <a:lnTo>
                      <a:pt x="587" y="100"/>
                    </a:lnTo>
                    <a:lnTo>
                      <a:pt x="558" y="118"/>
                    </a:lnTo>
                    <a:lnTo>
                      <a:pt x="524" y="135"/>
                    </a:lnTo>
                    <a:lnTo>
                      <a:pt x="483" y="152"/>
                    </a:lnTo>
                    <a:lnTo>
                      <a:pt x="435" y="168"/>
                    </a:lnTo>
                    <a:lnTo>
                      <a:pt x="379" y="183"/>
                    </a:lnTo>
                    <a:lnTo>
                      <a:pt x="318" y="197"/>
                    </a:lnTo>
                    <a:lnTo>
                      <a:pt x="247" y="208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 rot="940200">
              <a:off x="4970160" y="1128960"/>
              <a:ext cx="3274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Основные компоненты творческой активности учащихся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50920" y="3645000"/>
            <a:ext cx="3024000" cy="1191240"/>
          </a:xfrm>
          <a:prstGeom prst="wedgeRectCallout">
            <a:avLst>
              <a:gd name="adj1" fmla="val 132620"/>
              <a:gd name="adj2" fmla="val -158305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ующее отношение к изучаемым предметам, объектам, явления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2133720"/>
            <a:ext cx="3311640" cy="916920"/>
          </a:xfrm>
          <a:prstGeom prst="wedgeRectCallout">
            <a:avLst>
              <a:gd name="adj1" fmla="val 100712"/>
              <a:gd name="adj2" fmla="val -65694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требности, интересы, склонности к творческой деятель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5013360"/>
            <a:ext cx="3024360" cy="916920"/>
          </a:xfrm>
          <a:prstGeom prst="wedgeRectCallout">
            <a:avLst>
              <a:gd name="adj1" fmla="val 90152"/>
              <a:gd name="adj2" fmla="val -329000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товность к преобразующей деятель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59280" y="5373720"/>
            <a:ext cx="3384720" cy="642600"/>
          </a:xfrm>
          <a:prstGeom prst="wedgeRectCallout">
            <a:avLst>
              <a:gd name="adj1" fmla="val -10791"/>
              <a:gd name="adj2" fmla="val -495796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ама преобразующая деятельность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4221000"/>
            <a:ext cx="3384360" cy="368280"/>
          </a:xfrm>
          <a:prstGeom prst="wedgeRectCallout">
            <a:avLst>
              <a:gd name="adj1" fmla="val -4935"/>
              <a:gd name="adj2" fmla="val -498435"/>
            </a:avLst>
          </a:prstGeom>
          <a:solidFill>
            <a:srgbClr val="000066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вристический потенциа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500"/>
                            </p:stCondLst>
                            <p:childTnLst>
                              <p:par>
                                <p:cTn id="105" nodeType="afterEffect" fill="hold" presetClass="entr" presetID="18" presetSubtype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18" presetSubtype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3" nodeType="afterEffect" fill="hold" presetClass="entr" presetID="18" presetSubtype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7" nodeType="afterEffect" fill="hold" presetClass="entr" presetID="18" presetSubtype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580000" y="4941720"/>
            <a:ext cx="2160720" cy="1221120"/>
          </a:xfrm>
          <a:prstGeom prst="wedgeRectCallout">
            <a:avLst>
              <a:gd name="adj1" fmla="val -107236"/>
              <a:gd name="adj2" fmla="val -170935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повышение творческой активности подрост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43640" y="2708280"/>
            <a:ext cx="2389320" cy="1465200"/>
          </a:xfrm>
          <a:prstGeom prst="wedgeRectCallout">
            <a:avLst>
              <a:gd name="adj1" fmla="val -139101"/>
              <a:gd name="adj2" fmla="val -24648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развитие творческих способностей, наблюдатель-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2924280"/>
            <a:ext cx="2592360" cy="3142080"/>
          </a:xfrm>
          <a:prstGeom prst="wedgeRectCallout">
            <a:avLst>
              <a:gd name="adj1" fmla="val 99402"/>
              <a:gd name="adj2" fmla="val -36986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повышение социально-психологической компетентности участников, развитие их способности эффективно взаимодейство-вать с окружающи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836640"/>
            <a:ext cx="2438280" cy="1221120"/>
          </a:xfrm>
          <a:prstGeom prst="wedgeRectCallout">
            <a:avLst>
              <a:gd name="adj1" fmla="val -141009"/>
              <a:gd name="adj2" fmla="val 128837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Narrow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обучение приемам внимательного слуш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620640"/>
            <a:ext cx="3456000" cy="1068840"/>
          </a:xfrm>
          <a:prstGeom prst="wedgeRectCallout">
            <a:avLst>
              <a:gd name="adj1" fmla="val 11731"/>
              <a:gd name="adj2" fmla="val 225282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Narrow"/>
              </a:rPr>
              <a:t>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Стимулирование развития творческой активности подрост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771640" y="1628640"/>
            <a:ext cx="3429000" cy="3456000"/>
          </a:xfrm>
          <a:prstGeom prst="rect">
            <a:avLst/>
          </a:prstGeom>
        </p:spPr>
        <p:txBody>
          <a:bodyPr wrap="none" lIns="90000" rIns="90000" tIns="46800" bIns="46800" anchor="t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echnicalPiEF"/>
              </a:rPr>
              <a:t>Ц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echnicalPiEF"/>
              <a:ea typeface="TechnicalPiE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echnicalPiEF"/>
              </a:rPr>
              <a:t>програм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echnicalPiEF"/>
              <a:ea typeface="TechnicalPiE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echnicalPiEF"/>
              </a:rPr>
              <a:t>и зада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echnicalPiEF"/>
              <a:ea typeface="TechnicalPiEF"/>
            </a:endParaRPr>
          </a:p>
        </p:txBody>
      </p:sp>
    </p:spTree>
  </p:cSld>
  <p:transition spd="med">
    <p:split dir="out" orient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500"/>
                            </p:stCondLst>
                            <p:childTnLst>
                              <p:par>
                                <p:cTn id="136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РЕАЛИЗАЦИЯ ПРОГРАММ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00000" y="198108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·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Форма работы: группов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бщее время, отводимое на тренинговую программу 32 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Частота встреч: 1-2 раза в недел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личество занятий – 1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лительность каждого занятия –1,5 -2  ча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5:29:33Z</dcterms:created>
  <dc:creator>Z</dc:creator>
  <dc:description/>
  <dc:language>en-US</dc:language>
  <cp:lastModifiedBy>Nataly</cp:lastModifiedBy>
  <dcterms:modified xsi:type="dcterms:W3CDTF">2011-05-13T06:48:03Z</dcterms:modified>
  <cp:revision>54</cp:revision>
  <dc:subject/>
  <dc:title>Слайд 1</dc:title>
</cp:coreProperties>
</file>