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1AA-F839-4D17-BF19-ABA98987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3BE-2E36-4D5F-9C57-28FDD1EC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C70-EA96-4C51-BA7E-B6639C7A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6ED-8B6C-4D94-A44E-D586BF43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5B9C-67F9-4F3D-95FC-7525B159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C6EA-74F1-4725-A36A-C38E3375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C75F-48A0-4BE2-A244-C526ED64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0F1F-F834-4317-9DD5-6D2E4C41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F9D5-9C32-444D-97F7-1635B44C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0EC9-3C91-4FBD-9205-A959C7DF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AC0B-15B6-416C-8DBF-B020E336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9D5-9B49-475E-AD47-B72CA236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6D8B-875D-49A9-BE96-D0B26233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08FC-8452-4B45-94FA-065DAC29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332D-1B3D-467B-9007-8D0EE94D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AAA8-AE54-48DE-8E26-70C7DE2C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BDDF-E12E-4FF4-82D6-8025EB00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478E7-56F8-4158-809D-47B81B94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BCE0B-7E5D-480C-B1E3-5D8DA67C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D78D5-8428-4776-9CE6-6AFC91C8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8B32-195D-4AFB-908E-22A8364F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20CB6-EB61-41CC-B3E5-E10FFF51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A43-9D60-42EC-A1E4-CD48492D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C99F2-97B6-46AF-9BAA-A57A2DF5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7E1C2-7F13-4FBA-8AF0-25D0F645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D6488-1537-4527-8C91-52E5C7FA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7C4BB-EA6E-4D12-B0FD-0E4F6318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9FA2A-1096-4C14-ABEA-944A7645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E723F-56AD-4F82-817B-E1FFD1A4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85BBB-CCAA-4292-9CE5-D407CB3E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39C7A-720A-47A5-8A42-C7F34D4B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D00C5-1C8C-484D-9E72-9A9B5A73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6A15A-DCC8-4398-B694-16CCB96D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F41-60BC-404F-984F-3E5FE76E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4BA5D-0E93-4D43-A350-099F33A4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35664-3F8B-412D-9735-A22E3E7C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8238B-7E53-497C-9E63-90381E69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5F7C9-D055-428F-B9C9-B755C8CE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755E0-43BC-424A-9662-4F4BFAB6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B1526-1FBD-4031-BD10-453AFC68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F4FFE-9B19-4F4D-A2FF-55ADCD55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15056-B493-481C-BD3F-7BAD34BB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8C13D-8E9A-472C-A301-8A3C43F5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F4B9A-D6F6-41F9-84C0-EB64F9E3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356-DF1E-4EBF-952A-FCCC4219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695FE-7542-4961-B48E-3CB7E6FA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802E7-CF75-496C-8280-474CCACB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D80EC-F0D7-4004-A700-A795355F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406D0-CCD0-4801-B1E0-73C14FD6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8273A-BE58-48A7-B671-B79AC3B0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88B38-58A5-4412-8E6C-FFCDFF06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3DA18-4009-409A-B228-4F574F79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6C949-89FB-4774-9713-35C5AAF5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FEA5B-9577-4096-8ADE-10CB3F76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0A2F7-B940-4BCB-A69E-6C58C9B2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435-F04C-43DA-AADE-69F93AF6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63402-5641-430C-9AB7-2664C15D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FD335-95F5-421D-B785-FFF5E33E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3E971-60A6-44CE-85BF-588B2BB9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5FE635-DF0A-4DD2-9588-984CFB8A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8DAEEF-51E9-453E-A9C7-0CDA77A9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6F548-525B-4DCF-A36C-BC31A5DB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59C25-BD30-44B4-B90E-ACFB91CB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E915B1-41BC-4BD5-8C59-479C0825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AD502-3496-4D26-B0E0-08666E4D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77720-C340-4B64-902E-F6FFEE82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D2F-9DCE-45D6-86E5-C7F4275D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E7E930-9FDC-497B-B3DA-6E8E8CE1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AA961-2CD3-4840-AEFF-6477F138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55AA6-0B21-4ED6-98E3-E32D7AFE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6524D-E80D-4992-8E10-223F66B3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3044B-2B3F-41BD-9D2A-913511DA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9A8E5-AE17-4E27-A2B4-DE3C3653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4AC7A-D16D-456C-A1E9-EC072CA1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726EF-F69D-4510-B3EA-7E497845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481E3-995F-4895-86FA-522C4B9E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9D711-E860-40EF-B7F7-6E95AE93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4EF-B559-40C1-8D9F-57364308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23065-22DF-4ECD-94DA-FF2D5EC1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717F3-806E-405B-BBD5-4F71A7E1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2ECCE-BE6E-4F44-A836-EDA542F7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3F7D5-A74B-4ED1-88DC-06595DE0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ECD60-1E5D-4183-A53A-4EC4CC9E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3E7-E3A5-4519-9221-99CE5ACC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2639-3ED8-4645-8AC0-4E46109252C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E258-F16A-4775-B984-00D304EA1837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6146-383E-4E8A-B854-76B1968B3B0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FD8D-B7B1-40F6-A0CB-59BB5B2A10E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A255-078B-4B29-AAE2-94B15EE292D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AF08-F5D6-4BEF-B891-28AA61EACE1F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A46C-472A-4231-A5C3-BEEB9C700AE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УРОК № 11</a:t>
            </a:r>
            <a:endParaRPr b="0" lang="en-US" sz="13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ОКРУЖАЮЩИЙ МИР 4 КЛАСС</a:t>
            </a:r>
            <a:endParaRPr b="0" lang="en-US" sz="13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РАВНИНЫ И ГОРЫ РОССИИ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ГОРА БЕЛУХ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8" name="Объект 8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775640" cy="53402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D:\работа\разное\Картинки\для презентации\оформление слайда\мультяшки\125578168763235.png"/>
          <p:cNvPicPr/>
          <p:nvPr/>
        </p:nvPicPr>
        <p:blipFill>
          <a:blip r:embed="rId2"/>
          <a:stretch/>
        </p:blipFill>
        <p:spPr>
          <a:xfrm>
            <a:off x="4572000" y="5013360"/>
            <a:ext cx="1257480" cy="1257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81481E-006 L -0.19479 -0.27014 E">
                                      <p:cBhvr>
                                        <p:cTn id="30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560" y="4076640"/>
            <a:ext cx="3066840" cy="25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ЗАПАДНО-СИБИРСКАЯ РАВНИН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2" name="Объект 5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70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D:\работа\разное\Картинки\для презентации\оформление слайда\мультяшки\125578168763235.png"/>
          <p:cNvPicPr/>
          <p:nvPr/>
        </p:nvPicPr>
        <p:blipFill>
          <a:blip r:embed="rId2"/>
          <a:stretch/>
        </p:blipFill>
        <p:spPr>
          <a:xfrm>
            <a:off x="3203640" y="3540240"/>
            <a:ext cx="896760" cy="896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8148E-006 L -0.14341 0.00255 E">
                                      <p:cBhvr>
                                        <p:cTn id="36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3425760" cy="136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УРАЛЬСКИЕ ГОРЫ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6" name="Объект 3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2431800" cy="6486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36417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ГОРА НАРОДНАЯ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4572000" y="115920"/>
            <a:ext cx="448632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олилиния 10"/>
          <p:cNvSpPr/>
          <p:nvPr/>
        </p:nvSpPr>
        <p:spPr>
          <a:xfrm>
            <a:off x="395280" y="2276640"/>
            <a:ext cx="3817800" cy="3456000"/>
          </a:xfrm>
          <a:custGeom>
            <a:avLst/>
            <a:gdLst/>
            <a:ahLst/>
            <a:rect l="l" t="t" r="r" b="b"/>
            <a:pathLst>
              <a:path w="3817431" h="2934581">
                <a:moveTo>
                  <a:pt x="0" y="2905252"/>
                </a:moveTo>
                <a:cubicBezTo>
                  <a:pt x="307109" y="2048579"/>
                  <a:pt x="614218" y="1191907"/>
                  <a:pt x="858982" y="716234"/>
                </a:cubicBezTo>
                <a:cubicBezTo>
                  <a:pt x="1103746" y="240561"/>
                  <a:pt x="1249219" y="143579"/>
                  <a:pt x="1468582" y="51215"/>
                </a:cubicBezTo>
                <a:cubicBezTo>
                  <a:pt x="1687946" y="-41149"/>
                  <a:pt x="1974272" y="-11130"/>
                  <a:pt x="2175163" y="162052"/>
                </a:cubicBezTo>
                <a:cubicBezTo>
                  <a:pt x="2376054" y="335234"/>
                  <a:pt x="2556163" y="780888"/>
                  <a:pt x="2673927" y="1090306"/>
                </a:cubicBezTo>
                <a:cubicBezTo>
                  <a:pt x="2791691" y="1399724"/>
                  <a:pt x="2791691" y="1766870"/>
                  <a:pt x="2881745" y="2018561"/>
                </a:cubicBezTo>
                <a:cubicBezTo>
                  <a:pt x="2971799" y="2270252"/>
                  <a:pt x="3066472" y="2452670"/>
                  <a:pt x="3214254" y="2600452"/>
                </a:cubicBezTo>
                <a:cubicBezTo>
                  <a:pt x="3362036" y="2748234"/>
                  <a:pt x="3678381" y="2854452"/>
                  <a:pt x="3768436" y="2905252"/>
                </a:cubicBezTo>
                <a:cubicBezTo>
                  <a:pt x="3858491" y="2956052"/>
                  <a:pt x="3806536" y="2930652"/>
                  <a:pt x="3754582" y="290525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Полилиния 11"/>
          <p:cNvSpPr/>
          <p:nvPr/>
        </p:nvSpPr>
        <p:spPr>
          <a:xfrm>
            <a:off x="3200400" y="3716280"/>
            <a:ext cx="2133720" cy="1257480"/>
          </a:xfrm>
          <a:custGeom>
            <a:avLst/>
            <a:gdLst/>
            <a:ahLst/>
            <a:rect l="l" t="t" r="r" b="b"/>
            <a:pathLst>
              <a:path w="2133600" h="1256662">
                <a:moveTo>
                  <a:pt x="0" y="688625"/>
                </a:moveTo>
                <a:cubicBezTo>
                  <a:pt x="185882" y="458870"/>
                  <a:pt x="371764" y="229116"/>
                  <a:pt x="554182" y="120589"/>
                </a:cubicBezTo>
                <a:cubicBezTo>
                  <a:pt x="736600" y="12062"/>
                  <a:pt x="930564" y="-41047"/>
                  <a:pt x="1094509" y="37462"/>
                </a:cubicBezTo>
                <a:cubicBezTo>
                  <a:pt x="1258455" y="115971"/>
                  <a:pt x="1427019" y="432317"/>
                  <a:pt x="1537855" y="591644"/>
                </a:cubicBezTo>
                <a:cubicBezTo>
                  <a:pt x="1648691" y="750971"/>
                  <a:pt x="1660236" y="882589"/>
                  <a:pt x="1759527" y="993425"/>
                </a:cubicBezTo>
                <a:cubicBezTo>
                  <a:pt x="1858818" y="1104261"/>
                  <a:pt x="2133600" y="1256662"/>
                  <a:pt x="2133600" y="1256662"/>
                </a:cubicBezTo>
                <a:lnTo>
                  <a:pt x="2133600" y="12566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Полилиния 12"/>
          <p:cNvSpPr/>
          <p:nvPr/>
        </p:nvSpPr>
        <p:spPr>
          <a:xfrm>
            <a:off x="4586400" y="1955880"/>
            <a:ext cx="3809880" cy="2173320"/>
          </a:xfrm>
          <a:custGeom>
            <a:avLst/>
            <a:gdLst/>
            <a:ahLst/>
            <a:rect l="l" t="t" r="r" b="b"/>
            <a:pathLst>
              <a:path w="3810000" h="2173324">
                <a:moveTo>
                  <a:pt x="0" y="2104051"/>
                </a:moveTo>
                <a:cubicBezTo>
                  <a:pt x="87745" y="2070569"/>
                  <a:pt x="175491" y="2037087"/>
                  <a:pt x="332509" y="1813105"/>
                </a:cubicBezTo>
                <a:cubicBezTo>
                  <a:pt x="489527" y="1589123"/>
                  <a:pt x="792018" y="997996"/>
                  <a:pt x="942109" y="760160"/>
                </a:cubicBezTo>
                <a:cubicBezTo>
                  <a:pt x="1092200" y="522324"/>
                  <a:pt x="1094509" y="510778"/>
                  <a:pt x="1233054" y="386087"/>
                </a:cubicBezTo>
                <a:cubicBezTo>
                  <a:pt x="1371599" y="261396"/>
                  <a:pt x="1567872" y="39723"/>
                  <a:pt x="1773381" y="12014"/>
                </a:cubicBezTo>
                <a:cubicBezTo>
                  <a:pt x="1978890" y="-15695"/>
                  <a:pt x="2244436" y="-13385"/>
                  <a:pt x="2466109" y="219833"/>
                </a:cubicBezTo>
                <a:cubicBezTo>
                  <a:pt x="2687782" y="453051"/>
                  <a:pt x="2879436" y="1085742"/>
                  <a:pt x="3103418" y="1411324"/>
                </a:cubicBezTo>
                <a:cubicBezTo>
                  <a:pt x="3327400" y="1736906"/>
                  <a:pt x="3810000" y="2173324"/>
                  <a:pt x="3810000" y="2173324"/>
                </a:cubicBezTo>
                <a:lnTo>
                  <a:pt x="3810000" y="21733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Полилиния 13"/>
          <p:cNvSpPr/>
          <p:nvPr/>
        </p:nvSpPr>
        <p:spPr>
          <a:xfrm>
            <a:off x="2881440" y="2055960"/>
            <a:ext cx="2369880" cy="1130040"/>
          </a:xfrm>
          <a:custGeom>
            <a:avLst/>
            <a:gdLst/>
            <a:ahLst/>
            <a:rect l="l" t="t" r="r" b="b"/>
            <a:pathLst>
              <a:path w="2369128" h="1130941">
                <a:moveTo>
                  <a:pt x="0" y="1006251"/>
                </a:moveTo>
                <a:cubicBezTo>
                  <a:pt x="205509" y="783423"/>
                  <a:pt x="411018" y="560596"/>
                  <a:pt x="581891" y="396651"/>
                </a:cubicBezTo>
                <a:cubicBezTo>
                  <a:pt x="752764" y="232706"/>
                  <a:pt x="856673" y="61833"/>
                  <a:pt x="1025237" y="22578"/>
                </a:cubicBezTo>
                <a:cubicBezTo>
                  <a:pt x="1193801" y="-16677"/>
                  <a:pt x="1369291" y="-23604"/>
                  <a:pt x="1593273" y="161123"/>
                </a:cubicBezTo>
                <a:cubicBezTo>
                  <a:pt x="1817255" y="345850"/>
                  <a:pt x="2369128" y="1130941"/>
                  <a:pt x="2369128" y="1130941"/>
                </a:cubicBezTo>
                <a:lnTo>
                  <a:pt x="2369128" y="11309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Объект 3" descr=""/>
          <p:cNvPicPr/>
          <p:nvPr/>
        </p:nvPicPr>
        <p:blipFill>
          <a:blip r:embed="rId1"/>
          <a:stretch/>
        </p:blipFill>
        <p:spPr>
          <a:xfrm>
            <a:off x="-4680" y="-7920"/>
            <a:ext cx="9148680" cy="6862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D:\работа\разное\Картинки\для презентации\оформление слайда\мультяшки\125578168763235.png"/>
          <p:cNvPicPr/>
          <p:nvPr/>
        </p:nvPicPr>
        <p:blipFill>
          <a:blip r:embed="rId2"/>
          <a:stretch/>
        </p:blipFill>
        <p:spPr>
          <a:xfrm>
            <a:off x="1619280" y="3500280"/>
            <a:ext cx="1185840" cy="1186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0741E-007 L -0.04115 -0.15972 E">
                                      <p:cBhvr>
                                        <p:cTn id="42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160" y="407880"/>
            <a:ext cx="3786120" cy="25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ВОСТОЧНО-ЕВРОПЕЙСКАЯ РАВНИН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6" name="Объект 3" descr=""/>
          <p:cNvPicPr/>
          <p:nvPr/>
        </p:nvPicPr>
        <p:blipFill>
          <a:blip r:embed="rId1"/>
          <a:stretch/>
        </p:blipFill>
        <p:spPr>
          <a:xfrm>
            <a:off x="4716360" y="115920"/>
            <a:ext cx="4302360" cy="6626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D:\работа\разное\Картинки\для презентации\оформление слайда\мультяшки\125578168763235.png"/>
          <p:cNvPicPr/>
          <p:nvPr/>
        </p:nvPicPr>
        <p:blipFill>
          <a:blip r:embed="rId2"/>
          <a:stretch/>
        </p:blipFill>
        <p:spPr>
          <a:xfrm>
            <a:off x="1619280" y="2637000"/>
            <a:ext cx="754200" cy="752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15746 0.1787 E">
                                      <p:cBhvr>
                                        <p:cTn id="48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ЦЕЛИ:</a:t>
            </a:r>
            <a:endParaRPr b="0" lang="en-US" sz="4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формировать у учащихся представление о равнинах и горах;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знакомить с равнинами и горами на территории России;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развивать познавательную активность детей, умение работать по карте, наблюдать, обобщать, делать выводы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КАВКАЗСКИЕ ГОРЫ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0" name="Объект 3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897876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ГОРА ЭЛЬБРУС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2" name="Объект 10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5465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ая соединительная линия 4"/>
          <p:cNvSpPr/>
          <p:nvPr/>
        </p:nvSpPr>
        <p:spPr>
          <a:xfrm flipV="1">
            <a:off x="755640" y="2060640"/>
            <a:ext cx="129528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Прямая соединительная линия 6"/>
          <p:cNvSpPr/>
          <p:nvPr/>
        </p:nvSpPr>
        <p:spPr>
          <a:xfrm>
            <a:off x="2050920" y="2060640"/>
            <a:ext cx="165744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Прямая соединительная линия 8"/>
          <p:cNvSpPr/>
          <p:nvPr/>
        </p:nvSpPr>
        <p:spPr>
          <a:xfrm>
            <a:off x="2050920" y="2060640"/>
            <a:ext cx="93672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Прямая соединительная линия 10"/>
          <p:cNvSpPr/>
          <p:nvPr/>
        </p:nvSpPr>
        <p:spPr>
          <a:xfrm flipV="1">
            <a:off x="4859280" y="2781000"/>
            <a:ext cx="136836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Прямая соединительная линия 12"/>
          <p:cNvSpPr/>
          <p:nvPr/>
        </p:nvSpPr>
        <p:spPr>
          <a:xfrm>
            <a:off x="6227640" y="2781360"/>
            <a:ext cx="122400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Прямая соединительная линия 14"/>
          <p:cNvSpPr/>
          <p:nvPr/>
        </p:nvSpPr>
        <p:spPr>
          <a:xfrm>
            <a:off x="6227640" y="2781360"/>
            <a:ext cx="43200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Прямая соединительная линия 16"/>
          <p:cNvSpPr/>
          <p:nvPr/>
        </p:nvSpPr>
        <p:spPr>
          <a:xfrm flipV="1">
            <a:off x="2987640" y="1844280"/>
            <a:ext cx="129708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Прямая соединительная линия 18"/>
          <p:cNvSpPr/>
          <p:nvPr/>
        </p:nvSpPr>
        <p:spPr>
          <a:xfrm>
            <a:off x="4284720" y="1844640"/>
            <a:ext cx="115092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Прямая соединительная линия 20"/>
          <p:cNvSpPr/>
          <p:nvPr/>
        </p:nvSpPr>
        <p:spPr>
          <a:xfrm>
            <a:off x="4284720" y="1844640"/>
            <a:ext cx="50328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Прямая соединительная линия 22"/>
          <p:cNvSpPr/>
          <p:nvPr/>
        </p:nvSpPr>
        <p:spPr>
          <a:xfrm flipV="1">
            <a:off x="5148360" y="306828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Прямая соединительная линия 24"/>
          <p:cNvSpPr/>
          <p:nvPr/>
        </p:nvSpPr>
        <p:spPr>
          <a:xfrm>
            <a:off x="5435640" y="306864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Прямая соединительная линия 26"/>
          <p:cNvSpPr/>
          <p:nvPr/>
        </p:nvSpPr>
        <p:spPr>
          <a:xfrm flipV="1">
            <a:off x="4859280" y="2204640"/>
            <a:ext cx="757440" cy="6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Прямая соединительная линия 28"/>
          <p:cNvSpPr/>
          <p:nvPr/>
        </p:nvSpPr>
        <p:spPr>
          <a:xfrm>
            <a:off x="5616720" y="2205000"/>
            <a:ext cx="46800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РАБОТА В РАБОЧЕЙ ТЕТРАД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Объект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1424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ЗАКРЕПЛЕНИ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9" name="Прямая соединительная линия 4"/>
          <p:cNvSpPr/>
          <p:nvPr/>
        </p:nvSpPr>
        <p:spPr>
          <a:xfrm>
            <a:off x="971640" y="3284640"/>
            <a:ext cx="734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Полилиния 5"/>
          <p:cNvSpPr/>
          <p:nvPr/>
        </p:nvSpPr>
        <p:spPr>
          <a:xfrm>
            <a:off x="1579680" y="2766960"/>
            <a:ext cx="6207120" cy="530280"/>
          </a:xfrm>
          <a:custGeom>
            <a:avLst/>
            <a:gdLst/>
            <a:ahLst/>
            <a:rect l="l" t="t" r="r" b="b"/>
            <a:pathLst>
              <a:path w="6206837" h="530654">
                <a:moveTo>
                  <a:pt x="0" y="516799"/>
                </a:moveTo>
                <a:cubicBezTo>
                  <a:pt x="218209" y="372481"/>
                  <a:pt x="436418" y="228163"/>
                  <a:pt x="734291" y="142727"/>
                </a:cubicBezTo>
                <a:cubicBezTo>
                  <a:pt x="1032164" y="57291"/>
                  <a:pt x="1433946" y="-18910"/>
                  <a:pt x="1787237" y="4181"/>
                </a:cubicBezTo>
                <a:cubicBezTo>
                  <a:pt x="2140528" y="27272"/>
                  <a:pt x="2526146" y="216618"/>
                  <a:pt x="2854037" y="281272"/>
                </a:cubicBezTo>
                <a:cubicBezTo>
                  <a:pt x="3181928" y="345926"/>
                  <a:pt x="3456709" y="424435"/>
                  <a:pt x="3754582" y="392108"/>
                </a:cubicBezTo>
                <a:cubicBezTo>
                  <a:pt x="4052455" y="359781"/>
                  <a:pt x="4331855" y="121944"/>
                  <a:pt x="4641273" y="87308"/>
                </a:cubicBezTo>
                <a:cubicBezTo>
                  <a:pt x="4950691" y="52672"/>
                  <a:pt x="5350164" y="110399"/>
                  <a:pt x="5611091" y="184290"/>
                </a:cubicBezTo>
                <a:cubicBezTo>
                  <a:pt x="5872018" y="258181"/>
                  <a:pt x="6206837" y="530654"/>
                  <a:pt x="6206837" y="530654"/>
                </a:cubicBezTo>
                <a:lnTo>
                  <a:pt x="6206837" y="53065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Прямая соединительная линия 7"/>
          <p:cNvSpPr/>
          <p:nvPr/>
        </p:nvSpPr>
        <p:spPr>
          <a:xfrm>
            <a:off x="971640" y="5373720"/>
            <a:ext cx="734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Полилиния 8"/>
          <p:cNvSpPr/>
          <p:nvPr/>
        </p:nvSpPr>
        <p:spPr>
          <a:xfrm>
            <a:off x="1954080" y="5079960"/>
            <a:ext cx="5751720" cy="268200"/>
          </a:xfrm>
          <a:custGeom>
            <a:avLst/>
            <a:gdLst/>
            <a:ahLst/>
            <a:rect l="l" t="t" r="r" b="b"/>
            <a:pathLst>
              <a:path w="5751877" h="267893">
                <a:moveTo>
                  <a:pt x="0" y="267893"/>
                </a:moveTo>
                <a:cubicBezTo>
                  <a:pt x="61191" y="185920"/>
                  <a:pt x="122382" y="103947"/>
                  <a:pt x="346364" y="60074"/>
                </a:cubicBezTo>
                <a:cubicBezTo>
                  <a:pt x="570346" y="16201"/>
                  <a:pt x="528782" y="-11508"/>
                  <a:pt x="1343891" y="4656"/>
                </a:cubicBezTo>
                <a:cubicBezTo>
                  <a:pt x="2159000" y="20820"/>
                  <a:pt x="4509655" y="113183"/>
                  <a:pt x="5237018" y="157056"/>
                </a:cubicBezTo>
                <a:cubicBezTo>
                  <a:pt x="5964381" y="200929"/>
                  <a:pt x="5708073" y="267893"/>
                  <a:pt x="5708073" y="267893"/>
                </a:cubicBezTo>
                <a:lnTo>
                  <a:pt x="5708073" y="26789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ircl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ДОМАШНЕЕ ЗАДАНИ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Gothic"/>
              </a:rPr>
              <a:t>Прочитать текст, ответить на вопросы (с. 64-71);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Gothic"/>
              </a:rPr>
              <a:t>Учебник с. 70 задание 2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Объект 3" descr=""/>
          <p:cNvPicPr/>
          <p:nvPr/>
        </p:nvPicPr>
        <p:blipFill>
          <a:blip r:embed="rId1"/>
          <a:stretch/>
        </p:blipFill>
        <p:spPr>
          <a:xfrm>
            <a:off x="14400" y="-4680"/>
            <a:ext cx="9129600" cy="6848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D:\работа\разное\Картинки\для презентации\оформление слайда\мультяшки\125578168763235.png"/>
          <p:cNvPicPr/>
          <p:nvPr/>
        </p:nvPicPr>
        <p:blipFill>
          <a:blip r:embed="rId2"/>
          <a:stretch/>
        </p:blipFill>
        <p:spPr>
          <a:xfrm>
            <a:off x="8101080" y="2476440"/>
            <a:ext cx="752400" cy="752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5160" y="407880"/>
            <a:ext cx="3498840" cy="23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ПОЛУОСТРОВ КАМЧАТК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8" name="Объект 3" descr=""/>
          <p:cNvPicPr/>
          <p:nvPr/>
        </p:nvPicPr>
        <p:blipFill>
          <a:blip r:embed="rId1"/>
          <a:stretch/>
        </p:blipFill>
        <p:spPr>
          <a:xfrm>
            <a:off x="4500720" y="115920"/>
            <a:ext cx="3808080" cy="6632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ЛКАН КЛЮЧЕВАЯ СОПК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0" name="Объект 3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7345440" cy="4978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D:\работа\разное\Картинки\для презентации\оформление слайда\мультяшки\125578168763235.png"/>
          <p:cNvPicPr/>
          <p:nvPr/>
        </p:nvPicPr>
        <p:blipFill>
          <a:blip r:embed="rId2"/>
          <a:stretch/>
        </p:blipFill>
        <p:spPr>
          <a:xfrm>
            <a:off x="7740720" y="2276640"/>
            <a:ext cx="1112760" cy="1112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L -0.11459 -0.07361 C -0.13872 -0.0912 -0.17049 -0.09375 -0.20018 -0.08217 C -0.23368 -0.06875 -0.25764 -0.04421 -0.27084 -0.01157 L -0.33733 0.1338 E">
                                      <p:cBhvr>
                                        <p:cTn id="18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СРЕДНЕСИБИРСКОЕ ПЛОСКОГОРЬЕ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4" name="Объект 3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400720" cy="543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78920" y="3500280"/>
            <a:ext cx="259236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равни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910960" y="4076640"/>
            <a:ext cx="404028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крутые склон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911320" y="1989000"/>
            <a:ext cx="404208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плоская верши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>
            <a:off x="250920" y="364500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Прямая соединительная линия 11"/>
          <p:cNvSpPr/>
          <p:nvPr/>
        </p:nvSpPr>
        <p:spPr>
          <a:xfrm flipV="1">
            <a:off x="2627280" y="2781000"/>
            <a:ext cx="79236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Прямая соединительная линия 15"/>
          <p:cNvSpPr/>
          <p:nvPr/>
        </p:nvSpPr>
        <p:spPr>
          <a:xfrm>
            <a:off x="3419640" y="278136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Прямая соединительная линия 17"/>
          <p:cNvSpPr/>
          <p:nvPr/>
        </p:nvSpPr>
        <p:spPr>
          <a:xfrm>
            <a:off x="6443640" y="2781360"/>
            <a:ext cx="36036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Прямая соединительная линия 19"/>
          <p:cNvSpPr/>
          <p:nvPr/>
        </p:nvSpPr>
        <p:spPr>
          <a:xfrm>
            <a:off x="6804000" y="364500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353" name="Прямая со стрелкой 21"/>
          <p:cNvCxnSpPr/>
          <p:nvPr/>
        </p:nvCxnSpPr>
        <p:spPr>
          <a:xfrm flipV="1">
            <a:off x="5076360" y="3212280"/>
            <a:ext cx="1367640" cy="8643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54" name="Прямая со стрелкой 24"/>
          <p:cNvCxnSpPr/>
          <p:nvPr/>
        </p:nvCxnSpPr>
        <p:spPr>
          <a:xfrm flipH="1" flipV="1">
            <a:off x="3131640" y="3212280"/>
            <a:ext cx="1945440" cy="8643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Объект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D:\работа\разное\Картинки\для презентации\оформление слайда\мультяшки\125578168763235.png"/>
          <p:cNvPicPr/>
          <p:nvPr/>
        </p:nvPicPr>
        <p:blipFill>
          <a:blip r:embed="rId2"/>
          <a:stretch/>
        </p:blipFill>
        <p:spPr>
          <a:xfrm>
            <a:off x="4643280" y="3068640"/>
            <a:ext cx="1186200" cy="118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6 L -0.00174 0.29166 E">
                                      <p:cBhvr>
                                        <p:cTn id="24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22:36:45Z</dcterms:created>
  <dc:creator>USER</dc:creator>
  <dc:description/>
  <dc:language>en-US</dc:language>
  <cp:lastModifiedBy>USER</cp:lastModifiedBy>
  <dcterms:modified xsi:type="dcterms:W3CDTF">2012-10-09T01:05:13Z</dcterms:modified>
  <cp:revision>12</cp:revision>
  <dc:subject/>
  <dc:title>Равнины и горы России</dc:title>
</cp:coreProperties>
</file>