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DFA6-AC60-4FCF-936B-80CA41F0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996-BB63-441F-8C85-1D8BFB37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C77-EAC8-4A2A-954C-48BC5303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36F-BF6F-4E9E-9776-F3B4E2A1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3880-53DF-4E77-BE22-564849C7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2FE7-F078-457F-BAA3-FF1CC6E0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C220-453D-46C8-AC2A-ED8086A6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8AE2-89A9-429A-B0F0-C0BCA163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FA36-01E5-478C-BEBF-89D89517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09CB-3D44-4D90-A868-A8A0E333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6FAF-FF0F-4C40-882D-D17B1EE7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77D7-6D5F-44AE-BD03-4A547736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6339-CF7F-48BE-BF3E-AF6053BC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0194-6365-4144-ACE3-3A288439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F0CF-DA30-4C6A-BADC-B68F2E69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5FED-E8CC-4A55-A516-DAD51BBF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2E65-91DD-44BB-80D7-F2F2B629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B0A2D-5516-421A-92EC-E379BCFE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14FA2-F101-401F-A629-45F32650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70898-9422-49C2-8745-16B5C690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9D0BE-E70F-4F93-88E5-BF250C58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B2B0E-9E9B-4260-A388-0B48E538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A958-8A44-485F-9F54-8D441619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7E2D3-BB36-4278-A37B-E6C49D67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7DA35-408C-4B6E-89CB-1A0FAAC9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9BDCB-2DA0-470B-8067-831E8166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521E7-7BDF-45BC-B5B4-9B5904E7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5BA78-E2B1-4EED-B314-7FE70BFF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48987-4AD7-4788-AC6B-134E2DED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5A2EA-9256-4E85-9660-0C0D6AEF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AF08E-4C64-4D4D-8088-DD1035A4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1588F-89D7-4F89-9408-E88DA834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0E704-B30A-40E4-A1FA-9D527D3D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B9C-3F88-408E-A30E-C974BEE1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12E16-D2A2-408D-BDC8-944262DB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D1AFE-C867-4CC4-83DE-B901B970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270CB-E700-47C7-9EDF-9309AAF5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3B7D4-A09A-42AB-87F1-7AAF012D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1228E-947F-4D86-ACC7-7A422FB7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95A78-37F0-4663-BEBF-61437237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347BF-9AA7-4C7A-96BA-48A40FE3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2FAD1-6FDD-4FA6-9891-0CF845DE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64F35-088B-4993-B1A9-2CE3D9D6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21106-F5E6-40ED-A1A5-34AC7F14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67A1-B020-4579-86F5-2DDF8EE0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FFA9F-E3C0-49A4-A438-C89BFF36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C3922-9DB3-4AF4-A823-EC17F330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7A4B6-8F54-4B6F-8623-03D725EA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CEC17-FEC0-41AE-844E-F3248668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5CFD0-EDFB-406E-82EC-065B1C52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17A10-4897-4C28-9304-BD12EC96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B1214-E6FC-4D58-935E-972059C7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32E07-F1C1-4B54-80AF-3C1CF061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AB17E-FA4F-46AB-B566-21EAB761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CAD98-2DBB-439A-A6D2-B812C262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EE55-D742-425E-A665-7D75EF85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7247F-B0A9-488B-90EC-91649DC8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9AB5A9-33AD-4C13-AD52-25454ED8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A1CEBC-6BC3-4AD1-BC8D-F6E77B1C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F6AC5A-A450-4D63-B0D5-10C5FEE8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AABB87-B8B5-499B-A49B-F4487DDE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2B7E3C-9897-423B-9A4C-77B05A4C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1E9C18-B277-4307-BB2A-E602D612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9F2DB3-4108-43B6-8060-626FE1D0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7338EE-87CD-438B-806A-975298BD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CE97A0-2BDF-4E06-AAC4-A9309D16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136-A962-491C-89CA-F356A893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A62C12-198D-49B9-B152-2C93D9F6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710C2A-5B76-4C84-BD57-E923D3ED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8482F4-8BCB-4BA0-B4B6-07EB909F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028F7-CBB7-4FC7-A6DB-EE4482A7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33034-CD94-4F07-8B8C-354B9FAD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92F0E-E27B-48DE-A847-9E17C53A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CA798-606D-4788-9718-0582516A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A4840-5241-4418-BDF4-D451975F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715D0-0B2E-4B3C-B9FF-6CAB5955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C8131-6964-4F99-BF0A-D849C50D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7BB-6808-46F1-B1D4-857D584A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BE12E-2C52-4BC2-9CF6-571FA4CF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D702E-75A4-41C8-A42D-A03B4023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9B5DB-321B-4EB6-9D69-E7DACDE4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84622-8ACE-4E00-A037-688D0862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E7878-55E2-4766-8812-D82307E7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229C-7C3E-4DEE-AF8C-2AAC81E2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7CC2-CF8C-468F-9C5C-9D33C597186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7C6E-D98B-4922-B717-EB5A30E9DB23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C87B-EA7C-423C-8BF7-F8B7A972988C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55F0-4424-45D4-9D30-55C4C24890A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263F-6084-45D9-9F9F-52A0EC0A4CEC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19F7-C498-4D3B-8D6B-C92CDD095820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0143-0C73-45C8-B930-09A5D40CF1A4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УРОК № 11</a:t>
            </a:r>
            <a:endParaRPr b="0" lang="en-US" sz="13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ОКРУЖАЮЩИЙ МИР 4 КЛАСС</a:t>
            </a:r>
            <a:endParaRPr b="0" lang="en-US" sz="13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РАВНИНЫ И ГОРЫ РОССИИ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Book Antiqua"/>
              </a:rPr>
              <a:t>ГОРА БЕЛУХ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8" name="Объект 8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775640" cy="53402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D:\работа\разное\Картинки\для презентации\оформление слайда\мультяшки\125578168763235.png"/>
          <p:cNvPicPr/>
          <p:nvPr/>
        </p:nvPicPr>
        <p:blipFill>
          <a:blip r:embed="rId2"/>
          <a:stretch/>
        </p:blipFill>
        <p:spPr>
          <a:xfrm>
            <a:off x="4572000" y="5013360"/>
            <a:ext cx="1257480" cy="1257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81481E-006 L -0.19479 -0.27014 E">
                                      <p:cBhvr>
                                        <p:cTn id="30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0560" y="4076640"/>
            <a:ext cx="3066840" cy="25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Book Antiqua"/>
              </a:rPr>
              <a:t>ЗАПАДНО-СИБИРСКАЯ РАВНИН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2" name="Объект 5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70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D:\работа\разное\Картинки\для презентации\оформление слайда\мультяшки\125578168763235.png"/>
          <p:cNvPicPr/>
          <p:nvPr/>
        </p:nvPicPr>
        <p:blipFill>
          <a:blip r:embed="rId2"/>
          <a:stretch/>
        </p:blipFill>
        <p:spPr>
          <a:xfrm>
            <a:off x="3203640" y="3540240"/>
            <a:ext cx="896760" cy="896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48148E-006 L -0.14341 0.00255 E">
                                      <p:cBhvr>
                                        <p:cTn id="36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3425760" cy="136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Book Antiqua"/>
              </a:rPr>
              <a:t>УРАЛЬСКИЕ ГОРЫ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6" name="Объект 3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2431800" cy="6486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36417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ГОРА НАРОДНАЯ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4572000" y="115920"/>
            <a:ext cx="448632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Полилиния 10"/>
          <p:cNvSpPr/>
          <p:nvPr/>
        </p:nvSpPr>
        <p:spPr>
          <a:xfrm>
            <a:off x="395280" y="2276640"/>
            <a:ext cx="3817800" cy="3456000"/>
          </a:xfrm>
          <a:custGeom>
            <a:avLst/>
            <a:gdLst/>
            <a:ahLst/>
            <a:rect l="l" t="t" r="r" b="b"/>
            <a:pathLst>
              <a:path w="3817431" h="2934581">
                <a:moveTo>
                  <a:pt x="0" y="2905252"/>
                </a:moveTo>
                <a:cubicBezTo>
                  <a:pt x="307109" y="2048579"/>
                  <a:pt x="614218" y="1191907"/>
                  <a:pt x="858982" y="716234"/>
                </a:cubicBezTo>
                <a:cubicBezTo>
                  <a:pt x="1103746" y="240561"/>
                  <a:pt x="1249219" y="143579"/>
                  <a:pt x="1468582" y="51215"/>
                </a:cubicBezTo>
                <a:cubicBezTo>
                  <a:pt x="1687946" y="-41149"/>
                  <a:pt x="1974272" y="-11130"/>
                  <a:pt x="2175163" y="162052"/>
                </a:cubicBezTo>
                <a:cubicBezTo>
                  <a:pt x="2376054" y="335234"/>
                  <a:pt x="2556163" y="780888"/>
                  <a:pt x="2673927" y="1090306"/>
                </a:cubicBezTo>
                <a:cubicBezTo>
                  <a:pt x="2791691" y="1399724"/>
                  <a:pt x="2791691" y="1766870"/>
                  <a:pt x="2881745" y="2018561"/>
                </a:cubicBezTo>
                <a:cubicBezTo>
                  <a:pt x="2971799" y="2270252"/>
                  <a:pt x="3066472" y="2452670"/>
                  <a:pt x="3214254" y="2600452"/>
                </a:cubicBezTo>
                <a:cubicBezTo>
                  <a:pt x="3362036" y="2748234"/>
                  <a:pt x="3678381" y="2854452"/>
                  <a:pt x="3768436" y="2905252"/>
                </a:cubicBezTo>
                <a:cubicBezTo>
                  <a:pt x="3858491" y="2956052"/>
                  <a:pt x="3806536" y="2930652"/>
                  <a:pt x="3754582" y="290525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Полилиния 11"/>
          <p:cNvSpPr/>
          <p:nvPr/>
        </p:nvSpPr>
        <p:spPr>
          <a:xfrm>
            <a:off x="3200400" y="3716280"/>
            <a:ext cx="2133720" cy="1257480"/>
          </a:xfrm>
          <a:custGeom>
            <a:avLst/>
            <a:gdLst/>
            <a:ahLst/>
            <a:rect l="l" t="t" r="r" b="b"/>
            <a:pathLst>
              <a:path w="2133600" h="1256662">
                <a:moveTo>
                  <a:pt x="0" y="688625"/>
                </a:moveTo>
                <a:cubicBezTo>
                  <a:pt x="185882" y="458870"/>
                  <a:pt x="371764" y="229116"/>
                  <a:pt x="554182" y="120589"/>
                </a:cubicBezTo>
                <a:cubicBezTo>
                  <a:pt x="736600" y="12062"/>
                  <a:pt x="930564" y="-41047"/>
                  <a:pt x="1094509" y="37462"/>
                </a:cubicBezTo>
                <a:cubicBezTo>
                  <a:pt x="1258455" y="115971"/>
                  <a:pt x="1427019" y="432317"/>
                  <a:pt x="1537855" y="591644"/>
                </a:cubicBezTo>
                <a:cubicBezTo>
                  <a:pt x="1648691" y="750971"/>
                  <a:pt x="1660236" y="882589"/>
                  <a:pt x="1759527" y="993425"/>
                </a:cubicBezTo>
                <a:cubicBezTo>
                  <a:pt x="1858818" y="1104261"/>
                  <a:pt x="2133600" y="1256662"/>
                  <a:pt x="2133600" y="1256662"/>
                </a:cubicBezTo>
                <a:lnTo>
                  <a:pt x="2133600" y="12566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Полилиния 12"/>
          <p:cNvSpPr/>
          <p:nvPr/>
        </p:nvSpPr>
        <p:spPr>
          <a:xfrm>
            <a:off x="4586400" y="1955880"/>
            <a:ext cx="3809880" cy="2173320"/>
          </a:xfrm>
          <a:custGeom>
            <a:avLst/>
            <a:gdLst/>
            <a:ahLst/>
            <a:rect l="l" t="t" r="r" b="b"/>
            <a:pathLst>
              <a:path w="3810000" h="2173324">
                <a:moveTo>
                  <a:pt x="0" y="2104051"/>
                </a:moveTo>
                <a:cubicBezTo>
                  <a:pt x="87745" y="2070569"/>
                  <a:pt x="175491" y="2037087"/>
                  <a:pt x="332509" y="1813105"/>
                </a:cubicBezTo>
                <a:cubicBezTo>
                  <a:pt x="489527" y="1589123"/>
                  <a:pt x="792018" y="997996"/>
                  <a:pt x="942109" y="760160"/>
                </a:cubicBezTo>
                <a:cubicBezTo>
                  <a:pt x="1092200" y="522324"/>
                  <a:pt x="1094509" y="510778"/>
                  <a:pt x="1233054" y="386087"/>
                </a:cubicBezTo>
                <a:cubicBezTo>
                  <a:pt x="1371599" y="261396"/>
                  <a:pt x="1567872" y="39723"/>
                  <a:pt x="1773381" y="12014"/>
                </a:cubicBezTo>
                <a:cubicBezTo>
                  <a:pt x="1978890" y="-15695"/>
                  <a:pt x="2244436" y="-13385"/>
                  <a:pt x="2466109" y="219833"/>
                </a:cubicBezTo>
                <a:cubicBezTo>
                  <a:pt x="2687782" y="453051"/>
                  <a:pt x="2879436" y="1085742"/>
                  <a:pt x="3103418" y="1411324"/>
                </a:cubicBezTo>
                <a:cubicBezTo>
                  <a:pt x="3327400" y="1736906"/>
                  <a:pt x="3810000" y="2173324"/>
                  <a:pt x="3810000" y="2173324"/>
                </a:cubicBezTo>
                <a:lnTo>
                  <a:pt x="3810000" y="21733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Полилиния 13"/>
          <p:cNvSpPr/>
          <p:nvPr/>
        </p:nvSpPr>
        <p:spPr>
          <a:xfrm>
            <a:off x="2881440" y="2055960"/>
            <a:ext cx="2369880" cy="1130040"/>
          </a:xfrm>
          <a:custGeom>
            <a:avLst/>
            <a:gdLst/>
            <a:ahLst/>
            <a:rect l="l" t="t" r="r" b="b"/>
            <a:pathLst>
              <a:path w="2369128" h="1130941">
                <a:moveTo>
                  <a:pt x="0" y="1006251"/>
                </a:moveTo>
                <a:cubicBezTo>
                  <a:pt x="205509" y="783423"/>
                  <a:pt x="411018" y="560596"/>
                  <a:pt x="581891" y="396651"/>
                </a:cubicBezTo>
                <a:cubicBezTo>
                  <a:pt x="752764" y="232706"/>
                  <a:pt x="856673" y="61833"/>
                  <a:pt x="1025237" y="22578"/>
                </a:cubicBezTo>
                <a:cubicBezTo>
                  <a:pt x="1193801" y="-16677"/>
                  <a:pt x="1369291" y="-23604"/>
                  <a:pt x="1593273" y="161123"/>
                </a:cubicBezTo>
                <a:cubicBezTo>
                  <a:pt x="1817255" y="345850"/>
                  <a:pt x="2369128" y="1130941"/>
                  <a:pt x="2369128" y="1130941"/>
                </a:cubicBezTo>
                <a:lnTo>
                  <a:pt x="2369128" y="113094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Объект 3" descr=""/>
          <p:cNvPicPr/>
          <p:nvPr/>
        </p:nvPicPr>
        <p:blipFill>
          <a:blip r:embed="rId1"/>
          <a:stretch/>
        </p:blipFill>
        <p:spPr>
          <a:xfrm>
            <a:off x="-4680" y="-7920"/>
            <a:ext cx="9148680" cy="6862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D:\работа\разное\Картинки\для презентации\оформление слайда\мультяшки\125578168763235.png"/>
          <p:cNvPicPr/>
          <p:nvPr/>
        </p:nvPicPr>
        <p:blipFill>
          <a:blip r:embed="rId2"/>
          <a:stretch/>
        </p:blipFill>
        <p:spPr>
          <a:xfrm>
            <a:off x="1619280" y="3500280"/>
            <a:ext cx="1185840" cy="1186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40741E-007 L -0.04115 -0.15972 E">
                                      <p:cBhvr>
                                        <p:cTn id="42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160" y="407880"/>
            <a:ext cx="3786120" cy="25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Book Antiqua"/>
              </a:rPr>
              <a:t>ВОСТОЧНО-ЕВРОПЕЙСКАЯ РАВНИН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76" name="Объект 3" descr=""/>
          <p:cNvPicPr/>
          <p:nvPr/>
        </p:nvPicPr>
        <p:blipFill>
          <a:blip r:embed="rId1"/>
          <a:stretch/>
        </p:blipFill>
        <p:spPr>
          <a:xfrm>
            <a:off x="4716360" y="115920"/>
            <a:ext cx="4302360" cy="6626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D:\работа\разное\Картинки\для презентации\оформление слайда\мультяшки\125578168763235.png"/>
          <p:cNvPicPr/>
          <p:nvPr/>
        </p:nvPicPr>
        <p:blipFill>
          <a:blip r:embed="rId2"/>
          <a:stretch/>
        </p:blipFill>
        <p:spPr>
          <a:xfrm>
            <a:off x="1619280" y="2637000"/>
            <a:ext cx="754200" cy="752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-0.15746 0.1787 E">
                                      <p:cBhvr>
                                        <p:cTn id="48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ЦЕЛИ:</a:t>
            </a:r>
            <a:endParaRPr b="0" lang="en-US" sz="4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формировать у учащихся представление о равнинах и горах;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знакомить с равнинами и горами на территории России;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развивать познавательную активность детей, умение работать по карте, наблюдать, обобщать, делать выводы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Book Antiqua"/>
              </a:rPr>
              <a:t>КАВКАЗСКИЕ ГОРЫ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0" name="Объект 3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897876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Book Antiqua"/>
              </a:rPr>
              <a:t>ГОРА ЭЛЬБРУС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2" name="Объект 10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136000" cy="5465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ая соединительная линия 4"/>
          <p:cNvSpPr/>
          <p:nvPr/>
        </p:nvSpPr>
        <p:spPr>
          <a:xfrm flipV="1">
            <a:off x="755640" y="2060640"/>
            <a:ext cx="1295280" cy="34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Прямая соединительная линия 6"/>
          <p:cNvSpPr/>
          <p:nvPr/>
        </p:nvSpPr>
        <p:spPr>
          <a:xfrm>
            <a:off x="2050920" y="2060640"/>
            <a:ext cx="165744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Прямая соединительная линия 8"/>
          <p:cNvSpPr/>
          <p:nvPr/>
        </p:nvSpPr>
        <p:spPr>
          <a:xfrm>
            <a:off x="2050920" y="2060640"/>
            <a:ext cx="936720" cy="31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Прямая соединительная линия 10"/>
          <p:cNvSpPr/>
          <p:nvPr/>
        </p:nvSpPr>
        <p:spPr>
          <a:xfrm flipV="1">
            <a:off x="4859280" y="2781000"/>
            <a:ext cx="136836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Прямая соединительная линия 12"/>
          <p:cNvSpPr/>
          <p:nvPr/>
        </p:nvSpPr>
        <p:spPr>
          <a:xfrm>
            <a:off x="6227640" y="2781360"/>
            <a:ext cx="122400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Прямая соединительная линия 14"/>
          <p:cNvSpPr/>
          <p:nvPr/>
        </p:nvSpPr>
        <p:spPr>
          <a:xfrm>
            <a:off x="6227640" y="2781360"/>
            <a:ext cx="43200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Прямая соединительная линия 16"/>
          <p:cNvSpPr/>
          <p:nvPr/>
        </p:nvSpPr>
        <p:spPr>
          <a:xfrm flipV="1">
            <a:off x="2987640" y="1844280"/>
            <a:ext cx="129708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Прямая соединительная линия 18"/>
          <p:cNvSpPr/>
          <p:nvPr/>
        </p:nvSpPr>
        <p:spPr>
          <a:xfrm>
            <a:off x="4284720" y="1844640"/>
            <a:ext cx="115092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Прямая соединительная линия 20"/>
          <p:cNvSpPr/>
          <p:nvPr/>
        </p:nvSpPr>
        <p:spPr>
          <a:xfrm>
            <a:off x="4284720" y="1844640"/>
            <a:ext cx="503280" cy="31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Прямая соединительная линия 22"/>
          <p:cNvSpPr/>
          <p:nvPr/>
        </p:nvSpPr>
        <p:spPr>
          <a:xfrm flipV="1">
            <a:off x="5148360" y="3068280"/>
            <a:ext cx="2872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Прямая соединительная линия 24"/>
          <p:cNvSpPr/>
          <p:nvPr/>
        </p:nvSpPr>
        <p:spPr>
          <a:xfrm>
            <a:off x="5435640" y="306864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Прямая соединительная линия 26"/>
          <p:cNvSpPr/>
          <p:nvPr/>
        </p:nvSpPr>
        <p:spPr>
          <a:xfrm flipV="1">
            <a:off x="4859280" y="2204640"/>
            <a:ext cx="757440" cy="6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Прямая соединительная линия 28"/>
          <p:cNvSpPr/>
          <p:nvPr/>
        </p:nvSpPr>
        <p:spPr>
          <a:xfrm>
            <a:off x="5616720" y="2205000"/>
            <a:ext cx="46800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РАБОТА В РАБОЧЕЙ ТЕТРАДИ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7" name="Объект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14240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ЗАКРЕПЛЕНИЕ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9" name="Прямая соединительная линия 4"/>
          <p:cNvSpPr/>
          <p:nvPr/>
        </p:nvSpPr>
        <p:spPr>
          <a:xfrm>
            <a:off x="971640" y="3284640"/>
            <a:ext cx="734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Полилиния 5"/>
          <p:cNvSpPr/>
          <p:nvPr/>
        </p:nvSpPr>
        <p:spPr>
          <a:xfrm>
            <a:off x="1579680" y="2766960"/>
            <a:ext cx="6207120" cy="530280"/>
          </a:xfrm>
          <a:custGeom>
            <a:avLst/>
            <a:gdLst/>
            <a:ahLst/>
            <a:rect l="l" t="t" r="r" b="b"/>
            <a:pathLst>
              <a:path w="6206837" h="530654">
                <a:moveTo>
                  <a:pt x="0" y="516799"/>
                </a:moveTo>
                <a:cubicBezTo>
                  <a:pt x="218209" y="372481"/>
                  <a:pt x="436418" y="228163"/>
                  <a:pt x="734291" y="142727"/>
                </a:cubicBezTo>
                <a:cubicBezTo>
                  <a:pt x="1032164" y="57291"/>
                  <a:pt x="1433946" y="-18910"/>
                  <a:pt x="1787237" y="4181"/>
                </a:cubicBezTo>
                <a:cubicBezTo>
                  <a:pt x="2140528" y="27272"/>
                  <a:pt x="2526146" y="216618"/>
                  <a:pt x="2854037" y="281272"/>
                </a:cubicBezTo>
                <a:cubicBezTo>
                  <a:pt x="3181928" y="345926"/>
                  <a:pt x="3456709" y="424435"/>
                  <a:pt x="3754582" y="392108"/>
                </a:cubicBezTo>
                <a:cubicBezTo>
                  <a:pt x="4052455" y="359781"/>
                  <a:pt x="4331855" y="121944"/>
                  <a:pt x="4641273" y="87308"/>
                </a:cubicBezTo>
                <a:cubicBezTo>
                  <a:pt x="4950691" y="52672"/>
                  <a:pt x="5350164" y="110399"/>
                  <a:pt x="5611091" y="184290"/>
                </a:cubicBezTo>
                <a:cubicBezTo>
                  <a:pt x="5872018" y="258181"/>
                  <a:pt x="6206837" y="530654"/>
                  <a:pt x="6206837" y="530654"/>
                </a:cubicBezTo>
                <a:lnTo>
                  <a:pt x="6206837" y="53065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Прямая соединительная линия 7"/>
          <p:cNvSpPr/>
          <p:nvPr/>
        </p:nvSpPr>
        <p:spPr>
          <a:xfrm>
            <a:off x="971640" y="5373720"/>
            <a:ext cx="734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Полилиния 8"/>
          <p:cNvSpPr/>
          <p:nvPr/>
        </p:nvSpPr>
        <p:spPr>
          <a:xfrm>
            <a:off x="1954080" y="5079960"/>
            <a:ext cx="5751720" cy="268200"/>
          </a:xfrm>
          <a:custGeom>
            <a:avLst/>
            <a:gdLst/>
            <a:ahLst/>
            <a:rect l="l" t="t" r="r" b="b"/>
            <a:pathLst>
              <a:path w="5751877" h="267893">
                <a:moveTo>
                  <a:pt x="0" y="267893"/>
                </a:moveTo>
                <a:cubicBezTo>
                  <a:pt x="61191" y="185920"/>
                  <a:pt x="122382" y="103947"/>
                  <a:pt x="346364" y="60074"/>
                </a:cubicBezTo>
                <a:cubicBezTo>
                  <a:pt x="570346" y="16201"/>
                  <a:pt x="528782" y="-11508"/>
                  <a:pt x="1343891" y="4656"/>
                </a:cubicBezTo>
                <a:cubicBezTo>
                  <a:pt x="2159000" y="20820"/>
                  <a:pt x="4509655" y="113183"/>
                  <a:pt x="5237018" y="157056"/>
                </a:cubicBezTo>
                <a:cubicBezTo>
                  <a:pt x="5964381" y="200929"/>
                  <a:pt x="5708073" y="267893"/>
                  <a:pt x="5708073" y="267893"/>
                </a:cubicBezTo>
                <a:lnTo>
                  <a:pt x="5708073" y="26789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ircl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Book Antiqua"/>
              </a:rPr>
              <a:t>ДОМАШНЕЕ ЗАДАНИЕ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Gothic"/>
              </a:rPr>
              <a:t>Прочитать текст, ответить на вопросы (с. 64-71);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Gothic"/>
              </a:rPr>
              <a:t>Учебник с. 70 задание 2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Объект 3" descr=""/>
          <p:cNvPicPr/>
          <p:nvPr/>
        </p:nvPicPr>
        <p:blipFill>
          <a:blip r:embed="rId1"/>
          <a:stretch/>
        </p:blipFill>
        <p:spPr>
          <a:xfrm>
            <a:off x="14400" y="-4680"/>
            <a:ext cx="9129600" cy="6848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D:\работа\разное\Картинки\для презентации\оформление слайда\мультяшки\125578168763235.png"/>
          <p:cNvPicPr/>
          <p:nvPr/>
        </p:nvPicPr>
        <p:blipFill>
          <a:blip r:embed="rId2"/>
          <a:stretch/>
        </p:blipFill>
        <p:spPr>
          <a:xfrm>
            <a:off x="8101080" y="2476440"/>
            <a:ext cx="752400" cy="752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5160" y="407880"/>
            <a:ext cx="3498840" cy="23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Book Antiqua"/>
              </a:rPr>
              <a:t>ПОЛУОСТРОВ КАМЧАТК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8" name="Объект 3" descr=""/>
          <p:cNvPicPr/>
          <p:nvPr/>
        </p:nvPicPr>
        <p:blipFill>
          <a:blip r:embed="rId1"/>
          <a:stretch/>
        </p:blipFill>
        <p:spPr>
          <a:xfrm>
            <a:off x="4500720" y="115920"/>
            <a:ext cx="3808080" cy="6632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ЛКАН КЛЮЧЕВАЯ СОПК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0" name="Объект 3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7345440" cy="4978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D:\работа\разное\Картинки\для презентации\оформление слайда\мультяшки\125578168763235.png"/>
          <p:cNvPicPr/>
          <p:nvPr/>
        </p:nvPicPr>
        <p:blipFill>
          <a:blip r:embed="rId2"/>
          <a:stretch/>
        </p:blipFill>
        <p:spPr>
          <a:xfrm>
            <a:off x="7740720" y="2276640"/>
            <a:ext cx="1112760" cy="1112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48148E-006 L -0.11459 -0.07361 C -0.13872 -0.0912 -0.17049 -0.09375 -0.20018 -0.08217 C -0.23368 -0.06875 -0.25764 -0.04421 -0.27084 -0.01157 L -0.33733 0.1338 E">
                                      <p:cBhvr>
                                        <p:cTn id="18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СРЕДНЕСИБИРСКОЕ ПЛОСКОГОРЬЕ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4" name="Объект 3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400720" cy="543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178920" y="3500280"/>
            <a:ext cx="259236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равнин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910960" y="4076640"/>
            <a:ext cx="404028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крутые склоны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911320" y="1989000"/>
            <a:ext cx="404208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плоская вершин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Прямая соединительная линия 9"/>
          <p:cNvSpPr/>
          <p:nvPr/>
        </p:nvSpPr>
        <p:spPr>
          <a:xfrm>
            <a:off x="250920" y="364500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Прямая соединительная линия 11"/>
          <p:cNvSpPr/>
          <p:nvPr/>
        </p:nvSpPr>
        <p:spPr>
          <a:xfrm flipV="1">
            <a:off x="2627280" y="2781000"/>
            <a:ext cx="79236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Прямая соединительная линия 15"/>
          <p:cNvSpPr/>
          <p:nvPr/>
        </p:nvSpPr>
        <p:spPr>
          <a:xfrm>
            <a:off x="3419640" y="278136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Прямая соединительная линия 17"/>
          <p:cNvSpPr/>
          <p:nvPr/>
        </p:nvSpPr>
        <p:spPr>
          <a:xfrm>
            <a:off x="6443640" y="2781360"/>
            <a:ext cx="36036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Прямая соединительная линия 19"/>
          <p:cNvSpPr/>
          <p:nvPr/>
        </p:nvSpPr>
        <p:spPr>
          <a:xfrm>
            <a:off x="6804000" y="364500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353" name="Прямая со стрелкой 21"/>
          <p:cNvCxnSpPr/>
          <p:nvPr/>
        </p:nvCxnSpPr>
        <p:spPr>
          <a:xfrm flipV="1">
            <a:off x="5076360" y="3212280"/>
            <a:ext cx="1367640" cy="8643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54" name="Прямая со стрелкой 24"/>
          <p:cNvCxnSpPr/>
          <p:nvPr/>
        </p:nvCxnSpPr>
        <p:spPr>
          <a:xfrm flipH="1" flipV="1">
            <a:off x="3131640" y="3212280"/>
            <a:ext cx="1945440" cy="8643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Объект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D:\работа\разное\Картинки\для презентации\оформление слайда\мультяшки\125578168763235.png"/>
          <p:cNvPicPr/>
          <p:nvPr/>
        </p:nvPicPr>
        <p:blipFill>
          <a:blip r:embed="rId2"/>
          <a:stretch/>
        </p:blipFill>
        <p:spPr>
          <a:xfrm>
            <a:off x="4643280" y="3068640"/>
            <a:ext cx="1186200" cy="1185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6 L -0.00174 0.29166 E">
                                      <p:cBhvr>
                                        <p:cTn id="24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22:36:45Z</dcterms:created>
  <dc:creator>USER</dc:creator>
  <dc:description/>
  <dc:language>en-US</dc:language>
  <cp:lastModifiedBy>USER</cp:lastModifiedBy>
  <dcterms:modified xsi:type="dcterms:W3CDTF">2012-10-09T01:05:13Z</dcterms:modified>
  <cp:revision>12</cp:revision>
  <dc:subject/>
  <dc:title>Равнины и горы России</dc:title>
</cp:coreProperties>
</file>