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13.gif" ContentType="image/gif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2224-EFA0-43F0-A603-61421019F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215B-423B-400C-9E64-3EB350AF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E13C-BFFB-4DC7-B1C2-15D79B140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9A0E-0AED-45D4-ACA3-97355020F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AAAA-F24C-4233-8BA6-9121C6E51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992A9-DC77-449B-8ED0-8D9E772B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AFDF-E637-4925-86F0-06CD1F22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1E14-F5FE-4A7D-A233-25371B34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8B8F-E7B3-42EC-9EC1-70CC68CC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4882-B6C8-4D4C-A682-B16D3116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DD94-1E68-4174-BAA0-16E4AAA8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59FB-D526-43E0-842D-BE8F2390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D4C8-D2B3-43D5-8B49-52D97F3D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4DB9-8DEF-48B7-BC86-69470E0F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1ED4-8EAC-4FC3-9FBD-02F8360C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9E8E-08E1-4153-BAF3-B2498E2C7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6878-40B4-4817-AC03-FC01FAFE1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9818-8FE1-4226-856E-9835698C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0441-0ACD-4788-A526-E3B82CCF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458D-1303-4215-B914-5CCC2938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16C0-B680-4241-B83C-E4A3E28F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8380-6FDE-48B8-A25D-60D73D68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7C7D-22C1-4770-A0BC-2FAAA472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62C3-6190-4907-BC27-247B7AA0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F025-76F2-4746-8555-909107AEEED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9DAE-09C0-45E5-8423-65A2DE05929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439272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Т КНИЖКИ НА СТОЛЕ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 ВОТ – ТЕТРАД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ХОЧЕТСЯ ИГРАТ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ГОДНЯ В ПРЯТК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НЕДОСУГ ДУТЬ 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РАБЛЬ БУМАЖНЫЙ 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ГОДНЯ В КЛАССЕ 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БЯ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РОК УЖ БОЛЬН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ЫЙ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Объект 6" descr=""/>
          <p:cNvPicPr/>
          <p:nvPr/>
        </p:nvPicPr>
        <p:blipFill>
          <a:blip r:embed="rId1"/>
          <a:stretch/>
        </p:blipFill>
        <p:spPr>
          <a:xfrm>
            <a:off x="4932360" y="2924280"/>
            <a:ext cx="40086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Объект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10" name="Объект 8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5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Гелиос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5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Ра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5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Ярило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321760" cy="12621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324000" y="16002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иаметр Солнца в … раз больше диаметра Земл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сса Солнца в … раз больше массы нашей планет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сстояние от Земли до Солнца составляет … к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мпература на поверхности Солнц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ставляет … 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в центре Солнца …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4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8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ие новые слова вы узнали на уроке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Что такое астрономия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Что такое Вселенная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Что такое Солнечная система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зовите планеты солнечной системы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53928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писать новые слова в словарик;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очитать текст (с.4 – 8), ответить на вопросы «Проверь себя»;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ыполнить задание № 2 * с. 8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404028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 РАЗДЕ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4392720" cy="35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ЕМЛЯ И ЧЕЛОВЕЧЕСТВО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ПРИРОДА РОССИИ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РОДНОЙ КРАЙ – ЧАСТЬ БОЛЬШОЙ СТРАНЫ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Объект 1" descr=""/>
          <p:cNvPicPr/>
          <p:nvPr/>
        </p:nvPicPr>
        <p:blipFill>
          <a:blip r:embed="rId1"/>
          <a:stretch/>
        </p:blipFill>
        <p:spPr>
          <a:xfrm rot="268200">
            <a:off x="6484680" y="631440"/>
            <a:ext cx="2228760" cy="2975040"/>
          </a:xfrm>
          <a:prstGeom prst="rect">
            <a:avLst/>
          </a:prstGeom>
          <a:ln w="0">
            <a:noFill/>
          </a:ln>
        </p:spPr>
      </p:pic>
      <p:pic>
        <p:nvPicPr>
          <p:cNvPr id="87" name="Объект 3" descr=""/>
          <p:cNvPicPr/>
          <p:nvPr/>
        </p:nvPicPr>
        <p:blipFill>
          <a:blip r:embed="rId2"/>
          <a:stretch/>
        </p:blipFill>
        <p:spPr>
          <a:xfrm>
            <a:off x="5762520" y="2852640"/>
            <a:ext cx="2454480" cy="3273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979280" y="259920"/>
            <a:ext cx="53290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ЗГАДАЙТЕ КРОССВОР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16000" y="1341000"/>
            <a:ext cx="4041720" cy="459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ОЙ ЗНАК У «КОПИЛКИ ИНТЕРЕСНЫХ ФАКТОВ»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 НАЗЫВАЕТСЯ СТАТЬЯ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ДЕРЖАЩ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ПОЛНИТЕЛЬНЫ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ТЕРИАЛ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НАК СТАТЬИ ПОВЫШЕНН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РУДНОСТ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24000" y="1413000"/>
          <a:ext cx="4103640" cy="3240000"/>
        </p:xfrm>
        <a:graphic>
          <a:graphicData uri="http://schemas.openxmlformats.org/drawingml/2006/table">
            <a:tbl>
              <a:tblPr/>
              <a:tblGrid>
                <a:gridCol w="455400"/>
                <a:gridCol w="455760"/>
                <a:gridCol w="457200"/>
                <a:gridCol w="455400"/>
                <a:gridCol w="455760"/>
                <a:gridCol w="455760"/>
                <a:gridCol w="457200"/>
                <a:gridCol w="455400"/>
                <a:gridCol w="455760"/>
              </a:tblGrid>
              <a:tr h="539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948a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948a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8a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8a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8a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8a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8a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8a54"/>
                    </a:solidFill>
                  </a:tcPr>
                </a:tc>
              </a:tr>
              <a:tr h="539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8a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8a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948a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948a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948a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948a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948a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6" descr=""/>
          <p:cNvPicPr/>
          <p:nvPr/>
        </p:nvPicPr>
        <p:blipFill>
          <a:blip r:embed="rId1"/>
          <a:stretch/>
        </p:blipFill>
        <p:spPr>
          <a:xfrm>
            <a:off x="682560" y="433440"/>
            <a:ext cx="7772400" cy="2230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40328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рок №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кружающий мир 4 клас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ЦЕЛИ УРОКА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806436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452520" indent="-452520">
              <a:spcBef>
                <a:spcPts val="64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ЗНАКОМИТЬСЯ С НАУКОЙ, ИЗУЧАЮЩЕЙ ВСЕЛЕННУЮ, - АСТРОНОМИЕЙ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spcBef>
                <a:spcPts val="64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ФОРМИРОВАТЬ ПРЕДСТАВЛЕНИЕ О ВСЕЛЕННОЙ, О РАЗМЕРАХ И ПРИРОДЕ СОЛНЦА КАК ЦЕНТРА СОЛНЕЧНОЙ СИСТЕМЫ И БЛИЖАЙШЕЙ К НАМ ЗВЕЗДЫ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spcBef>
                <a:spcPts val="64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ЗВИВАТЬ ПОЗНАВАТЕЛЬНЫЙ ИНТЕРЕС И УМЕНИЕ НАБЛЮДАТЬ, АНАЛИЗИРОВАТЬ, ДЕЛАТЬ ВЫВОДЫ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9" descr=""/>
          <p:cNvPicPr/>
          <p:nvPr/>
        </p:nvPicPr>
        <p:blipFill>
          <a:blip r:embed="rId1"/>
          <a:stretch/>
        </p:blipFill>
        <p:spPr>
          <a:xfrm>
            <a:off x="401760" y="85680"/>
            <a:ext cx="8577000" cy="17193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79280" y="1534680"/>
            <a:ext cx="56167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. И. ОЖЕГОВ «ТОЛКОВЫЙ СЛОВАРЬ»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2421000"/>
            <a:ext cx="54720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СТРОНОМИЯ – НАУКА О КОСМИЧЕСКИХ ТЕЛАХ, ОБРАЗУЕМЫХ ИМИ СИСТЕМАХ И О ВСЕЛЕННОЙ В ЦЕЛ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СТРОНОМ – СПЕЦИАЛИСТ ПО АСТРОНОМ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Объект 2" descr=""/>
          <p:cNvPicPr/>
          <p:nvPr/>
        </p:nvPicPr>
        <p:blipFill>
          <a:blip r:embed="rId2"/>
          <a:stretch/>
        </p:blipFill>
        <p:spPr>
          <a:xfrm>
            <a:off x="6156360" y="4005360"/>
            <a:ext cx="2552760" cy="2552760"/>
          </a:xfrm>
          <a:prstGeom prst="rect">
            <a:avLst/>
          </a:prstGeom>
          <a:ln w="0">
            <a:noFill/>
          </a:ln>
        </p:spPr>
      </p:pic>
      <p:pic>
        <p:nvPicPr>
          <p:cNvPr id="100" name="Объект 1" descr=""/>
          <p:cNvPicPr/>
          <p:nvPr/>
        </p:nvPicPr>
        <p:blipFill>
          <a:blip r:embed="rId3"/>
          <a:stretch/>
        </p:blipFill>
        <p:spPr>
          <a:xfrm>
            <a:off x="6156360" y="1628640"/>
            <a:ext cx="2674800" cy="2005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6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02" name="Объект 1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4321080" cy="4321440"/>
          </a:xfrm>
          <a:prstGeom prst="rect">
            <a:avLst/>
          </a:prstGeom>
          <a:ln w="0">
            <a:noFill/>
          </a:ln>
        </p:spPr>
      </p:pic>
      <p:pic>
        <p:nvPicPr>
          <p:cNvPr id="103" name="Объект 2" descr=""/>
          <p:cNvPicPr/>
          <p:nvPr/>
        </p:nvPicPr>
        <p:blipFill>
          <a:blip r:embed="rId3"/>
          <a:stretch/>
        </p:blipFill>
        <p:spPr>
          <a:xfrm>
            <a:off x="4932360" y="1628640"/>
            <a:ext cx="3774960" cy="43149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Объект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05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Объект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07" name="Заголовок 1" descr=""/>
          <p:cNvPicPr/>
          <p:nvPr/>
        </p:nvPicPr>
        <p:blipFill>
          <a:blip r:embed="rId2"/>
          <a:stretch/>
        </p:blipFill>
        <p:spPr>
          <a:xfrm>
            <a:off x="396720" y="146160"/>
            <a:ext cx="822960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1T05:44:28Z</dcterms:created>
  <dc:creator>USER</dc:creator>
  <dc:description/>
  <dc:language>en-US</dc:language>
  <cp:lastModifiedBy>USER</cp:lastModifiedBy>
  <dcterms:modified xsi:type="dcterms:W3CDTF">2012-08-16T16:22:06Z</dcterms:modified>
  <cp:revision>20</cp:revision>
  <dc:subject/>
  <dc:title>Земля и человечество</dc:title>
</cp:coreProperties>
</file>