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gif" ContentType="image/gi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26A-AE56-4CF4-811E-9B48E77F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723-24DA-4C18-A32C-5273EFC5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B05-7896-4092-AD14-98C57F04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999-9020-4CBA-A426-C9348FB4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E012-5436-4BF6-A035-33D955F4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D8B9-EF9B-4FA9-A8BD-BF4149B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1416-C850-41E3-ADEE-53DD6C2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6056-C260-4136-8F9A-64AEA6E5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296C-299F-4CA7-A6A0-7925D535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525-4B39-4ED8-9B24-271AF93B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5F7-0D5C-4735-A405-5E1B0CB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70F-6751-4290-A439-728C837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B81E-A916-4C25-BE4A-B756955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0DF4-E462-4F78-AE9D-030EFA7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2FBA-62BB-4316-90DF-7B4C57E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A55F-304D-4AD6-BB4D-761BD427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FF47-E753-4402-9DDE-D85B023A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C91-1AE0-49C2-B51C-2FB629F5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2AC-8C01-4F33-A166-E44F09C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6B4-A106-4348-BE4D-5DD73788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499-4848-4CC7-9EDB-A7E577C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BEA-17D7-4819-A5F8-59D56F5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BB8-F0FD-482B-8958-E83A59D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F5F-74E5-4145-928D-EEA4F78E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98A-D7EF-424F-926A-B475D79B5AE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F76-047A-4467-A32D-F0EC6E2D1D2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КНИЖКИ НА СТОЛ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ОТ – ТЕТРАД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ХОЧЕТСЯ ИГР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 В ПРЯТ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НЕДОСУГ ДУТЬ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АБЛЬ БУМАЖНЫЙ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 В КЛАССЕ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Я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УЖ БОЛЬ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ЫЙ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Объект 6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4008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Объект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Гелио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Р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Ярил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21760" cy="1262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метр Солнца в … раз больше диаметра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сса Солнца в … раз больше массы нашей плане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Земли до Солнца составляет … к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 на поверхности Солн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яет …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центре Солнца 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новые слова вы узнали на урок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астрономия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Вселенная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Солнечная система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овите планеты солнечной систем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писать новые слова в словарик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читать текст (с.4 – 8), ответить на вопросы «Проверь себя»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полнить задание № 2 * с. 8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РАЗДЕ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39272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ЕМЛЯ И ЧЕЛОВЕЧЕСТВ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РИРОДА РОСС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ОДНОЙ КРАЙ – ЧАСТЬ БОЛЬШОЙ СТРАН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Объект 1" descr=""/>
          <p:cNvPicPr/>
          <p:nvPr/>
        </p:nvPicPr>
        <p:blipFill>
          <a:blip r:embed="rId1"/>
          <a:stretch/>
        </p:blipFill>
        <p:spPr>
          <a:xfrm rot="268200">
            <a:off x="6484680" y="631440"/>
            <a:ext cx="2228760" cy="297504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3" descr=""/>
          <p:cNvPicPr/>
          <p:nvPr/>
        </p:nvPicPr>
        <p:blipFill>
          <a:blip r:embed="rId2"/>
          <a:stretch/>
        </p:blipFill>
        <p:spPr>
          <a:xfrm>
            <a:off x="5762520" y="2852640"/>
            <a:ext cx="245448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979280" y="259920"/>
            <a:ext cx="5329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ГАДАЙТЕ КРОССВО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6000" y="1341000"/>
            <a:ext cx="4041720" cy="45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Й ЗНАК У «КОПИЛКИ ИНТЕРЕСНЫХ ФАКТОВ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ЗЫВАЕТСЯ СТАТЬ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К СТАТЬИ ПОВЫШ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413000"/>
          <a:ext cx="4103640" cy="3240000"/>
        </p:xfrm>
        <a:graphic>
          <a:graphicData uri="http://schemas.openxmlformats.org/drawingml/2006/table">
            <a:tbl>
              <a:tblPr/>
              <a:tblGrid>
                <a:gridCol w="455400"/>
                <a:gridCol w="455760"/>
                <a:gridCol w="457200"/>
                <a:gridCol w="455400"/>
                <a:gridCol w="455760"/>
                <a:gridCol w="455760"/>
                <a:gridCol w="457200"/>
                <a:gridCol w="455400"/>
                <a:gridCol w="455760"/>
              </a:tblGrid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6" descr=""/>
          <p:cNvPicPr/>
          <p:nvPr/>
        </p:nvPicPr>
        <p:blipFill>
          <a:blip r:embed="rId1"/>
          <a:stretch/>
        </p:blipFill>
        <p:spPr>
          <a:xfrm>
            <a:off x="682560" y="433440"/>
            <a:ext cx="7772400" cy="223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№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ружающий мир 4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452520" indent="-4525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КОМИТЬСЯ С НАУКОЙ, ИЗУЧАЮЩЕЙ ВСЕЛЕННУЮ, - АСТРОНОМИЕ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ВСЕЛЕННОЙ, О РАЗМЕРАХ И ПРИРОДЕ СОЛНЦА КАК ЦЕНТРА СОЛНЕЧНОЙ СИСТЕМЫ И БЛИЖАЙШЕЙ К НАМ ЗВЕЗДЫ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ВАТЬ ПОЗНАВАТЕЛЬНЫЙ ИНТЕРЕС И УМЕНИЕ НАБЛЮДАТЬ, АНАЛИЗИРОВАТЬ, ДЕЛАТЬ ВЫВОД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9" descr=""/>
          <p:cNvPicPr/>
          <p:nvPr/>
        </p:nvPicPr>
        <p:blipFill>
          <a:blip r:embed="rId1"/>
          <a:stretch/>
        </p:blipFill>
        <p:spPr>
          <a:xfrm>
            <a:off x="401760" y="85680"/>
            <a:ext cx="8577000" cy="1719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534680"/>
            <a:ext cx="5616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. И. ОЖЕГОВ «ТОЛКОВЫЙ СЛОВАР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5472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ОНОМИЯ – НАУКА О КОСМИЧЕСКИХ ТЕЛАХ, ОБРАЗУЕМЫХ ИМИ СИСТЕМАХ И О ВСЕЛЕННОЙ В ЦЕ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ОНОМ – СПЕЦИАЛИСТ ПО АСТРОНО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1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674800" cy="20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1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321080" cy="432144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2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7749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396720" y="146160"/>
            <a:ext cx="82296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05:44:28Z</dcterms:created>
  <dc:creator>USER</dc:creator>
  <dc:description/>
  <dc:language>en-US</dc:language>
  <cp:lastModifiedBy>USER</cp:lastModifiedBy>
  <dcterms:modified xsi:type="dcterms:W3CDTF">2012-08-16T16:22:06Z</dcterms:modified>
  <cp:revision>20</cp:revision>
  <dc:subject/>
  <dc:title>Земля и человечество</dc:title>
</cp:coreProperties>
</file>