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945-B4FF-4836-B9A6-33B06A05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819-DF0F-4267-95E1-5F36173B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6F5-530B-4B2B-9C37-4406AFE4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A72-226B-4405-A99B-D41B0CCC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5B3-BD2A-4131-8160-4CBDFACE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E322-F1C7-4C2F-87E0-8D545EEB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6E7-E039-4AF3-938C-201D4BC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0E5-3E31-458D-80DE-CA4E92F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608-E2B2-4BE5-A368-5232C50B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FAC4-8A76-4273-BD73-DDEC014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BF3-1A39-403F-8DC3-0152E12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CA5-D6F7-44F6-ABA8-429B92D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5EFD-2F7F-4E82-979D-2440704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8F0-800A-41DD-AF11-4641367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EDA-B776-43D6-B033-7986FBE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4BE6-90BB-43D2-8D03-E9B72E49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EFC-B9C4-4613-96FA-385597D7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73FC-FDCA-4135-A994-F93E1FAC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A258-8A7C-4837-AEE1-2C4D5016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EA59-C9B3-4E57-A788-EBCCC70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966D-7587-4F0C-85A1-1ED46E2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FDCF-D8B3-4107-9B54-BF3AFA6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D86-DA9F-4DB9-B451-6D69A7F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027E-1BFB-4A80-BEF2-2D0221E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247C-A2B1-4D16-87ED-2A36918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1052-FE91-464A-B436-032D93D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5BC5-12EA-405E-9D7D-8AF2F64C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30EE-FC38-4247-9631-C89C265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58A3-66A2-4DD5-A2ED-FCAE89E7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ABBD-AB96-42AE-9BEC-A1BC9F8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195F-7854-44F0-98E7-04FAE7EE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B593-137C-4E68-9F86-DDEC1BB1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3CADB-141E-44D5-919D-289A1A7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4F7-BE2B-4382-950A-497A324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862A-7080-4967-A936-FFE2BCE3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847B-F85F-4AF8-A5A1-C9159CA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AFE0-22FD-4A79-9E28-A808B1C6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44EB-7A3E-4FCA-AF12-D8EB54D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2566-8A2D-45EC-BB06-E0B8172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7BB6-5E73-4393-ADD0-1F1D075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FC54-41C5-4A37-ABB6-2259F69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578F-55D8-4C5C-96E0-6D330122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AE11-035D-4454-B814-24CAA5C1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58-EA67-4333-A80F-C457EC0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329-B939-412C-A67D-CE3DA3A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6A1-DE9E-43B8-8BBB-A8A22A4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4A9-C3EA-4DFF-A81B-E667304C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EA8-44FA-4881-9C8D-5E267FA8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CA2-3CCC-4485-8B1A-330C8B10E6B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6C37-1813-424D-8607-9BFC4BCEC4F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CDE-9E8F-4A9C-BF70-B3214344BEF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775-9383-458D-A503-3C1A337DF2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№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кружающий мир 4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C:\Users\Администратор\Desktop\окр мир картинки\globe.jpg"/>
          <p:cNvPicPr/>
          <p:nvPr/>
        </p:nvPicPr>
        <p:blipFill>
          <a:blip r:embed="rId2"/>
          <a:stretch/>
        </p:blipFill>
        <p:spPr>
          <a:xfrm>
            <a:off x="755640" y="3716280"/>
            <a:ext cx="27208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54840" y="996840"/>
            <a:ext cx="245880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alibri"/>
              </a:rPr>
              <a:t>Северный полю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43280" y="2754360"/>
            <a:ext cx="23130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экват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084360" y="3691080"/>
            <a:ext cx="252900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паралле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11720" y="2070000"/>
            <a:ext cx="2159280" cy="555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меридиа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62040" y="4566960"/>
            <a:ext cx="2884680" cy="484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Южный полю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Овал 9"/>
          <p:cNvSpPr/>
          <p:nvPr/>
        </p:nvSpPr>
        <p:spPr>
          <a:xfrm rot="1066200">
            <a:off x="1547640" y="981000"/>
            <a:ext cx="3240360" cy="316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1625760" y="2070000"/>
            <a:ext cx="308448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олилиния 12"/>
          <p:cNvSpPr/>
          <p:nvPr/>
        </p:nvSpPr>
        <p:spPr>
          <a:xfrm>
            <a:off x="2368440" y="1177920"/>
            <a:ext cx="2273400" cy="789120"/>
          </a:xfrm>
          <a:custGeom>
            <a:avLst/>
            <a:gdLst/>
            <a:ahLst/>
            <a:rect l="l" t="t" r="r" b="b"/>
            <a:pathLst>
              <a:path w="2272146" h="790033">
                <a:moveTo>
                  <a:pt x="0" y="0"/>
                </a:moveTo>
                <a:cubicBezTo>
                  <a:pt x="64655" y="105063"/>
                  <a:pt x="129310" y="210127"/>
                  <a:pt x="263237" y="304800"/>
                </a:cubicBezTo>
                <a:cubicBezTo>
                  <a:pt x="397164" y="399473"/>
                  <a:pt x="625764" y="498764"/>
                  <a:pt x="803564" y="568037"/>
                </a:cubicBezTo>
                <a:cubicBezTo>
                  <a:pt x="981364" y="637310"/>
                  <a:pt x="1177637" y="683492"/>
                  <a:pt x="1330037" y="720437"/>
                </a:cubicBezTo>
                <a:cubicBezTo>
                  <a:pt x="1482437" y="757382"/>
                  <a:pt x="1560946" y="785091"/>
                  <a:pt x="1717964" y="789709"/>
                </a:cubicBezTo>
                <a:cubicBezTo>
                  <a:pt x="1874982" y="794327"/>
                  <a:pt x="2272146" y="748146"/>
                  <a:pt x="2272146" y="748146"/>
                </a:cubicBezTo>
                <a:lnTo>
                  <a:pt x="2272146" y="748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Полилиния 13"/>
          <p:cNvSpPr/>
          <p:nvPr/>
        </p:nvSpPr>
        <p:spPr>
          <a:xfrm>
            <a:off x="1662120" y="3083040"/>
            <a:ext cx="2162160" cy="934920"/>
          </a:xfrm>
          <a:custGeom>
            <a:avLst/>
            <a:gdLst/>
            <a:ahLst/>
            <a:rect l="l" t="t" r="r" b="b"/>
            <a:pathLst>
              <a:path w="2161310" h="934450">
                <a:moveTo>
                  <a:pt x="0" y="6196"/>
                </a:moveTo>
                <a:cubicBezTo>
                  <a:pt x="168564" y="-732"/>
                  <a:pt x="337128" y="-7659"/>
                  <a:pt x="526473" y="20050"/>
                </a:cubicBezTo>
                <a:cubicBezTo>
                  <a:pt x="715818" y="47759"/>
                  <a:pt x="962891" y="119341"/>
                  <a:pt x="1136073" y="172450"/>
                </a:cubicBezTo>
                <a:cubicBezTo>
                  <a:pt x="1309255" y="225559"/>
                  <a:pt x="1443182" y="269432"/>
                  <a:pt x="1565564" y="338705"/>
                </a:cubicBezTo>
                <a:cubicBezTo>
                  <a:pt x="1687946" y="407978"/>
                  <a:pt x="1771073" y="488796"/>
                  <a:pt x="1870364" y="588087"/>
                </a:cubicBezTo>
                <a:cubicBezTo>
                  <a:pt x="1969655" y="687378"/>
                  <a:pt x="2161310" y="934450"/>
                  <a:pt x="2161310" y="934450"/>
                </a:cubicBezTo>
                <a:lnTo>
                  <a:pt x="2161310" y="9344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2" name="Прямая со стрелкой 15"/>
          <p:cNvCxnSpPr>
            <a:stCxn id="214" idx="1"/>
            <a:endCxn id="218" idx="6"/>
          </p:cNvCxnSpPr>
          <p:nvPr/>
        </p:nvCxnSpPr>
        <p:spPr>
          <a:xfrm flipH="1" flipV="1">
            <a:off x="4709520" y="3058920"/>
            <a:ext cx="1734120" cy="2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3" name="Прямая со стрелкой 17"/>
          <p:cNvCxnSpPr>
            <a:stCxn id="215" idx="1"/>
          </p:cNvCxnSpPr>
          <p:nvPr/>
        </p:nvCxnSpPr>
        <p:spPr>
          <a:xfrm flipH="1" flipV="1">
            <a:off x="4355640" y="1966320"/>
            <a:ext cx="1729440" cy="2051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Прямая со стрелкой 19"/>
          <p:cNvCxnSpPr>
            <a:stCxn id="215" idx="1"/>
            <a:endCxn id="221" idx="4"/>
          </p:cNvCxnSpPr>
          <p:nvPr/>
        </p:nvCxnSpPr>
        <p:spPr>
          <a:xfrm flipH="1" flipV="1">
            <a:off x="3531960" y="3671280"/>
            <a:ext cx="2553120" cy="34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Полилиния 20"/>
          <p:cNvSpPr/>
          <p:nvPr/>
        </p:nvSpPr>
        <p:spPr>
          <a:xfrm>
            <a:off x="2422440" y="1052640"/>
            <a:ext cx="1235160" cy="2965320"/>
          </a:xfrm>
          <a:custGeom>
            <a:avLst/>
            <a:gdLst/>
            <a:ahLst/>
            <a:rect l="l" t="t" r="r" b="b"/>
            <a:pathLst>
              <a:path w="1235107" h="2964873">
                <a:moveTo>
                  <a:pt x="1235107" y="0"/>
                </a:moveTo>
                <a:cubicBezTo>
                  <a:pt x="1066543" y="33482"/>
                  <a:pt x="897979" y="66964"/>
                  <a:pt x="736343" y="193964"/>
                </a:cubicBezTo>
                <a:cubicBezTo>
                  <a:pt x="574707" y="320964"/>
                  <a:pt x="383052" y="549564"/>
                  <a:pt x="265289" y="762000"/>
                </a:cubicBezTo>
                <a:cubicBezTo>
                  <a:pt x="147526" y="974436"/>
                  <a:pt x="73635" y="1154545"/>
                  <a:pt x="29762" y="1468582"/>
                </a:cubicBezTo>
                <a:cubicBezTo>
                  <a:pt x="-14111" y="1782619"/>
                  <a:pt x="6670" y="2396837"/>
                  <a:pt x="2052" y="2646219"/>
                </a:cubicBezTo>
                <a:cubicBezTo>
                  <a:pt x="-2566" y="2895601"/>
                  <a:pt x="2052" y="2964873"/>
                  <a:pt x="2052" y="2964873"/>
                </a:cubicBezTo>
                <a:lnTo>
                  <a:pt x="2052" y="296487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олилиния 21"/>
          <p:cNvSpPr/>
          <p:nvPr/>
        </p:nvSpPr>
        <p:spPr>
          <a:xfrm>
            <a:off x="2452680" y="1025640"/>
            <a:ext cx="1336680" cy="2963880"/>
          </a:xfrm>
          <a:custGeom>
            <a:avLst/>
            <a:gdLst/>
            <a:ahLst/>
            <a:rect l="l" t="t" r="r" b="b"/>
            <a:pathLst>
              <a:path w="1336808" h="2964873">
                <a:moveTo>
                  <a:pt x="1219200" y="0"/>
                </a:moveTo>
                <a:cubicBezTo>
                  <a:pt x="1259609" y="102755"/>
                  <a:pt x="1300018" y="205510"/>
                  <a:pt x="1316181" y="360219"/>
                </a:cubicBezTo>
                <a:cubicBezTo>
                  <a:pt x="1332344" y="514928"/>
                  <a:pt x="1353126" y="704273"/>
                  <a:pt x="1316181" y="928255"/>
                </a:cubicBezTo>
                <a:cubicBezTo>
                  <a:pt x="1279236" y="1152237"/>
                  <a:pt x="1313873" y="1364673"/>
                  <a:pt x="1094509" y="1704109"/>
                </a:cubicBezTo>
                <a:cubicBezTo>
                  <a:pt x="875145" y="2043545"/>
                  <a:pt x="0" y="2964873"/>
                  <a:pt x="0" y="2964873"/>
                </a:cubicBezTo>
                <a:lnTo>
                  <a:pt x="0" y="296487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7" name="Прямая со стрелкой 23"/>
          <p:cNvCxnSpPr/>
          <p:nvPr/>
        </p:nvCxnSpPr>
        <p:spPr>
          <a:xfrm flipH="1" flipV="1">
            <a:off x="3276360" y="1177200"/>
            <a:ext cx="2808720" cy="102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8" name="Прямая со стрелкой 25"/>
          <p:cNvCxnSpPr/>
          <p:nvPr/>
        </p:nvCxnSpPr>
        <p:spPr>
          <a:xfrm flipH="1" flipV="1">
            <a:off x="3789000" y="1689840"/>
            <a:ext cx="2296080" cy="515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9" name="Прямая со стрелкой 27"/>
          <p:cNvCxnSpPr>
            <a:stCxn id="213" idx="1"/>
            <a:endCxn id="218" idx="0"/>
          </p:cNvCxnSpPr>
          <p:nvPr/>
        </p:nvCxnSpPr>
        <p:spPr>
          <a:xfrm flipH="1" flipV="1">
            <a:off x="3650760" y="1055160"/>
            <a:ext cx="2404080" cy="123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0" name="Прямая со стрелкой 29"/>
          <p:cNvCxnSpPr/>
          <p:nvPr/>
        </p:nvCxnSpPr>
        <p:spPr>
          <a:xfrm flipH="1" flipV="1">
            <a:off x="2452320" y="4017600"/>
            <a:ext cx="2742480" cy="635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1" name="Прямоугольник 30"/>
          <p:cNvSpPr/>
          <p:nvPr/>
        </p:nvSpPr>
        <p:spPr>
          <a:xfrm flipH="1" rot="1627200">
            <a:off x="2160720" y="3952440"/>
            <a:ext cx="83880" cy="957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Блок-схема: ручное управление 32"/>
          <p:cNvSpPr/>
          <p:nvPr/>
        </p:nvSpPr>
        <p:spPr>
          <a:xfrm rot="10800000">
            <a:off x="1427040" y="4805280"/>
            <a:ext cx="2632320" cy="287280"/>
          </a:xfrm>
          <a:prstGeom prst="flowChartManualOperation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ус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040280" cy="66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артин Бехай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Объект 7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457800" cy="43941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6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215244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333000"/>
            <a:ext cx="806472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ическая карта – это условное изображение поверхности Земли на плоск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Объект 8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0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14760" cy="3614760"/>
          </a:xfrm>
          <a:prstGeom prst="rect">
            <a:avLst/>
          </a:prstGeom>
          <a:ln w="0">
            <a:noFill/>
          </a:ln>
        </p:spPr>
      </p:pic>
      <p:pic>
        <p:nvPicPr>
          <p:cNvPr id="240" name="Объект 5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61610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графическая кар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Анаксимандр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Объект 7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6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33829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репление зна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Модель Земли называют … . А условное изображение поверхности Земли на плоскости называют … . Существует много видов географических карт. Это … . На физической карте синим цветом обозначена …, коричневым, жёлтым, зелёным - …, белым - … . Каждая карта имеет свой … . Если работаешь у настенной карты, стой …, когда держишь указку в правой руке, и …, когда указка в лев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8" descr=""/>
          <p:cNvPicPr/>
          <p:nvPr/>
        </p:nvPicPr>
        <p:blipFill>
          <a:blip r:embed="rId1"/>
          <a:stretch/>
        </p:blipFill>
        <p:spPr>
          <a:xfrm>
            <a:off x="469800" y="476280"/>
            <a:ext cx="7772400" cy="1859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0280" y="213372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рочитать текст, ответить на вопросы (с. 22 – 29);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ыполни задания № 1, 2, 3 (уч. с. 29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25800" indent="-32580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Тетрадь с. 9 № 3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ить с наукой, изучающей Землю, - географи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представление о глобусе и географической карт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репить умение работать с картой и глобус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вать умение наблюдать, сравнивать, анализировать, делать вы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 домашнего зад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Объект 4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3648240" cy="443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ест «Звёздное небо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052640"/>
            <a:ext cx="84960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Галактика, в которой мы живём, называет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Туманность Андроме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Большое Магелланово обла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Млечный пу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Звезда – эт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раскалённый газовый ша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холодный шар, состоящий из твёрдых вещест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Созвездия – это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группы звёзд, изменяющие свои очер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группы звёзд, не изменяющие свои очер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8064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Звезда Сириус находится в созвездии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Скорпион                б) Большая Медведи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Большой Пёс           г) Тел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Полярная звезда всегда находится 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юге        б) севере       в) западе       г) восток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 Самые яркие звёзды имеют … цв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красный                   б) жёлт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голубой                     г) бел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алактика Млечный Пу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Объект 1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85080" cy="454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бъект 1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географ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600"/>
            <a:ext cx="807552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ия – комплекс наук, изучающих поверхность Земли с её природными условиями, распределение на ней населения, экономических ресур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26920" y="4005360"/>
            <a:ext cx="7490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еограф – специалист по географ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ус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Объект 1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5694120" cy="569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08:24:27Z</dcterms:created>
  <dc:creator>USER</dc:creator>
  <dc:description/>
  <dc:language>en-US</dc:language>
  <cp:lastModifiedBy>USER</cp:lastModifiedBy>
  <dcterms:modified xsi:type="dcterms:W3CDTF">2012-09-06T18:57:39Z</dcterms:modified>
  <cp:revision>17</cp:revision>
  <dc:subject/>
  <dc:title>Мир глазами географа.</dc:title>
</cp:coreProperties>
</file>