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3518-B177-4B1E-A393-5CCD74AD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481B-F262-411B-8FD2-4001CF8B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44BE-059A-4B58-B873-FD31B7DF6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7F62-E062-4976-9F9C-60FE3323A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0EBA-5ACE-45F5-82A0-D11F0D45B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1CB8-57E2-434E-B05B-DFAD7C5D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B050-3BB1-4A14-8E46-C2379D3A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6ACF-3AEE-4FA0-B802-2EEE1B54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8CA0-6E62-4FA9-A9BC-819BBC12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6400-A17C-4B5F-9E26-11FDB740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02D0-DD22-45E4-9646-E20EB407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6804-3823-4465-886E-4A42C64A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BEF4-F99D-4430-BD5D-6621C194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8F4B-F8D4-455C-9B90-EC8DC157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2C4F-3ECE-43FE-88D4-BC1469E0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B158-523F-494A-8496-BD5841581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7766-A55E-4CDD-830E-85123419F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36194-2DE0-4164-8A04-6AB20030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50C37-3F57-4630-9D3F-EA2911DD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8B4DF-54D6-444D-B425-58747741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34774-5A6F-48EC-883A-9FE9B150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7453D-FFB1-4FDF-A00B-F7AF3A71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545A-45C6-48D0-80DF-94FEE67C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7D341-5242-4952-B753-1732507B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B61E5-894F-48DD-B6D7-918869C4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FE1C8-69C9-45F6-8F17-4A80963E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B1F5E-ABD5-4455-93A0-1369ECB7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1245A-D420-4E28-A49E-4061F1B9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CB9D7-5C3B-4F74-9FC7-A0D83814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423B4-FA79-4A5F-8AA4-E287F5303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B02C4-86D5-4242-87E7-A8C4B9880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90953-4872-4949-91FD-766AE2A2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FB233-02FC-4EE6-A7A6-24E1DB1B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7393-E5F8-4B14-8863-6191F4B6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1AC73-D49C-4E79-B4AE-219A51AA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EE807-AE65-446A-A2EE-E43B0EE2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7CC61-C69C-437E-8528-86EA5DBC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1C265-4029-479F-93AF-9859EB71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B34A2-89B2-4181-A792-016275A0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9AA85-38B5-41F9-999E-156ED39D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423FC-1791-48B8-B480-7EA21F5F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EF18F-D38C-46B0-BC9B-51F67A9EB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B96FC-002D-430F-9ACC-D34E3C96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F08D-9F71-4DCC-88C8-6E79ECFE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63B1-09A6-49C0-BEBE-6E30B44E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AB63-7344-4B0C-9222-E7D202DD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4560-CB59-4226-B6D5-5A304134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3CE4-6D2E-4E3C-8FEA-68EE21D0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96B5-7E4F-46E4-AD37-4B3243A4248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189D-C35F-4D46-9546-F5D00637588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3F3B-DCC6-4E03-A470-D2532FC3F75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8787-E1F8-4547-A99C-71530DEF4B8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8302680" cy="2322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рок № 4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кружающий мир 4 класс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4" descr="C:\Users\Администратор\Desktop\окр мир картинки\globe.jpg"/>
          <p:cNvPicPr/>
          <p:nvPr/>
        </p:nvPicPr>
        <p:blipFill>
          <a:blip r:embed="rId2"/>
          <a:stretch/>
        </p:blipFill>
        <p:spPr>
          <a:xfrm>
            <a:off x="755640" y="3716280"/>
            <a:ext cx="272088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54840" y="996840"/>
            <a:ext cx="2458800" cy="362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495c"/>
                </a:solidFill>
                <a:latin typeface="Calibri"/>
              </a:rPr>
              <a:t>Северный полюс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443280" y="2754360"/>
            <a:ext cx="231300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экватор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084360" y="3691080"/>
            <a:ext cx="2529000" cy="65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параллел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111720" y="2070000"/>
            <a:ext cx="2159280" cy="555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495c"/>
                </a:solidFill>
                <a:latin typeface="Constantia"/>
              </a:rPr>
              <a:t>меридиан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162040" y="4566960"/>
            <a:ext cx="2884680" cy="4842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495c"/>
                </a:solidFill>
                <a:latin typeface="Constantia"/>
              </a:rPr>
              <a:t>Южный полюс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Овал 9"/>
          <p:cNvSpPr/>
          <p:nvPr/>
        </p:nvSpPr>
        <p:spPr>
          <a:xfrm rot="1066200">
            <a:off x="1547640" y="981000"/>
            <a:ext cx="3240360" cy="3168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Прямая соединительная линия 11"/>
          <p:cNvSpPr/>
          <p:nvPr/>
        </p:nvSpPr>
        <p:spPr>
          <a:xfrm>
            <a:off x="1625760" y="2070000"/>
            <a:ext cx="3084480" cy="98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Полилиния 12"/>
          <p:cNvSpPr/>
          <p:nvPr/>
        </p:nvSpPr>
        <p:spPr>
          <a:xfrm>
            <a:off x="2368440" y="1177920"/>
            <a:ext cx="2273400" cy="789120"/>
          </a:xfrm>
          <a:custGeom>
            <a:avLst/>
            <a:gdLst/>
            <a:ahLst/>
            <a:rect l="l" t="t" r="r" b="b"/>
            <a:pathLst>
              <a:path w="2272146" h="790033">
                <a:moveTo>
                  <a:pt x="0" y="0"/>
                </a:moveTo>
                <a:cubicBezTo>
                  <a:pt x="64655" y="105063"/>
                  <a:pt x="129310" y="210127"/>
                  <a:pt x="263237" y="304800"/>
                </a:cubicBezTo>
                <a:cubicBezTo>
                  <a:pt x="397164" y="399473"/>
                  <a:pt x="625764" y="498764"/>
                  <a:pt x="803564" y="568037"/>
                </a:cubicBezTo>
                <a:cubicBezTo>
                  <a:pt x="981364" y="637310"/>
                  <a:pt x="1177637" y="683492"/>
                  <a:pt x="1330037" y="720437"/>
                </a:cubicBezTo>
                <a:cubicBezTo>
                  <a:pt x="1482437" y="757382"/>
                  <a:pt x="1560946" y="785091"/>
                  <a:pt x="1717964" y="789709"/>
                </a:cubicBezTo>
                <a:cubicBezTo>
                  <a:pt x="1874982" y="794327"/>
                  <a:pt x="2272146" y="748146"/>
                  <a:pt x="2272146" y="748146"/>
                </a:cubicBezTo>
                <a:lnTo>
                  <a:pt x="2272146" y="74814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Полилиния 13"/>
          <p:cNvSpPr/>
          <p:nvPr/>
        </p:nvSpPr>
        <p:spPr>
          <a:xfrm>
            <a:off x="1662120" y="3083040"/>
            <a:ext cx="2162160" cy="934920"/>
          </a:xfrm>
          <a:custGeom>
            <a:avLst/>
            <a:gdLst/>
            <a:ahLst/>
            <a:rect l="l" t="t" r="r" b="b"/>
            <a:pathLst>
              <a:path w="2161310" h="934450">
                <a:moveTo>
                  <a:pt x="0" y="6196"/>
                </a:moveTo>
                <a:cubicBezTo>
                  <a:pt x="168564" y="-732"/>
                  <a:pt x="337128" y="-7659"/>
                  <a:pt x="526473" y="20050"/>
                </a:cubicBezTo>
                <a:cubicBezTo>
                  <a:pt x="715818" y="47759"/>
                  <a:pt x="962891" y="119341"/>
                  <a:pt x="1136073" y="172450"/>
                </a:cubicBezTo>
                <a:cubicBezTo>
                  <a:pt x="1309255" y="225559"/>
                  <a:pt x="1443182" y="269432"/>
                  <a:pt x="1565564" y="338705"/>
                </a:cubicBezTo>
                <a:cubicBezTo>
                  <a:pt x="1687946" y="407978"/>
                  <a:pt x="1771073" y="488796"/>
                  <a:pt x="1870364" y="588087"/>
                </a:cubicBezTo>
                <a:cubicBezTo>
                  <a:pt x="1969655" y="687378"/>
                  <a:pt x="2161310" y="934450"/>
                  <a:pt x="2161310" y="934450"/>
                </a:cubicBezTo>
                <a:lnTo>
                  <a:pt x="2161310" y="93445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22" name="Прямая со стрелкой 15"/>
          <p:cNvCxnSpPr>
            <a:stCxn id="214" idx="1"/>
            <a:endCxn id="218" idx="6"/>
          </p:cNvCxnSpPr>
          <p:nvPr/>
        </p:nvCxnSpPr>
        <p:spPr>
          <a:xfrm flipH="1" flipV="1">
            <a:off x="4709520" y="3058920"/>
            <a:ext cx="1734120" cy="24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3" name="Прямая со стрелкой 17"/>
          <p:cNvCxnSpPr>
            <a:stCxn id="215" idx="1"/>
          </p:cNvCxnSpPr>
          <p:nvPr/>
        </p:nvCxnSpPr>
        <p:spPr>
          <a:xfrm flipH="1" flipV="1">
            <a:off x="4355640" y="1966320"/>
            <a:ext cx="1729440" cy="2051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4" name="Прямая со стрелкой 19"/>
          <p:cNvCxnSpPr>
            <a:stCxn id="215" idx="1"/>
            <a:endCxn id="221" idx="4"/>
          </p:cNvCxnSpPr>
          <p:nvPr/>
        </p:nvCxnSpPr>
        <p:spPr>
          <a:xfrm flipH="1" flipV="1">
            <a:off x="3531960" y="3671280"/>
            <a:ext cx="2553120" cy="3466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5" name="Полилиния 20"/>
          <p:cNvSpPr/>
          <p:nvPr/>
        </p:nvSpPr>
        <p:spPr>
          <a:xfrm>
            <a:off x="2422440" y="1052640"/>
            <a:ext cx="1235160" cy="2965320"/>
          </a:xfrm>
          <a:custGeom>
            <a:avLst/>
            <a:gdLst/>
            <a:ahLst/>
            <a:rect l="l" t="t" r="r" b="b"/>
            <a:pathLst>
              <a:path w="1235107" h="2964873">
                <a:moveTo>
                  <a:pt x="1235107" y="0"/>
                </a:moveTo>
                <a:cubicBezTo>
                  <a:pt x="1066543" y="33482"/>
                  <a:pt x="897979" y="66964"/>
                  <a:pt x="736343" y="193964"/>
                </a:cubicBezTo>
                <a:cubicBezTo>
                  <a:pt x="574707" y="320964"/>
                  <a:pt x="383052" y="549564"/>
                  <a:pt x="265289" y="762000"/>
                </a:cubicBezTo>
                <a:cubicBezTo>
                  <a:pt x="147526" y="974436"/>
                  <a:pt x="73635" y="1154545"/>
                  <a:pt x="29762" y="1468582"/>
                </a:cubicBezTo>
                <a:cubicBezTo>
                  <a:pt x="-14111" y="1782619"/>
                  <a:pt x="6670" y="2396837"/>
                  <a:pt x="2052" y="2646219"/>
                </a:cubicBezTo>
                <a:cubicBezTo>
                  <a:pt x="-2566" y="2895601"/>
                  <a:pt x="2052" y="2964873"/>
                  <a:pt x="2052" y="2964873"/>
                </a:cubicBezTo>
                <a:lnTo>
                  <a:pt x="2052" y="2964873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Полилиния 21"/>
          <p:cNvSpPr/>
          <p:nvPr/>
        </p:nvSpPr>
        <p:spPr>
          <a:xfrm>
            <a:off x="2452680" y="1025640"/>
            <a:ext cx="1336680" cy="2963880"/>
          </a:xfrm>
          <a:custGeom>
            <a:avLst/>
            <a:gdLst/>
            <a:ahLst/>
            <a:rect l="l" t="t" r="r" b="b"/>
            <a:pathLst>
              <a:path w="1336808" h="2964873">
                <a:moveTo>
                  <a:pt x="1219200" y="0"/>
                </a:moveTo>
                <a:cubicBezTo>
                  <a:pt x="1259609" y="102755"/>
                  <a:pt x="1300018" y="205510"/>
                  <a:pt x="1316181" y="360219"/>
                </a:cubicBezTo>
                <a:cubicBezTo>
                  <a:pt x="1332344" y="514928"/>
                  <a:pt x="1353126" y="704273"/>
                  <a:pt x="1316181" y="928255"/>
                </a:cubicBezTo>
                <a:cubicBezTo>
                  <a:pt x="1279236" y="1152237"/>
                  <a:pt x="1313873" y="1364673"/>
                  <a:pt x="1094509" y="1704109"/>
                </a:cubicBezTo>
                <a:cubicBezTo>
                  <a:pt x="875145" y="2043545"/>
                  <a:pt x="0" y="2964873"/>
                  <a:pt x="0" y="2964873"/>
                </a:cubicBezTo>
                <a:lnTo>
                  <a:pt x="0" y="2964873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27" name="Прямая со стрелкой 23"/>
          <p:cNvCxnSpPr/>
          <p:nvPr/>
        </p:nvCxnSpPr>
        <p:spPr>
          <a:xfrm flipH="1" flipV="1">
            <a:off x="3276360" y="1177200"/>
            <a:ext cx="2808720" cy="10278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8" name="Прямая со стрелкой 25"/>
          <p:cNvCxnSpPr/>
          <p:nvPr/>
        </p:nvCxnSpPr>
        <p:spPr>
          <a:xfrm flipH="1" flipV="1">
            <a:off x="3789000" y="1689840"/>
            <a:ext cx="2296080" cy="515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9" name="Прямая со стрелкой 27"/>
          <p:cNvCxnSpPr>
            <a:stCxn id="213" idx="1"/>
            <a:endCxn id="218" idx="0"/>
          </p:cNvCxnSpPr>
          <p:nvPr/>
        </p:nvCxnSpPr>
        <p:spPr>
          <a:xfrm flipH="1" flipV="1">
            <a:off x="3650760" y="1055160"/>
            <a:ext cx="2404080" cy="1231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30" name="Прямая со стрелкой 29"/>
          <p:cNvCxnSpPr/>
          <p:nvPr/>
        </p:nvCxnSpPr>
        <p:spPr>
          <a:xfrm flipH="1" flipV="1">
            <a:off x="2452320" y="4017600"/>
            <a:ext cx="2742480" cy="6357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31" name="Прямоугольник 30"/>
          <p:cNvSpPr/>
          <p:nvPr/>
        </p:nvSpPr>
        <p:spPr>
          <a:xfrm flipH="1" rot="1627200">
            <a:off x="2160720" y="3952440"/>
            <a:ext cx="83880" cy="957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Блок-схема: ручное управление 32"/>
          <p:cNvSpPr/>
          <p:nvPr/>
        </p:nvSpPr>
        <p:spPr>
          <a:xfrm rot="10800000">
            <a:off x="1427040" y="4805280"/>
            <a:ext cx="2632320" cy="287280"/>
          </a:xfrm>
          <a:prstGeom prst="flowChartManualOperation">
            <a:avLst/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лобус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4040280" cy="660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Мартин Бехай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5" name="Объект 7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3457800" cy="4394160"/>
          </a:xfrm>
          <a:prstGeom prst="rect">
            <a:avLst/>
          </a:prstGeom>
          <a:ln w="0">
            <a:noFill/>
          </a:ln>
        </p:spPr>
      </p:pic>
      <p:pic>
        <p:nvPicPr>
          <p:cNvPr id="236" name="Объект 6" descr=""/>
          <p:cNvPicPr/>
          <p:nvPr/>
        </p:nvPicPr>
        <p:blipFill>
          <a:blip r:embed="rId2"/>
          <a:stretch/>
        </p:blipFill>
        <p:spPr>
          <a:xfrm>
            <a:off x="6372360" y="2205000"/>
            <a:ext cx="2152440" cy="4248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9640" y="333000"/>
            <a:ext cx="8064720" cy="150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еографическая карта – это условное изображение поверхности Земли на плоск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Объект 8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129440" cy="5049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Объект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614760" cy="3614760"/>
          </a:xfrm>
          <a:prstGeom prst="rect">
            <a:avLst/>
          </a:prstGeom>
          <a:ln w="0">
            <a:noFill/>
          </a:ln>
        </p:spPr>
      </p:pic>
      <p:pic>
        <p:nvPicPr>
          <p:cNvPr id="240" name="Объект 5" descr=""/>
          <p:cNvPicPr/>
          <p:nvPr/>
        </p:nvPicPr>
        <p:blipFill>
          <a:blip r:embed="rId2"/>
          <a:stretch/>
        </p:blipFill>
        <p:spPr>
          <a:xfrm>
            <a:off x="2843280" y="3573360"/>
            <a:ext cx="616104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еографическая кар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Анаксимандр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Объект 7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3672000" cy="3671640"/>
          </a:xfrm>
          <a:prstGeom prst="rect">
            <a:avLst/>
          </a:prstGeom>
          <a:ln w="0">
            <a:noFill/>
          </a:ln>
        </p:spPr>
      </p:pic>
      <p:pic>
        <p:nvPicPr>
          <p:cNvPr id="244" name="Объект 6" descr=""/>
          <p:cNvPicPr/>
          <p:nvPr/>
        </p:nvPicPr>
        <p:blipFill>
          <a:blip r:embed="rId2"/>
          <a:stretch/>
        </p:blipFill>
        <p:spPr>
          <a:xfrm>
            <a:off x="5292720" y="2565360"/>
            <a:ext cx="3382920" cy="3384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крепление знани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8440" cy="4969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onstantia"/>
              </a:rPr>
              <a:t>Модель Земли называют … . А условное изображение поверхности Земли на плоскости называют … . Существует много видов географических карт. Это … . На физической карте синим цветом обозначена …, коричневым, жёлтым, зелёным - …, белым - … . Каждая карта имеет свой … . Если работаешь у настенной карты, стой …, когда держишь указку в правой руке, и …, когда указка в лево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8" descr=""/>
          <p:cNvPicPr/>
          <p:nvPr/>
        </p:nvPicPr>
        <p:blipFill>
          <a:blip r:embed="rId1"/>
          <a:stretch/>
        </p:blipFill>
        <p:spPr>
          <a:xfrm>
            <a:off x="469800" y="476280"/>
            <a:ext cx="7772400" cy="18590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30280" y="213372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5000"/>
          </a:bodyPr>
          <a:p>
            <a:pPr marL="325800" indent="-325800">
              <a:spcBef>
                <a:spcPts val="11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Прочитать текст, ответить на вопросы (с. 22 – 29);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325800" indent="-325800">
              <a:spcBef>
                <a:spcPts val="11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Выполни задания № 1, 2, 3 (уч. с. 29)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325800" indent="-325800">
              <a:spcBef>
                <a:spcPts val="11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Тетрадь с. 9 № 3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Цели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знакомить с наукой, изучающей Землю, - географие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формировать представление о глобусе и географической карт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крепить умение работать с картой и глобусо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вивать умение наблюдать, сравнивать, анализировать, делать вывод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верка домашнего зада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Объект 4" descr=""/>
          <p:cNvPicPr/>
          <p:nvPr/>
        </p:nvPicPr>
        <p:blipFill>
          <a:blip r:embed="rId1"/>
          <a:stretch/>
        </p:blipFill>
        <p:spPr>
          <a:xfrm>
            <a:off x="2411280" y="1916280"/>
            <a:ext cx="3648240" cy="4433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Тест «Звёздное небо»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4000" y="1052640"/>
            <a:ext cx="849600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 Галактика, в которой мы живём, называется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) Туманность Андромед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) Большое Магелланово облак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) Млечный пу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. Звезда – это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) раскалённый газовый ша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) холодный шар, состоящий из твёрдых вещест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. Созвездия – это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) группы звёзд, изменяющие свои очерт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) группы звёзд, не изменяющие свои очерт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980640"/>
            <a:ext cx="82915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. Звезда Сириус находится в созвездии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) Скорпион                б) Большая Медведиц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) Большой Пёс           г) Телец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5. Полярная звезда всегда находится на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) юге        б) севере       в) западе       г) восток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6. Самые яркие звёзды имеют … цве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) красный                   б) жёлты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) голубой                     г) белы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алактика Млечный Пу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Объект 1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6985080" cy="4540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Объект 1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77708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то такое география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20600"/>
            <a:ext cx="8075520" cy="157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еография – комплекс наук, изучающих поверхность Земли с её природными условиями, распределение на ней населения, экономических ресурс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826920" y="4005360"/>
            <a:ext cx="74901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еограф – специалист по географ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3600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лобус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Объект 1" descr=""/>
          <p:cNvPicPr/>
          <p:nvPr/>
        </p:nvPicPr>
        <p:blipFill>
          <a:blip r:embed="rId1"/>
          <a:stretch/>
        </p:blipFill>
        <p:spPr>
          <a:xfrm>
            <a:off x="3203640" y="907920"/>
            <a:ext cx="5694120" cy="5695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08:24:27Z</dcterms:created>
  <dc:creator>USER</dc:creator>
  <dc:description/>
  <dc:language>en-US</dc:language>
  <cp:lastModifiedBy>USER</cp:lastModifiedBy>
  <dcterms:modified xsi:type="dcterms:W3CDTF">2012-09-06T18:57:39Z</dcterms:modified>
  <cp:revision>17</cp:revision>
  <dc:subject/>
  <dc:title>Мир глазами географа.</dc:title>
</cp:coreProperties>
</file>