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gif" ContentType="image/gif"/>
  <Override PartName="/ppt/media/image7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1B0-A424-4A64-AEFA-4C638B3F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CF1-ED38-4E52-B8BE-37C275F1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52D-DE19-4288-BF12-944FB589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E7D-A0D4-460E-A6E0-45BD2FA2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ED8-F3BF-462E-A5DF-69006E3C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11B-DFF0-4940-9FAA-F79B66C1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59B-2C18-4065-A0F4-EC7828C5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4B1-E815-4D5E-8C37-C1199C2E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CD4-9531-4CCE-9847-91409B6F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D82-6E68-4939-B287-01D772A7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AB0-C450-4B0D-AAE3-90D0C489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442-6A0F-4C5E-A2E3-6C2FD3F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6E01F-648B-4851-AF15-853C173EED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Математика</a:t>
            </a:r>
            <a:br>
              <a:rPr sz="4400"/>
            </a:b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dc2300"/>
                </a:solidFill>
                <a:uFillTx/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dc2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ёмы устных вычислений в пределах 1000. (260 + 310, 670 -14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dc2300"/>
                </a:solidFill>
                <a:uFillTx/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учить новым приёмам устных вычислений для примеров вида: 260 + 310, 670 - 1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акрепить умение решать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3440" y="1851120"/>
            <a:ext cx="44258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тний полдень под со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Ёж нашёл сюрприз ле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лисички, пять оп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сосной в лесу сто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, а дальше, у опушки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роежки — все подру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ри в три ряда стоя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ежа они гля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ответ нам дать го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ёж нашёл гриб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9640" y="3780000"/>
            <a:ext cx="4680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2 + 5 + 3 х 3 =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870440" y="2825640"/>
            <a:ext cx="4680000" cy="1800360"/>
            <a:chOff x="4870440" y="2825640"/>
            <a:chExt cx="4680000" cy="1800360"/>
          </a:xfrm>
        </p:grpSpPr>
        <p:sp>
          <p:nvSpPr>
            <p:cNvPr id="47" name=""/>
            <p:cNvSpPr/>
            <p:nvPr/>
          </p:nvSpPr>
          <p:spPr>
            <a:xfrm>
              <a:off x="4870440" y="2901960"/>
              <a:ext cx="4680000" cy="172404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5514840" y="2825640"/>
              <a:ext cx="173160" cy="169920"/>
              <a:chOff x="5514840" y="2825640"/>
              <a:chExt cx="173160" cy="169920"/>
            </a:xfrm>
          </p:grpSpPr>
          <p:sp>
            <p:nvSpPr>
              <p:cNvPr id="49" name=""/>
              <p:cNvSpPr/>
              <p:nvPr/>
            </p:nvSpPr>
            <p:spPr>
              <a:xfrm>
                <a:off x="5581800" y="2952720"/>
                <a:ext cx="52200" cy="4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514840" y="2825640"/>
                <a:ext cx="17316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102360" y="2825640"/>
              <a:ext cx="174600" cy="171720"/>
              <a:chOff x="6102360" y="2825640"/>
              <a:chExt cx="174600" cy="171720"/>
            </a:xfrm>
          </p:grpSpPr>
          <p:sp>
            <p:nvSpPr>
              <p:cNvPr id="52" name=""/>
              <p:cNvSpPr/>
              <p:nvPr/>
            </p:nvSpPr>
            <p:spPr>
              <a:xfrm>
                <a:off x="616896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102360" y="2825640"/>
                <a:ext cx="1746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729480" y="2825640"/>
              <a:ext cx="172800" cy="171720"/>
              <a:chOff x="6729480" y="2825640"/>
              <a:chExt cx="172800" cy="171720"/>
            </a:xfrm>
          </p:grpSpPr>
          <p:sp>
            <p:nvSpPr>
              <p:cNvPr id="55" name=""/>
              <p:cNvSpPr/>
              <p:nvPr/>
            </p:nvSpPr>
            <p:spPr>
              <a:xfrm>
                <a:off x="679284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729480" y="2825640"/>
                <a:ext cx="1728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353360" y="2825640"/>
              <a:ext cx="172800" cy="171720"/>
              <a:chOff x="7353360" y="2825640"/>
              <a:chExt cx="172800" cy="171720"/>
            </a:xfrm>
          </p:grpSpPr>
          <p:sp>
            <p:nvSpPr>
              <p:cNvPr id="58" name=""/>
              <p:cNvSpPr/>
              <p:nvPr/>
            </p:nvSpPr>
            <p:spPr>
              <a:xfrm>
                <a:off x="741672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353360" y="2825640"/>
                <a:ext cx="1728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905600" y="2825640"/>
              <a:ext cx="174600" cy="171720"/>
              <a:chOff x="7905600" y="2825640"/>
              <a:chExt cx="174600" cy="171720"/>
            </a:xfrm>
          </p:grpSpPr>
          <p:sp>
            <p:nvSpPr>
              <p:cNvPr id="61" name=""/>
              <p:cNvSpPr/>
              <p:nvPr/>
            </p:nvSpPr>
            <p:spPr>
              <a:xfrm>
                <a:off x="797256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05600" y="2825640"/>
                <a:ext cx="1746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8531280" y="2825640"/>
              <a:ext cx="173160" cy="171720"/>
              <a:chOff x="8531280" y="2825640"/>
              <a:chExt cx="173160" cy="171720"/>
            </a:xfrm>
          </p:grpSpPr>
          <p:sp>
            <p:nvSpPr>
              <p:cNvPr id="64" name=""/>
              <p:cNvSpPr/>
              <p:nvPr/>
            </p:nvSpPr>
            <p:spPr>
              <a:xfrm>
                <a:off x="8597880" y="2954160"/>
                <a:ext cx="50760" cy="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531280" y="2825640"/>
                <a:ext cx="17316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8334360" y="3432240"/>
              <a:ext cx="268200" cy="1054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48600" y="3699000"/>
              <a:ext cx="417600" cy="830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02360" y="3975120"/>
              <a:ext cx="417600" cy="5745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9115560" y="2825640"/>
              <a:ext cx="172800" cy="169920"/>
              <a:chOff x="9115560" y="2825640"/>
              <a:chExt cx="172800" cy="169920"/>
            </a:xfrm>
          </p:grpSpPr>
          <p:sp>
            <p:nvSpPr>
              <p:cNvPr id="70" name=""/>
              <p:cNvSpPr/>
              <p:nvPr/>
            </p:nvSpPr>
            <p:spPr>
              <a:xfrm>
                <a:off x="9182160" y="2952720"/>
                <a:ext cx="50760" cy="4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115560" y="2825640"/>
                <a:ext cx="172800" cy="1638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59280" y="4859280"/>
            <a:ext cx="3780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Дополните до </a:t>
            </a:r>
            <a:r>
              <a:rPr b="0" lang="ru-RU" sz="4400" spc="-1" strike="noStrike" u="sng">
                <a:solidFill>
                  <a:srgbClr val="dc2300"/>
                </a:solidFill>
                <a:uFillTx/>
                <a:latin typeface="Arial"/>
              </a:rPr>
              <a:t>100</a:t>
            </a: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 каждое из чисе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14763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160720" y="1800360"/>
            <a:ext cx="74181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80000" y="3666960"/>
            <a:ext cx="2195640" cy="2092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Вычислите удобным способ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363528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 + (60 + 30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+ (10 + 30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 + (50 + 10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 + (70 + 20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9280" y="1800360"/>
            <a:ext cx="56181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0 + 60) +30 =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70 + 30) + 10 =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0 + 10) + 50 =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0 + 20) + 70 =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0360" y="4859280"/>
            <a:ext cx="270036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Выполни пре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1) Замени суммой разрядных слагаем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89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2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3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2) Вырази в м, дм, с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28 см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6 см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35 см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82 см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Считаем уст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09320"/>
            <a:ext cx="306072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30 - 3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0 + 5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80 + 5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0 + 6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80 - 8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20 - 4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879640" y="1260360"/>
            <a:ext cx="633888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060720" y="1260360"/>
            <a:ext cx="1619280" cy="538200"/>
            <a:chOff x="3060720" y="1260360"/>
            <a:chExt cx="1619280" cy="538200"/>
          </a:xfrm>
        </p:grpSpPr>
        <p:sp>
          <p:nvSpPr>
            <p:cNvPr id="88" name=""/>
            <p:cNvSpPr/>
            <p:nvPr/>
          </p:nvSpPr>
          <p:spPr>
            <a:xfrm>
              <a:off x="3060720" y="1282680"/>
              <a:ext cx="1619280" cy="515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282840" y="1260360"/>
              <a:ext cx="60480" cy="50760"/>
              <a:chOff x="3282840" y="1260360"/>
              <a:chExt cx="60480" cy="50760"/>
            </a:xfrm>
          </p:grpSpPr>
          <p:sp>
            <p:nvSpPr>
              <p:cNvPr id="90" name=""/>
              <p:cNvSpPr/>
              <p:nvPr/>
            </p:nvSpPr>
            <p:spPr>
              <a:xfrm>
                <a:off x="3305160" y="129852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82840" y="126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3486240" y="1260360"/>
              <a:ext cx="60120" cy="50760"/>
              <a:chOff x="3486240" y="1260360"/>
              <a:chExt cx="60120" cy="50760"/>
            </a:xfrm>
          </p:grpSpPr>
          <p:sp>
            <p:nvSpPr>
              <p:cNvPr id="93" name=""/>
              <p:cNvSpPr/>
              <p:nvPr/>
            </p:nvSpPr>
            <p:spPr>
              <a:xfrm>
                <a:off x="3508200" y="129852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86240" y="126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703680" y="1260360"/>
              <a:ext cx="60120" cy="50760"/>
              <a:chOff x="3703680" y="1260360"/>
              <a:chExt cx="60120" cy="50760"/>
            </a:xfrm>
          </p:grpSpPr>
          <p:sp>
            <p:nvSpPr>
              <p:cNvPr id="96" name=""/>
              <p:cNvSpPr/>
              <p:nvPr/>
            </p:nvSpPr>
            <p:spPr>
              <a:xfrm>
                <a:off x="3726000" y="129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3680" y="126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919680" y="1260360"/>
              <a:ext cx="58680" cy="50760"/>
              <a:chOff x="3919680" y="1260360"/>
              <a:chExt cx="58680" cy="50760"/>
            </a:xfrm>
          </p:grpSpPr>
          <p:sp>
            <p:nvSpPr>
              <p:cNvPr id="99" name=""/>
              <p:cNvSpPr/>
              <p:nvPr/>
            </p:nvSpPr>
            <p:spPr>
              <a:xfrm>
                <a:off x="3941640" y="1298520"/>
                <a:ext cx="1764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19680" y="126036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111560" y="1260360"/>
              <a:ext cx="60480" cy="50760"/>
              <a:chOff x="4111560" y="1260360"/>
              <a:chExt cx="60480" cy="50760"/>
            </a:xfrm>
          </p:grpSpPr>
          <p:sp>
            <p:nvSpPr>
              <p:cNvPr id="102" name=""/>
              <p:cNvSpPr/>
              <p:nvPr/>
            </p:nvSpPr>
            <p:spPr>
              <a:xfrm>
                <a:off x="4133880" y="129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11560" y="126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327560" y="1260360"/>
              <a:ext cx="58680" cy="50760"/>
              <a:chOff x="4327560" y="1260360"/>
              <a:chExt cx="58680" cy="50760"/>
            </a:xfrm>
          </p:grpSpPr>
          <p:sp>
            <p:nvSpPr>
              <p:cNvPr id="105" name=""/>
              <p:cNvSpPr/>
              <p:nvPr/>
            </p:nvSpPr>
            <p:spPr>
              <a:xfrm>
                <a:off x="4349880" y="129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27560" y="126036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257720" y="1441440"/>
              <a:ext cx="9216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2960" y="1522440"/>
              <a:ext cx="14436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86240" y="1604880"/>
              <a:ext cx="144360" cy="173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529160" y="1260360"/>
              <a:ext cx="60480" cy="50760"/>
              <a:chOff x="4529160" y="1260360"/>
              <a:chExt cx="60480" cy="50760"/>
            </a:xfrm>
          </p:grpSpPr>
          <p:sp>
            <p:nvSpPr>
              <p:cNvPr id="111" name=""/>
              <p:cNvSpPr/>
              <p:nvPr/>
            </p:nvSpPr>
            <p:spPr>
              <a:xfrm>
                <a:off x="4551480" y="129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29160" y="126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3122640" y="1852560"/>
            <a:ext cx="1440000" cy="539640"/>
            <a:chOff x="3122640" y="1852560"/>
            <a:chExt cx="1440000" cy="539640"/>
          </a:xfrm>
        </p:grpSpPr>
        <p:sp>
          <p:nvSpPr>
            <p:cNvPr id="114" name=""/>
            <p:cNvSpPr/>
            <p:nvPr/>
          </p:nvSpPr>
          <p:spPr>
            <a:xfrm>
              <a:off x="3122640" y="1876320"/>
              <a:ext cx="1440000" cy="515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321000" y="1852560"/>
              <a:ext cx="54000" cy="52560"/>
              <a:chOff x="3321000" y="1852560"/>
              <a:chExt cx="54000" cy="52560"/>
            </a:xfrm>
          </p:grpSpPr>
          <p:sp>
            <p:nvSpPr>
              <p:cNvPr id="116" name=""/>
              <p:cNvSpPr/>
              <p:nvPr/>
            </p:nvSpPr>
            <p:spPr>
              <a:xfrm>
                <a:off x="3341520" y="1892160"/>
                <a:ext cx="1620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21000" y="1852560"/>
                <a:ext cx="5400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502080" y="1854360"/>
              <a:ext cx="54000" cy="50760"/>
              <a:chOff x="3502080" y="1854360"/>
              <a:chExt cx="54000" cy="50760"/>
            </a:xfrm>
          </p:grpSpPr>
          <p:sp>
            <p:nvSpPr>
              <p:cNvPr id="119" name=""/>
              <p:cNvSpPr/>
              <p:nvPr/>
            </p:nvSpPr>
            <p:spPr>
              <a:xfrm>
                <a:off x="3522600" y="1892160"/>
                <a:ext cx="158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02080" y="185436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695760" y="1854360"/>
              <a:ext cx="54000" cy="50760"/>
              <a:chOff x="3695760" y="1854360"/>
              <a:chExt cx="54000" cy="50760"/>
            </a:xfrm>
          </p:grpSpPr>
          <p:sp>
            <p:nvSpPr>
              <p:cNvPr id="122" name=""/>
              <p:cNvSpPr/>
              <p:nvPr/>
            </p:nvSpPr>
            <p:spPr>
              <a:xfrm>
                <a:off x="3714840" y="1892160"/>
                <a:ext cx="140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95760" y="185436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887640" y="1854360"/>
              <a:ext cx="52560" cy="50760"/>
              <a:chOff x="3887640" y="1854360"/>
              <a:chExt cx="52560" cy="50760"/>
            </a:xfrm>
          </p:grpSpPr>
          <p:sp>
            <p:nvSpPr>
              <p:cNvPr id="125" name=""/>
              <p:cNvSpPr/>
              <p:nvPr/>
            </p:nvSpPr>
            <p:spPr>
              <a:xfrm>
                <a:off x="3906720" y="1892160"/>
                <a:ext cx="158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87640" y="1854360"/>
                <a:ext cx="5256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057560" y="1854360"/>
              <a:ext cx="52560" cy="50760"/>
              <a:chOff x="4057560" y="1854360"/>
              <a:chExt cx="52560" cy="50760"/>
            </a:xfrm>
          </p:grpSpPr>
          <p:sp>
            <p:nvSpPr>
              <p:cNvPr id="128" name=""/>
              <p:cNvSpPr/>
              <p:nvPr/>
            </p:nvSpPr>
            <p:spPr>
              <a:xfrm>
                <a:off x="4078440" y="1892160"/>
                <a:ext cx="158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57560" y="1854360"/>
                <a:ext cx="5256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249800" y="1854360"/>
              <a:ext cx="52200" cy="50760"/>
              <a:chOff x="4249800" y="1854360"/>
              <a:chExt cx="52200" cy="50760"/>
            </a:xfrm>
          </p:grpSpPr>
          <p:sp>
            <p:nvSpPr>
              <p:cNvPr id="131" name=""/>
              <p:cNvSpPr/>
              <p:nvPr/>
            </p:nvSpPr>
            <p:spPr>
              <a:xfrm>
                <a:off x="4270320" y="1892160"/>
                <a:ext cx="158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249800" y="1854360"/>
                <a:ext cx="5220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187880" y="2035080"/>
              <a:ext cx="8244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4520" y="2116080"/>
              <a:ext cx="12852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2080" y="2198520"/>
              <a:ext cx="128520" cy="173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9080" y="1852560"/>
              <a:ext cx="52560" cy="52560"/>
              <a:chOff x="4429080" y="1852560"/>
              <a:chExt cx="52560" cy="52560"/>
            </a:xfrm>
          </p:grpSpPr>
          <p:sp>
            <p:nvSpPr>
              <p:cNvPr id="137" name=""/>
              <p:cNvSpPr/>
              <p:nvPr/>
            </p:nvSpPr>
            <p:spPr>
              <a:xfrm>
                <a:off x="4449600" y="1892160"/>
                <a:ext cx="1620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29080" y="185256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3060720" y="2519280"/>
            <a:ext cx="1619280" cy="541440"/>
            <a:chOff x="3060720" y="2519280"/>
            <a:chExt cx="1619280" cy="541440"/>
          </a:xfrm>
        </p:grpSpPr>
        <p:sp>
          <p:nvSpPr>
            <p:cNvPr id="140" name=""/>
            <p:cNvSpPr/>
            <p:nvPr/>
          </p:nvSpPr>
          <p:spPr>
            <a:xfrm>
              <a:off x="3060720" y="2543040"/>
              <a:ext cx="1619280" cy="5176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282840" y="2519280"/>
              <a:ext cx="60480" cy="50760"/>
              <a:chOff x="3282840" y="2519280"/>
              <a:chExt cx="60480" cy="50760"/>
            </a:xfrm>
          </p:grpSpPr>
          <p:sp>
            <p:nvSpPr>
              <p:cNvPr id="142" name=""/>
              <p:cNvSpPr/>
              <p:nvPr/>
            </p:nvSpPr>
            <p:spPr>
              <a:xfrm>
                <a:off x="3305160" y="255744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82840" y="251928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486240" y="2521080"/>
              <a:ext cx="60120" cy="48960"/>
              <a:chOff x="3486240" y="2521080"/>
              <a:chExt cx="60120" cy="48960"/>
            </a:xfrm>
          </p:grpSpPr>
          <p:sp>
            <p:nvSpPr>
              <p:cNvPr id="145" name=""/>
              <p:cNvSpPr/>
              <p:nvPr/>
            </p:nvSpPr>
            <p:spPr>
              <a:xfrm>
                <a:off x="3508200" y="255744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86240" y="252108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703680" y="2521080"/>
              <a:ext cx="60120" cy="48960"/>
              <a:chOff x="3703680" y="2521080"/>
              <a:chExt cx="60120" cy="48960"/>
            </a:xfrm>
          </p:grpSpPr>
          <p:sp>
            <p:nvSpPr>
              <p:cNvPr id="148" name=""/>
              <p:cNvSpPr/>
              <p:nvPr/>
            </p:nvSpPr>
            <p:spPr>
              <a:xfrm>
                <a:off x="3726000" y="255744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03680" y="252108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919680" y="2521080"/>
              <a:ext cx="58680" cy="48960"/>
              <a:chOff x="3919680" y="2521080"/>
              <a:chExt cx="58680" cy="48960"/>
            </a:xfrm>
          </p:grpSpPr>
          <p:sp>
            <p:nvSpPr>
              <p:cNvPr id="151" name=""/>
              <p:cNvSpPr/>
              <p:nvPr/>
            </p:nvSpPr>
            <p:spPr>
              <a:xfrm>
                <a:off x="3941640" y="2557440"/>
                <a:ext cx="1764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919680" y="2521080"/>
                <a:ext cx="586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111560" y="2521080"/>
              <a:ext cx="60480" cy="48960"/>
              <a:chOff x="4111560" y="2521080"/>
              <a:chExt cx="60480" cy="48960"/>
            </a:xfrm>
          </p:grpSpPr>
          <p:sp>
            <p:nvSpPr>
              <p:cNvPr id="154" name=""/>
              <p:cNvSpPr/>
              <p:nvPr/>
            </p:nvSpPr>
            <p:spPr>
              <a:xfrm>
                <a:off x="4133880" y="255744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11560" y="252108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327560" y="2521080"/>
              <a:ext cx="58680" cy="48960"/>
              <a:chOff x="4327560" y="2521080"/>
              <a:chExt cx="58680" cy="48960"/>
            </a:xfrm>
          </p:grpSpPr>
          <p:sp>
            <p:nvSpPr>
              <p:cNvPr id="157" name=""/>
              <p:cNvSpPr/>
              <p:nvPr/>
            </p:nvSpPr>
            <p:spPr>
              <a:xfrm>
                <a:off x="4349880" y="255744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27560" y="2521080"/>
                <a:ext cx="586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257720" y="2701800"/>
              <a:ext cx="9216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2960" y="2781360"/>
              <a:ext cx="14436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86240" y="2865600"/>
              <a:ext cx="144360" cy="172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529160" y="2519280"/>
              <a:ext cx="60480" cy="50760"/>
              <a:chOff x="4529160" y="2519280"/>
              <a:chExt cx="60480" cy="50760"/>
            </a:xfrm>
          </p:grpSpPr>
          <p:sp>
            <p:nvSpPr>
              <p:cNvPr id="163" name=""/>
              <p:cNvSpPr/>
              <p:nvPr/>
            </p:nvSpPr>
            <p:spPr>
              <a:xfrm>
                <a:off x="4551480" y="255744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9160" y="251928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3060720" y="3780000"/>
            <a:ext cx="1619280" cy="541080"/>
            <a:chOff x="3060720" y="3780000"/>
            <a:chExt cx="1619280" cy="541080"/>
          </a:xfrm>
        </p:grpSpPr>
        <p:sp>
          <p:nvSpPr>
            <p:cNvPr id="166" name=""/>
            <p:cNvSpPr/>
            <p:nvPr/>
          </p:nvSpPr>
          <p:spPr>
            <a:xfrm>
              <a:off x="3060720" y="3803760"/>
              <a:ext cx="1619280" cy="5173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282840" y="3780000"/>
              <a:ext cx="60480" cy="50760"/>
              <a:chOff x="3282840" y="3780000"/>
              <a:chExt cx="60480" cy="50760"/>
            </a:xfrm>
          </p:grpSpPr>
          <p:sp>
            <p:nvSpPr>
              <p:cNvPr id="168" name=""/>
              <p:cNvSpPr/>
              <p:nvPr/>
            </p:nvSpPr>
            <p:spPr>
              <a:xfrm>
                <a:off x="3305160" y="3817800"/>
                <a:ext cx="190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82840" y="3780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86240" y="3780000"/>
              <a:ext cx="60120" cy="50760"/>
              <a:chOff x="3486240" y="3780000"/>
              <a:chExt cx="60120" cy="50760"/>
            </a:xfrm>
          </p:grpSpPr>
          <p:sp>
            <p:nvSpPr>
              <p:cNvPr id="171" name=""/>
              <p:cNvSpPr/>
              <p:nvPr/>
            </p:nvSpPr>
            <p:spPr>
              <a:xfrm>
                <a:off x="3508200" y="3817800"/>
                <a:ext cx="190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86240" y="378000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703680" y="3780000"/>
              <a:ext cx="60120" cy="50760"/>
              <a:chOff x="3703680" y="3780000"/>
              <a:chExt cx="60120" cy="50760"/>
            </a:xfrm>
          </p:grpSpPr>
          <p:sp>
            <p:nvSpPr>
              <p:cNvPr id="174" name=""/>
              <p:cNvSpPr/>
              <p:nvPr/>
            </p:nvSpPr>
            <p:spPr>
              <a:xfrm>
                <a:off x="3726000" y="381780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03680" y="378000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919680" y="3780000"/>
              <a:ext cx="58680" cy="50760"/>
              <a:chOff x="3919680" y="3780000"/>
              <a:chExt cx="58680" cy="50760"/>
            </a:xfrm>
          </p:grpSpPr>
          <p:sp>
            <p:nvSpPr>
              <p:cNvPr id="177" name=""/>
              <p:cNvSpPr/>
              <p:nvPr/>
            </p:nvSpPr>
            <p:spPr>
              <a:xfrm>
                <a:off x="3941640" y="3817800"/>
                <a:ext cx="176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19680" y="3780000"/>
                <a:ext cx="586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111560" y="3780000"/>
              <a:ext cx="60480" cy="50760"/>
              <a:chOff x="4111560" y="3780000"/>
              <a:chExt cx="60480" cy="50760"/>
            </a:xfrm>
          </p:grpSpPr>
          <p:sp>
            <p:nvSpPr>
              <p:cNvPr id="180" name=""/>
              <p:cNvSpPr/>
              <p:nvPr/>
            </p:nvSpPr>
            <p:spPr>
              <a:xfrm>
                <a:off x="4133880" y="381780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111560" y="3780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327560" y="3780000"/>
              <a:ext cx="58680" cy="50760"/>
              <a:chOff x="4327560" y="3780000"/>
              <a:chExt cx="58680" cy="50760"/>
            </a:xfrm>
          </p:grpSpPr>
          <p:sp>
            <p:nvSpPr>
              <p:cNvPr id="183" name=""/>
              <p:cNvSpPr/>
              <p:nvPr/>
            </p:nvSpPr>
            <p:spPr>
              <a:xfrm>
                <a:off x="4349880" y="381780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27560" y="3780000"/>
                <a:ext cx="586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257720" y="3962520"/>
              <a:ext cx="92160" cy="3157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2960" y="4041720"/>
              <a:ext cx="14436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86240" y="4124160"/>
              <a:ext cx="144360" cy="173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529160" y="3780000"/>
              <a:ext cx="60480" cy="50760"/>
              <a:chOff x="4529160" y="3780000"/>
              <a:chExt cx="60480" cy="50760"/>
            </a:xfrm>
          </p:grpSpPr>
          <p:sp>
            <p:nvSpPr>
              <p:cNvPr id="189" name=""/>
              <p:cNvSpPr/>
              <p:nvPr/>
            </p:nvSpPr>
            <p:spPr>
              <a:xfrm>
                <a:off x="4551480" y="381780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29160" y="3780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3060720" y="4500720"/>
            <a:ext cx="1619280" cy="537840"/>
            <a:chOff x="3060720" y="4500720"/>
            <a:chExt cx="1619280" cy="537840"/>
          </a:xfrm>
        </p:grpSpPr>
        <p:sp>
          <p:nvSpPr>
            <p:cNvPr id="192" name=""/>
            <p:cNvSpPr/>
            <p:nvPr/>
          </p:nvSpPr>
          <p:spPr>
            <a:xfrm>
              <a:off x="3060720" y="4522680"/>
              <a:ext cx="1619280" cy="515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282840" y="4500720"/>
              <a:ext cx="60480" cy="50760"/>
              <a:chOff x="3282840" y="4500720"/>
              <a:chExt cx="60480" cy="50760"/>
            </a:xfrm>
          </p:grpSpPr>
          <p:sp>
            <p:nvSpPr>
              <p:cNvPr id="194" name=""/>
              <p:cNvSpPr/>
              <p:nvPr/>
            </p:nvSpPr>
            <p:spPr>
              <a:xfrm>
                <a:off x="3305160" y="4538520"/>
                <a:ext cx="190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2840" y="450072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486240" y="4500720"/>
              <a:ext cx="60120" cy="50760"/>
              <a:chOff x="3486240" y="4500720"/>
              <a:chExt cx="60120" cy="50760"/>
            </a:xfrm>
          </p:grpSpPr>
          <p:sp>
            <p:nvSpPr>
              <p:cNvPr id="197" name=""/>
              <p:cNvSpPr/>
              <p:nvPr/>
            </p:nvSpPr>
            <p:spPr>
              <a:xfrm>
                <a:off x="3510000" y="453852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8624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703680" y="4500720"/>
              <a:ext cx="60120" cy="50760"/>
              <a:chOff x="3703680" y="4500720"/>
              <a:chExt cx="60120" cy="50760"/>
            </a:xfrm>
          </p:grpSpPr>
          <p:sp>
            <p:nvSpPr>
              <p:cNvPr id="200" name=""/>
              <p:cNvSpPr/>
              <p:nvPr/>
            </p:nvSpPr>
            <p:spPr>
              <a:xfrm>
                <a:off x="3726000" y="453852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0368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919680" y="4500720"/>
              <a:ext cx="60120" cy="50760"/>
              <a:chOff x="3919680" y="4500720"/>
              <a:chExt cx="60120" cy="50760"/>
            </a:xfrm>
          </p:grpSpPr>
          <p:sp>
            <p:nvSpPr>
              <p:cNvPr id="203" name=""/>
              <p:cNvSpPr/>
              <p:nvPr/>
            </p:nvSpPr>
            <p:spPr>
              <a:xfrm>
                <a:off x="3941640" y="4538520"/>
                <a:ext cx="176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1968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110120" y="4500720"/>
              <a:ext cx="60120" cy="50760"/>
              <a:chOff x="4110120" y="4500720"/>
              <a:chExt cx="60120" cy="50760"/>
            </a:xfrm>
          </p:grpSpPr>
          <p:sp>
            <p:nvSpPr>
              <p:cNvPr id="206" name=""/>
              <p:cNvSpPr/>
              <p:nvPr/>
            </p:nvSpPr>
            <p:spPr>
              <a:xfrm>
                <a:off x="4133880" y="453852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11012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327560" y="4500720"/>
              <a:ext cx="60120" cy="50760"/>
              <a:chOff x="4327560" y="4500720"/>
              <a:chExt cx="60120" cy="50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349880" y="4538520"/>
                <a:ext cx="1728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27560" y="450072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257720" y="4681440"/>
              <a:ext cx="9360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82960" y="4762440"/>
              <a:ext cx="144360" cy="24912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6240" y="4844880"/>
              <a:ext cx="144360" cy="1731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529160" y="4500720"/>
              <a:ext cx="60480" cy="50760"/>
              <a:chOff x="4529160" y="4500720"/>
              <a:chExt cx="60480" cy="50760"/>
            </a:xfrm>
          </p:grpSpPr>
          <p:sp>
            <p:nvSpPr>
              <p:cNvPr id="215" name=""/>
              <p:cNvSpPr/>
              <p:nvPr/>
            </p:nvSpPr>
            <p:spPr>
              <a:xfrm>
                <a:off x="4552920" y="4538520"/>
                <a:ext cx="17640" cy="1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29160" y="450072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060720" y="5040360"/>
            <a:ext cx="1619280" cy="539640"/>
            <a:chOff x="3060720" y="5040360"/>
            <a:chExt cx="1619280" cy="539640"/>
          </a:xfrm>
        </p:grpSpPr>
        <p:sp>
          <p:nvSpPr>
            <p:cNvPr id="218" name=""/>
            <p:cNvSpPr/>
            <p:nvPr/>
          </p:nvSpPr>
          <p:spPr>
            <a:xfrm>
              <a:off x="3060720" y="5064120"/>
              <a:ext cx="1619280" cy="515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282840" y="5040360"/>
              <a:ext cx="60480" cy="50760"/>
              <a:chOff x="3282840" y="5040360"/>
              <a:chExt cx="60480" cy="50760"/>
            </a:xfrm>
          </p:grpSpPr>
          <p:sp>
            <p:nvSpPr>
              <p:cNvPr id="220" name=""/>
              <p:cNvSpPr/>
              <p:nvPr/>
            </p:nvSpPr>
            <p:spPr>
              <a:xfrm>
                <a:off x="3305160" y="507852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82840" y="504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486240" y="5040360"/>
              <a:ext cx="60120" cy="50760"/>
              <a:chOff x="3486240" y="5040360"/>
              <a:chExt cx="60120" cy="50760"/>
            </a:xfrm>
          </p:grpSpPr>
          <p:sp>
            <p:nvSpPr>
              <p:cNvPr id="223" name=""/>
              <p:cNvSpPr/>
              <p:nvPr/>
            </p:nvSpPr>
            <p:spPr>
              <a:xfrm>
                <a:off x="3508200" y="5078520"/>
                <a:ext cx="190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486240" y="504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703680" y="5040360"/>
              <a:ext cx="60120" cy="50760"/>
              <a:chOff x="3703680" y="5040360"/>
              <a:chExt cx="60120" cy="50760"/>
            </a:xfrm>
          </p:grpSpPr>
          <p:sp>
            <p:nvSpPr>
              <p:cNvPr id="226" name=""/>
              <p:cNvSpPr/>
              <p:nvPr/>
            </p:nvSpPr>
            <p:spPr>
              <a:xfrm>
                <a:off x="3726000" y="507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03680" y="504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19680" y="5040360"/>
              <a:ext cx="58680" cy="50760"/>
              <a:chOff x="3919680" y="5040360"/>
              <a:chExt cx="58680" cy="50760"/>
            </a:xfrm>
          </p:grpSpPr>
          <p:sp>
            <p:nvSpPr>
              <p:cNvPr id="229" name=""/>
              <p:cNvSpPr/>
              <p:nvPr/>
            </p:nvSpPr>
            <p:spPr>
              <a:xfrm>
                <a:off x="3941640" y="5078520"/>
                <a:ext cx="1764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19680" y="504036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111560" y="5040360"/>
              <a:ext cx="60480" cy="50760"/>
              <a:chOff x="4111560" y="5040360"/>
              <a:chExt cx="60480" cy="5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4133880" y="507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111560" y="504036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327560" y="5040360"/>
              <a:ext cx="60120" cy="50760"/>
              <a:chOff x="4327560" y="5040360"/>
              <a:chExt cx="60120" cy="50760"/>
            </a:xfrm>
          </p:grpSpPr>
          <p:sp>
            <p:nvSpPr>
              <p:cNvPr id="235" name=""/>
              <p:cNvSpPr/>
              <p:nvPr/>
            </p:nvSpPr>
            <p:spPr>
              <a:xfrm>
                <a:off x="4349880" y="5078520"/>
                <a:ext cx="1728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27560" y="504036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257720" y="5222880"/>
              <a:ext cx="93600" cy="31608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2960" y="5302080"/>
              <a:ext cx="144360" cy="24948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86240" y="5384880"/>
              <a:ext cx="144360" cy="172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529160" y="5040360"/>
              <a:ext cx="58680" cy="50760"/>
              <a:chOff x="4529160" y="5040360"/>
              <a:chExt cx="58680" cy="50760"/>
            </a:xfrm>
          </p:grpSpPr>
          <p:sp>
            <p:nvSpPr>
              <p:cNvPr id="241" name=""/>
              <p:cNvSpPr/>
              <p:nvPr/>
            </p:nvSpPr>
            <p:spPr>
              <a:xfrm>
                <a:off x="4552920" y="5078520"/>
                <a:ext cx="17640" cy="1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29160" y="504036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23080" y="3959280"/>
            <a:ext cx="2538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Учимся считать</a:t>
            </a:r>
            <a:br>
              <a:rPr sz="4400"/>
            </a:br>
            <a:r>
              <a:rPr b="0" lang="ru-RU" sz="3600" spc="-1" strike="noStrike" u="sng">
                <a:solidFill>
                  <a:srgbClr val="000080"/>
                </a:solidFill>
                <a:uFillTx/>
                <a:latin typeface="Arial"/>
              </a:rPr>
              <a:t>Решите 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2920" y="1619280"/>
            <a:ext cx="291636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40 + 1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40 + 1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70 -14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70 -14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40000" y="1800360"/>
            <a:ext cx="630072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 fontScale="85000"/>
          </a:bodyPr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00 + 100) + (40 + 10) = 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40 + 100) +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00 - 100) + (70 - 40) = 4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70  - 100) - 4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отням прибавляем сотни, к десяткам - деся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отен вычитаем сотни, из десятков - деся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060720" y="1979640"/>
            <a:ext cx="4319640" cy="1260360"/>
            <a:chOff x="3060720" y="1979640"/>
            <a:chExt cx="4319640" cy="1260360"/>
          </a:xfrm>
        </p:grpSpPr>
        <p:sp>
          <p:nvSpPr>
            <p:cNvPr id="248" name=""/>
            <p:cNvSpPr/>
            <p:nvPr/>
          </p:nvSpPr>
          <p:spPr>
            <a:xfrm>
              <a:off x="3060720" y="2033640"/>
              <a:ext cx="4319640" cy="120636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654360" y="1979640"/>
              <a:ext cx="160560" cy="120600"/>
              <a:chOff x="3654360" y="1979640"/>
              <a:chExt cx="160560" cy="120600"/>
            </a:xfrm>
          </p:grpSpPr>
          <p:sp>
            <p:nvSpPr>
              <p:cNvPr id="250" name=""/>
              <p:cNvSpPr/>
              <p:nvPr/>
            </p:nvSpPr>
            <p:spPr>
              <a:xfrm>
                <a:off x="3714840" y="2070000"/>
                <a:ext cx="4752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4360" y="1979640"/>
                <a:ext cx="16056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195800" y="1979640"/>
              <a:ext cx="160200" cy="120600"/>
              <a:chOff x="4195800" y="1979640"/>
              <a:chExt cx="160200" cy="120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257720" y="2070000"/>
                <a:ext cx="4752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95800" y="1979640"/>
                <a:ext cx="16020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775040" y="1979640"/>
              <a:ext cx="158760" cy="120600"/>
              <a:chOff x="4775040" y="1979640"/>
              <a:chExt cx="158760" cy="1206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34080" y="2070000"/>
                <a:ext cx="4752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75040" y="1979640"/>
                <a:ext cx="15876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351400" y="1979640"/>
              <a:ext cx="160560" cy="120600"/>
              <a:chOff x="5351400" y="1979640"/>
              <a:chExt cx="160560" cy="120600"/>
            </a:xfrm>
          </p:grpSpPr>
          <p:sp>
            <p:nvSpPr>
              <p:cNvPr id="259" name=""/>
              <p:cNvSpPr/>
              <p:nvPr/>
            </p:nvSpPr>
            <p:spPr>
              <a:xfrm>
                <a:off x="5410080" y="2070000"/>
                <a:ext cx="478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51400" y="1979640"/>
                <a:ext cx="16056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861160" y="1979640"/>
              <a:ext cx="161640" cy="120600"/>
              <a:chOff x="5861160" y="1979640"/>
              <a:chExt cx="161640" cy="120600"/>
            </a:xfrm>
          </p:grpSpPr>
          <p:sp>
            <p:nvSpPr>
              <p:cNvPr id="262" name=""/>
              <p:cNvSpPr/>
              <p:nvPr/>
            </p:nvSpPr>
            <p:spPr>
              <a:xfrm>
                <a:off x="5923080" y="2070000"/>
                <a:ext cx="4752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61160" y="1979640"/>
                <a:ext cx="16164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438960" y="1979640"/>
              <a:ext cx="160200" cy="120600"/>
              <a:chOff x="6438960" y="1979640"/>
              <a:chExt cx="160200" cy="120600"/>
            </a:xfrm>
          </p:grpSpPr>
          <p:sp>
            <p:nvSpPr>
              <p:cNvPr id="265" name=""/>
              <p:cNvSpPr/>
              <p:nvPr/>
            </p:nvSpPr>
            <p:spPr>
              <a:xfrm>
                <a:off x="6500880" y="207000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38960" y="1979640"/>
                <a:ext cx="16020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256440" y="2405160"/>
              <a:ext cx="247680" cy="73800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4560" y="2592360"/>
              <a:ext cx="384120" cy="58104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95800" y="2786040"/>
              <a:ext cx="384120" cy="4017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978600" y="1979640"/>
              <a:ext cx="160560" cy="120600"/>
              <a:chOff x="6978600" y="1979640"/>
              <a:chExt cx="160560" cy="120600"/>
            </a:xfrm>
          </p:grpSpPr>
          <p:sp>
            <p:nvSpPr>
              <p:cNvPr id="271" name=""/>
              <p:cNvSpPr/>
              <p:nvPr/>
            </p:nvSpPr>
            <p:spPr>
              <a:xfrm>
                <a:off x="7039080" y="207000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78600" y="1979640"/>
                <a:ext cx="16056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3060720" y="4140360"/>
            <a:ext cx="4140360" cy="1260360"/>
            <a:chOff x="3060720" y="4140360"/>
            <a:chExt cx="4140360" cy="1260360"/>
          </a:xfrm>
        </p:grpSpPr>
        <p:sp>
          <p:nvSpPr>
            <p:cNvPr id="274" name=""/>
            <p:cNvSpPr/>
            <p:nvPr/>
          </p:nvSpPr>
          <p:spPr>
            <a:xfrm>
              <a:off x="3060720" y="4194000"/>
              <a:ext cx="4140360" cy="12067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8039"/>
                  </a:srgbClr>
                </a:gs>
                <a:gs pos="50000">
                  <a:srgbClr val="bbe0e3"/>
                </a:gs>
                <a:gs pos="100000">
                  <a:srgbClr val="ffffff">
                    <a:alpha val="98039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630600" y="4140360"/>
              <a:ext cx="154080" cy="118800"/>
              <a:chOff x="3630600" y="4140360"/>
              <a:chExt cx="154080" cy="118800"/>
            </a:xfrm>
          </p:grpSpPr>
          <p:sp>
            <p:nvSpPr>
              <p:cNvPr id="276" name=""/>
              <p:cNvSpPr/>
              <p:nvPr/>
            </p:nvSpPr>
            <p:spPr>
              <a:xfrm>
                <a:off x="3687840" y="4230720"/>
                <a:ext cx="46080" cy="28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30600" y="414036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149720" y="4140360"/>
              <a:ext cx="154080" cy="120600"/>
              <a:chOff x="4149720" y="4140360"/>
              <a:chExt cx="154080" cy="120600"/>
            </a:xfrm>
          </p:grpSpPr>
          <p:sp>
            <p:nvSpPr>
              <p:cNvPr id="279" name=""/>
              <p:cNvSpPr/>
              <p:nvPr/>
            </p:nvSpPr>
            <p:spPr>
              <a:xfrm>
                <a:off x="4208400" y="423072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49720" y="414036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703760" y="4140360"/>
              <a:ext cx="152280" cy="120600"/>
              <a:chOff x="4703760" y="4140360"/>
              <a:chExt cx="152280" cy="120600"/>
            </a:xfrm>
          </p:grpSpPr>
          <p:sp>
            <p:nvSpPr>
              <p:cNvPr id="282" name=""/>
              <p:cNvSpPr/>
              <p:nvPr/>
            </p:nvSpPr>
            <p:spPr>
              <a:xfrm>
                <a:off x="4761000" y="4230720"/>
                <a:ext cx="442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03760" y="4140360"/>
                <a:ext cx="1522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256360" y="4140360"/>
              <a:ext cx="152280" cy="120600"/>
              <a:chOff x="5256360" y="4140360"/>
              <a:chExt cx="152280" cy="120600"/>
            </a:xfrm>
          </p:grpSpPr>
          <p:sp>
            <p:nvSpPr>
              <p:cNvPr id="285" name=""/>
              <p:cNvSpPr/>
              <p:nvPr/>
            </p:nvSpPr>
            <p:spPr>
              <a:xfrm>
                <a:off x="5311800" y="423072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56360" y="4140360"/>
                <a:ext cx="1522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745240" y="4140360"/>
              <a:ext cx="154080" cy="120600"/>
              <a:chOff x="5745240" y="4140360"/>
              <a:chExt cx="154080" cy="120600"/>
            </a:xfrm>
          </p:grpSpPr>
          <p:sp>
            <p:nvSpPr>
              <p:cNvPr id="288" name=""/>
              <p:cNvSpPr/>
              <p:nvPr/>
            </p:nvSpPr>
            <p:spPr>
              <a:xfrm>
                <a:off x="5803920" y="4230720"/>
                <a:ext cx="460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45240" y="414036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297480" y="4140360"/>
              <a:ext cx="154080" cy="120600"/>
              <a:chOff x="6297480" y="4140360"/>
              <a:chExt cx="154080" cy="120600"/>
            </a:xfrm>
          </p:grpSpPr>
          <p:sp>
            <p:nvSpPr>
              <p:cNvPr id="291" name=""/>
              <p:cNvSpPr/>
              <p:nvPr/>
            </p:nvSpPr>
            <p:spPr>
              <a:xfrm>
                <a:off x="6356520" y="4230720"/>
                <a:ext cx="44280" cy="3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297480" y="414036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6122880" y="4565520"/>
              <a:ext cx="238320" cy="73836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2400" y="4751280"/>
              <a:ext cx="370080" cy="58104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9720" y="4944960"/>
              <a:ext cx="368280" cy="40176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815160" y="4140360"/>
              <a:ext cx="152280" cy="118800"/>
              <a:chOff x="6815160" y="4140360"/>
              <a:chExt cx="152280" cy="118800"/>
            </a:xfrm>
          </p:grpSpPr>
          <p:sp>
            <p:nvSpPr>
              <p:cNvPr id="297" name=""/>
              <p:cNvSpPr/>
              <p:nvPr/>
            </p:nvSpPr>
            <p:spPr>
              <a:xfrm>
                <a:off x="6873840" y="4230720"/>
                <a:ext cx="44640" cy="28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15160" y="4140360"/>
                <a:ext cx="152280" cy="11412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ff">
                      <a:alpha val="45098"/>
                    </a:srgbClr>
                  </a:gs>
                  <a:gs pos="50000">
                    <a:srgbClr val="ffffff"/>
                  </a:gs>
                  <a:gs pos="100000">
                    <a:srgbClr val="0000ff">
                      <a:alpha val="45098"/>
                    </a:srgbClr>
                  </a:gs>
                </a:gsLst>
                <a:lin ang="10800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 rot="10800000">
            <a:off x="7201080" y="216072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7520" y="414036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b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c2300"/>
                </a:solidFill>
                <a:latin typeface="Arial"/>
              </a:rPr>
              <a:t>Решите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marL="343080" indent="0" algn="just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, магазин и театр расположены на одной стороне улицы. От школы до магазина 650 м, от магазина до театра на 400 м меньше. Какое расстояние от школы до теа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0000" y="5759280"/>
            <a:ext cx="7019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07880" y="201600"/>
            <a:ext cx="1932120" cy="2138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400720" y="5759280"/>
            <a:ext cx="72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80360" y="5759280"/>
            <a:ext cx="72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0000" y="5580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80000" y="558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60360" y="5759280"/>
            <a:ext cx="720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00360" y="5219640"/>
            <a:ext cx="14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5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5219640"/>
            <a:ext cx="1979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00 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672080" y="3598920"/>
            <a:ext cx="73080" cy="1746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672080" y="3598920"/>
            <a:ext cx="718920" cy="360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140360" y="6480000"/>
            <a:ext cx="1979280" cy="540000"/>
          </a:xfrm>
          <a:prstGeom prst="ellipse">
            <a:avLst/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02120" y="638028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4:53:32Z</dcterms:created>
  <dc:creator/>
  <dc:description/>
  <dc:language>en-US</dc:language>
  <cp:lastModifiedBy/>
  <dcterms:modified xsi:type="dcterms:W3CDTF">2012-10-08T21:10:52Z</dcterms:modified>
  <cp:revision>11</cp:revision>
  <dc:subject/>
  <dc:title/>
</cp:coreProperties>
</file>