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1.wmf" ContentType="image/x-wmf"/>
  <Override PartName="/ppt/media/image3.png" ContentType="image/png"/>
  <Override PartName="/ppt/media/image8.gif" ContentType="image/gif"/>
  <Override PartName="/ppt/media/image7.gif" ContentType="image/gif"/>
  <Override PartName="/ppt/media/image18.wmf" ContentType="image/x-wmf"/>
  <Override PartName="/ppt/media/image10.jpeg" ContentType="image/jpeg"/>
  <Override PartName="/ppt/media/image13.wmf" ContentType="image/x-wmf"/>
  <Override PartName="/ppt/media/image21.jpeg" ContentType="image/jpeg"/>
  <Override PartName="/ppt/media/applause.wav" ContentType="audio/x-wav"/>
  <Override PartName="/ppt/media/image15.wmf" ContentType="image/x-wmf"/>
  <Override PartName="/ppt/media/image20.gif" ContentType="image/gif"/>
  <Override PartName="/ppt/media/image19.png" ContentType="image/png"/>
  <Override PartName="/ppt/media/image1.png" ContentType="image/png"/>
  <Override PartName="/ppt/media/image17.png" ContentType="image/png"/>
  <Override PartName="/ppt/media/image14.wmf" ContentType="image/x-wmf"/>
  <Override PartName="/ppt/media/image2.wmf" ContentType="image/x-wmf"/>
  <Override PartName="/ppt/media/image4.png" ContentType="image/png"/>
  <Override PartName="/ppt/media/image16.wmf" ContentType="image/x-wmf"/>
  <Override PartName="/ppt/media/image5.gif" ContentType="image/gif"/>
  <Override PartName="/ppt/media/image6.gif" ContentType="image/gi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354D-F574-4FFD-BC32-521C79527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6E9C-9B77-4B94-8A65-348D5BBC3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EBE8-0F61-4ED6-A51A-408789F28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4584-D142-43DF-8968-03CBB4E05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692B1-1703-429D-A4D5-13DF0B773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F3738-5226-4DD2-B6A3-4D9E90B64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197D3-68E5-465C-8F74-1FB9C27C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B862B-0413-4C0D-A7CE-B575CD26F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64B78-F279-4F3D-9B28-CD0DF41DC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FC128-4A3A-41B8-BBE1-BE505EDE8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20E4B-C5A7-4F8E-B0B4-7B953E98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4AE8-0C1A-4CB6-A0DA-9C627DD61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B9560-4093-4AE9-B937-3F392BA3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D940C-1F1A-4095-B486-60CFEB5A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C8268-B5F8-4FEF-9FC7-B00821BE6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3700D-717C-4A08-8312-ED0D09616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E9172-E079-4C09-A14E-89BD0F863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24EF-37FE-4DEA-BC94-6AB3C4A7B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346E-DE8B-482C-98AF-BD4B7560A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EE92-E1AC-47A1-9FDA-101B694C4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452A-41DC-4264-A3AC-514587AD8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6690-1A6B-4058-9B7E-ADC81A55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4F35-3999-43B1-9DC5-AC10D9F5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3F1E-5F19-42FE-B895-8427B874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18CCA-5087-4497-964B-8C009E1EB2F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C117C-FA7B-4647-82EE-4A8E2F1249B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МБОУ «СОШ №9 г.Азнакаево»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читель начальных классов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Шайдуллина Л.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16160" y="455400"/>
            <a:ext cx="73706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ПРОВЕРЬ СЕБ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769608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Заяц                                                                    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Под кустом  притаился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маленький</a:t>
            </a:r>
            <a:r>
              <a:rPr b="0" i="1" lang="en-US" sz="32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зверек. У него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длинные</a:t>
            </a:r>
            <a:r>
              <a:rPr b="0" i="1" lang="en-US" sz="32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уши,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короткий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хвост. Тело покрыто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серой</a:t>
            </a:r>
            <a:r>
              <a:rPr b="0" i="1" lang="en-US" sz="3200" spc="-1" strike="noStrike">
                <a:solidFill>
                  <a:srgbClr val="33cc33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шерстью. Есть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острые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зубы, но обороняться ими он не може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51280" y="4149720"/>
            <a:ext cx="338472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Самостоятельная работа по вариантам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склоняйте словосочетани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10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Зеленый лес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10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Белая береза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10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Голубое неб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Работа по учебнику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Упр.54  ( 127 стр.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Tahoma"/>
              </a:rPr>
              <a:t>Модель </a:t>
            </a:r>
            <a:br>
              <a:rPr sz="4000"/>
            </a:br>
            <a:r>
              <a:rPr b="1" lang="en-US" sz="4000" spc="-1" strike="noStrike">
                <a:solidFill>
                  <a:srgbClr val="ff9900"/>
                </a:solidFill>
                <a:latin typeface="Tahoma"/>
              </a:rPr>
              <a:t>имени прилагательного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755640" y="1916280"/>
            <a:ext cx="7488360" cy="6490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Имя прилагательн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16000" y="2924280"/>
            <a:ext cx="6767640" cy="5047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Часть реч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00720" y="2565360"/>
            <a:ext cx="0" cy="358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26920" y="3789360"/>
            <a:ext cx="1656000" cy="503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Обознача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71640" y="3789360"/>
            <a:ext cx="1656000" cy="503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опрос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716360" y="3789360"/>
            <a:ext cx="1656000" cy="503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Изменяет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64000" y="3429000"/>
            <a:ext cx="0" cy="358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380360" y="3429000"/>
            <a:ext cx="0" cy="358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19280" y="3429000"/>
            <a:ext cx="0" cy="358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588000" y="3789360"/>
            <a:ext cx="1656000" cy="503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Член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редлож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508720" y="3429000"/>
            <a:ext cx="0" cy="358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6920" y="4653000"/>
            <a:ext cx="1656000" cy="503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ризна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редме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619280" y="4292640"/>
            <a:ext cx="0" cy="3585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71640" y="4653000"/>
            <a:ext cx="1656000" cy="1152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Какой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Кака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Како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Каки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716360" y="4653000"/>
            <a:ext cx="1684440" cy="833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о числ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о родам (ед. ч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о падеж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88000" y="4653000"/>
            <a:ext cx="1656000" cy="863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торостепен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член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редлож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635280" y="4292640"/>
            <a:ext cx="0" cy="3585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508720" y="4292640"/>
            <a:ext cx="0" cy="3585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380360" y="4292640"/>
            <a:ext cx="0" cy="3585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19047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Чему мы научились на уроке:</a:t>
            </a:r>
            <a:br>
              <a:rPr sz="4000"/>
            </a:br>
            <a:r>
              <a:rPr b="0" lang="en-US" sz="4000" spc="-1" strike="noStrike">
                <a:solidFill>
                  <a:srgbClr val="ff9900"/>
                </a:solidFill>
                <a:latin typeface="Tahoma"/>
              </a:rPr>
              <a:t>Я научился…</a:t>
            </a:r>
            <a:br>
              <a:rPr sz="4000"/>
            </a:br>
            <a:r>
              <a:rPr b="0" lang="en-US" sz="4000" spc="-1" strike="noStrike">
                <a:solidFill>
                  <a:srgbClr val="ff9900"/>
                </a:solidFill>
                <a:latin typeface="Tahoma"/>
              </a:rPr>
              <a:t>Я понял, что…</a:t>
            </a:r>
            <a:br>
              <a:rPr sz="4000"/>
            </a:br>
            <a:r>
              <a:rPr b="0" lang="en-US" sz="4000" spc="-1" strike="noStrike">
                <a:solidFill>
                  <a:srgbClr val="ff9900"/>
                </a:solidFill>
                <a:latin typeface="Tahoma"/>
              </a:rPr>
              <a:t>Было трудно…</a:t>
            </a:r>
            <a:br>
              <a:rPr sz="4000"/>
            </a:br>
            <a:r>
              <a:rPr b="0" lang="en-US" sz="4000" spc="-1" strike="noStrike">
                <a:solidFill>
                  <a:srgbClr val="ff9900"/>
                </a:solidFill>
                <a:latin typeface="Tahoma"/>
              </a:rPr>
              <a:t>Было интересно…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1360" y="1904760"/>
            <a:ext cx="8155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5796000" y="2637000"/>
          <a:ext cx="2368440" cy="25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0" y="2637000"/>
                    <a:ext cx="236844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 txBox="1"/>
          <p:nvPr/>
        </p:nvSpPr>
        <p:spPr>
          <a:xfrm>
            <a:off x="971640" y="333360"/>
            <a:ext cx="6408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ФЛЕКСИЯ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6309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5400" spc="-1" strike="noStrike">
                <a:solidFill>
                  <a:srgbClr val="ff9900"/>
                </a:solidFill>
                <a:latin typeface="Tahoma"/>
              </a:rPr>
              <a:t>Сегодня вы были: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835280" y="1412640"/>
            <a:ext cx="54007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Умны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Внимательны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Активны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Красивы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Добры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Воспитанны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732720" y="2997360"/>
            <a:ext cx="1944720" cy="19443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 flipH="1">
            <a:off x="394920" y="2060640"/>
            <a:ext cx="189396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3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3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3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400"/>
                            </p:stCondLst>
                            <p:childTnLst>
                              <p:par>
                                <p:cTn id="1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3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3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3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350"/>
                            </p:stCondLst>
                            <p:childTnLst>
                              <p:par>
                                <p:cTn id="1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3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3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3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4700"/>
                            </p:stCondLst>
                            <p:childTnLst>
                              <p:par>
                                <p:cTn id="1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3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3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3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050"/>
                            </p:stCondLst>
                            <p:childTnLst>
                              <p:par>
                                <p:cTn id="1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3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3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3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7100"/>
                            </p:stCondLst>
                            <p:childTnLst>
                              <p:par>
                                <p:cTn id="1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3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3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3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1042920" y="189000"/>
            <a:ext cx="354240" cy="88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3300"/>
                </a:solidFill>
                <a:latin typeface="Georgia"/>
              </a:rPr>
              <a:t>4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3300"/>
              </a:solidFill>
              <a:latin typeface="Georgia"/>
              <a:ea typeface="Georgi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 flipH="1">
            <a:off x="4716000" y="2981160"/>
            <a:ext cx="4427640" cy="38768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684360" y="907920"/>
            <a:ext cx="353880" cy="88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3300"/>
                </a:solidFill>
                <a:latin typeface="Georgia"/>
              </a:rPr>
              <a:t>5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3300"/>
              </a:solidFill>
              <a:latin typeface="Georgia"/>
              <a:ea typeface="Georgi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476360" y="1052640"/>
            <a:ext cx="353880" cy="88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3300"/>
                </a:solidFill>
                <a:latin typeface="Georgia"/>
              </a:rPr>
              <a:t>5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3300"/>
              </a:solidFill>
              <a:latin typeface="Georgia"/>
              <a:ea typeface="Georgi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755640" y="836640"/>
            <a:ext cx="353880" cy="88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3300"/>
                </a:solidFill>
                <a:latin typeface="Georgia"/>
              </a:rPr>
              <a:t>5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3300"/>
              </a:solidFill>
              <a:latin typeface="Georgia"/>
              <a:ea typeface="Georgi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4360" y="620640"/>
            <a:ext cx="353880" cy="88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3300"/>
                </a:solidFill>
                <a:latin typeface="Georgia"/>
              </a:rPr>
              <a:t>4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3300"/>
              </a:solidFill>
              <a:latin typeface="Georgia"/>
              <a:ea typeface="Georgi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971640" y="1052640"/>
            <a:ext cx="353880" cy="88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3300"/>
                </a:solidFill>
                <a:latin typeface="Georgia"/>
              </a:rPr>
              <a:t>5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3300"/>
              </a:solidFill>
              <a:latin typeface="Georgia"/>
              <a:ea typeface="Georgi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826920" y="981000"/>
            <a:ext cx="354240" cy="88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3300"/>
                </a:solidFill>
                <a:latin typeface="Georgia"/>
              </a:rPr>
              <a:t>5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3300"/>
              </a:solidFill>
              <a:latin typeface="Georgia"/>
              <a:ea typeface="Georgi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95280" y="692280"/>
            <a:ext cx="353880" cy="88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3300"/>
                </a:solidFill>
                <a:latin typeface="Georgia"/>
              </a:rPr>
              <a:t>4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3300"/>
              </a:solidFill>
              <a:latin typeface="Georgia"/>
              <a:ea typeface="Georgi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403280" y="0"/>
            <a:ext cx="354240" cy="88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3300"/>
                </a:solidFill>
                <a:latin typeface="Georgia"/>
              </a:rPr>
              <a:t>5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3300"/>
              </a:solidFill>
              <a:latin typeface="Georgia"/>
              <a:ea typeface="Georgi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116000" y="1773360"/>
            <a:ext cx="353880" cy="88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3300"/>
                </a:solidFill>
                <a:latin typeface="Georgia"/>
              </a:rPr>
              <a:t>5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3300"/>
              </a:solidFill>
              <a:latin typeface="Georgia"/>
              <a:ea typeface="Georgi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32000" y="1989000"/>
            <a:ext cx="353880" cy="88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3300"/>
                </a:solidFill>
                <a:latin typeface="Georgia"/>
              </a:rPr>
              <a:t>5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3300"/>
              </a:solidFill>
              <a:latin typeface="Georgia"/>
              <a:ea typeface="Georgi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900000" y="1123920"/>
            <a:ext cx="354240" cy="88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3300"/>
                </a:solidFill>
                <a:latin typeface="Georgia"/>
              </a:rPr>
              <a:t>5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3300"/>
              </a:solidFill>
              <a:latin typeface="Georgia"/>
              <a:ea typeface="Georgi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 flipH="1">
            <a:off x="-360" y="0"/>
            <a:ext cx="3024360" cy="48243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3059280" y="981000"/>
            <a:ext cx="53290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ЛОДЦЫ !!!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132000" y="4869000"/>
            <a:ext cx="13687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3300"/>
                </a:solidFill>
                <a:latin typeface="Georgia"/>
              </a:rPr>
              <a:t>5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33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2" presetSubtype="6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5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2" presetSubtype="6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9" dur="2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2" presetSubtype="6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3" dur="3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3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3.61111E-006 3.33333E-006 C 0.02378 0.00069 0.04774 0.00069 0.07153 0.00185 C 0.07951 0.00231 0.08767 0.00972 0.096 0.01065 C 0.10382 0.01134 0.15069 0.01412 0.15677 0.01435 C 0.16198 0.0162 0.16545 0.01921 0.17031 0.02153 C 0.1835 0.02801 0.2 0.02778 0.21354 0.0287 C 0.22569 0.03426 0.24114 0.03287 0.25399 0.03426 C 0.26718 0.03935 0.27968 0.04884 0.29323 0.05208 C 0.29826 0.05694 0.30364 0.05764 0.30937 0.06111 C 0.3217 0.06852 0.33489 0.07361 0.34722 0.08102 C 0.35416 0.08519 0.36041 0.09028 0.36753 0.09375 C 0.37118 0.0956 0.3783 0.09907 0.3783 0.09907 C 0.3842 0.10671 0.39166 0.11134 0.39861 0.11713 C 0.39982 0.11806 0.40139 0.11806 0.40278 0.11875 C 0.40468 0.11968 0.40642 0.12083 0.40816 0.12245 C 0.41597 0.1294 0.42083 0.13634 0.42968 0.14051 C 0.43767 0.15069 0.44722 0.15787 0.45538 0.16759 C 0.45937 0.17245 0.46736 0.18333 0.47153 0.18912 C 0.4743 0.19306 0.48073 0.19699 0.48385 0.2 C 0.49236 0.20856 0.49861 0.21644 0.50937 0.21968 C 0.51215 0.22222 0.51475 0.22454 0.51753 0.22708 C 0.51892 0.22824 0.52153 0.23056 0.52153 0.23056 C 0.52656 0.24028 0.52778 0.25116 0.53246 0.26111 C 0.5342 0.26481 0.53628 0.26806 0.53784 0.27199 C 0.54166 0.28148 0.54253 0.29167 0.54722 0.30093 C 0.55104 0.30833 0.55503 0.31736 0.55937 0.32431 C 0.56423 0.33218 0.57153 0.33495 0.57569 0.34398 C 0.57847 0.35 0.58142 0.35556 0.58385 0.36204 C 0.58628 0.38032 0.58784 0.40579 0.596 0.42153 C 0.59739 0.42778 0.59861 0.43218 0.60139 0.43773 C 0.60538 0.4544 0.60764 0.47269 0.61354 0.48819 C 0.61736 0.58194 0.61493 0.51111 0.61493 0.70093 E">
                                      <p:cBhvr>
                                        <p:cTn id="187" dur="3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500"/>
                            </p:stCondLst>
                            <p:childTnLst>
                              <p:par>
                                <p:cTn id="189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1.38889E-006 7.40741E-007 C 0.01059 -0.00718 0.02153 -0.01273 0.03246 -0.01805 C 0.03385 -0.01991 0.03507 -0.02199 0.03663 -0.02361 C 0.03819 -0.02523 0.04045 -0.02546 0.04201 -0.02708 C 0.04323 -0.02847 0.0434 -0.03102 0.04462 -0.03241 C 0.04618 -0.03426 0.04844 -0.03449 0.05 -0.03611 C 0.05451 -0.04028 0.05937 -0.04583 0.06354 -0.05046 C 0.0651 -0.05208 0.06615 -0.0544 0.06771 -0.05602 C 0.07031 -0.05856 0.07309 -0.06065 0.07569 -0.06319 C 0.0776 -0.06481 0.08108 -0.06852 0.08108 -0.06852 C 0.08767 -0.08171 0.07917 -0.06736 0.08924 -0.07569 C 0.09132 -0.07755 0.09253 -0.08079 0.09462 -0.08287 C 0.09618 -0.08449 0.09826 -0.08518 0.1 -0.08657 C 0.10799 -0.09375 0.11302 -0.10162 0.1217 -0.10648 C 0.13056 -0.11852 0.14149 -0.12708 0.15139 -0.13704 C 0.16146 -0.14722 0.15226 -0.14213 0.16094 -0.14606 C 0.16719 -0.1544 0.16858 -0.15463 0.17708 -0.15694 C 0.18472 -0.16296 0.19167 -0.16551 0.2 -0.16944 C 0.20972 -0.1787 0.21875 -0.18333 0.22986 -0.18935 C 0.23871 -0.19421 0.23194 -0.19097 0.23924 -0.19653 C 0.2467 -0.20231 0.2592 -0.2081 0.26771 -0.21088 C 0.27865 -0.21805 0.28681 -0.2243 0.29878 -0.22708 C 0.30642 -0.23055 0.31354 -0.23125 0.3217 -0.23241 C 0.34271 -0.23958 0.36354 -0.2419 0.38524 -0.24329 C 0.4033 -0.24745 0.42101 -0.24977 0.43924 -0.25231 C 0.45955 -0.25162 0.47969 -0.25162 0.5 -0.25046 C 0.51181 -0.24977 0.52257 -0.24236 0.53385 -0.23981 C 0.54583 -0.23704 0.55955 -0.23588 0.5717 -0.23426 C 0.58194 -0.23079 0.59219 -0.22847 0.60278 -0.22708 C 0.60729 -0.225 0.61181 -0.22384 0.61632 -0.22176 C 0.62674 -0.21204 0.64722 -0.20347 0.65955 -0.2 C 0.66545 -0.19838 0.67014 -0.19375 0.67569 -0.19097 C 0.67917 -0.18912 0.68299 -0.18866 0.68663 -0.1875 C 0.69462 -0.18218 0.70295 -0.17824 0.71094 -0.17315 C 0.71753 -0.16389 0.71337 -0.16898 0.72431 -0.15856 C 0.73212 -0.15093 0.73351 -0.14167 0.74062 -0.13518 C 0.7441 -0.12222 0.73941 -0.13819 0.74462 -0.1243 C 0.7467 -0.11898 0.74583 -0.11643 0.7474 -0.10995 C 0.75087 -0.09514 0.75937 -0.0713 0.76632 -0.05949 C 0.76823 -0.04954 0.77118 -0.04074 0.77569 -0.03241 C 0.77917 -0.01875 0.78472 -0.00671 0.78785 0.00718 C 0.7875 0.01782 0.7875 0.02894 0.78663 0.03958 C 0.78524 0.05579 0.77951 0.07431 0.77569 0.09005 C 0.76996 0.11273 0.76806 0.1375 0.76215 0.16019 C 0.76076 0.17454 0.75781 0.1875 0.75556 0.20162 C 0.75451 0.20787 0.75 0.21227 0.7474 0.21782 C 0.74201 0.22847 0.7375 0.24537 0.73385 0.25764 C 0.72865 0.27523 0.72656 0.30185 0.71892 0.31713 C 0.71424 0.33727 0.71128 0.35764 0.70816 0.37824 C 0.70955 0.39074 0.71146 0.40486 0.70278 0.41227 C 0.7 0.42315 0.69444 0.4331 0.69062 0.44282 C 0.68906 0.44722 0.68698 0.45162 0.68524 0.45579 C 0.68437 0.45764 0.68246 0.46088 0.68246 0.46088 E">
                                      <p:cBhvr>
                                        <p:cTn id="190" dur="3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7.22222E-006 6.93889E-018 C 0.00173 0.00764 0.00208 0.01574 0.00399 0.02338 C 0.00329 0.07523 0.00781 0.11968 -0.0014 0.16736 C -0.00244 0.18033 -0.00417 0.19236 -0.00539 0.20533 C -0.00504 0.26713 -0.00487 0.32917 -0.00417 0.39098 C -0.00348 0.44144 -0.0014 0.49074 0.01753 0.53496 C 0.021 0.54283 0.02135 0.54931 0.02569 0.55672 C 0.02881 0.5676 0.03194 0.57385 0.03645 0.58357 C 0.0401 0.59144 0.03767 0.59005 0.04183 0.5963 C 0.04392 0.59954 0.04652 0.60209 0.0486 0.60533 C 0.05572 0.6169 0.05954 0.62709 0.06753 0.63773 C 0.07239 0.64422 0.06909 0.64653 0.07569 0.65209 C 0.08975 0.68195 0.11371 0.7007 0.13506 0.72061 C 0.13419 0.71875 0.1309 0.71621 0.13229 0.71528 C 0.13419 0.71412 0.13593 0.7176 0.13784 0.71875 C 0.14149 0.72107 0.1486 0.72593 0.1486 0.72593 C 0.15277 0.73172 0.15729 0.73565 0.16215 0.74051 C 0.16128 0.7382 0.1585 0.73565 0.15937 0.73334 C 0.16006 0.73148 0.16215 0.73588 0.16354 0.73681 C 0.16475 0.73773 0.16614 0.73797 0.16753 0.73866 C 0.17656 0.74306 0.1835 0.74885 0.19322 0.75116 C 0.19496 0.75232 0.19669 0.75394 0.1986 0.75486 C 0.20034 0.75579 0.20225 0.75556 0.20399 0.75672 C 0.20694 0.75857 0.20902 0.7625 0.21215 0.76389 C 0.22985 0.77199 0.24722 0.78102 0.26475 0.78912 C 0.25989 0.77894 0.26163 0.78542 0.27152 0.78542 C 0.34496 0.78542 0.4184 0.78357 0.49183 0.78357 E">
                                      <p:cBhvr>
                                        <p:cTn id="192" dur="3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93" dur="1" fill="hold">
                                    <p:stCondLst>
                                      <p:cond evt="end">
                                        <p:tn val="191"/>
                                      </p:cond>
                                    </p:stCondLst>
                                  </p:cTn>
                                  <p:tgtEl>
                                    <p:spTgt spid="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94" nodeType="with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5" dur="2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2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-4.40204E-006 C 0.00434 0.01851 -0.00122 -0.00115 0.0066 0.01735 C 0.0099 0.02568 0.01302 0.03493 0.01597 0.04349 C 0.0184 0.05783 0.01528 0.04164 0.02066 0.05876 C 0.02552 0.07426 0.0283 0.0967 0.03698 0.10664 C 0.03924 0.11335 0.04045 0.11983 0.04288 0.12631 C 0.0434 0.13602 0.04358 0.14782 0.04635 0.15684 C 0.04965 0.16933 0.04809 0.15777 0.05087 0.17211 C 0.05503 0.19316 0.05816 0.21698 0.06493 0.23572 C 0.06753 0.26093 0.06806 0.28638 0.06962 0.31182 C 0.07049 0.32594 0.07361 0.33981 0.07552 0.35346 C 0.0776 0.37081 0.08003 0.38677 0.08576 0.40111 C 0.08767 0.4143 0.09253 0.42263 0.09653 0.43396 C 0.10347 0.45339 0.10972 0.47375 0.11962 0.48809 C 0.12205 0.50544 0.11875 0.49087 0.12552 0.50128 C 0.12708 0.50382 0.12778 0.50729 0.12917 0.5103 C 0.13333 0.51886 0.13767 0.52464 0.14306 0.52973 C 0.14861 0.54546 0.16719 0.54893 0.17708 0.55379 C 0.18108 0.55911 0.19097 0.56258 0.19097 0.56281 C 0.20139 0.57576 0.21354 0.57784 0.22604 0.57969 C 0.23455 0.58571 0.22691 0.58085 0.24583 0.58432 C 0.26059 0.58663 0.27535 0.58895 0.2901 0.5908 C 0.30226 0.59843 0.31597 0.5982 0.32847 0.59936 C 0.34097 0.60745 0.3533 0.61347 0.3658 0.62156 C 0.37448 0.62665 0.38247 0.63498 0.39149 0.63914 C 0.3974 0.64608 0.41007 0.65603 0.41719 0.65857 C 0.42552 0.67014 0.43576 0.67222 0.44531 0.68055 E">
                                      <p:cBhvr>
                                        <p:cTn id="199" dur="3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00" dur="1" fill="hold">
                                    <p:stCondLst>
                                      <p:cond evt="end">
                                        <p:tn val="198"/>
                                      </p:cond>
                                    </p:stCondLst>
                                  </p:cTn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01" nodeType="with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2" dur="2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2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77778E-006 3.7037E-006 C 0.00139 0.00694 0.004 0.01296 0.00539 0.01991 C 0.00782 0.03125 0.00955 0.0419 0.01355 0.05231 C 0.01528 0.0625 0.01685 0.06643 0.02153 0.07569 C 0.0224 0.07755 0.02431 0.08102 0.02431 0.08102 C 0.02726 0.1037 0.02917 0.1213 0.03924 0.14051 C 0.04115 0.15185 0.04584 0.16204 0.05139 0.17106 C 0.05469 0.18264 0.06077 0.19074 0.06476 0.20185 C 0.07014 0.21713 0.07501 0.2331 0.07969 0.24861 C 0.08212 0.25648 0.08646 0.26296 0.08924 0.27037 C 0.0948 0.28495 0.08803 0.27407 0.09723 0.28657 C 0.10001 0.29745 0.09653 0.28634 0.104 0.29907 C 0.11025 0.30972 0.11563 0.32176 0.12292 0.33148 C 0.12587 0.34306 0.14497 0.36528 0.154 0.37106 C 0.1599 0.38287 0.16823 0.38866 0.17692 0.3963 C 0.18195 0.40069 0.1849 0.40648 0.19046 0.40903 C 0.19844 0.42268 0.21094 0.43125 0.22153 0.44143 C 0.22622 0.44606 0.23039 0.45139 0.23507 0.45579 C 0.24098 0.46157 0.2481 0.46597 0.254 0.47199 C 0.26042 0.47824 0.27084 0.49236 0.2783 0.49537 C 0.28751 0.50347 0.27639 0.49468 0.29046 0.50093 C 0.29462 0.50278 0.30157 0.50741 0.30539 0.50995 C 0.31685 0.51759 0.32813 0.52431 0.34046 0.52963 C 0.34428 0.53125 0.3474 0.53542 0.35139 0.53704 C 0.35903 0.54028 0.36632 0.54259 0.37431 0.54421 C 0.38594 0.54884 0.3698 0.5419 0.38247 0.54954 C 0.38751 0.55255 0.39376 0.55324 0.39862 0.55671 C 0.40591 0.56181 0.41303 0.56875 0.41893 0.57662 C 0.42396 0.59606 0.43091 0.61597 0.44185 0.63056 C 0.44358 0.63727 0.44254 0.63449 0.44462 0.63958 E">
                                      <p:cBhvr>
                                        <p:cTn id="206" dur="3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07" dur="1" fill="hold">
                                    <p:stCondLst>
                                      <p:cond evt="end">
                                        <p:tn val="205"/>
                                      </p:cond>
                                    </p:stCondLst>
                                  </p:cTn>
                                  <p:tgtEl>
                                    <p:spTgt spid="1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08" nodeType="with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9" dur="2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37 -0.04372 C 0.06788 -0.02845 0.08351 -0.00971 0.09983 -0.00416 C 0.10556 0.00209 0.11198 0.00625 0.11858 0.01111 C 0.14062 0.02799 0.16094 0.04742 0.18507 0.0613 C 0.18819 0.06315 0.19167 0.06477 0.19496 0.06593 C 0.19896 0.06755 0.20295 0.06847 0.20677 0.07056 C 0.22587 0.0812 0.20799 0.07657 0.22552 0.07981 C 0.23437 0.08444 0.24358 0.0886 0.25295 0.09184 C 0.25764 0.09531 0.26215 0.09762 0.26719 0.09947 C 0.27795 0.10711 0.2901 0.11196 0.30069 0.1196 C 0.31111 0.127 0.32083 0.13463 0.33246 0.13926 C 0.34427 0.14897 0.35729 0.15846 0.36996 0.16679 C 0.38924 0.17974 0.36389 0.16355 0.38021 0.17581 C 0.38177 0.1772 0.3842 0.17766 0.38594 0.17905 C 0.38767 0.1802 0.38837 0.18252 0.39028 0.18344 C 0.39375 0.18552 0.39844 0.18483 0.40191 0.18668 C 0.41111 0.19154 0.42118 0.19593 0.43073 0.20033 C 0.43646 0.2031 0.44392 0.20333 0.44931 0.20634 C 0.46076 0.21305 0.47153 0.22022 0.4842 0.22462 C 0.49219 0.22762 0.49931 0.23063 0.50729 0.23387 C 0.51389 0.23665 0.52066 0.23734 0.52604 0.24312 C 0.5276 0.24474 0.52899 0.24729 0.53021 0.24914 C 0.53177 0.25076 0.53333 0.25214 0.5349 0.25376 C 0.53628 0.25931 0.5434 0.26903 0.5434 0.26926 C 0.54705 0.28036 0.54757 0.2799 0.5434 0.29956 C 0.54271 0.30234 0.54062 0.29448 0.54062 0.29193 E">
                                      <p:cBhvr>
                                        <p:cTn id="213" dur="3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5" dur="2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2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96296E-006 C 0.01997 -0.00926 -0.00052 -0.00047 0.05399 -0.00371 C 0.0724 -0.00509 0.0974 -0.0169 0.11476 -0.02523 C 0.12882 -0.03195 0.14462 -0.03519 0.15937 -0.03797 C 0.17778 -0.04584 0.19427 -0.05695 0.21354 -0.06134 C 0.2276 -0.07037 0.24271 -0.07593 0.25677 -0.08472 C 0.27049 -0.09329 0.28194 -0.09977 0.29722 -0.10463 C 0.32326 -0.11297 0.34931 -0.11713 0.37569 -0.12246 C 0.39028 -0.12523 0.40434 -0.12963 0.41892 -0.13148 C 0.43264 -0.13866 0.44618 -0.14028 0.46076 -0.14236 C 0.49184 -0.15185 0.45069 -0.14005 0.48906 -0.14769 C 0.50156 -0.15023 0.51424 -0.15741 0.52691 -0.15857 C 0.53819 -0.15972 0.54948 -0.15972 0.56076 -0.16042 C 0.58472 -0.15972 0.60851 -0.15972 0.63247 -0.15857 C 0.6533 -0.15764 0.67396 -0.14769 0.69462 -0.14422 C 0.71562 -0.13449 0.73524 -0.12222 0.75538 -0.10996 C 0.76979 -0.10116 0.78316 -0.09352 0.79583 -0.08102 C 0.80486 -0.07199 0.81424 -0.06366 0.82292 -0.05417 C 0.82517 -0.05162 0.8276 -0.04931 0.82969 -0.04676 C 0.83299 -0.04283 0.83906 -0.03426 0.83906 -0.03426 C 0.84219 -0.02222 0.83785 -0.03658 0.84583 -0.02176 C 0.8467 -0.01991 0.84635 -0.01783 0.84722 -0.01621 C 0.84878 -0.01366 0.85087 -0.01134 0.8526 -0.00903 C 0.85503 0.000229999999999999 0.85937 0.00972 0.86354 0.01805 C 0.86528 0.05185 0.87483 0.10648 0.86076 0.13333 C 0.85816 0.14722 0.85365 0.15972 0.85 0.17291 C 0.84809 0.17986 0.84774 0.18449 0.84462 0.19074 C 0.84045 0.21273 0.82951 0.22731 0.82014 0.24514 C 0.81337 0.25787 0.80903 0.27014 0.80538 0.28472 C 0.80417 0.28981 0.8026 0.29375 0.8026 0.29907 E">
                                      <p:cBhvr>
                                        <p:cTn id="219" dur="3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20" dur="1" fill="hold">
                                    <p:stCondLst>
                                      <p:cond evt="end">
                                        <p:tn val="218"/>
                                      </p:cond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21" nodeType="with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2" dur="2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2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757 0.12746 C -0.07761 0.11821 -0.09809 0.127 -0.04358 0.12376 C -0.02518 0.12237 -0.00018 0.11058 0.01719 0.10225 C 0.03125 0.09554 0.04705 0.0923 0.0618 0.08952 C 0.08021 0.08166 0.0967 0.07056 0.11597 0.06616 C 0.13003 0.05714 0.14514 0.05159 0.15903 0.0428 C 0.17292 0.03424 0.18437 0.02776 0.19965 0.0229 C 0.22569 0.01458 0.25173 0.01041 0.27812 0.00509 C 0.29271 0.00232 0.30677 -0.00208 0.32135 -0.00393 C 0.33507 -0.0111 0.34861 -0.01272 0.36319 -0.0148 C 0.39427 -0.02429 0.35312 -0.01249 0.39149 -0.02012 C 0.40399 -0.02267 0.41667 -0.02984 0.42934 -0.03099 C 0.44062 -0.03215 0.45191 -0.03215 0.46319 -0.03284 C 0.48715 -0.03215 0.51094 -0.03215 0.53489 -0.03099 C 0.55573 -0.03007 0.57639 -0.02012 0.59705 -0.01665 C 0.61805 -0.00694 0.63767 0.00532 0.65781 0.01758 C 0.67222 0.02637 0.68559 0.03401 0.69826 0.0465 C 0.70729 0.05552 0.71667 0.06385 0.72535 0.07333 C 0.7276 0.07588 0.73003 0.07819 0.73212 0.08073 C 0.73542 0.08467 0.74149 0.09323 0.74149 0.09346 C 0.74462 0.10525 0.74028 0.09091 0.74826 0.10572 C 0.74913 0.10757 0.74878 0.10965 0.74965 0.11127 C 0.75121 0.11381 0.7533 0.11613 0.75503 0.11844 C 0.75746 0.12769 0.7618 0.13718 0.76597 0.1455 C 0.76771 0.17951 0.77726 0.2341 0.76319 0.26093 C 0.76059 0.27481 0.75607 0.2873 0.75243 0.30049 C 0.75052 0.30743 0.75017 0.31206 0.74705 0.3183 C 0.74288 0.34028 0.73194 0.35485 0.72257 0.37266 C 0.7158 0.38538 0.71146 0.39764 0.70781 0.41222 C 0.7066 0.41731 0.70503 0.42124 0.70503 0.42656 E">
                                      <p:cBhvr>
                                        <p:cTn id="226" dur="3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27" dur="1" fill="hold">
                                    <p:stCondLst>
                                      <p:cond evt="end">
                                        <p:tn val="225"/>
                                      </p:cond>
                                    </p:stCondLst>
                                  </p:cTn>
                                  <p:tgtEl>
                                    <p:spTgt spid="1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73472E-018 C 0.31892 0.14652 0.63784 0.29328 0.77969 0.37129 C 0.92153 0.4493 0.88646 0.45879 0.85139 0.46851 E">
                                      <p:cBhvr>
                                        <p:cTn id="229" dur="3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4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07 -0.13116 C -0.01215 -0.13926 -0.01423 -0.14226 -0.01719 -0.1499 C -0.01962 -0.15591 -0.01962 -0.15961 -0.02309 -0.16563 C -0.025 -0.17257 -0.02778 -0.17974 -0.03125 -0.18575 C -0.03385 -0.19593 -0.03871 -0.20264 -0.04184 -0.21258 C -0.04288 -0.21559 -0.0434 -0.2186 -0.04427 -0.22184 C -0.04514 -0.22531 -0.04757 -0.22785 -0.04896 -0.23132 C -0.05243 -0.23896 -0.05538 -0.24659 -0.05833 -0.25469 C -0.06146 -0.26371 -0.0625 -0.27388 -0.06545 -0.28291 C -0.06892 -0.29401 -0.07187 -0.30465 -0.07483 -0.31575 C -0.07795 -0.32778 -0.0776 -0.34074 -0.08298 -0.35184 C -0.08507 -0.36803 -0.08715 -0.3833 -0.0901 -0.39903 C -0.09184 -0.418 -0.09358 -0.43697 -0.09722 -0.45524 C -0.09826 -0.4675 -0.09983 -0.47907 -0.10069 -0.49156 C -0.10035 -0.54846 -0.10035 -0.6056 -0.09948 -0.66227 C -0.0993 -0.67939 -0.09705 -0.69581 -0.08767 -0.70761 C -0.08351 -0.71964 -0.07639 -0.73306 -0.06771 -0.73907 C -0.06371 -0.7474 -0.0592 -0.74971 -0.05243 -0.75156 C -0.04792 -0.75804 -0.04358 -0.75804 -0.03715 -0.76105 C -0.02413 -0.76706 -0.00955 -0.76799 0.00399 -0.7703 C 0.05208 -0.78695 0.11458 -0.78233 0.15938 -0.78302 C 0.22066 -0.79204 0.2809 -0.78233 0.34167 -0.77816 C 0.35208 -0.77608 0.36215 -0.77308 0.37222 -0.76891 C 0.37656 -0.76706 0.38125 -0.7666 0.38524 -0.76405 C 0.39705 -0.75642 0.37622 -0.76683 0.39583 -0.75781 C 0.39844 -0.75665 0.40052 -0.75364 0.40278 -0.75156 C 0.40573 -0.74902 0.4092 -0.7474 0.41233 -0.74532 C 0.41389 -0.74439 0.41702 -0.74231 0.41702 -0.74208 C 0.4217 -0.73259 0.41615 -0.74162 0.42396 -0.73606 C 0.42535 -0.73468 0.42622 -0.73259 0.42761 -0.73121 C 0.4309 -0.7275 0.4349 -0.72727 0.4382 -0.72334 C 0.44445 -0.7164 0.45208 -0.71178 0.45816 -0.7046 C 0.46424 -0.69743 0.46945 -0.68911 0.47691 -0.68425 C 0.48142 -0.67638 0.48715 -0.66921 0.4934 -0.66389 C 0.49809 -0.65556 0.50347 -0.64839 0.5099 -0.64215 C 0.51285 -0.6359 0.5184 -0.62873 0.52292 -0.62457 C 0.52726 -0.6167 0.53299 -0.60953 0.53698 -0.60144 C 0.54167 -0.59149 0.54618 -0.57946 0.55226 -0.57136 C 0.55434 -0.56095 0.55434 -0.55193 0.55938 -0.54314 C 0.56007 -0.53505 0.56094 -0.5288 0.56285 -0.5214 C 0.5691 -0.43951 0.58264 -0.35253 0.56285 -0.27342 C 0.56077 -0.2526 0.55868 -0.23086 0.55452 -0.21073 C 0.5533 -0.20541 0.55087 -0.20102 0.54983 -0.19547 C 0.54827 -0.18737 0.5474 -0.1802 0.54392 -0.17326 C 0.54219 -0.16262 0.53681 -0.14018 0.53229 -0.13116 C 0.52865 -0.11242 0.52448 -0.09322 0.51806 -0.07611 C 0.51493 -0.06801 0.51424 -0.05922 0.51111 -0.05112 C 0.50729 -0.04071 0.50677 -0.02637 0.50052 -0.01828 C 0.50052 -0.01804 -0.01007 -0.13116 -0.01007 -0.13093 Z">
                                      <p:cBhvr>
                                        <p:cTn id="236" dur="3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6920" y="4952880"/>
            <a:ext cx="687096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 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132000" y="4292640"/>
            <a:ext cx="3384720" cy="22748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900000" y="620640"/>
            <a:ext cx="65516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ОМАШНЕЕ ЗАДАНИЕ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752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упр.58 (129 стр.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7451640" y="4941720"/>
            <a:ext cx="1285920" cy="17290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79280" y="333360"/>
            <a:ext cx="187164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-360" y="1844640"/>
            <a:ext cx="871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763640" y="620640"/>
            <a:ext cx="489600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ма урок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156360" y="4724280"/>
            <a:ext cx="2303280" cy="20098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84360" y="2133720"/>
            <a:ext cx="7991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imes New Roman"/>
              </a:rPr>
              <a:t>Я слово ищу необычное, звучно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imes New Roman"/>
              </a:rPr>
              <a:t>Особое, сильное, самое лучше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imes New Roman"/>
              </a:rPr>
              <a:t>Короткое, длинное, красное, сине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imes New Roman"/>
              </a:rPr>
              <a:t>Неброское, яркое, очень красиво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imes New Roman"/>
              </a:rPr>
              <a:t>Оно уменьшительное или ласкательно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imes New Roman"/>
              </a:rPr>
              <a:t>Его называют ещё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9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41440" y="33336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10160" y="40464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094520" y="40464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453440" y="515772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5080" y="522936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052720" y="515772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97080" y="76500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00"/>
                </a:solidFill>
                <a:latin typeface="Times New Roman"/>
              </a:rPr>
              <a:t>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57800" y="486900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00"/>
                </a:solidFill>
                <a:latin typeface="Times New Roman"/>
              </a:rPr>
              <a:t>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49800" y="486900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00"/>
                </a:solidFill>
                <a:latin typeface="Times New Roman"/>
              </a:rPr>
              <a:t>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81800" y="76500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00"/>
                </a:solidFill>
                <a:latin typeface="Times New Roman"/>
              </a:rPr>
              <a:t>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2276280"/>
            <a:ext cx="8229600" cy="60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гурец,  русский,  капуст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Какое слово лишнее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295280" y="457200"/>
            <a:ext cx="6624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истописание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>
            <a:lum bright="-14000"/>
          </a:blip>
          <a:stretch/>
        </p:blipFill>
        <p:spPr>
          <a:xfrm>
            <a:off x="6084720" y="4761000"/>
            <a:ext cx="251964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Спишите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раздничный салют, боевые ордена, большой праздник, вечная память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Задание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Определите род прилагательных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Вспомни и продолжи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Имя прилагательное – это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Имена прилагательные нужны, чтоб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Имя прилагательное изменяется по …, по …, по …  (только ед.ч.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 Имя прилагательное в предложении является … членом предлож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. С какой частью речи связаны имена прилагательны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Работа по учебнику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     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упр. 52 (127 стр.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324000" y="1268280"/>
            <a:ext cx="8664480" cy="3265560"/>
            <a:chOff x="324000" y="1268280"/>
            <a:chExt cx="8664480" cy="326556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24000" y="2060640"/>
              <a:ext cx="1139760" cy="18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2"/>
            <a:stretch/>
          </p:blipFill>
          <p:spPr>
            <a:xfrm>
              <a:off x="6659640" y="1268280"/>
              <a:ext cx="2328840" cy="3265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 flipH="1">
            <a:off x="9144000" y="4797360"/>
            <a:ext cx="2232000" cy="1908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-612720" y="5157720"/>
            <a:ext cx="4968720" cy="1492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826920" y="620640"/>
            <a:ext cx="69138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ИЗКУЛЬТМИНУТКА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2826360"/>
            <a:ext cx="7634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1,2 – выше голо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3,4 – руки шир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5,6 – тихо се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7,8 – лень отброси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8000"/>
                            </p:stCondLst>
                            <p:childTnLst>
                              <p:par>
                                <p:cTn id="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87" dur="3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331640" y="333360"/>
            <a:ext cx="704988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Под кустом  притаился… зверек. У него … уши, … хвост. Тело покрыто… шерстью. Есть …зубы, но обороняться ими он не может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755280" y="620280"/>
            <a:ext cx="687060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71640" y="3573360"/>
            <a:ext cx="3384720" cy="25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илия</cp:lastModifiedBy>
  <dcterms:modified xsi:type="dcterms:W3CDTF">2012-04-08T11:40:4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