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22.png" ContentType="image/png"/>
  <Override PartName="/ppt/media/image1.jpeg" ContentType="image/jpeg"/>
  <Override PartName="/ppt/media/image21.gif" ContentType="image/gif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0B62-5EA0-4582-A2BE-2F7EACD6E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5096-395D-4600-B67C-31648484B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D0F6-63C1-40FE-8401-920E775A6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9D88-BD1A-4590-8CB5-4697FB09D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939E-C44B-49D4-A854-91A971518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45D6-31FC-4D05-AFF6-4960C4393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FFAC-C2BE-430A-92C0-DBE231D46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FAC9-FB12-41D8-A649-8BB5ED688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E188-74DA-4495-A764-DE6352EBD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260A-C704-42C8-A012-AD5CD14A0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4E06-9F7D-424A-A559-3C768F0E4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3965-904B-41B8-9DD6-53A2F1866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12E79-0A60-4791-9218-1EBBDDBDAA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14200" y="4071960"/>
            <a:ext cx="878688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Georgia"/>
                <a:ea typeface="Times New Roman"/>
              </a:rPr>
              <a:t>Орехова Виктория Александровн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Georgia"/>
                <a:ea typeface="Times New Roman"/>
              </a:rPr>
              <a:t>учитель русского языка и литерату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Georgia"/>
                <a:ea typeface="Times New Roman"/>
              </a:rPr>
              <a:t>МБОУ «Средняя общеобразовательная школа № 30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33"/>
                </a:solidFill>
                <a:latin typeface="Georgia"/>
                <a:ea typeface="Times New Roman"/>
              </a:rPr>
              <a:t>города Старый Оско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33"/>
                </a:solidFill>
                <a:latin typeface="Georgia"/>
                <a:ea typeface="Times New Roman"/>
              </a:rPr>
              <a:t>Белгородской обла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1285920" y="1197000"/>
            <a:ext cx="757224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ер – класс</a:t>
            </a: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СЛОВА – к СЛОВУ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4" descr="Красивые снежинки (35 фото)"/>
          <p:cNvPicPr/>
          <p:nvPr/>
        </p:nvPicPr>
        <p:blipFill>
          <a:blip r:embed="rId1"/>
          <a:stretch/>
        </p:blipFill>
        <p:spPr>
          <a:xfrm>
            <a:off x="0" y="0"/>
            <a:ext cx="9144000" cy="6929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5" descr="Красивые снежинки (35 фото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5" descr="Красивые снежинки (35 фото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5" descr="Красивые снежинки (35 фото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Красивые снежинки (35 фото)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70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5" descr="Красивые снежинки (35 фото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8" descr="Красивые снежинки (35 фото)"/>
          <p:cNvPicPr/>
          <p:nvPr/>
        </p:nvPicPr>
        <p:blipFill>
          <a:blip r:embed="rId1"/>
          <a:stretch/>
        </p:blipFill>
        <p:spPr>
          <a:xfrm>
            <a:off x="-142920" y="0"/>
            <a:ext cx="9286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3"/>
          <p:cNvSpPr/>
          <p:nvPr/>
        </p:nvSpPr>
        <p:spPr>
          <a:xfrm>
            <a:off x="179280" y="404640"/>
            <a:ext cx="8344080" cy="60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Схемы вырезания снежинок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1. Подготовка бумаг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а) Возьмём альбомный лист, разрежем его пополам и развернём так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б) Свернём бумагу таким образом, как показано на рисунк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) Обрежьте лишнюю бумагу (по линии отреза), чтобы получилос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г) Теперь нужно развернуть сложенную бумагу длинной сторон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верх и согнуть её по пунктирным линиям, как на рисунк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) В результате должна получиться такая фигур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(на рисунке ниже), которую необходимо ещё раз сложить по пунктирной лини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е) Последние штрихи - обрезаем лишние края у получившейся заготовки и бумага готова для вырезания снежинок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a5"/>
          <p:cNvPicPr/>
          <p:nvPr/>
        </p:nvPicPr>
        <p:blipFill>
          <a:blip r:embed="rId1"/>
          <a:stretch/>
        </p:blipFill>
        <p:spPr>
          <a:xfrm>
            <a:off x="5940360" y="189000"/>
            <a:ext cx="1212840" cy="907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6ray_1"/>
          <p:cNvPicPr/>
          <p:nvPr/>
        </p:nvPicPr>
        <p:blipFill>
          <a:blip r:embed="rId2"/>
          <a:stretch/>
        </p:blipFill>
        <p:spPr>
          <a:xfrm>
            <a:off x="7596360" y="692280"/>
            <a:ext cx="1199880" cy="1079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6ray_2"/>
          <p:cNvPicPr/>
          <p:nvPr/>
        </p:nvPicPr>
        <p:blipFill>
          <a:blip r:embed="rId3"/>
          <a:stretch/>
        </p:blipFill>
        <p:spPr>
          <a:xfrm>
            <a:off x="7451640" y="1916280"/>
            <a:ext cx="1200240" cy="1081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6ray_3"/>
          <p:cNvPicPr/>
          <p:nvPr/>
        </p:nvPicPr>
        <p:blipFill>
          <a:blip r:embed="rId4"/>
          <a:stretch/>
        </p:blipFill>
        <p:spPr>
          <a:xfrm>
            <a:off x="7164360" y="3141720"/>
            <a:ext cx="1689120" cy="8888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6ray_4"/>
          <p:cNvPicPr/>
          <p:nvPr/>
        </p:nvPicPr>
        <p:blipFill>
          <a:blip r:embed="rId5"/>
          <a:stretch/>
        </p:blipFill>
        <p:spPr>
          <a:xfrm>
            <a:off x="7956720" y="4508640"/>
            <a:ext cx="857160" cy="8762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6ray_5"/>
          <p:cNvPicPr/>
          <p:nvPr/>
        </p:nvPicPr>
        <p:blipFill>
          <a:blip r:embed="rId6"/>
          <a:stretch/>
        </p:blipFill>
        <p:spPr>
          <a:xfrm>
            <a:off x="5076720" y="5661000"/>
            <a:ext cx="1295640" cy="100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4" descr="http://www.lenagold.ru/fon/clipart/k/kot/kosh44a.gif"/>
          <p:cNvPicPr/>
          <p:nvPr/>
        </p:nvPicPr>
        <p:blipFill>
          <a:blip r:embed="rId1"/>
          <a:stretch/>
        </p:blipFill>
        <p:spPr>
          <a:xfrm>
            <a:off x="971640" y="596880"/>
            <a:ext cx="7345440" cy="5904000"/>
          </a:xfrm>
          <a:prstGeom prst="rect">
            <a:avLst/>
          </a:prstGeom>
          <a:ln w="0">
            <a:noFill/>
          </a:ln>
        </p:spPr>
      </p:pic>
      <p:pic>
        <p:nvPicPr>
          <p:cNvPr id="90" name="РђР»РµРєСЃР°РЅРґСЂ Р¦С„Р°СЃРјР°РЅ-РЎРЅРµР¶РёРЅРєРё -.mp3" descr=""/>
          <p:cNvPicPr/>
          <p:nvPr/>
        </p:nvPicPr>
        <p:blipFill>
          <a:blip r:embed="rId2"/>
          <a:stretch/>
        </p:blipFill>
        <p:spPr>
          <a:xfrm>
            <a:off x="611280" y="333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233096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2"/>
          <p:cNvSpPr/>
          <p:nvPr/>
        </p:nvSpPr>
        <p:spPr>
          <a:xfrm>
            <a:off x="755640" y="289440"/>
            <a:ext cx="7705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c97b4"/>
                </a:solidFill>
                <a:latin typeface="Georgia"/>
              </a:rPr>
              <a:t>Акрости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Georgia"/>
              </a:rPr>
              <a:t>С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частлив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Georgia"/>
              </a:rPr>
              <a:t>Н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еж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Georgia"/>
              </a:rPr>
              <a:t>Е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ршист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Georgia"/>
              </a:rPr>
              <a:t>Ж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ив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Georgia"/>
              </a:rPr>
              <a:t>И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скрист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Georgia"/>
              </a:rPr>
              <a:t>Н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ов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Georgia"/>
              </a:rPr>
              <a:t>К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ружев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Georgia"/>
              </a:rPr>
              <a:t>А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жур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Rectangle 1"/>
          <p:cNvGrpSpPr/>
          <p:nvPr/>
        </p:nvGrpSpPr>
        <p:grpSpPr>
          <a:xfrm>
            <a:off x="390600" y="25200"/>
            <a:ext cx="8564400" cy="6706080"/>
            <a:chOff x="390600" y="25200"/>
            <a:chExt cx="8564400" cy="6706080"/>
          </a:xfrm>
        </p:grpSpPr>
        <p:pic>
          <p:nvPicPr>
            <p:cNvPr id="44" name="Rectangle 1" descr=""/>
            <p:cNvPicPr/>
            <p:nvPr/>
          </p:nvPicPr>
          <p:blipFill>
            <a:blip r:embed="rId1"/>
            <a:stretch/>
          </p:blipFill>
          <p:spPr>
            <a:xfrm>
              <a:off x="390600" y="122400"/>
              <a:ext cx="8564400" cy="651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571680" y="25200"/>
              <a:ext cx="8143560" cy="67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ема педагогического опыта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        </a:t>
              </a:r>
              <a:r>
                <a:rPr b="0" i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«Реализация метапредметного подхода как основа для формирования ключевых компетенций обучающихся на уроках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усского языка и литературы»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снову деятельности составляют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еоретические положения концепции Л.С.Выготского, А.Н.Леонтьева, Д.Б.Эльконина, П.Я.Гальперина, раскрывающие основные психологические закономерности процесса обучения и структуру учебной деятельности обучающихся;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 использование 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етапредметного подхода </a:t>
              </a:r>
              <a:r>
                <a:rPr b="0" i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 обучении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Book Antiqua"/>
              </a:rPr>
              <a:t>Мини-текст</a:t>
            </a:r>
            <a:br>
              <a:rPr sz="4000"/>
            </a:br>
            <a:r>
              <a:rPr b="0" lang="ru-RU" sz="4000" spc="-1" strike="noStrike">
                <a:solidFill>
                  <a:srgbClr val="003366"/>
                </a:solidFill>
                <a:latin typeface="Book Antiqua"/>
              </a:rPr>
              <a:t>от имени снежин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32000" y="2276640"/>
            <a:ext cx="6400800" cy="39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Какая я, снежинка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О чем хочу вам рассказать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О чем я думаю, когда лечу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Какие ощущения возникают, ведь я лечу из дома в гости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Как меня встретят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Что меня ждет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285840" y="257400"/>
            <a:ext cx="8477280" cy="61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он Г</a:t>
            </a:r>
            <a:r>
              <a:rPr b="1" i="1" lang="ru-RU" sz="2100" spc="-1" strike="noStrike">
                <a:solidFill>
                  <a:srgbClr val="000000"/>
                </a:solidFill>
                <a:latin typeface="Times New Roman"/>
                <a:ea typeface="Calibri"/>
              </a:rPr>
              <a:t>.,   5 класс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снежинка. Я белая и пушистая. Хочу рассказать о себ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у  далеко-далеко на облаке и раз в год опускаюсь на землю, кружась и танцуя в воздухе. Когда я лечу, думаю о том, что увижу на земле много интересного. Я уверена, что все дети и взрослые ждут меня. Когда нас много, можно лепить снежки. Я лечу в гости и надеюсь, что все будут рады, и меня ждёт увлекательное путешестви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ван П</a:t>
            </a:r>
            <a:r>
              <a:rPr b="1" i="1" lang="ru-RU" sz="2100" spc="-1" strike="noStrike">
                <a:solidFill>
                  <a:srgbClr val="000000"/>
                </a:solidFill>
                <a:latin typeface="Times New Roman"/>
              </a:rPr>
              <a:t>.,  </a:t>
            </a:r>
            <a:r>
              <a:rPr b="1" i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i="1" lang="ru-RU" sz="2100" spc="-1" strike="noStrike">
                <a:solidFill>
                  <a:srgbClr val="000000"/>
                </a:solidFill>
                <a:latin typeface="Times New Roman"/>
              </a:rPr>
              <a:t> класс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ушистый белый снег. Родился я высоко в облаках и теперь лечу на землю. Я хочу рассказать, как красиво и холодно там, где я родился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о в небе пар превращается в снег, а потом туча опускается ближе к земле, и идёт снег. Когда я лечу, я думаю о том, как меня ждёт холодная земля, леса, реки, озёра. Возникает ощущение радости из-за того, что всё на земле отдыхает под моим белым одеялом. Встретят меня с радостью все, кто меня любит и ждёт. Зимой дети будут со мной играть в снежки, лепить замки, дворцы, снеговиков. С приходом весны я буду таять, и мои воды дадут всему живому новую жизнь, а затем в виде пара я снова вернусь домой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285840" y="214200"/>
            <a:ext cx="840096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иктория У., 5 к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Я белая пушистая снежинка. Мои сестрички-снежинки тоже белые и пушистые, как я. На первый взгляд может показаться, что мы одинаковые. Но это не так: одна из нас крупнее, а другие мельче, и узоры тоже отличаются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Когда я лечу, мне нравится, что ветерок несёт меня то в одну, то в другую сторону. Что ждёт меня, когда я приземлюсь на землю? Может, я стану снегом и останусь лежать на земле, пока не растаю? А может, из меня вылепят снеговика на радость детям? 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Times New Roman"/>
              </a:rPr>
              <a:t>Кирилл Ш., 5 кл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Я красивая белая снежинка. Хочу я вам рассказать о зиме. Зима красивая и белоснежная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Когда лечу, я думаю о том, куда я приземлюсь: на деревце, на ёлочку, на нос мальчишке? Я очень радуюсь, когда лечу из дома в гости, потому что я знаю, что меня ждут. Встретит меня озорная детвора. Я немного покружусь и упаду на землю. А потом из миллионов снежинок слепят снежную бабу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1144080" y="906120"/>
            <a:ext cx="6950520" cy="4776840"/>
          </a:xfrm>
          <a:prstGeom prst="rect">
            <a:avLst/>
          </a:prstGeom>
          <a:solidFill>
            <a:srgbClr val="fef9d6"/>
          </a:solidFill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Цель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мастер-класса </a:t>
            </a:r>
            <a:r>
              <a:rPr b="0" lang="ru-RU" sz="2200" spc="-1" strike="noStrike">
                <a:solidFill>
                  <a:srgbClr val="000000"/>
                </a:solidFill>
                <a:latin typeface="Bookman Old Style"/>
              </a:rPr>
              <a:t>– </a:t>
            </a:r>
            <a:r>
              <a:rPr b="0" lang="ru-RU" sz="2700" spc="-1" strike="noStrike">
                <a:solidFill>
                  <a:srgbClr val="000000"/>
                </a:solidFill>
                <a:latin typeface="Bookman Old Style"/>
              </a:rPr>
              <a:t>продемонстрировать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Bookman Old Style"/>
              </a:rPr>
              <a:t> способы работы 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Bookman Old Style"/>
              </a:rPr>
              <a:t>с основной структурной 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Bookman Old Style"/>
              </a:rPr>
              <a:t>единицей языка – словом.</a:t>
            </a:r>
            <a:br>
              <a:rPr sz="2700"/>
            </a:b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Bookman Old Style"/>
              </a:rPr>
              <a:t>В способе выражается </a:t>
            </a:r>
            <a:br>
              <a:rPr sz="2700"/>
            </a:br>
            <a:r>
              <a:rPr b="1" lang="ru-RU" sz="2700" spc="-1" strike="noStrike">
                <a:solidFill>
                  <a:srgbClr val="000000"/>
                </a:solidFill>
                <a:latin typeface="Bookman Old Style"/>
              </a:rPr>
              <a:t>модель формирования ключевых компетентностей 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Bookman Old Style"/>
              </a:rPr>
              <a:t>обучающихся 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Bookman Old Style"/>
              </a:rPr>
              <a:t>(читательских и языковых).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Заголовок 1"/>
          <p:cNvGrpSpPr/>
          <p:nvPr/>
        </p:nvGrpSpPr>
        <p:grpSpPr>
          <a:xfrm>
            <a:off x="390600" y="49320"/>
            <a:ext cx="8362800" cy="1493640"/>
            <a:chOff x="390600" y="49320"/>
            <a:chExt cx="8362800" cy="1493640"/>
          </a:xfrm>
        </p:grpSpPr>
        <p:pic>
          <p:nvPicPr>
            <p:cNvPr id="48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390600" y="49320"/>
              <a:ext cx="8362800" cy="14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4000"/>
              </a:br>
              <a:r>
                <a:rPr b="0" lang="ru-RU" sz="4000" spc="-1" strike="noStrike">
                  <a:solidFill>
                    <a:srgbClr val="262626"/>
                  </a:solidFill>
                  <a:latin typeface="Times New Roman"/>
                  <a:ea typeface="Times New Roman"/>
                </a:rPr>
                <a:t>Для </a:t>
              </a:r>
              <a:r>
                <a:rPr b="1" lang="ru-RU" sz="4000" spc="-1" strike="noStrike">
                  <a:solidFill>
                    <a:srgbClr val="262626"/>
                  </a:solidFill>
                  <a:latin typeface="Times New Roman"/>
                  <a:ea typeface="Times New Roman"/>
                </a:rPr>
                <a:t>реализации </a:t>
              </a:r>
              <a:br>
                <a:rPr sz="4000"/>
              </a:br>
              <a:r>
                <a:rPr b="1" lang="ru-RU" sz="4000" spc="-1" strike="noStrike">
                  <a:solidFill>
                    <a:srgbClr val="262626"/>
                  </a:solidFill>
                  <a:latin typeface="Times New Roman"/>
                  <a:ea typeface="Times New Roman"/>
                </a:rPr>
                <a:t>данной цели</a:t>
              </a:r>
              <a:r>
                <a:rPr b="0" lang="ru-RU" sz="4000" spc="-1" strike="noStrike">
                  <a:solidFill>
                    <a:srgbClr val="262626"/>
                  </a:solidFill>
                  <a:latin typeface="Times New Roman"/>
                  <a:ea typeface="Times New Roman"/>
                </a:rPr>
                <a:t> необходимо:</a:t>
              </a:r>
              <a:br>
                <a:rPr sz="4000"/>
              </a:b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Содержимое 2"/>
          <p:cNvGrpSpPr/>
          <p:nvPr/>
        </p:nvGrpSpPr>
        <p:grpSpPr>
          <a:xfrm>
            <a:off x="450720" y="1785960"/>
            <a:ext cx="8242560" cy="4681440"/>
            <a:chOff x="450720" y="1785960"/>
            <a:chExt cx="8242560" cy="4681440"/>
          </a:xfrm>
        </p:grpSpPr>
        <p:pic>
          <p:nvPicPr>
            <p:cNvPr id="51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450720" y="1785960"/>
              <a:ext cx="8242560" cy="46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457200" y="1790640"/>
              <a:ext cx="8229600" cy="46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buClr>
                  <a:srgbClr val="6600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660033"/>
                  </a:solidFill>
                  <a:latin typeface="Calibri"/>
                </a:rPr>
                <a:t> 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оздать условия для исследования слова (универсального знака) на различных структурных уровнях языка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1280" indent="-341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1280" indent="-34128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своить понятие слова как знака дуальной природы, который имеет познавательные и мировоззренческие стороны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1280" indent="-341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1280" indent="-34128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ать возможность продемонстрировать коммуникативные действия участников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59840"/>
            <a:ext cx="8858160" cy="17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ля эффективного решения задач необходимы </a:t>
            </a:r>
            <a:br>
              <a:rPr sz="2800"/>
            </a:br>
            <a:r>
              <a:rPr b="1" i="1" lang="ru-RU" sz="4000" spc="-1" strike="noStrike">
                <a:solidFill>
                  <a:srgbClr val="3b2c24"/>
                </a:solidFill>
                <a:latin typeface="Times New Roman"/>
                <a:ea typeface="Times New Roman"/>
              </a:rPr>
              <a:t>методические приёмы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143000" y="1714680"/>
            <a:ext cx="721512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  <a:ea typeface="David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Georgia"/>
                <a:ea typeface="David"/>
              </a:rPr>
              <a:t>Моделировани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Georgia"/>
                <a:ea typeface="David"/>
              </a:rPr>
              <a:t>Письменная дискусси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Georgia"/>
                <a:ea typeface="David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Georgia"/>
                <a:ea typeface="David"/>
              </a:rPr>
              <a:t>Сопоставление, анализ, синтез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Georgia"/>
                <a:ea typeface="David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Georgia"/>
                <a:ea typeface="David"/>
              </a:rPr>
              <a:t>Интерпретаци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Georgia"/>
                <a:ea typeface="David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Georgia"/>
                <a:ea typeface="David"/>
              </a:rPr>
              <a:t>Создание атмосферы сотворчеств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Georgia"/>
                <a:ea typeface="David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Georgia"/>
                <a:ea typeface="David"/>
              </a:rPr>
              <a:t>Включение эмоциональной сферы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Заголовок 1"/>
          <p:cNvGrpSpPr/>
          <p:nvPr/>
        </p:nvGrpSpPr>
        <p:grpSpPr>
          <a:xfrm>
            <a:off x="1189080" y="554040"/>
            <a:ext cx="7259760" cy="5584680"/>
            <a:chOff x="1189080" y="554040"/>
            <a:chExt cx="7259760" cy="5584680"/>
          </a:xfrm>
        </p:grpSpPr>
        <p:pic>
          <p:nvPicPr>
            <p:cNvPr id="56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1189080" y="554040"/>
              <a:ext cx="7259760" cy="558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1193760" y="560520"/>
              <a:ext cx="7250040" cy="557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660033"/>
                  </a:solidFill>
                  <a:latin typeface="Georgi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ff"/>
                  </a:solidFill>
                  <a:latin typeface="Book Antiqua"/>
                </a:rPr>
                <a:t>Нам не дано предугадать,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ff"/>
                  </a:solidFill>
                  <a:latin typeface="Book Antiqua"/>
                </a:rPr>
                <a:t>Как слово наше отзовётся, —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ff"/>
                  </a:solidFill>
                  <a:latin typeface="Book Antiqua"/>
                </a:rPr>
                <a:t>И нам сочувствие даётся,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ff"/>
                  </a:solidFill>
                  <a:latin typeface="Book Antiqua"/>
                </a:rPr>
                <a:t>Как нам даётся благодать..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c00000"/>
                  </a:solidFill>
                  <a:latin typeface="Comic Sans MS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Book Antiqua"/>
                </a:rPr>
                <a:t>Ф.И. Тютче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Georgia"/>
              </a:rPr>
              <a:t>К. Бальмонт. «Снежинк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714760" y="928800"/>
            <a:ext cx="488304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Georgia"/>
              </a:rPr>
              <a:t>Светло-пушистая,</a:t>
            </a:r>
            <a:br>
              <a:rPr sz="2200"/>
            </a:br>
            <a:r>
              <a:rPr b="1" lang="ru-RU" sz="2200" spc="-1" strike="noStrike">
                <a:solidFill>
                  <a:srgbClr val="0000ff"/>
                </a:solidFill>
                <a:latin typeface="Georgia"/>
              </a:rPr>
              <a:t>            Снежинка белая,</a:t>
            </a:r>
            <a:br>
              <a:rPr sz="2200"/>
            </a:br>
            <a:r>
              <a:rPr b="1" lang="ru-RU" sz="2200" spc="-1" strike="noStrike">
                <a:solidFill>
                  <a:srgbClr val="0000ff"/>
                </a:solidFill>
                <a:latin typeface="Georgia"/>
              </a:rPr>
              <a:t>Какая чистая,</a:t>
            </a:r>
            <a:br>
              <a:rPr sz="2200"/>
            </a:br>
            <a:r>
              <a:rPr b="1" lang="ru-RU" sz="2200" spc="-1" strike="noStrike">
                <a:solidFill>
                  <a:srgbClr val="0000ff"/>
                </a:solidFill>
                <a:latin typeface="Georgia"/>
              </a:rPr>
              <a:t>            Какая смелая!</a:t>
            </a:r>
            <a:br>
              <a:rPr sz="2200"/>
            </a:br>
            <a:r>
              <a:rPr b="1" lang="ru-RU" sz="2200" spc="-1" strike="noStrike">
                <a:solidFill>
                  <a:srgbClr val="0000ff"/>
                </a:solidFill>
                <a:latin typeface="Georgia"/>
              </a:rPr>
              <a:t>Дорогой бурною</a:t>
            </a:r>
            <a:br>
              <a:rPr sz="2200"/>
            </a:br>
            <a:r>
              <a:rPr b="1" lang="ru-RU" sz="2200" spc="-1" strike="noStrike">
                <a:solidFill>
                  <a:srgbClr val="0000ff"/>
                </a:solidFill>
                <a:latin typeface="Georgia"/>
              </a:rPr>
              <a:t>            Легко проносится,</a:t>
            </a:r>
            <a:br>
              <a:rPr sz="2200"/>
            </a:br>
            <a:r>
              <a:rPr b="1" lang="ru-RU" sz="2200" spc="-1" strike="noStrike">
                <a:solidFill>
                  <a:srgbClr val="0000ff"/>
                </a:solidFill>
                <a:latin typeface="Georgia"/>
              </a:rPr>
              <a:t>Не в высь лазурную,</a:t>
            </a:r>
            <a:br>
              <a:rPr sz="2200"/>
            </a:br>
            <a:r>
              <a:rPr b="1" lang="ru-RU" sz="2200" spc="-1" strike="noStrike">
                <a:solidFill>
                  <a:srgbClr val="0000ff"/>
                </a:solidFill>
                <a:latin typeface="Georgia"/>
              </a:rPr>
              <a:t>           На землю просится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Georgia"/>
              </a:rPr>
              <a:t>Под ветром веющи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Georgia"/>
              </a:rPr>
              <a:t>            </a:t>
            </a:r>
            <a:r>
              <a:rPr b="1" lang="ru-RU" sz="2200" spc="-1" strike="noStrike">
                <a:solidFill>
                  <a:srgbClr val="0000ff"/>
                </a:solidFill>
                <a:latin typeface="Georgia"/>
              </a:rPr>
              <a:t>Дрожит, взметается,</a:t>
            </a:r>
            <a:br>
              <a:rPr sz="2200"/>
            </a:br>
            <a:r>
              <a:rPr b="1" lang="ru-RU" sz="2200" spc="-1" strike="noStrike">
                <a:solidFill>
                  <a:srgbClr val="0000ff"/>
                </a:solidFill>
                <a:latin typeface="Georgia"/>
              </a:rPr>
              <a:t>На нем, лелеющем,</a:t>
            </a:r>
            <a:br>
              <a:rPr sz="2200"/>
            </a:br>
            <a:r>
              <a:rPr b="1" lang="ru-RU" sz="2200" spc="-1" strike="noStrike">
                <a:solidFill>
                  <a:srgbClr val="0000ff"/>
                </a:solidFill>
                <a:latin typeface="Georgia"/>
              </a:rPr>
              <a:t>           Светло качаетс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Georgia"/>
              </a:rPr>
              <a:t>Но вот кончается</a:t>
            </a:r>
            <a:br>
              <a:rPr sz="2200"/>
            </a:br>
            <a:r>
              <a:rPr b="1" lang="ru-RU" sz="2200" spc="-1" strike="noStrike">
                <a:solidFill>
                  <a:srgbClr val="0000ff"/>
                </a:solidFill>
                <a:latin typeface="Georgia"/>
              </a:rPr>
              <a:t>           Дорога дальняя,</a:t>
            </a:r>
            <a:br>
              <a:rPr sz="2200"/>
            </a:br>
            <a:r>
              <a:rPr b="1" lang="ru-RU" sz="2200" spc="-1" strike="noStrike">
                <a:solidFill>
                  <a:srgbClr val="0000ff"/>
                </a:solidFill>
                <a:latin typeface="Georgia"/>
              </a:rPr>
              <a:t>Земли касается</a:t>
            </a:r>
            <a:br>
              <a:rPr sz="2200"/>
            </a:br>
            <a:r>
              <a:rPr b="1" lang="ru-RU" sz="2200" spc="-1" strike="noStrike">
                <a:solidFill>
                  <a:srgbClr val="0000ff"/>
                </a:solidFill>
                <a:latin typeface="Georgia"/>
              </a:rPr>
              <a:t>           Звезда кристальна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Georgia"/>
              </a:rPr>
              <a:t>Лежит пушистая </a:t>
            </a:r>
            <a:br>
              <a:rPr sz="2200"/>
            </a:br>
            <a:r>
              <a:rPr b="1" lang="ru-RU" sz="2200" spc="-1" strike="noStrike">
                <a:solidFill>
                  <a:srgbClr val="0000ff"/>
                </a:solidFill>
                <a:latin typeface="Georgia"/>
              </a:rPr>
              <a:t>         Снежинка смелая.</a:t>
            </a:r>
            <a:br>
              <a:rPr sz="2200"/>
            </a:br>
            <a:r>
              <a:rPr b="1" lang="ru-RU" sz="2200" spc="-1" strike="noStrike">
                <a:solidFill>
                  <a:srgbClr val="0000ff"/>
                </a:solidFill>
                <a:latin typeface="Georgia"/>
              </a:rPr>
              <a:t>Какая чистая,</a:t>
            </a:r>
            <a:br>
              <a:rPr sz="2200"/>
            </a:br>
            <a:r>
              <a:rPr b="1" lang="ru-RU" sz="2200" spc="-1" strike="noStrike">
                <a:solidFill>
                  <a:srgbClr val="0000ff"/>
                </a:solidFill>
                <a:latin typeface="Georgia"/>
              </a:rPr>
              <a:t>         Какая белая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476280" y="2771280"/>
            <a:ext cx="8286840" cy="21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Calibri"/>
              </a:rPr>
              <a:t>Снежинка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сущ. ж.р., ед.ч.,</a:t>
            </a:r>
            <a:r>
              <a:rPr b="1" lang="ru-RU" sz="2000" spc="-1" strike="noStrike">
                <a:solidFill>
                  <a:srgbClr val="000000"/>
                </a:solidFill>
                <a:latin typeface="Maiandra GD"/>
                <a:ea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1 скл., Им.п.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конкр.,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нари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  </a:t>
            </a: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Georgia"/>
                <a:ea typeface="Calibri"/>
              </a:rPr>
              <a:t>Словарь Ушакова Д.Н.</a:t>
            </a:r>
            <a:r>
              <a:rPr b="1" lang="ru-RU" sz="2200" spc="-1" strike="noStrike">
                <a:solidFill>
                  <a:srgbClr val="000000"/>
                </a:solidFill>
                <a:latin typeface="Georgia"/>
                <a:ea typeface="Calibri"/>
              </a:rPr>
              <a:t>: Один кристаллик снега в виде звездочк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TextBox 3" descr=""/>
          <p:cNvPicPr/>
          <p:nvPr/>
        </p:nvPicPr>
        <p:blipFill>
          <a:blip r:embed="rId1"/>
          <a:stretch/>
        </p:blipFill>
        <p:spPr>
          <a:xfrm>
            <a:off x="560520" y="30240"/>
            <a:ext cx="812628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5" descr="Красивые снежинки (35 фото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ЛИК</dc:creator>
  <dc:description/>
  <dc:language>en-US</dc:language>
  <cp:lastModifiedBy>Вика</cp:lastModifiedBy>
  <dcterms:modified xsi:type="dcterms:W3CDTF">2012-10-16T08:26:15Z</dcterms:modified>
  <cp:revision>148</cp:revision>
  <dc:subject/>
  <dc:title>НЕПРИЯТНОСТЬ</dc:title>
</cp:coreProperties>
</file>