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E0D-11FE-4D21-9DFD-F2A69B67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515-3021-40BA-9F8B-AFA284C2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7D7-6797-4CA9-B8F1-3707F3B0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F2A-B7D6-48BE-893F-C1D6EEB7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1D1-D4B5-4E28-BE85-F0B49CC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B1F-62FE-4174-A872-A59D59BA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5D7-E720-4C3C-AD2E-FFCA00AD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682-07BA-4EEA-9AEF-79897C10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E19-BF10-4BFF-94A6-6FD5DDEC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3E8-57AA-42DA-AB4D-E71E212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0E6-ECE7-4D05-96EA-8A7BAB7F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5FC-BD10-44A2-939E-F766860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FAAD-DD19-475B-B962-4BD3C3C02D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4200" y="4071960"/>
            <a:ext cx="87868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Орехова Виктория Александро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МБОУ «Средняя общеобразовательная школа № 3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города Старый Оск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Белгород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285920" y="1197000"/>
            <a:ext cx="75722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– класс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ЛОВА – к СЛОВУ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4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8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179280" y="404640"/>
            <a:ext cx="8344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хемы вырезания снежино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1. Подготовка бума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) Возьмём альбомный лист, разрежем его пополам и развернём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) Свернём бумагу таким образом, как показано на рисун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) Обрежьте лишнюю бумагу (по линии отреза), чтобы получило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) Теперь нужно развернуть сложенную бумагу длинной сторо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верх и согнуть её по пунктирным линиям, как на рисун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) В результате должна получиться такая фиг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на рисунке ниже), которую необходимо ещё раз сложить по пунктирной ли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) Последние штрихи - обрезаем лишние края у получившейся заготовки и бумага готова для вырезания снежино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5"/>
          <p:cNvPicPr/>
          <p:nvPr/>
        </p:nvPicPr>
        <p:blipFill>
          <a:blip r:embed="rId1"/>
          <a:stretch/>
        </p:blipFill>
        <p:spPr>
          <a:xfrm>
            <a:off x="5940360" y="189000"/>
            <a:ext cx="1212840" cy="90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6ray_1"/>
          <p:cNvPicPr/>
          <p:nvPr/>
        </p:nvPicPr>
        <p:blipFill>
          <a:blip r:embed="rId2"/>
          <a:stretch/>
        </p:blipFill>
        <p:spPr>
          <a:xfrm>
            <a:off x="7596360" y="692280"/>
            <a:ext cx="1199880" cy="107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6ray_2"/>
          <p:cNvPicPr/>
          <p:nvPr/>
        </p:nvPicPr>
        <p:blipFill>
          <a:blip r:embed="rId3"/>
          <a:stretch/>
        </p:blipFill>
        <p:spPr>
          <a:xfrm>
            <a:off x="7451640" y="1916280"/>
            <a:ext cx="120024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6ray_3"/>
          <p:cNvPicPr/>
          <p:nvPr/>
        </p:nvPicPr>
        <p:blipFill>
          <a:blip r:embed="rId4"/>
          <a:stretch/>
        </p:blipFill>
        <p:spPr>
          <a:xfrm>
            <a:off x="7164360" y="3141720"/>
            <a:ext cx="1689120" cy="88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6ray_4"/>
          <p:cNvPicPr/>
          <p:nvPr/>
        </p:nvPicPr>
        <p:blipFill>
          <a:blip r:embed="rId5"/>
          <a:stretch/>
        </p:blipFill>
        <p:spPr>
          <a:xfrm>
            <a:off x="7956720" y="450864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6ray_5"/>
          <p:cNvPicPr/>
          <p:nvPr/>
        </p:nvPicPr>
        <p:blipFill>
          <a:blip r:embed="rId6"/>
          <a:stretch/>
        </p:blipFill>
        <p:spPr>
          <a:xfrm>
            <a:off x="5076720" y="5661000"/>
            <a:ext cx="1295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4" descr="http://www.lenagold.ru/fon/clipart/k/kot/kosh44a.gif"/>
          <p:cNvPicPr/>
          <p:nvPr/>
        </p:nvPicPr>
        <p:blipFill>
          <a:blip r:embed="rId1"/>
          <a:stretch/>
        </p:blipFill>
        <p:spPr>
          <a:xfrm>
            <a:off x="971640" y="596880"/>
            <a:ext cx="7345440" cy="5904000"/>
          </a:xfrm>
          <a:prstGeom prst="rect">
            <a:avLst/>
          </a:prstGeom>
          <a:ln w="0">
            <a:noFill/>
          </a:ln>
        </p:spPr>
      </p:pic>
      <p:pic>
        <p:nvPicPr>
          <p:cNvPr id="90" name="РђР»РµРєСЃР°РЅРґСЂ Р¦С„Р°СЃРјР°РЅ-РЎРЅРµР¶РёРЅРєРё -.mp3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3309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2"/>
          <p:cNvSpPr/>
          <p:nvPr/>
        </p:nvSpPr>
        <p:spPr>
          <a:xfrm>
            <a:off x="755640" y="289440"/>
            <a:ext cx="770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c97b4"/>
                </a:solidFill>
                <a:latin typeface="Georgia"/>
              </a:rPr>
              <a:t>Акрост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частл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еж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шис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крис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уже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жу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"/>
          <p:cNvGrpSpPr/>
          <p:nvPr/>
        </p:nvGrpSpPr>
        <p:grpSpPr>
          <a:xfrm>
            <a:off x="390600" y="25200"/>
            <a:ext cx="8564400" cy="6706080"/>
            <a:chOff x="390600" y="25200"/>
            <a:chExt cx="8564400" cy="6706080"/>
          </a:xfrm>
        </p:grpSpPr>
        <p:pic>
          <p:nvPicPr>
            <p:cNvPr id="44" name="Rectangle 1" descr=""/>
            <p:cNvPicPr/>
            <p:nvPr/>
          </p:nvPicPr>
          <p:blipFill>
            <a:blip r:embed="rId1"/>
            <a:stretch/>
          </p:blipFill>
          <p:spPr>
            <a:xfrm>
              <a:off x="390600" y="122400"/>
              <a:ext cx="8564400" cy="65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71680" y="25200"/>
              <a:ext cx="8143560" cy="67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ма педагогического опыта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      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Реализация метапредметного подхода как основа для формирования ключевых компетенций обучающихся на урока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сского языка и литературы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у деятельности составляют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ретические положения концепции Л.С.Выготского, А.Н.Леонтьева, Д.Б.Эльконина, П.Я.Гальперина, раскрывающие основные психологические закономерности процесса обучения и структуру учебной деятельности обучающихся;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использование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апредметного подхода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обучени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Book Antiqua"/>
              </a:rPr>
              <a:t>Мини-текст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Book Antiqua"/>
              </a:rPr>
              <a:t>от имени снежи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кая я, снежинк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 чем хочу вам рассказать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 чем я думаю, когда леч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кие ощущения возникают, ведь я лечу из дома в гост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к меня встретят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то меня жд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85840" y="257400"/>
            <a:ext cx="84772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н Г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.,   5 клас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нежинка. Я белая и пушистая. Хочу рассказать о себ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  далеко-далеко на облаке и раз в год опускаюсь на землю, кружась и танцуя в воздухе. Когда я лечу, думаю о том, что увижу на земле много интересного. Я уверена, что все дети и взрослые ждут меня. Когда нас много, можно лепить снежки. Я лечу в гости и надеюсь, что все будут рады, и меня ждёт увлекательное путешеств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П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.,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клас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ушистый белый снег. Родился я высоко в облаках и теперь лечу на землю. Я хочу рассказать, как красиво и холодно там, где я родил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 в небе пар превращается в снег, а потом туча опускается ближе к земле, и идёт снег. Когда я лечу, я думаю о том, как меня ждёт холодная земля, леса, реки, озёра. Возникает ощущение радости из-за того, что всё на земле отдыхает под моим белым одеялом. Встретят меня с радостью все, кто меня любит и ждёт. Зимой дети будут со мной играть в снежки, лепить замки, дворцы, снеговиков. С приходом весны я буду таять, и мои воды дадут всему живому новую жизнь, а затем в виде пара я снова вернусь дом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8400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иктория У., 5 к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 белая пушистая снежинка. Мои сестрички-снежинки тоже белые и пушистые, как я. На первый взгляд может показаться, что мы одинаковые. Но это не так: одна из нас крупнее, а другие мельче, и узоры тоже отличаются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гда я лечу, мне нравится, что ветерок несёт меня то в одну, то в другую сторону. Что ждёт меня, когда я приземлюсь на землю? Может, я стану снегом и останусь лежать на земле, пока не растаю? А может, из меня вылепят снеговика на радость детям?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Кирилл Ш., 5 к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 красивая белая снежинка. Хочу я вам рассказать о зиме. Зима красивая и белоснежная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гда лечу, я думаю о том, куда я приземлюсь: на деревце, на ёлочку, на нос мальчишке? Я очень радуюсь, когда лечу из дома в гости, потому что я знаю, что меня ждут. Встретит меня озорная детвора. Я немного покружусь и упаду на землю. А потом из миллионов снежинок слепят снежную баб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44080" y="906120"/>
            <a:ext cx="6950520" cy="4776840"/>
          </a:xfrm>
          <a:prstGeom prst="rect">
            <a:avLst/>
          </a:prstGeom>
          <a:solidFill>
            <a:srgbClr val="fef9d6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Це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астер-класс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продемонстрировать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 способы работы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с основной структурной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единицей языка – словом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В способе выражается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Bookman Old Style"/>
              </a:rPr>
              <a:t>модель формирования ключевых компетентностей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обучающихся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(читательских и языковых)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Заголовок 1"/>
          <p:cNvGrpSpPr/>
          <p:nvPr/>
        </p:nvGrpSpPr>
        <p:grpSpPr>
          <a:xfrm>
            <a:off x="390600" y="49320"/>
            <a:ext cx="8362800" cy="1493640"/>
            <a:chOff x="390600" y="49320"/>
            <a:chExt cx="8362800" cy="1493640"/>
          </a:xfrm>
        </p:grpSpPr>
        <p:pic>
          <p:nvPicPr>
            <p:cNvPr id="4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49320"/>
              <a:ext cx="836280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0" lang="ru-RU" sz="40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Для </a:t>
              </a:r>
              <a:r>
                <a:rPr b="1" lang="ru-RU" sz="40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реализации </a:t>
              </a:r>
              <a:br>
                <a:rPr sz="4000"/>
              </a:br>
              <a:r>
                <a:rPr b="1" lang="ru-RU" sz="40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данной цели</a:t>
              </a:r>
              <a:r>
                <a:rPr b="0" lang="ru-RU" sz="40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 необходимо: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Содержимое 2"/>
          <p:cNvGrpSpPr/>
          <p:nvPr/>
        </p:nvGrpSpPr>
        <p:grpSpPr>
          <a:xfrm>
            <a:off x="450720" y="1785960"/>
            <a:ext cx="8242560" cy="4681440"/>
            <a:chOff x="450720" y="1785960"/>
            <a:chExt cx="8242560" cy="4681440"/>
          </a:xfrm>
        </p:grpSpPr>
        <p:pic>
          <p:nvPicPr>
            <p:cNvPr id="5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0720" y="1785960"/>
              <a:ext cx="824256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57200" y="1790640"/>
              <a:ext cx="8229600" cy="46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buClr>
                  <a:srgbClr val="66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60033"/>
                  </a:solidFill>
                  <a:latin typeface="Calibri"/>
                </a:rPr>
                <a:t> 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ть условия для исследования слова (универсального знака) на различных структурных уровнях языка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воить понятие слова как знака дуальной природы, который имеет познавательные и мировоззренческие стороны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ть возможность продемонстрировать коммуникативные действия участников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9840"/>
            <a:ext cx="885816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эффективного решения задач необходимы </a:t>
            </a:r>
            <a:br>
              <a:rPr sz="2800"/>
            </a:br>
            <a:r>
              <a:rPr b="1" i="1" lang="ru-RU" sz="4000" spc="-1" strike="noStrike">
                <a:solidFill>
                  <a:srgbClr val="3b2c24"/>
                </a:solidFill>
                <a:latin typeface="Times New Roman"/>
                <a:ea typeface="Times New Roman"/>
              </a:rPr>
              <a:t>методические приём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3000" y="1714680"/>
            <a:ext cx="72151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Моделирова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Письменная дискусс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Сопоставление, анализ, синте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Создание атмосферы сотворче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Включение эмоциональной сфер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Заголовок 1"/>
          <p:cNvGrpSpPr/>
          <p:nvPr/>
        </p:nvGrpSpPr>
        <p:grpSpPr>
          <a:xfrm>
            <a:off x="1189080" y="554040"/>
            <a:ext cx="7259760" cy="5584680"/>
            <a:chOff x="1189080" y="554040"/>
            <a:chExt cx="7259760" cy="5584680"/>
          </a:xfrm>
        </p:grpSpPr>
        <p:pic>
          <p:nvPicPr>
            <p:cNvPr id="5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89080" y="554040"/>
              <a:ext cx="725976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193760" y="560520"/>
              <a:ext cx="7250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Book Antiqua"/>
                </a:rPr>
                <a:t>Нам не дано предугадать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Book Antiqua"/>
                </a:rPr>
                <a:t>Как слово наше отзовётся, 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Book Antiqua"/>
                </a:rPr>
                <a:t>И нам сочувствие даётся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Book Antiqua"/>
                </a:rPr>
                <a:t>Как нам даётся благодать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Book Antiqua"/>
                </a:rPr>
                <a:t>Ф.И. Тютч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Georgia"/>
              </a:rPr>
              <a:t>К. Бальмонт. «Снежи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14760" y="928800"/>
            <a:ext cx="4883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Светло-пушиста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  Снежинка бела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Какая чиста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  Какая смелая!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Дорогой бурною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  Легко проноситс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Не в высь лазурную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 На землю просится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Под ветром веющи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  </a:t>
            </a: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Дрожит, взметаетс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На нем, лелеющем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 Светло кач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Но вот кончается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           Дорога дальня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Земли касается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           Звезда кристальн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Лежит пушистая 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         Снежинка смелая.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Какая чиста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         Какая белая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76280" y="2771280"/>
            <a:ext cx="82868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Снежинк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ущ. ж.р., ед.ч.,</a:t>
            </a:r>
            <a:r>
              <a:rPr b="1" lang="ru-RU" sz="2000" spc="-1" strike="noStrike">
                <a:solidFill>
                  <a:srgbClr val="000000"/>
                </a:solidFill>
                <a:latin typeface="Maiandra GD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 скл., Им.п.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онкр.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нар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Georgia"/>
                <a:ea typeface="Calibri"/>
              </a:rPr>
              <a:t>Словарь Ушакова Д.Н.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: Один кристаллик снега в виде звездоч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extBox 3" descr=""/>
          <p:cNvPicPr/>
          <p:nvPr/>
        </p:nvPicPr>
        <p:blipFill>
          <a:blip r:embed="rId1"/>
          <a:stretch/>
        </p:blipFill>
        <p:spPr>
          <a:xfrm>
            <a:off x="560520" y="30240"/>
            <a:ext cx="8126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К</dc:creator>
  <dc:description/>
  <dc:language>en-US</dc:language>
  <cp:lastModifiedBy>Вика</cp:lastModifiedBy>
  <dcterms:modified xsi:type="dcterms:W3CDTF">2012-10-16T08:26:15Z</dcterms:modified>
  <cp:revision>148</cp:revision>
  <dc:subject/>
  <dc:title>НЕПРИЯТНОСТЬ</dc:title>
</cp:coreProperties>
</file>