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86E-7C92-4807-90E5-F1203768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F0D-FDDA-4BFB-9D85-E726ACB4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56A-7A09-4BC1-97FB-4DBA9F3A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409-9B44-4ABD-AE40-E5B21A92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1372-48B9-4885-BB3A-4CD93EB4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7554-ACCE-4530-8EF8-5CC39E78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9F93-30E4-4383-B152-CB375A57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C869-0F92-40E8-9737-6BE96C0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2A0F-5128-45ED-B56C-4F53BF0A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140E-5A76-412D-93A9-EA5E7579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A6DF-428C-4CCC-A805-357B2473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275-BC1D-481B-9FEC-371917CF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1034-F953-428F-8E9D-91A2DA9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795B-23ED-4EE8-A0EE-EC165E5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8267-E18B-4F9B-A0BC-61034AB0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050B-6E9F-4A10-9EDC-2DFE3B23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0CA4-A1FD-4952-890B-3BFB6226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226-081A-4BCF-A7E0-A3D2BCF9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38E-F07B-4A55-A61C-6782FFC3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03D-78A6-4A79-9C4C-FB64F0DF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7C0-DC0A-49B5-9203-843B0962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A90-0B09-4D12-A11E-D129F948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238-57F0-4B58-81EF-AF793C9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7EE-6526-437A-A946-9F741B13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22DD-7858-4FF4-8240-05A60F592BE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7398-9CE0-4161-A727-FAE6C73D6C0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Живая природ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2087640" cy="2376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3284640"/>
            <a:ext cx="2087640" cy="259236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т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2087640" cy="2665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риб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3213000"/>
            <a:ext cx="2087640" cy="26654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актер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Паукообразны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032000" cy="302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429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-тело состоит из головы, груди, брюшка, и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8 ножек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ползают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6633"/>
                </a:solidFill>
                <a:latin typeface="Garamond"/>
              </a:rPr>
              <a:t>Моллюски 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860640"/>
            <a:ext cx="8640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тело мягкое, слизистое, может быть покрыто панцирем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-ползают, плавают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-живут в воде и на суш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6633"/>
                </a:solidFill>
                <a:latin typeface="Garamond"/>
              </a:rPr>
              <a:t>Земноводные 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56000" y="1627200"/>
            <a:ext cx="3456000" cy="2595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1280" y="4292640"/>
            <a:ext cx="82296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-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кожа тонкая и влажная (могут дышать кожей)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голова, туловище, 4 лапы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передвигаются, прыгая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могут жить и на земле и в вод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Млекопитающие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- 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туловище, голова, шея, 4 лапы, хвост</a:t>
            </a: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тело покрыто шерстью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кормят своих детёнышей молоком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живут повсюд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41300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9600" y="22766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60000" y="393372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еко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14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9960" y="2276640"/>
            <a:ext cx="27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укообраз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4160" y="3933720"/>
            <a:ext cx="14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аук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14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9600" y="22766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лю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61080" y="3933720"/>
            <a:ext cx="23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ьмино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1640" y="14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2880" y="227664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мык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8360" y="393372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щериц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141300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8520" y="227664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1800" y="3933720"/>
            <a:ext cx="14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у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1413000"/>
            <a:ext cx="19447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20320" y="227664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3800" y="3933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аб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325080" cy="7184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3280" y="1700280"/>
            <a:ext cx="6769080" cy="3311280"/>
          </a:xfrm>
          <a:prstGeom prst="verticalScroll">
            <a:avLst>
              <a:gd name="adj" fmla="val 8578"/>
            </a:avLst>
          </a:prstGeom>
          <a:solidFill>
            <a:srgbClr val="ccffcc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Ж И В О Т Н Ы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141300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4880" y="227664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5080" y="386064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бе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3640" y="290160"/>
            <a:ext cx="5545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en-US" sz="3800" spc="-1" strike="noStrike">
                <a:solidFill>
                  <a:srgbClr val="0066ff"/>
                </a:solidFill>
                <a:latin typeface="Garamond"/>
              </a:rPr>
              <a:t>Засели дом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2924280"/>
            <a:ext cx="316872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1413000"/>
            <a:ext cx="194472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268360" y="1413000"/>
            <a:ext cx="1943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4880" y="2205000"/>
            <a:ext cx="28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7800" y="386064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3300"/>
                </a:solidFill>
                <a:latin typeface="Garamond"/>
              </a:rPr>
              <a:t>Спасибо!</a:t>
            </a:r>
            <a:endParaRPr b="0" lang="en-US" sz="9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44 -0.03426 C -0.01597 -0.07616 0.0408 -0.13588 0.1085 -0.13588 C 0.20885 -0.13588 0.29028 -0.07384 0.29028 0.00509 C 0.29028 0.03032 0.28194 0.0537 0.26562 0.07453 C 0.26857 0.07453 -0.04844 0.38657 -0.04844 0.38912 C -0.04844 0.38657 -0.36563 0.07453 -0.36285 0.07453 C -0.37917 0.0537 -0.38698 0.03032 -0.38698 0.00509 C -0.38698 -0.07384 -0.3059 -0.13588 -0.20278 -0.13588 C -0.13802 -0.13588 -0.08108 -0.07616 -0.04844 -0.03426 Z">
                                      <p:cBhvr>
                                        <p:cTn id="34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Царство животных тоже делится на групп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0"/>
                </a:solidFill>
                <a:latin typeface="Garamond"/>
              </a:rPr>
              <a:t>Цель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: узнать сколько таких групп и как они называют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364000" cy="3116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149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голова, туловище, хвост, плавники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тело покрыто чешуёй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плавает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живёт только в воде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6633"/>
                </a:solidFill>
                <a:latin typeface="Garamond"/>
              </a:rPr>
              <a:t>Рыбы 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29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голова, туловище, хвост, 4 конечности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тело покрыто сухими чешуйками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ползает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живёт там где жарко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268360" y="119700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9960" y="-166680"/>
            <a:ext cx="72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Times New Roman"/>
              </a:rPr>
              <a:t>Пресмыкающиеся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голова, на голове клюв, туловище, хвост, 2 крыла, 2 лапы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тело покрыто перьями, пухом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летает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-живёт в лесу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3640" y="1125360"/>
            <a:ext cx="2728800" cy="28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                        </a:t>
            </a:r>
            <a:r>
              <a:rPr b="0" lang="en-US" sz="6900" spc="-1" strike="noStrike">
                <a:solidFill>
                  <a:srgbClr val="006633"/>
                </a:solidFill>
                <a:latin typeface="Garamond"/>
              </a:rPr>
              <a:t>Птицы 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Насекомы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240000" cy="281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-тело состоит из головы, груди, брюшка и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6 ножек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ползают, летают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70368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cc3300"/>
                </a:solidFill>
                <a:latin typeface="Garamond"/>
              </a:rPr>
              <a:t>Угадай кто?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543640" cy="424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042920" y="1628640"/>
            <a:ext cx="6226200" cy="428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1341360"/>
            <a:ext cx="63374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3300"/>
                </a:solidFill>
                <a:latin typeface="Garamond"/>
              </a:rPr>
              <a:t>Сравним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cc3300"/>
                </a:solidFill>
                <a:latin typeface="Garamond"/>
              </a:rPr>
              <a:t>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41240" y="1197000"/>
            <a:ext cx="3230640" cy="482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788000" y="1125360"/>
            <a:ext cx="3381120" cy="496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6:25:33Z</dcterms:created>
  <dc:creator>ИРО РТ</dc:creator>
  <dc:description/>
  <dc:language>en-US</dc:language>
  <cp:lastModifiedBy>User</cp:lastModifiedBy>
  <dcterms:modified xsi:type="dcterms:W3CDTF">2012-10-16T15:58:09Z</dcterms:modified>
  <cp:revision>31</cp:revision>
  <dc:subject/>
  <dc:title>Слайд 1</dc:title>
</cp:coreProperties>
</file>