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369-42A5-4679-A880-86A2DA44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C4B-FEBB-4CFE-882D-272851FE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5CE-83E3-4515-ACED-7B7DCBA3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95D-BB27-42C8-B24E-7F1A81A4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7FA8-541B-4B64-964E-B98A02E0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B4DF-3F6B-420B-96A1-8DF8C57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8D06-9D23-4229-816F-362EA71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3B4-00F5-4B56-9729-B03ADF3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BEB-FEC4-427A-9845-9C62436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68D-B4C1-49E8-8195-49454564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4D8-DB7B-4160-B25F-8E9F5EE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277-3C65-49E7-9834-BFD69A38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D3C-63CF-4150-9228-323DCA8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907-9FAE-4AAA-B7C8-930B231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61A-F64C-4AFF-9A50-68437349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35B3-BF4F-4565-A53C-AE291565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AEA3-197A-4E56-8671-559BB28F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245-123D-4441-895F-7BBF0E9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761-D05D-431B-9B9D-F3B65FE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0AF-D924-4DBE-A7DB-5FB53AD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BA0-335A-4C9E-8634-45AB516E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6F7-6672-4A7C-816E-D39890A0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1CC-5D6A-4D7F-B3FF-3B53D4F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134-0EFE-4A1E-9ADC-9E1588E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823-E469-43E0-ABDD-508BDFE36D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6D1-1245-4589-861F-067B6E9EDC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Живая природ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087640" cy="2376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3284640"/>
            <a:ext cx="2087640" cy="259236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2087640" cy="2665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риб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3213000"/>
            <a:ext cx="2087640" cy="2665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кте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Паукообразны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03200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429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тело состоит из головы, груди, брюшка, и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8 ножек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олзают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Моллюски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860640"/>
            <a:ext cx="8640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тело мягкое, слизистое, может быть покрыто панцирем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ползают, плавают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живут в воде и на суш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Земноводные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56000" y="1627200"/>
            <a:ext cx="3456000" cy="259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4292640"/>
            <a:ext cx="82296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кожа тонкая и влажная (могут дышать кожей)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голова, туловище, 4 лапы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передвигаются, прыгая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огут жить и на земле и в во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Млекопитающи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туловище, голова, шея, 4 лапы, хвост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тело покрыто шерстью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кормят своих детёнышей молоком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ут повсюд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9600" y="22766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0000" y="393372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9960" y="22766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укообра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4160" y="393372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у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9600" y="22766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лю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1080" y="393372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ьмино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2880" y="227664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8360" y="393372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щериц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8520" y="227664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1800" y="393372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у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1413000"/>
            <a:ext cx="1944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20320" y="227664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3800" y="3933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аб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325080" cy="718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3280" y="1700280"/>
            <a:ext cx="6769080" cy="3311280"/>
          </a:xfrm>
          <a:prstGeom prst="verticalScroll">
            <a:avLst>
              <a:gd name="adj" fmla="val 8578"/>
            </a:avLst>
          </a:prstGeom>
          <a:solidFill>
            <a:srgbClr val="ccffcc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Ж И В О Т Н Ы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4880" y="227664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5080" y="386064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бе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4880" y="220500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386064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3300"/>
                </a:solidFill>
                <a:latin typeface="Garamond"/>
              </a:rPr>
              <a:t>Спасибо!</a:t>
            </a:r>
            <a:endParaRPr b="0" lang="en-US" sz="9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-0.03426 C -0.01597 -0.07616 0.0408 -0.13588 0.1085 -0.13588 C 0.20885 -0.13588 0.29028 -0.07384 0.29028 0.00509 C 0.29028 0.03032 0.28194 0.0537 0.26562 0.07453 C 0.26857 0.07453 -0.04844 0.38657 -0.04844 0.38912 C -0.04844 0.38657 -0.36563 0.07453 -0.36285 0.07453 C -0.37917 0.0537 -0.38698 0.03032 -0.38698 0.00509 C -0.38698 -0.07384 -0.3059 -0.13588 -0.20278 -0.13588 C -0.13802 -0.13588 -0.08108 -0.07616 -0.04844 -0.03426 Z">
                                      <p:cBhvr>
                                        <p:cTn id="34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Царство животных тоже делится на групп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Garamond"/>
              </a:rPr>
              <a:t>Цель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: узнать сколько таких групп и как они называю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364000" cy="3116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149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голова, туловище, хвост, плавники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тело покрыто чешуёй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плавает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живёт только в воде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Рыбы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голова, туловище, хвост, 4 конечности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тело покрыто сухими чешуйками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ползает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ёт там где жарко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268360" y="1197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9960" y="-166680"/>
            <a:ext cx="72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Times New Roman"/>
              </a:rPr>
              <a:t>Пресмыкающиеся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голова, на голове клюв, туловище, хвост, 2 крыла, 2 лапы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тело покрыто перьями, пухом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летает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ёт в лесу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2728800" cy="28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                       </a:t>
            </a: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Птицы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Насекомы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240000" cy="281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тело состоит из головы, груди, брюшка и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6 ножек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олзают, летают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0368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cc3300"/>
                </a:solidFill>
                <a:latin typeface="Garamond"/>
              </a:rPr>
              <a:t>Угадай кто?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543640" cy="424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042920" y="1628640"/>
            <a:ext cx="6226200" cy="428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63374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3300"/>
                </a:solidFill>
                <a:latin typeface="Garamond"/>
              </a:rPr>
              <a:t>Сравни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1240" y="1197000"/>
            <a:ext cx="323064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788000" y="1125360"/>
            <a:ext cx="3381120" cy="496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6:25:33Z</dcterms:created>
  <dc:creator>ИРО РТ</dc:creator>
  <dc:description/>
  <dc:language>en-US</dc:language>
  <cp:lastModifiedBy>User</cp:lastModifiedBy>
  <dcterms:modified xsi:type="dcterms:W3CDTF">2012-10-16T15:58:09Z</dcterms:modified>
  <cp:revision>31</cp:revision>
  <dc:subject/>
  <dc:title>Слайд 1</dc:title>
</cp:coreProperties>
</file>