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A0D-0FA1-4415-BB7D-E571EE4E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FB6-421A-4BE7-B1BF-3A889B1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6F9-0254-46A3-9C97-FE408483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B59-AE18-4D6F-997F-81048661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207-F208-46C8-977D-428DF4D7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F77-7887-41E2-A3DE-36BF115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ECF-EE39-4426-BD72-811CCE8B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C07-1B85-406D-AAA6-E6199E6E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387-C773-4987-81F2-B784E3D4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19C-D380-4C9B-8060-195F3223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192-4541-4508-9A52-328EDDA3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E6B-BBA0-4629-9CD1-0CED7BD4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290-A7A2-4DFC-A9C7-33698C1FE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ile.interfotki.ru/photo/13/90/139060/r3ikvy_cont.jpg" TargetMode="External"/><Relationship Id="rId2" Type="http://schemas.openxmlformats.org/officeDocument/2006/relationships/hyperlink" Target="http://file.interfotki.ru/photo/13/90/139060/r3ikvy_cont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100poselkov.ru/deluxe/grafskieprudy/infra.jpg" TargetMode="External"/><Relationship Id="rId5" Type="http://schemas.openxmlformats.org/officeDocument/2006/relationships/hyperlink" Target="http://www.100poselkov.ru/deluxe/grafskieprudy/infra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tki.yandex.ru/users/ludmila2121/view/109625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ofting.info/uploads/posts/thumbs/1176462819_aed3034e.jpg" TargetMode="External"/><Relationship Id="rId4" Type="http://schemas.openxmlformats.org/officeDocument/2006/relationships/hyperlink" Target="http://www.ruvr.ru/files/Image/RiaNovosti_foto/Russia_raznoe/Proisshestvja/Pozhar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airbase.forest.ru/index/fotoalb/fire37.jpg" TargetMode="External"/><Relationship Id="rId7" Type="http://schemas.openxmlformats.org/officeDocument/2006/relationships/hyperlink" Target="http://airbase.forest.ru/index/fotoalb/fire37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hyperlink" Target="http://www.nevod.ru/local/zvezda/pril/zvezda/2005/08/23/prois_b.jpg" TargetMode="External"/><Relationship Id="rId11" Type="http://schemas.openxmlformats.org/officeDocument/2006/relationships/hyperlink" Target="http://www.photoforum.ru/f/photo/000/287/287233_28.jpg" TargetMode="External"/><Relationship Id="rId12" Type="http://schemas.openxmlformats.org/officeDocument/2006/relationships/hyperlink" Target="http://www.foto.eurasialand.ru/albums/userpics/10010/normal_116.jpg" TargetMode="External"/><Relationship Id="rId13" Type="http://schemas.openxmlformats.org/officeDocument/2006/relationships/hyperlink" Target="http://www.foto.eurasialand.ru/albums/userpics/10010/normal_116.jpg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news.vdv-s.ru/pics/big/17205.jpg" TargetMode="External"/><Relationship Id="rId16" Type="http://schemas.openxmlformats.org/officeDocument/2006/relationships/hyperlink" Target="http://news.vdv-s.ru/pics/big/17205.jpg" TargetMode="External"/><Relationship Id="rId17" Type="http://schemas.openxmlformats.org/officeDocument/2006/relationships/image" Target="../media/image9.jpeg"/><Relationship Id="rId18" Type="http://schemas.openxmlformats.org/officeDocument/2006/relationships/hyperlink" Target="http://turizm.lib.ru/img/n/nowak_a_w/erotic/dohlaja_ryba-kosino-230406.jpg" TargetMode="External"/><Relationship Id="rId19" Type="http://schemas.openxmlformats.org/officeDocument/2006/relationships/hyperlink" Target="http://turizm.lib.ru/img/n/nowak_a_w/erotic/dohlaja_ryba-kosino-230406.jpg" TargetMode="External"/><Relationship Id="rId20" Type="http://schemas.openxmlformats.org/officeDocument/2006/relationships/image" Target="../media/image10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afskoe.ru/img/pages/nature2b.jpg" TargetMode="External"/><Relationship Id="rId2" Type="http://schemas.openxmlformats.org/officeDocument/2006/relationships/hyperlink" Target="http://freedom.net.sumy.ua/uploads/posts/2008-01/1199723969_4.jpg" TargetMode="External"/><Relationship Id="rId3" Type="http://schemas.openxmlformats.org/officeDocument/2006/relationships/hyperlink" Target="http://freedom.net.sumy.ua/uploads/posts/2008-01/1199723969_4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479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_Futurica"/>
              </a:rPr>
              <a:t>Our plan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3ikvy_cont" descr="Картинка 8 из 10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320" y="3657600"/>
            <a:ext cx="2895480" cy="31640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/>
          </p:cNvPr>
          <p:cNvSpPr/>
          <p:nvPr/>
        </p:nvSpPr>
        <p:spPr>
          <a:xfrm>
            <a:off x="0" y="285120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nfra" descr="Картинка 3 из 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76320"/>
            <a:ext cx="305892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464832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_Futurica"/>
              </a:rPr>
              <a:t>is in our h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e%20copy1" descr=""/>
          <p:cNvPicPr/>
          <p:nvPr/>
        </p:nvPicPr>
        <p:blipFill>
          <a:blip r:embed="rId1"/>
          <a:stretch/>
        </p:blipFill>
        <p:spPr>
          <a:xfrm>
            <a:off x="0" y="-609480"/>
            <a:ext cx="2346480" cy="708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0"/>
            <a:ext cx="6781680" cy="58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What the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main idea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 of the tex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What are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environmental problem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 to discus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Why do you think they are so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important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 for u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Must we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protect our planet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 from pollutio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Can you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help our planet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_19a07_39503ec_-1-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449568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3"/>
          </p:cNvPr>
          <p:cNvSpPr/>
          <p:nvPr/>
        </p:nvSpPr>
        <p:spPr>
          <a:xfrm>
            <a:off x="0" y="178128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ire46" descr=""/>
          <p:cNvPicPr/>
          <p:nvPr/>
        </p:nvPicPr>
        <p:blipFill>
          <a:blip r:embed="rId5"/>
          <a:stretch/>
        </p:blipFill>
        <p:spPr>
          <a:xfrm>
            <a:off x="1905120" y="2666880"/>
            <a:ext cx="3908160" cy="26719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6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re37" descr="Картинка 6 из 389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76840" y="1523880"/>
            <a:ext cx="3086280" cy="4724640"/>
          </a:xfrm>
          <a:prstGeom prst="rect">
            <a:avLst/>
          </a:prstGeom>
          <a:ln w="0">
            <a:noFill/>
          </a:ln>
        </p:spPr>
      </p:pic>
      <p:pic>
        <p:nvPicPr>
          <p:cNvPr id="60" name="DSC_3242+" descr=""/>
          <p:cNvPicPr/>
          <p:nvPr/>
        </p:nvPicPr>
        <p:blipFill>
          <a:blip r:embed="rId9"/>
          <a:stretch/>
        </p:blipFill>
        <p:spPr>
          <a:xfrm>
            <a:off x="4724280" y="22860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10"/>
          </p:cNvPr>
          <p:cNvSpPr/>
          <p:nvPr/>
        </p:nvSpPr>
        <p:spPr>
          <a:xfrm>
            <a:off x="0" y="223848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/>
          </p:cNvPr>
          <p:cNvSpPr/>
          <p:nvPr/>
        </p:nvSpPr>
        <p:spPr>
          <a:xfrm>
            <a:off x="0" y="23241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2"/>
          </p:cNvPr>
          <p:cNvSpPr/>
          <p:nvPr/>
        </p:nvSpPr>
        <p:spPr>
          <a:xfrm>
            <a:off x="0" y="246204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normal_116" descr="Картинка 52 из 3895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14600" y="4343400"/>
            <a:ext cx="342900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15"/>
          </p:cNvPr>
          <p:cNvSpPr/>
          <p:nvPr/>
        </p:nvSpPr>
        <p:spPr>
          <a:xfrm>
            <a:off x="0" y="269064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7205" descr="Картинка 17 из 355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57200" y="2362320"/>
            <a:ext cx="2743200" cy="211428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18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ohlaja_ryba-kosino-230406" descr="Картинка 10 из 35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57200" y="4343400"/>
            <a:ext cx="2486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43200" y="228600"/>
            <a:ext cx="6172200" cy="540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_Futurica"/>
              </a:rPr>
              <a:t>Burn litter</a:t>
            </a:r>
            <a:r>
              <a:rPr b="1" lang="ru-RU" sz="3200" spc="-1" strike="noStrike">
                <a:solidFill>
                  <a:srgbClr val="000000"/>
                </a:solidFill>
                <a:latin typeface="a_Futur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_Futurica"/>
              </a:rPr>
              <a:t>Bury litter under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_Futurica"/>
              </a:rPr>
              <a:t>Take i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28600"/>
            <a:ext cx="68580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Futurica"/>
                <a:ea typeface="Times New Roman"/>
              </a:rPr>
              <a:t>Choose the right answ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e%20copy1" descr=""/>
          <p:cNvPicPr/>
          <p:nvPr/>
        </p:nvPicPr>
        <p:blipFill>
          <a:blip r:embed="rId1"/>
          <a:stretch/>
        </p:blipFill>
        <p:spPr>
          <a:xfrm>
            <a:off x="0" y="-609480"/>
            <a:ext cx="2346480" cy="70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62320" y="533520"/>
            <a:ext cx="6781680" cy="56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Sort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rubbish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, special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containers</a:t>
            </a:r>
            <a:r>
              <a:rPr b="1" lang="ru-RU" sz="2400" spc="-1" strike="noStrike">
                <a:solidFill>
                  <a:srgbClr val="000000"/>
                </a:solidFill>
                <a:latin typeface="a_Futur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Turn off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 lights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Use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Clean up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Wear fur c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Make campfires, use camping stov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28600"/>
            <a:ext cx="68580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_Futurica"/>
                <a:ea typeface="Times New Roman"/>
              </a:rPr>
              <a:t>Key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e%20copy1" descr=""/>
          <p:cNvPicPr/>
          <p:nvPr/>
        </p:nvPicPr>
        <p:blipFill>
          <a:blip r:embed="rId1"/>
          <a:stretch/>
        </p:blipFill>
        <p:spPr>
          <a:xfrm>
            <a:off x="0" y="-609480"/>
            <a:ext cx="2346480" cy="70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523880"/>
            <a:ext cx="5638680" cy="23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we are going ca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your family, friends o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 help us, don’t drop any li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you litter lives longer than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1199723969_4" descr="Картинка 2 из 73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28600"/>
            <a:ext cx="3657600" cy="2744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1202013772_31063" descr="Картинка 17 из 7351"/>
          <p:cNvPicPr/>
          <p:nvPr/>
        </p:nvPicPr>
        <p:blipFill>
          <a:blip r:embed="rId5"/>
          <a:stretch/>
        </p:blipFill>
        <p:spPr>
          <a:xfrm>
            <a:off x="5791320" y="4038480"/>
            <a:ext cx="3019320" cy="2266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4343400"/>
            <a:ext cx="510552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frai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nothing is for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ature is getting t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don’t stop and think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rrow the Earth could 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905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1214810052_senery40" descr="Картинка 49 из 7351"/>
          <p:cNvPicPr/>
          <p:nvPr/>
        </p:nvPicPr>
        <p:blipFill>
          <a:blip r:embed="rId6"/>
          <a:stretch/>
        </p:blipFill>
        <p:spPr>
          <a:xfrm>
            <a:off x="380880" y="152280"/>
            <a:ext cx="335304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62320" y="582480"/>
            <a:ext cx="6781680" cy="553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 environment,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 is our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ay and tomorrow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rrow the Earth coul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28600"/>
            <a:ext cx="68580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Futurica"/>
                <a:ea typeface="Times New Roman"/>
              </a:rPr>
              <a:t>Home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e%20copy1" descr=""/>
          <p:cNvPicPr/>
          <p:nvPr/>
        </p:nvPicPr>
        <p:blipFill>
          <a:blip r:embed="rId1"/>
          <a:stretch/>
        </p:blipFill>
        <p:spPr>
          <a:xfrm>
            <a:off x="0" y="-609480"/>
            <a:ext cx="2346480" cy="70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4:56:20Z</dcterms:created>
  <dc:creator>Alex</dc:creator>
  <dc:description/>
  <dc:language>en-US</dc:language>
  <cp:lastModifiedBy>Dell</cp:lastModifiedBy>
  <dcterms:modified xsi:type="dcterms:W3CDTF">2008-11-09T11:46:35Z</dcterms:modified>
  <cp:revision>111</cp:revision>
  <dc:subject/>
  <dc:title>Презентация PowerPoint</dc:title>
</cp:coreProperties>
</file>