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1102-8B3F-4470-AC86-7BE6B123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9AC-D5D8-4942-8050-48BD06C0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4401-EC96-4173-9671-2CC2559B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8350-719C-49B5-8C7D-8C5A052D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51AB-BF96-4FF1-9F60-FE70EDCB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715-EF66-4D1E-904D-215846A6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423-14E6-453C-94D2-16859343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55F-CF3B-4C0F-A226-EC11F32A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CA8-DEC0-466D-870C-B9CD5552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A5D-4F6E-4A45-9AF7-70E4E7B7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36FB-4197-4D1D-B3B7-585762F1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7ED-EA35-45EE-AE15-05EC4666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D558-E68C-4389-97B2-24137192B9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&#1084;&#1080;&#1092;&#1099;%20&#1089;&#1083;&#1072;&#1074;&#1103;&#1085;.ppt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РОЕКТ </a:t>
            </a:r>
            <a:br>
              <a:rPr sz="4000"/>
            </a:b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«ЕГИПЕТСКИЕ БОГ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роект выполн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опова Анаста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Невская 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Михалёва Тать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рещёва Крис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Фликова Ольга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МОУ «СОШ №97» г.Новокузнец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царь Египта, Осирис установил для людей законы и научил поклоняться бог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5120" y="25909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тем он покорил множество племён красноречием, песнями и поэз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6095880" y="0"/>
            <a:ext cx="2886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8"/>
          <p:cNvSpPr/>
          <p:nvPr/>
        </p:nvSpPr>
        <p:spPr>
          <a:xfrm>
            <a:off x="457200" y="5029200"/>
            <a:ext cx="5562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ирис и Исида полюбили друг друга и стали законными мужем и же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ладший брат Осириса Сет очень хотел царствовать в Егип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1969920" cy="5562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80880" y="1752480"/>
            <a:ext cx="3124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 хитростью заманил Осириса в сундук, который залил свинцом и сбросил его в море. Сундук вынесло волной на берег , но , когда его нашла Исида, Осирис был уже мёр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562720" y="1752480"/>
            <a:ext cx="31240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ида и бог с головой собаки Анубис оживили Осириса. Однако оставаться с живыми после смерти Осирис уже не мог. Он ушёл в подземное царство и стал править 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ой смертный предстаёт пред Осирисом только однажды – когда после смерти строгий, но справедливый суд определяет ему достойную меру наказания или почёта в царстве мёрт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773280" y="0"/>
            <a:ext cx="290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52320" y="304920"/>
            <a:ext cx="57913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ида  — одна из величайших богинь древности, ставшая образцом для понимания египетского идеала женственности и материнств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886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3733920" y="2666880"/>
            <a:ext cx="5257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мволом Исиды был царский трон, знак которого часто помещается на голове боги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2895480" y="4419720"/>
            <a:ext cx="5029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ида иногда имеет убор в виде солнечного диска, обрамленного рогами коров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то, что Исида сумела без посторонней помощи родить и воспитать своего сына Хора, ставшего потом царем Египта, многие почитали ее как покровительницу родов и новорожденных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5943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5943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42670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им знанием Исида, одна из божеств-покровителей медицины, исцелила младенца Хора, ужаленного в болотах скорпионами. С тех пор она иногда почиталась как великая владычица скорпион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828800" y="-19080"/>
            <a:ext cx="556272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304560"/>
            <a:ext cx="54864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ида была богиней плодородия, воды, ветра и мореплавани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ида научила людей жать колосья, молоть зерно, печь 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0"/>
            <a:ext cx="2514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304920" y="0"/>
            <a:ext cx="23605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3276720" y="3429000"/>
            <a:ext cx="54100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ида — «великая чарами, первая среди богов», повелительница заклинаний и тайных молитв; её призывают в беде, произносят её имя для защиты детей и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5840" y="533520"/>
            <a:ext cx="4800600" cy="57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т сам и уговорил бога солнца Ра назначить его своим заместителем, чтобы пребывать на небе ночью и вместо солнца светить людям луной. Как лунный бог, Тот сразу же стал Владыкой счета и Исчислителем лет, ибо на основе фаз луны составлялся календар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31240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28600" y="0"/>
            <a:ext cx="358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в качестве бога мудрости, счета и письма Тот наблюдал за порядком счета времени, ведал справедливостью и гармонией мир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791320" y="1676520"/>
            <a:ext cx="2566800" cy="5181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724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ко, разделив год на 12 равных месяцев в честь великих богов, Тот не постеснялся 5-дневный остаток посвятить самому себе -  хитроумия ему было не занимать, а вот скромности явно недоставало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счета времени и вообще дл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якого счета бог Тот изобрел числ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447920"/>
            <a:ext cx="2438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оэтому на древних рельефах е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 изображали с телом человек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оловой священной птицы иби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867280" y="144756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этой птицы, как утверждают, равнялся в точности одному кубиту — особой мере длины, применявшейся только при строительстве священных соору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897280" y="1066680"/>
            <a:ext cx="2970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3920" y="60948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 — древнеегипетский бог солнца, верховное божество древних египтян. Его имя означает «солнце»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358128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533520" y="0"/>
            <a:ext cx="358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чтобы записывать все, что удалось измерить, Тот заодно создал и почитавшееся священным искусство письма. Он записывал дни рождения и смерти людей и вел летописи. Поэтому его часто изображали держащим стило, табличку и пальмовую ветвь. Древние писцы считали Тота своим бого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467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7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та считали автором чуть ли не всех ритуальных и магических книг и покровителем врачей, а также всех видов знаний. Некоторые считают, что именно Тот, обладавший тайнами магии, своими заклинаниями призвал к жизни богов и люд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066680" y="0"/>
            <a:ext cx="66294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убис  — проводник души сквозь темн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жизни он призван вести души сквозь тьму невежества, а после смерти был проводником души в Дуат небесны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41734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380880"/>
            <a:ext cx="3794040" cy="5897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43040" y="274680"/>
            <a:ext cx="43434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убис – шакалообразное божество, пожирающее умерших. Позже Анубис сохранил лишь отдельные черты, выдававшие его животное происхождени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л Анубис и одним из судей царства мертвых. На суде именно Анубис взвешивал сердце умершего на Весах Истин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480" y="1980720"/>
            <a:ext cx="601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828800" y="1957320"/>
            <a:ext cx="59436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7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5053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убис первым встречал умерших. Он должен был убедиться, что захоронение сделано как надо, и все обычаи соблюдены достойно. Затем, чтобы доставить на суд Осириса, именно Анубис провожал умерших сложными путями мимо опасностей, которые подстерегали их даже в царстве мертвых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90920" y="151920"/>
            <a:ext cx="4572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905120" y="0"/>
            <a:ext cx="5333760" cy="32767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5">
            <a:hlinkClick r:id="rId2"/>
          </p:cNvPr>
          <p:cNvSpPr/>
          <p:nvPr/>
        </p:nvSpPr>
        <p:spPr>
          <a:xfrm>
            <a:off x="8610480" y="6172200"/>
            <a:ext cx="533520" cy="53352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7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43240" y="304920"/>
            <a:ext cx="29718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в богов и людей, Ра принялс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ранствовать по небосклону в своей ладье и освещать мир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228240"/>
            <a:ext cx="5715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30240" y="0"/>
            <a:ext cx="584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54864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египтян  были и другие солнечные боги, кроме Ра. Утром солнце выкатывал на небо бог-скарабей Хепри, днем  светило проносил над миром на своих крыльях сокол-Ра, а вечером уносит солнце за горизонт Атум, который мог принимать образ и человека, и змея, и мангуста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 временем Ра навёл порядок на небесах и стал в одиночку светить всему миру. Днём он плыл по небу в дневной солнечной ладье, а ночью плыл в ночной ладье по подземному ми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4849920" y="0"/>
            <a:ext cx="34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ликий змей Мехен сопровождал Ра в его странствии по подземной стране и иногда служил буксирным канатом ладьи 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ой змей Апон был врагом Ра. Пытаясь помешать ему плыть по подземному царству, Апон выпивал всю воду из реки. Но Ра превращался в огромного кота и заставлял Апона изрыгнуть 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489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 стал первым царем всего Египта и долгое время управлялся с земными делами так же хорошо, как и у себя на небесах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43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33920" y="1980720"/>
            <a:ext cx="5410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этому правителям Египта было приятно считать себя его потомками, и еще четыре с половиной тысячи лет назад фараон Хафра (Хефрен) первым из египетских царей присвоил себе титул сына Ра, который потом носили все правители Егип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281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62160" y="274680"/>
            <a:ext cx="472428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ирис был старшим из потомков Р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ирис унаследовал власть от бога земли Геба и стал царём всего Егип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85800" y="0"/>
            <a:ext cx="262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563904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ирис показал египтянам. Как выращивать плоды, изготовлять пиво и вино, добывать серебро и золото из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4495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это его почитали как бога природы и плодородия, и на изображениях лицо Осириса окрашивали в зелёный ц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62720" y="151920"/>
            <a:ext cx="40384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5562720" y="0"/>
            <a:ext cx="304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10-17T11:51:1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