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229B-DDE1-4897-98EF-963B3EFEF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чтения. Тема: «С.В.Михалков. Творчество.»  учитель начальных классов Марушкина Мария Алексе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 -дать понятие о творчестве С.Михалко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знакомить с произведениями Михалко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учить определять отношение автора к героям своих произведени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помогать выражать собственное отношение к героям и событиям произведений автор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учить находить главную мысль произ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-воспитывать чувство любви и уважения к людям, животным, окружающему миру, любовь к чтен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Ход уро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рганизационный мо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вучит гимн РФ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кажите, что мы сейчас слушали? В каких случаях звучит государственный гимн РФ? Кто догадался, почему сегодняшний урок мы начали именно с гимна?Думаю, в ходе урока мы найдём ответ на этот вопро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становка целей уро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ы представь себе на миг, как бы жили мы без книг?Что бы делал ученик, если не было бы книг?Если б всё исчезло разом, что писалось для детей:от волшебных добрых сказок до весёлых повестей…Ты хотел развеять скуку, на вопрос найти ответ, протянул за книжкой руку, а её на полке нет! Нет,нельзя себе представить, чтоб такой момент возник, и тебя могли оставить все герои детских книг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кажите, кто дарит нам такое многообразие детских книг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доске слова:писатели, поэты, сказочники, драматурги, баснописцы, журналисты, переводчики 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читайте слова.(орфографическая работа) Давайте определим, как называют людей, которые пишут повести, рассказ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пишет стихи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:  сказки пишут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басни сочиняют…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переводят с разных языков…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театральные пьесы пишут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статьи в газеты и журналы пишут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умайте, а может ли один человек делать всё то, что перечислили? Сегодня мы начнём знакомиться с творчеством человека, который был и писателем, и поэтом, и сказочником, и драматургом, и баснописцем, и переводчиком. Герои его книг вам давно известны. Десятки наших любимых мультфильмов сняты по его сценариям…Это Сергей Владимирович Михал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бота с портрет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смотрите на его портрет.Как думаете, каким человеком он был? Какой у него взгляд? О чём это говорит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1769-2409-4565-B18A-CFC1A9799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вы слушали внимательно, без труда ответите на вопросы виктор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8EDE-A760-46EB-A67B-DD5C4951B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сейчас побудьте сами поэ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95D9-B29D-4021-8873-BA0F07D1A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одведение ито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гей Михалков прожил 96 лет, был неоднократно награждён гос.наградами, но сам считал большей наградой для себя- любовь и признательность сво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029-6B19-4063-BB47-4E9BCCD71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менем Михалкова   названа одна из планет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D453-981C-4066-868A-9D03885F5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бота по теме уро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емейное древо Михалковых-Кончаловских. В этой семье действительно много талантливых людей. Одним из предков его жены, писательницы и поэтессы  Натальи Кончаловской, был всемирно известный художник Василий Иванович Сурик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1815-86FB-42B0-BA83-D96ED7FAE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 ком мы  сегодня говорили? Вспомните, кем он был? Какие его стихи вам наиболее понравились?Какими учит нас быть Сергей Михалко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читали Михалкова, заучили наизусть и теперь мы точно знаем, что боится его грусть, что он любит в детях смелость, озорство и шаловливость, уважает он правдивость и всегда за справедлив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3AC-005A-425A-AFB1-8960021FD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одился Сергей Михалков 13 марта 1913 года в Москве. В детстве очень много читал , любли сказки Пушкина, басни Крылова, стихи Лермонтова, Некрасова. Серёжа читал и при свете карманного фонаря, накрывшись с головой одеялом, в те часы, когда детям положено было спать. В обычную школу пошёл с 4 класса, до этого обучался дома. По вечерам выпускал свой журнал, где был и автором, и редактором, и художником. Читали его все домашние и ближайшие родствен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592-BE51-48F8-BDD0-4463016D9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разу Сергей Владимирович стал детским писателем. В 1935 году выходит его первая поэма для детей, состоящая из 4 част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Дядя Стёпа», «Дядя Стёпа-милиционер», «Дядя Стёпа и Егор», «Дядя Стёпа-ветеран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 сейчас я предлагаю вам посмотреть фрагмент мультфильма, снятого по сценарию Михалкова- «Дядя Стёпа-милиционер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, анализирова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познакомились с Михалковым-сценарист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годы ВОВ Михалков-военный корреспондент, на фронте был контужен.Награждён боевыми орденами и меда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89D-D2F8-4341-8093-53100E861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сле войны старается работать в разных жанрах: пишет стихи, пьесы, сценарии, сказки, песни. Сегодня вы подготовили стихи Сергея Михалкова. Давайте послушаем друг друга и поработаем, подумаем, какими учит нас быть авто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тение стихотворений « Про мимозу», «Булка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Физкультминут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од «Песенку друзей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 вы знаете, что стихи к этой песенке тоже написал Сергей Владимирович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познакомились с Михалковым-поэтом-песенник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Продолжение работы над тем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30C-23B7-49A5-8E8D-1B0DC43F3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день 95-летия был награждён орденом Святого апостола Андрея Первозванног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EABC-69DB-4179-8528-1191F7969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ка кни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тение и анализ стихов « Важный совет», «Хорошие товарищи», «Мир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ы познакомились с Михалковым-поэт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9F9E-EFEC-46A3-BBE9-7160B817B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DDAF-EABC-4FF9-B5F9-E881A999B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еперь вспомним, что мы слушали в начале урока? Так кто догадался, почему мы начали урок с гимн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ихалков-автор стихов государственного гим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кторина  «Поиграем-угада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D6F-DE6F-4B46-8DD7-FB5410656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197-4353-4F5F-B49D-611F99CA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1AF-7BAF-4743-8150-473800E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D3A-0EFF-484A-BA68-8F2655B3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D9C-6889-4BF2-887E-40428E1C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60C-4E5B-4CAB-92B0-51017B08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EC7-5C2E-4D8C-8A62-90CE3365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171-62E8-4455-B158-499A1AE4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54C-6B6D-496A-9499-96CF63EE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92B-5A72-4939-9550-2FC9C36F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E4B-0EFB-4C35-90E6-27BC0AB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DF8-A858-4956-A31D-697C7AB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4EC-A8B6-4EF7-B73E-92581BA0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73D0-19B2-4EA3-924C-E20306ADC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4572000" y="404640"/>
            <a:ext cx="4249800" cy="5977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24000" y="692280"/>
            <a:ext cx="40384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84360" y="3716280"/>
            <a:ext cx="3816360" cy="36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ом – оружием своим,                                                               Что я в руках держу, -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честным людям труд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, как солдат, служ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Михал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150600_image_large"/>
          <p:cNvPicPr/>
          <p:nvPr/>
        </p:nvPicPr>
        <p:blipFill>
          <a:blip r:embed="rId1"/>
          <a:stretch/>
        </p:blipFill>
        <p:spPr>
          <a:xfrm>
            <a:off x="4749840" y="836640"/>
            <a:ext cx="3981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огда и где родился С.В. Михалк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ие жанры использовал в литературном творчестве С.В. Михалк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называлось его первое стихотвор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С. В. Михалков родился 13 марта 1913 года в Москв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1 апреля в Твер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Стихи, рассказы, сказки, басни,  пьесы, переводы, статьи, сценар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Оды, баллады, трагедии, комед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«Дорога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». </a:t>
            </a:r>
            <a:r>
              <a:rPr b="1" i="1" lang="ru-RU" sz="1600" spc="-1" strike="noStrike">
                <a:solidFill>
                  <a:srgbClr val="c0504d"/>
                </a:solidFill>
                <a:latin typeface="Calibri"/>
              </a:rPr>
              <a:t>«Тропинка». «Тр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4027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 каком стихотворении ребята затеяли спор о профессиях мам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з какого стихотворения эти строк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Ты в дальнюю дорогу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Бери с собой друзей: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Они тебе помогут,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 с ними вес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го ребята взяли с собой в дорог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акое предложение писал герой стихотворения "Чистописание"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 какому выводу он пришё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акая фамилия была у Дяди Стёп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836280"/>
            <a:ext cx="3970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А что у вас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А что у них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А что у нас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Песенка друз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Песенка вра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Песенка сосед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Мы везем с собой кота, 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ижика, собаку,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тьку-забияку,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Обезьяну, попугая –</a:t>
            </a:r>
            <a:br>
              <a:rPr sz="1200"/>
            </a:b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от компания ка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Моську и Сл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"Даёт корова молоко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Даёт корова сливки и смета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Да, стать учёным не легко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Да, стать учёным очень прост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Степ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Ив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Си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4027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каком классе учился мальчик, боявшийся прививо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акая температура была у героя одного из  стихотвор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Что за каша была во рту у Саш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колько человек сидело и стояло в трамвае № 1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акое слово ненавидел  герой одного из стихотвор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16000" y="836280"/>
            <a:ext cx="3970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В пер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В треть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В деся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дцать шесть и пя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дцать семь и од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дцать девя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Каша из сл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Каша из греч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Каша из перлов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о пятнадцать челове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Тринадц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Двадцать пя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Игр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Гуля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4027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  выбежал  на  улиц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о  мостовой  поше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вернул  налево  за 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…  наш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Что  нашел  геро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а  дверях  висел  замо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заперти  сидел  ще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се  ушли  и  од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 доме  заперли  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ак  звали  щенк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Это,  верно,  дряхлый  д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та  четырнадцати  л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  кто  же  это?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504d"/>
                </a:solidFill>
                <a:latin typeface="Calibri"/>
              </a:rPr>
              <a:t>Кошелек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Кренделё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Монет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504d"/>
                </a:solidFill>
                <a:latin typeface="Calibri"/>
              </a:rPr>
              <a:t>Трезор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Шар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Пуш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504d"/>
                </a:solidFill>
                <a:latin typeface="Calibri"/>
              </a:rPr>
              <a:t>Мальчик  Витя  по  прозвищу  Мимоза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илипп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4027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расной  цифрой  не  отмеч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Этот  день  в  календар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 флажками  не  расцвеч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озле  дома,  на  дв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  каком  дне  идет  реч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на  такая  же,  как,  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т  головы  до  н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 повторяет  каждый  ш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 каждый  мой  прыж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то  это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  послушайте,  ребят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  хочу  вам  рассказа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одились  у  нас  котят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х  по  счету  ровно  п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ак  назвали  котят?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907560"/>
            <a:ext cx="389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О  1  сент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О 1 дека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О 1 но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Тень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Неох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Раз,  Два,  Три,  Четыре,  Пять</a:t>
            </a: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Наф-наф, Нуф-нуф, Ниф-ни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3956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Появись  лекарство  эт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Я  купил  бы  два  пак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Нет,  не  два,  а  целых  тр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Нужно,  что  ни  гово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Вспомните,  о  каком  лекарстве  идет  реч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Две  подружки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Вар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С  Верой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Это  коллекцион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Что  коллекционируют  две  подружки,  Варя  и  Вера,  героини  стихотворения  С.                Михалкова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Живет  у  нас  под  крыш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Непризнанный  артис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И  целый  день  мы  слыш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Художественный  сви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omic"/>
              </a:rPr>
              <a:t>Кто  же  этот  артист?</a:t>
            </a:r>
            <a:r>
              <a:rPr b="1" lang="ru-RU" sz="2000" spc="-1" strike="noStrike">
                <a:solidFill>
                  <a:srgbClr val="0000ff"/>
                </a:solidFill>
                <a:latin typeface="com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907560"/>
            <a:ext cx="40388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О  лекарстве  от  ле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О лекарстве от страх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О лекарстве от анг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Автограф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Фан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Бан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504d"/>
                </a:solidFill>
                <a:latin typeface="Calibri"/>
              </a:rPr>
              <a:t>Скворец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 . Воробей. Гра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4027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  не  верю  чудес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о  такое  видел  с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ично!  Лежа  на  сп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Даже  страшно  стало  м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Что  увидел  писатель  Михалков,  лежа  на  спине? Страсть  к  путешествия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тра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осква – Париж,  Моск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Бомб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осква – Кабул,  Моск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арш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перь  лета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азовите  имя  путешественник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6360" y="836280"/>
            <a:ext cx="3965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Обла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Ту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Месяц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Вороб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Снеги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504d"/>
                </a:solidFill>
                <a:latin typeface="Calibri"/>
              </a:rPr>
              <a:t>Во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У заставы Ильич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Жил высокий граждан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ы слыхали? Это нас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очему я встал у стенки?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Мы едем, едем, ед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В далекие края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Хорошие соседи, счастливы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……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Кто, набив пирожным рот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Говорит: А где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Кто на лавочке сиде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Кто на улицу глядел,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Толя пел, Борис  молча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Николай ногой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…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..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Мать сказала: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– 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Дверь закрой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 К нам летит пчелины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……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3635280" y="333360"/>
            <a:ext cx="5257800" cy="57596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98120"/>
            <a:ext cx="293688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р Сергей Михалков 27 августа 2009 года в Моск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225px-Михалков_Сергей_Владимирович"/>
          <p:cNvPicPr/>
          <p:nvPr/>
        </p:nvPicPr>
        <p:blipFill>
          <a:blip r:embed="rId1"/>
          <a:stretch/>
        </p:blipFill>
        <p:spPr>
          <a:xfrm>
            <a:off x="3780000" y="476280"/>
            <a:ext cx="49640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5148360" y="260280"/>
            <a:ext cx="3995640" cy="53294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24000" y="2349360"/>
            <a:ext cx="4895640" cy="45086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681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"/>
              </a:rPr>
              <a:t>Именем Михалкова названа одна из малых планет Солнечной Системы (199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планета"/>
          <p:cNvPicPr/>
          <p:nvPr/>
        </p:nvPicPr>
        <p:blipFill>
          <a:blip r:embed="rId1"/>
          <a:stretch/>
        </p:blipFill>
        <p:spPr>
          <a:xfrm>
            <a:off x="5219640" y="333360"/>
            <a:ext cx="3700440" cy="511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96900"/>
          <p:cNvPicPr/>
          <p:nvPr/>
        </p:nvPicPr>
        <p:blipFill>
          <a:blip r:embed="rId2"/>
          <a:stretch/>
        </p:blipFill>
        <p:spPr>
          <a:xfrm>
            <a:off x="468360" y="2565360"/>
            <a:ext cx="46800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85176569"/>
          <p:cNvPicPr/>
          <p:nvPr/>
        </p:nvPicPr>
        <p:blipFill>
          <a:blip r:embed="rId1"/>
          <a:stretch/>
        </p:blipFill>
        <p:spPr>
          <a:xfrm>
            <a:off x="1403280" y="1011240"/>
            <a:ext cx="60483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мировой детской литературе есть сегодня хорошие книги, созданные на десятках разных языков. Есть книги-учителя, строгие и взыскательные. Есть книги-приятели. Есть книги-волшебники. Есть книги-солдаты. И каждая новая хорошая детская книга – это праздник для тысяч юных граждан планеты "Земля"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.В. Михал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ие писатели и поэты. Краткий биографический словарь. Москва,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урнал "Костер" за март 1973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ая литература // под ред. Е.Е. Зубаревой М. , 198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етская литература // под ред. А. В. Терновского М., 197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усская литература для детей. // под ред. Г.Д. Полозовой М., 1998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395280" y="836640"/>
            <a:ext cx="2448000" cy="44640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43280" y="836280"/>
            <a:ext cx="5843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3 марта 1913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Москве в семье Владимира Александровича и Ольги Михайловны Михалковой (урождённой Глебов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и к поэзии у Сергея обнаружились уже в девять лет. В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92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 семья переезжает в Ставропольский край и тогда Сергей начинает печататься. Школьные годы Михалков провел в Пятигорске. В 1930 году он окончил среднюю школу, но еще за два года до этого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928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ду публикуется первое стихотворение «Дорога» в журнале «На подъёме». После окончания школы Сергей Михалков возвращается в Москву и работает на ткацкой фабрике, в геологоразведочной экспедиции. В это же время в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19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 становится внештатным сотрудником отдела писем газеты «Известия». Публикуется в журналах: «Огонёк», «Пионер», «Прожектор», в газетах: «Комсомольская правда», «Известия», «Правда». Выходит первый сборник стих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3!895"/>
          <p:cNvPicPr/>
          <p:nvPr/>
        </p:nvPicPr>
        <p:blipFill>
          <a:blip r:embed="rId1"/>
          <a:stretch/>
        </p:blipFill>
        <p:spPr>
          <a:xfrm>
            <a:off x="539640" y="1557360"/>
            <a:ext cx="2192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1"/>
          <p:cNvSpPr/>
          <p:nvPr/>
        </p:nvSpPr>
        <p:spPr>
          <a:xfrm>
            <a:off x="2556000" y="4508640"/>
            <a:ext cx="2736720" cy="234936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 flipV="1">
            <a:off x="5219640" y="403560"/>
            <a:ext cx="3529080" cy="5185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193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ду выходит первое известное произведение, ставшее классикой русской и советской детской литературы — поэм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«Дядя Стёпа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1937</a:t>
            </a: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ду, поступает в Литературный институ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1939 го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ихалков получает первый орден Лени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Михалков корреспондент газет «Во славу Родины», «Сталинский сокол». Вместе с войсками отступал до Сталинграда, был контужен. Награждён боевыми орденами и медалями. Был отмечен Государственной премией СССР в 1942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4" descr="46377-354213-19-obl-L"/>
          <p:cNvPicPr/>
          <p:nvPr/>
        </p:nvPicPr>
        <p:blipFill>
          <a:blip r:embed="rId1"/>
          <a:stretch/>
        </p:blipFill>
        <p:spPr>
          <a:xfrm>
            <a:off x="2855880" y="4581360"/>
            <a:ext cx="1739880" cy="209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0_423f4_2ef409cf_XL"/>
          <p:cNvPicPr/>
          <p:nvPr/>
        </p:nvPicPr>
        <p:blipFill>
          <a:blip r:embed="rId2"/>
          <a:stretch/>
        </p:blipFill>
        <p:spPr>
          <a:xfrm>
            <a:off x="4716360" y="765000"/>
            <a:ext cx="3632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324000" y="620640"/>
            <a:ext cx="4824360" cy="5832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64000" y="836280"/>
            <a:ext cx="332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осле войны Михалков продолжает литературную деятельность, работает в разных жанрах детской литературы, создаёт пьесы для детских театров, сценарии для мультфиль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ергей Владимирович говорит: «Я стараюсь работать в разных жанрах: пишу стихи, пьесы, сценарии для взрослых и детей, песни, сатиру, статьи, заметки.… Я считаю, что работа в разных жанрах взаимно обогащает их».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o"/>
          <p:cNvPicPr/>
          <p:nvPr/>
        </p:nvPicPr>
        <p:blipFill>
          <a:blip r:embed="rId1"/>
          <a:stretch/>
        </p:blipFill>
        <p:spPr>
          <a:xfrm>
            <a:off x="1116000" y="981000"/>
            <a:ext cx="32068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324000" y="3573360"/>
            <a:ext cx="4103640" cy="29512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24000" y="476280"/>
            <a:ext cx="4392360" cy="27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. В. Михалков - академик педагогических наук, заслуженный деятель искусств России. Писатель был удостоен множества правительственных, литературных, общественных и международных премий,  правительственных награ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13 марта 2008 года, в день 95-летия писателя президент России Путин подписал указ о награждении Михалкова орденом Святого апостола Андрея Первозванного "за выдающийся вклад в развитие отечественной литературы, многолетнюю творческую и общественную деятельность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mih3.jpg"/>
          <p:cNvPicPr/>
          <p:nvPr/>
        </p:nvPicPr>
        <p:blipFill>
          <a:blip r:embed="rId1"/>
          <a:stretch/>
        </p:blipFill>
        <p:spPr>
          <a:xfrm>
            <a:off x="539640" y="549360"/>
            <a:ext cx="4038840" cy="28191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FDA1234333334.jpg"/>
          <p:cNvPicPr/>
          <p:nvPr/>
        </p:nvPicPr>
        <p:blipFill>
          <a:blip r:embed="rId2"/>
          <a:stretch/>
        </p:blipFill>
        <p:spPr>
          <a:xfrm>
            <a:off x="684360" y="3860640"/>
            <a:ext cx="3671640" cy="25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К 2008 году суммарный тираж книг Сергея Михалкова насчитывает около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300 миллионов экземпля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00026852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63640" y="1484280"/>
            <a:ext cx="1725480" cy="275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9164440"/>
          <p:cNvPicPr/>
          <p:nvPr/>
        </p:nvPicPr>
        <p:blipFill>
          <a:blip r:embed="rId2"/>
          <a:stretch/>
        </p:blipFill>
        <p:spPr>
          <a:xfrm>
            <a:off x="2556000" y="4076640"/>
            <a:ext cx="1652400" cy="240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000533105"/>
          <p:cNvPicPr/>
          <p:nvPr/>
        </p:nvPicPr>
        <p:blipFill>
          <a:blip r:embed="rId3"/>
          <a:stretch/>
        </p:blipFill>
        <p:spPr>
          <a:xfrm>
            <a:off x="2700360" y="1844640"/>
            <a:ext cx="170028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_990828004"/>
          <p:cNvPicPr/>
          <p:nvPr/>
        </p:nvPicPr>
        <p:blipFill>
          <a:blip r:embed="rId4"/>
          <a:stretch/>
        </p:blipFill>
        <p:spPr>
          <a:xfrm>
            <a:off x="826920" y="4292640"/>
            <a:ext cx="131616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5000102193.jpg"/>
          <p:cNvPicPr/>
          <p:nvPr/>
        </p:nvPicPr>
        <p:blipFill>
          <a:blip r:embed="rId5"/>
          <a:stretch/>
        </p:blipFill>
        <p:spPr>
          <a:xfrm>
            <a:off x="6669000" y="1060560"/>
            <a:ext cx="2219400" cy="33354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119.jpg"/>
          <p:cNvPicPr/>
          <p:nvPr/>
        </p:nvPicPr>
        <p:blipFill>
          <a:blip r:embed="rId6"/>
          <a:stretch/>
        </p:blipFill>
        <p:spPr>
          <a:xfrm>
            <a:off x="4500720" y="3500280"/>
            <a:ext cx="2144520" cy="309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"/>
          <p:cNvPicPr/>
          <p:nvPr/>
        </p:nvPicPr>
        <p:blipFill>
          <a:blip r:embed="rId7"/>
          <a:stretch/>
        </p:blipFill>
        <p:spPr>
          <a:xfrm>
            <a:off x="7026120" y="4221000"/>
            <a:ext cx="1621080" cy="2303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mg_bd.jpg"/>
          <p:cNvPicPr/>
          <p:nvPr/>
        </p:nvPicPr>
        <p:blipFill>
          <a:blip r:embed="rId8"/>
          <a:stretch/>
        </p:blipFill>
        <p:spPr>
          <a:xfrm>
            <a:off x="4340160" y="1755720"/>
            <a:ext cx="24321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11640" y="1484280"/>
            <a:ext cx="4932360" cy="38894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419112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Знаменитые строки на гранитной плите Вечного огня у Кремлевской стены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  <a:ea typeface="Arial"/>
              </a:rPr>
              <a:t>"Имя твое неизвестно, подвиг твой бессмертен"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  <a:ea typeface="Arial"/>
              </a:rPr>
              <a:t>, 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также принадлежит Михалк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5" descr="monument200.jpg"/>
          <p:cNvPicPr/>
          <p:nvPr/>
        </p:nvPicPr>
        <p:blipFill>
          <a:blip r:embed="rId1"/>
          <a:stretch/>
        </p:blipFill>
        <p:spPr>
          <a:xfrm>
            <a:off x="4498920" y="1773360"/>
            <a:ext cx="4040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250920" y="765000"/>
            <a:ext cx="4392360" cy="575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3898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Calibri"/>
              </a:rPr>
              <a:t>194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 правительство СССР принимает решение о смене старого гимна. Михалков и его соавтор Г. Эль-Регистан стали авторами его текста, победив на всенародном конкурс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800" spc="-1" strike="noStrike">
                <a:solidFill>
                  <a:srgbClr val="cc0000"/>
                </a:solidFill>
                <a:latin typeface="Calibri"/>
              </a:rPr>
              <a:t>197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у, после принятия новой Конституции СССР, Сергей Михалков создаёт вторую редакцию слов для Государственного Гимна ССС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декабря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Calibri"/>
              </a:rPr>
              <a:t>20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да президент В.В.Путин утвердил текст Государственного гимна России на стихи Сергея Михалкова (третья редакция). Классик сообщил в интервью, что искренне хотел сочинить «гимн православной страны», он человек верующий и «всегда был верующим».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«То, что я сейчас написал, — это близко моему сердцу»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заявлял Михал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26946-291259-19-obl-l"/>
          <p:cNvPicPr/>
          <p:nvPr/>
        </p:nvPicPr>
        <p:blipFill>
          <a:blip r:embed="rId1"/>
          <a:stretch/>
        </p:blipFill>
        <p:spPr>
          <a:xfrm>
            <a:off x="243000" y="836640"/>
            <a:ext cx="424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7:49:57Z</dcterms:created>
  <dc:creator>Библиотека</dc:creator>
  <dc:description/>
  <dc:language>en-US</dc:language>
  <cp:lastModifiedBy>Buhgalter</cp:lastModifiedBy>
  <dcterms:modified xsi:type="dcterms:W3CDTF">2012-10-01T07:44:38Z</dcterms:modified>
  <cp:revision>28</cp:revision>
  <dc:subject/>
  <dc:title>Слайд 1</dc:title>
</cp:coreProperties>
</file>