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BF2-6493-412A-9D39-B53BEAB7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CA0-7456-4AB3-B365-5D25395D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6EE-0BD9-4D78-9994-4079E16E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A60-5EC2-46D7-9D8E-959E792D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BC44-A582-4D55-BC7F-93B019A6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CCE3-92AA-4B48-A3F5-89E9B737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217B-020B-4459-BB9B-2A284F7C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6287-5825-4349-905D-A0C128ED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650D-271A-4C1D-8828-0C91C06C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D1E2-5A96-4FE6-AEF5-91C6095D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51FD-E653-4856-8878-94ED8BA7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45A-47CE-40CD-961D-EB75EAA3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C967-1D01-4333-8CEA-A0E660B8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9053-02B6-4B53-B5CB-C5B32299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48A9-29A3-4D79-A552-C32C060C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71DC-7EDF-4399-8261-767F08CC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BFBE-2507-435E-9B3F-1B2E1441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DEB7F-64A3-40A9-8CD0-BAE40411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63722-3917-4852-A870-E01C00C7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8C1D8-DDBD-438B-9552-EB8CCAE0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80DA9-DACD-4D0A-A8FF-17D814C3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994D6-1DFE-4CB4-8AAE-8FB54522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A30-0DB7-4A2A-83A1-9DDDAF95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94771-72F6-4BD0-9CCE-CC912383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3C326-5664-4273-8FF5-B7E1261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6077D-2DB7-455F-A439-3266C6E9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EF166-03C5-408B-AC00-4A06E514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C2C84-6934-4173-91E7-B99DE29A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352CD-8142-4F9C-BABE-414595BF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D7459-1861-426E-ADDC-E44BA7F3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524-BA43-4D62-BAD7-84B09A1C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FCB-5536-43E1-A0E7-77ECCC47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255-AAF3-47B7-A7A2-887BAD0B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C6E-69D6-4852-A1C1-28761622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CEB-7FFD-4547-9AAB-87A82FCF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498-68E0-4388-8780-46D04FC7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38A8-6E7F-422D-8C6D-F0778B72C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2070-F309-47ED-99DA-F18ACF1031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4D78-234C-4237-ABE7-0298B92F64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оверка номенклату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СТИ МИРОВОГО ОКЕ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10920" y="3141720"/>
            <a:ext cx="475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9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4292640"/>
            <a:ext cx="287280" cy="2232000"/>
          </a:xfrm>
          <a:prstGeom prst="downArrow">
            <a:avLst>
              <a:gd name="adj1" fmla="val 50000"/>
              <a:gd name="adj2" fmla="val 1942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39640" y="4581000"/>
            <a:ext cx="3384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0 мат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4360" y="4292640"/>
            <a:ext cx="1942920" cy="216000"/>
          </a:xfrm>
          <a:prstGeom prst="rightArrow">
            <a:avLst>
              <a:gd name="adj1" fmla="val 50000"/>
              <a:gd name="adj2" fmla="val 224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1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1268280"/>
            <a:ext cx="216000" cy="1224000"/>
          </a:xfrm>
          <a:prstGeom prst="downArrow">
            <a:avLst>
              <a:gd name="adj1" fmla="val 50000"/>
              <a:gd name="adj2" fmla="val 14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31068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2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1700280"/>
            <a:ext cx="1727280" cy="216000"/>
          </a:xfrm>
          <a:prstGeom prst="rightArrow">
            <a:avLst>
              <a:gd name="adj1" fmla="val 50000"/>
              <a:gd name="adj2" fmla="val 1999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867280" y="2852640"/>
            <a:ext cx="2819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3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907920"/>
            <a:ext cx="216000" cy="1944720"/>
          </a:xfrm>
          <a:prstGeom prst="upArrow">
            <a:avLst>
              <a:gd name="adj1" fmla="val 50000"/>
              <a:gd name="adj2" fmla="val 225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44640"/>
            <a:ext cx="4402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4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1628640"/>
            <a:ext cx="1441440" cy="216000"/>
          </a:xfrm>
          <a:prstGeom prst="leftArrow">
            <a:avLst>
              <a:gd name="adj1" fmla="val 50000"/>
              <a:gd name="adj2" fmla="val 166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3322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5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981000"/>
            <a:ext cx="1511280" cy="217440"/>
          </a:xfrm>
          <a:prstGeom prst="rightArrow">
            <a:avLst>
              <a:gd name="adj1" fmla="val 50000"/>
              <a:gd name="adj2" fmla="val 1737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6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76280"/>
            <a:ext cx="216000" cy="1728720"/>
          </a:xfrm>
          <a:prstGeom prst="upArrow">
            <a:avLst>
              <a:gd name="adj1" fmla="val 50000"/>
              <a:gd name="adj2" fmla="val 200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07920"/>
            <a:ext cx="2962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7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2492280"/>
            <a:ext cx="1512720" cy="216000"/>
          </a:xfrm>
          <a:prstGeom prst="leftArrow">
            <a:avLst>
              <a:gd name="adj1" fmla="val 50000"/>
              <a:gd name="adj2" fmla="val 175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3610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8 за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1484280"/>
            <a:ext cx="1800360" cy="144360"/>
          </a:xfrm>
          <a:prstGeom prst="rightArrow">
            <a:avLst>
              <a:gd name="adj1" fmla="val 50000"/>
              <a:gd name="adj2" fmla="val 3117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380360" y="3284640"/>
            <a:ext cx="287280" cy="1944720"/>
          </a:xfrm>
          <a:prstGeom prst="upArrow">
            <a:avLst>
              <a:gd name="adj1" fmla="val 50000"/>
              <a:gd name="adj2" fmla="val 1692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40360" y="4436640"/>
            <a:ext cx="331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 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68000" y="4436640"/>
            <a:ext cx="504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9 за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2781360"/>
            <a:ext cx="216000" cy="1584360"/>
          </a:xfrm>
          <a:prstGeom prst="upArrow">
            <a:avLst>
              <a:gd name="adj1" fmla="val 50000"/>
              <a:gd name="adj2" fmla="val 1833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99640" y="2421000"/>
            <a:ext cx="331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0 за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2133720"/>
            <a:ext cx="1584360" cy="215640"/>
          </a:xfrm>
          <a:prstGeom prst="leftArrow">
            <a:avLst>
              <a:gd name="adj1" fmla="val 50000"/>
              <a:gd name="adj2" fmla="val 1836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92000" y="1341000"/>
            <a:ext cx="324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1 за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907920"/>
            <a:ext cx="1584000" cy="216000"/>
          </a:xfrm>
          <a:prstGeom prst="leftArrow">
            <a:avLst>
              <a:gd name="adj1" fmla="val 50000"/>
              <a:gd name="adj2" fmla="val 183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4076640"/>
            <a:ext cx="69231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2 за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11280" y="3284640"/>
            <a:ext cx="142920" cy="1942920"/>
          </a:xfrm>
          <a:prstGeom prst="upArrow">
            <a:avLst>
              <a:gd name="adj1" fmla="val 50000"/>
              <a:gd name="adj2" fmla="val 3398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59280" y="2276280"/>
            <a:ext cx="3827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3 про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32720" y="620640"/>
            <a:ext cx="215640" cy="1728720"/>
          </a:xfrm>
          <a:prstGeom prst="upArrow">
            <a:avLst>
              <a:gd name="adj1" fmla="val 50000"/>
              <a:gd name="adj2" fmla="val 200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47280" y="4653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4 про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877000"/>
            <a:ext cx="2592360" cy="144360"/>
          </a:xfrm>
          <a:prstGeom prst="leftArrow">
            <a:avLst>
              <a:gd name="adj1" fmla="val 50000"/>
              <a:gd name="adj2" fmla="val 4489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84000" y="4797360"/>
            <a:ext cx="4319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5 проли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5734080"/>
            <a:ext cx="2374920" cy="144360"/>
          </a:xfrm>
          <a:prstGeom prst="leftArrow">
            <a:avLst>
              <a:gd name="adj1" fmla="val 50000"/>
              <a:gd name="adj2" fmla="val 4112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133360"/>
            <a:ext cx="32511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6 проли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1844640"/>
            <a:ext cx="1584360" cy="216000"/>
          </a:xfrm>
          <a:prstGeom prst="rightArrow">
            <a:avLst>
              <a:gd name="adj1" fmla="val 50000"/>
              <a:gd name="adj2" fmla="val 1833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7 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60280"/>
            <a:ext cx="142920" cy="1513080"/>
          </a:xfrm>
          <a:prstGeom prst="upArrow">
            <a:avLst>
              <a:gd name="adj1" fmla="val 50000"/>
              <a:gd name="adj2" fmla="val 2646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24000" y="3860280"/>
            <a:ext cx="3095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8 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72360" y="3500280"/>
            <a:ext cx="1800000" cy="216000"/>
          </a:xfrm>
          <a:prstGeom prst="leftArrow">
            <a:avLst>
              <a:gd name="adj1" fmla="val 50000"/>
              <a:gd name="adj2" fmla="val 208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763640" y="3213000"/>
            <a:ext cx="216000" cy="2087640"/>
          </a:xfrm>
          <a:prstGeom prst="upArrow">
            <a:avLst>
              <a:gd name="adj1" fmla="val 50000"/>
              <a:gd name="adj2" fmla="val 2416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7640" y="4436640"/>
            <a:ext cx="30956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 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149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9 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3933720"/>
            <a:ext cx="1584360" cy="142920"/>
          </a:xfrm>
          <a:prstGeom prst="leftArrow">
            <a:avLst>
              <a:gd name="adj1" fmla="val 50000"/>
              <a:gd name="adj2" fmla="val 2771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5013000"/>
            <a:ext cx="6635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30 ос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24000" y="4508640"/>
            <a:ext cx="216000" cy="1296720"/>
          </a:xfrm>
          <a:prstGeom prst="upArrow">
            <a:avLst>
              <a:gd name="adj1" fmla="val 50000"/>
              <a:gd name="adj2" fmla="val 150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10920" y="274320"/>
            <a:ext cx="45370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1 архипе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2492280"/>
            <a:ext cx="1944720" cy="216000"/>
          </a:xfrm>
          <a:prstGeom prst="rightArrow">
            <a:avLst>
              <a:gd name="adj1" fmla="val 50000"/>
              <a:gd name="adj2" fmla="val 225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443280" y="4581360"/>
            <a:ext cx="22431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2 ри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4076640"/>
            <a:ext cx="1873080" cy="289080"/>
          </a:xfrm>
          <a:prstGeom prst="leftArrow">
            <a:avLst>
              <a:gd name="adj1" fmla="val 50000"/>
              <a:gd name="adj2" fmla="val 1619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7280" y="3068280"/>
            <a:ext cx="4259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3 архипе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84720" y="2997360"/>
            <a:ext cx="2016360" cy="215640"/>
          </a:xfrm>
          <a:prstGeom prst="leftArrow">
            <a:avLst>
              <a:gd name="adj1" fmla="val 50000"/>
              <a:gd name="adj2" fmla="val 2337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7280" y="3357360"/>
            <a:ext cx="461952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4 архипе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0000" y="3213000"/>
            <a:ext cx="2376720" cy="144720"/>
          </a:xfrm>
          <a:prstGeom prst="leftArrow">
            <a:avLst>
              <a:gd name="adj1" fmla="val 50000"/>
              <a:gd name="adj2" fmla="val 41057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44480" y="1413000"/>
            <a:ext cx="5699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5 полу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16720" y="1125360"/>
            <a:ext cx="1655640" cy="216000"/>
          </a:xfrm>
          <a:prstGeom prst="leftArrow">
            <a:avLst>
              <a:gd name="adj1" fmla="val 50000"/>
              <a:gd name="adj2" fmla="val 1916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6 полу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35280" y="1197000"/>
            <a:ext cx="289080" cy="1081080"/>
          </a:xfrm>
          <a:prstGeom prst="downArrow">
            <a:avLst>
              <a:gd name="adj1" fmla="val 50000"/>
              <a:gd name="adj2" fmla="val 934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43280" y="3068280"/>
            <a:ext cx="4043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37 полуос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16360" y="2565360"/>
            <a:ext cx="2592360" cy="216000"/>
          </a:xfrm>
          <a:prstGeom prst="leftArrow">
            <a:avLst>
              <a:gd name="adj1" fmla="val 50000"/>
              <a:gd name="adj2" fmla="val 3000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8 полу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08360" y="620640"/>
            <a:ext cx="2232000" cy="287280"/>
          </a:xfrm>
          <a:prstGeom prst="leftArrow">
            <a:avLst>
              <a:gd name="adj1" fmla="val 50000"/>
              <a:gd name="adj2" fmla="val 1942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34920" y="5157360"/>
            <a:ext cx="259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 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3429000"/>
            <a:ext cx="287280" cy="1655640"/>
          </a:xfrm>
          <a:prstGeom prst="upArrow">
            <a:avLst>
              <a:gd name="adj1" fmla="val 50000"/>
              <a:gd name="adj2" fmla="val 1440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11280" y="3644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9 полуо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08360" y="2997360"/>
            <a:ext cx="1871640" cy="215640"/>
          </a:xfrm>
          <a:prstGeom prst="leftArrow">
            <a:avLst>
              <a:gd name="adj1" fmla="val 50000"/>
              <a:gd name="adj2" fmla="val 2169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2520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4 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333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59280" y="1988640"/>
            <a:ext cx="3827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5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1628640"/>
            <a:ext cx="2232000" cy="287640"/>
          </a:xfrm>
          <a:prstGeom prst="leftArrow">
            <a:avLst>
              <a:gd name="adj1" fmla="val 50000"/>
              <a:gd name="adj2" fmla="val 1939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31640" y="4797000"/>
            <a:ext cx="3311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6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2852640"/>
            <a:ext cx="288720" cy="2521080"/>
          </a:xfrm>
          <a:prstGeom prst="upArrow">
            <a:avLst>
              <a:gd name="adj1" fmla="val 50000"/>
              <a:gd name="adj2" fmla="val 2182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7280" y="1268280"/>
            <a:ext cx="331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7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981000"/>
            <a:ext cx="2016000" cy="216000"/>
          </a:xfrm>
          <a:prstGeom prst="leftArrow">
            <a:avLst>
              <a:gd name="adj1" fmla="val 50000"/>
              <a:gd name="adj2" fmla="val 233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627280" y="3573360"/>
            <a:ext cx="316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8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3573360"/>
            <a:ext cx="1513080" cy="287280"/>
          </a:xfrm>
          <a:prstGeom prst="leftArrow">
            <a:avLst>
              <a:gd name="adj1" fmla="val 50000"/>
              <a:gd name="adj2" fmla="val 1316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5:58:39Z</dcterms:created>
  <dc:creator>BeeR</dc:creator>
  <dc:description/>
  <dc:language>en-US</dc:language>
  <cp:lastModifiedBy>BeeR</cp:lastModifiedBy>
  <dcterms:modified xsi:type="dcterms:W3CDTF">2008-09-26T19:00:37Z</dcterms:modified>
  <cp:revision>3</cp:revision>
  <dc:subject/>
  <dc:title>Проверка номенклатуры</dc:title>
</cp:coreProperties>
</file>