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BD6-BD49-42C5-9928-A5BD49C2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C07-5420-45F6-B7F3-FF4D668F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BB0-3422-43E8-8769-A64EAC20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341-BC68-40C1-92BB-519B1505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ADBF-2E7F-448B-BE01-75844CA7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6256-5FB0-4B28-BB47-6283A044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A153-179D-4C55-A7EA-2B02B162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8FAD-5884-4A37-AD6B-7071C1EA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812D-945D-428F-BCAC-33E1653D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FB57-5FAD-4136-9A30-705FD2F3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4F48-9BB8-4037-AA42-A29186A7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E925-9C87-4419-93FB-82B70587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81FB-3C0B-4FA9-9D6E-95F25A41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ABCA-DC7B-4A6F-A0B8-DAC76F3E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9133-7984-4E4E-9D57-A419B49D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D179-2D17-4FA1-A748-64664D8D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97EC-8676-4A43-8C85-980F538E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D9CAC-810F-40BF-BFB7-FFC78796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9AF1DA-3AC2-4BF8-BCC6-364860EC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D8102-DB90-4CE0-8BC7-653006EB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E7351-80AC-4E0A-A7E1-9FC7F029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C2DDA2-F2E1-4714-8610-A1A165FA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4EE-F0D9-4DCB-9F45-4733ABB4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D97EB-3492-4E09-85F0-C2352492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EAA66-5A2D-4579-ACB5-94F3A51B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393E0-D060-4900-9BEA-C06143D9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497A2-9ACF-4F7F-9CA5-12974D4D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5ACED-ACB3-4254-B917-EDD2FE37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E9FF4-3301-4D66-B768-0B33C835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7B7CB-1A7C-4B54-B637-D0B2FD10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E4D1-B158-4273-9C49-719CD835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7A0-F23B-4FF9-A66D-BADA20A1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3AB-CB57-48DF-8B75-193D5B42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280-7CFE-48E6-9B55-D936BBD0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DF4F-56DE-464D-A80B-37E790A7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E45-1076-4974-9355-432B976B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A41A-5A4D-44C5-BAA7-2602AFCBA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8A5F-0DA0-405B-A71E-51C77A56A2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47B2-670C-44C0-9C0A-608AF9E74F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Проверка номенклату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АСТИ МИРОВОГО ОКЕ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10920" y="3141720"/>
            <a:ext cx="475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9 мат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4292640"/>
            <a:ext cx="287280" cy="2232000"/>
          </a:xfrm>
          <a:prstGeom prst="downArrow">
            <a:avLst>
              <a:gd name="adj1" fmla="val 50000"/>
              <a:gd name="adj2" fmla="val 1942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39640" y="4581000"/>
            <a:ext cx="33843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10 матер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24360" y="4292640"/>
            <a:ext cx="1942920" cy="216000"/>
          </a:xfrm>
          <a:prstGeom prst="rightArrow">
            <a:avLst>
              <a:gd name="adj1" fmla="val 50000"/>
              <a:gd name="adj2" fmla="val 224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1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360" y="1268280"/>
            <a:ext cx="216000" cy="1224000"/>
          </a:xfrm>
          <a:prstGeom prst="downArrow">
            <a:avLst>
              <a:gd name="adj1" fmla="val 50000"/>
              <a:gd name="adj2" fmla="val 141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916280"/>
            <a:ext cx="31068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2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2000" y="1700280"/>
            <a:ext cx="1727280" cy="216000"/>
          </a:xfrm>
          <a:prstGeom prst="rightArrow">
            <a:avLst>
              <a:gd name="adj1" fmla="val 50000"/>
              <a:gd name="adj2" fmla="val 1999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867280" y="2852640"/>
            <a:ext cx="2819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3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04000" y="907920"/>
            <a:ext cx="216000" cy="1944720"/>
          </a:xfrm>
          <a:prstGeom prst="upArrow">
            <a:avLst>
              <a:gd name="adj1" fmla="val 50000"/>
              <a:gd name="adj2" fmla="val 2250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844640"/>
            <a:ext cx="4402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4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42920" y="1628640"/>
            <a:ext cx="1441440" cy="216000"/>
          </a:xfrm>
          <a:prstGeom prst="leftArrow">
            <a:avLst>
              <a:gd name="adj1" fmla="val 50000"/>
              <a:gd name="adj2" fmla="val 1668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3322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5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0920" y="981000"/>
            <a:ext cx="1511280" cy="217440"/>
          </a:xfrm>
          <a:prstGeom prst="rightArrow">
            <a:avLst>
              <a:gd name="adj1" fmla="val 50000"/>
              <a:gd name="adj2" fmla="val 1737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0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6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76280"/>
            <a:ext cx="216000" cy="1728720"/>
          </a:xfrm>
          <a:prstGeom prst="upArrow">
            <a:avLst>
              <a:gd name="adj1" fmla="val 50000"/>
              <a:gd name="adj2" fmla="val 2000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07920"/>
            <a:ext cx="2962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7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2492280"/>
            <a:ext cx="1512720" cy="216000"/>
          </a:xfrm>
          <a:prstGeom prst="leftArrow">
            <a:avLst>
              <a:gd name="adj1" fmla="val 50000"/>
              <a:gd name="adj2" fmla="val 1750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3610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8 зал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1484280"/>
            <a:ext cx="1800360" cy="144360"/>
          </a:xfrm>
          <a:prstGeom prst="rightArrow">
            <a:avLst>
              <a:gd name="adj1" fmla="val 50000"/>
              <a:gd name="adj2" fmla="val 3117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380360" y="3284640"/>
            <a:ext cx="287280" cy="1944720"/>
          </a:xfrm>
          <a:prstGeom prst="upArrow">
            <a:avLst>
              <a:gd name="adj1" fmla="val 50000"/>
              <a:gd name="adj2" fmla="val 1692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40360" y="4436640"/>
            <a:ext cx="3311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 оке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68000" y="4436640"/>
            <a:ext cx="504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9 зал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2781360"/>
            <a:ext cx="216000" cy="1584360"/>
          </a:xfrm>
          <a:prstGeom prst="upArrow">
            <a:avLst>
              <a:gd name="adj1" fmla="val 50000"/>
              <a:gd name="adj2" fmla="val 1833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99640" y="2421000"/>
            <a:ext cx="331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0 зал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2133720"/>
            <a:ext cx="1584360" cy="215640"/>
          </a:xfrm>
          <a:prstGeom prst="leftArrow">
            <a:avLst>
              <a:gd name="adj1" fmla="val 50000"/>
              <a:gd name="adj2" fmla="val 18368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92000" y="1341000"/>
            <a:ext cx="324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1 зал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907920"/>
            <a:ext cx="1584000" cy="216000"/>
          </a:xfrm>
          <a:prstGeom prst="leftArrow">
            <a:avLst>
              <a:gd name="adj1" fmla="val 50000"/>
              <a:gd name="adj2" fmla="val 1833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4076640"/>
            <a:ext cx="69231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2 зал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11280" y="3284640"/>
            <a:ext cx="142920" cy="1942920"/>
          </a:xfrm>
          <a:prstGeom prst="upArrow">
            <a:avLst>
              <a:gd name="adj1" fmla="val 50000"/>
              <a:gd name="adj2" fmla="val 3398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859280" y="2276280"/>
            <a:ext cx="3827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3 прол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32720" y="620640"/>
            <a:ext cx="215640" cy="1728720"/>
          </a:xfrm>
          <a:prstGeom prst="upArrow">
            <a:avLst>
              <a:gd name="adj1" fmla="val 50000"/>
              <a:gd name="adj2" fmla="val 2004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47280" y="4653000"/>
            <a:ext cx="4537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4 прол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5877000"/>
            <a:ext cx="2592360" cy="144360"/>
          </a:xfrm>
          <a:prstGeom prst="leftArrow">
            <a:avLst>
              <a:gd name="adj1" fmla="val 50000"/>
              <a:gd name="adj2" fmla="val 4489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84000" y="4797360"/>
            <a:ext cx="4319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25 проли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76360" y="5734080"/>
            <a:ext cx="2374920" cy="144360"/>
          </a:xfrm>
          <a:prstGeom prst="leftArrow">
            <a:avLst>
              <a:gd name="adj1" fmla="val 50000"/>
              <a:gd name="adj2" fmla="val 4112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133360"/>
            <a:ext cx="32511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26 проли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2920" y="1844640"/>
            <a:ext cx="1584360" cy="216000"/>
          </a:xfrm>
          <a:prstGeom prst="rightArrow">
            <a:avLst>
              <a:gd name="adj1" fmla="val 50000"/>
              <a:gd name="adj2" fmla="val 1833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7 о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260280"/>
            <a:ext cx="142920" cy="1513080"/>
          </a:xfrm>
          <a:prstGeom prst="upArrow">
            <a:avLst>
              <a:gd name="adj1" fmla="val 50000"/>
              <a:gd name="adj2" fmla="val 2646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24000" y="3860280"/>
            <a:ext cx="3095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8 о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72360" y="3500280"/>
            <a:ext cx="1800000" cy="216000"/>
          </a:xfrm>
          <a:prstGeom prst="leftArrow">
            <a:avLst>
              <a:gd name="adj1" fmla="val 50000"/>
              <a:gd name="adj2" fmla="val 2083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763640" y="3213000"/>
            <a:ext cx="216000" cy="2087640"/>
          </a:xfrm>
          <a:prstGeom prst="upArrow">
            <a:avLst>
              <a:gd name="adj1" fmla="val 50000"/>
              <a:gd name="adj2" fmla="val 2416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7640" y="4436640"/>
            <a:ext cx="30956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 оке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14936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9 о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3933720"/>
            <a:ext cx="1584360" cy="142920"/>
          </a:xfrm>
          <a:prstGeom prst="leftArrow">
            <a:avLst>
              <a:gd name="adj1" fmla="val 50000"/>
              <a:gd name="adj2" fmla="val 2771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5013000"/>
            <a:ext cx="6635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30 ост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24000" y="4508640"/>
            <a:ext cx="216000" cy="1296720"/>
          </a:xfrm>
          <a:prstGeom prst="upArrow">
            <a:avLst>
              <a:gd name="adj1" fmla="val 50000"/>
              <a:gd name="adj2" fmla="val 1500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10920" y="274320"/>
            <a:ext cx="453708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31 архипе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0360" y="2492280"/>
            <a:ext cx="1944720" cy="216000"/>
          </a:xfrm>
          <a:prstGeom prst="rightArrow">
            <a:avLst>
              <a:gd name="adj1" fmla="val 50000"/>
              <a:gd name="adj2" fmla="val 2250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443280" y="4581360"/>
            <a:ext cx="22431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32 ри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59640" y="4076640"/>
            <a:ext cx="1873080" cy="289080"/>
          </a:xfrm>
          <a:prstGeom prst="leftArrow">
            <a:avLst>
              <a:gd name="adj1" fmla="val 50000"/>
              <a:gd name="adj2" fmla="val 1619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7280" y="3068280"/>
            <a:ext cx="42591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33 архипе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84720" y="2997360"/>
            <a:ext cx="2016360" cy="215640"/>
          </a:xfrm>
          <a:prstGeom prst="leftArrow">
            <a:avLst>
              <a:gd name="adj1" fmla="val 50000"/>
              <a:gd name="adj2" fmla="val 2337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7280" y="3357360"/>
            <a:ext cx="461952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34 архипе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0000" y="3213000"/>
            <a:ext cx="2376720" cy="144720"/>
          </a:xfrm>
          <a:prstGeom prst="leftArrow">
            <a:avLst>
              <a:gd name="adj1" fmla="val 50000"/>
              <a:gd name="adj2" fmla="val 41057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44480" y="1413000"/>
            <a:ext cx="5699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35 полуо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16720" y="1125360"/>
            <a:ext cx="1655640" cy="216000"/>
          </a:xfrm>
          <a:prstGeom prst="leftArrow">
            <a:avLst>
              <a:gd name="adj1" fmla="val 50000"/>
              <a:gd name="adj2" fmla="val 1916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36 полуо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35280" y="1197000"/>
            <a:ext cx="289080" cy="1081080"/>
          </a:xfrm>
          <a:prstGeom prst="downArrow">
            <a:avLst>
              <a:gd name="adj1" fmla="val 50000"/>
              <a:gd name="adj2" fmla="val 934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43280" y="3068280"/>
            <a:ext cx="4043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37 полуост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16360" y="2565360"/>
            <a:ext cx="2592360" cy="216000"/>
          </a:xfrm>
          <a:prstGeom prst="leftArrow">
            <a:avLst>
              <a:gd name="adj1" fmla="val 50000"/>
              <a:gd name="adj2" fmla="val 3000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38 полуо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08360" y="620640"/>
            <a:ext cx="2232000" cy="287280"/>
          </a:xfrm>
          <a:prstGeom prst="leftArrow">
            <a:avLst>
              <a:gd name="adj1" fmla="val 50000"/>
              <a:gd name="adj2" fmla="val 1942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34920" y="5157360"/>
            <a:ext cx="259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3 оке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84720" y="3429000"/>
            <a:ext cx="287280" cy="1655640"/>
          </a:xfrm>
          <a:prstGeom prst="upArrow">
            <a:avLst>
              <a:gd name="adj1" fmla="val 50000"/>
              <a:gd name="adj2" fmla="val 1440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11280" y="3644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39 полуо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08360" y="2997360"/>
            <a:ext cx="1871640" cy="215640"/>
          </a:xfrm>
          <a:prstGeom prst="leftArrow">
            <a:avLst>
              <a:gd name="adj1" fmla="val 50000"/>
              <a:gd name="adj2" fmla="val 2169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7640" y="1557000"/>
            <a:ext cx="2520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4 оке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333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59280" y="1988640"/>
            <a:ext cx="38275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5 мат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88000" y="1628640"/>
            <a:ext cx="2232000" cy="287640"/>
          </a:xfrm>
          <a:prstGeom prst="leftArrow">
            <a:avLst>
              <a:gd name="adj1" fmla="val 50000"/>
              <a:gd name="adj2" fmla="val 1939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131640" y="4797000"/>
            <a:ext cx="3311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6 мат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3280" y="2852640"/>
            <a:ext cx="288720" cy="2521080"/>
          </a:xfrm>
          <a:prstGeom prst="upArrow">
            <a:avLst>
              <a:gd name="adj1" fmla="val 50000"/>
              <a:gd name="adj2" fmla="val 2182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7280" y="1268280"/>
            <a:ext cx="3313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7 мат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981000"/>
            <a:ext cx="2016000" cy="216000"/>
          </a:xfrm>
          <a:prstGeom prst="leftArrow">
            <a:avLst>
              <a:gd name="adj1" fmla="val 50000"/>
              <a:gd name="adj2" fmla="val 2333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627280" y="3573360"/>
            <a:ext cx="3168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8 мат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3573360"/>
            <a:ext cx="1513080" cy="287280"/>
          </a:xfrm>
          <a:prstGeom prst="leftArrow">
            <a:avLst>
              <a:gd name="adj1" fmla="val 50000"/>
              <a:gd name="adj2" fmla="val 1316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5:58:39Z</dcterms:created>
  <dc:creator>BeeR</dc:creator>
  <dc:description/>
  <dc:language>en-US</dc:language>
  <cp:lastModifiedBy>BeeR</cp:lastModifiedBy>
  <dcterms:modified xsi:type="dcterms:W3CDTF">2008-09-26T19:00:37Z</dcterms:modified>
  <cp:revision>3</cp:revision>
  <dc:subject/>
  <dc:title>Проверка номенклатуры</dc:title>
</cp:coreProperties>
</file>