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054-AE83-4E9B-8B0B-FB37BBE8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E8C-81E8-46C8-ADBD-A22EF501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9F4-4E45-4AC7-A8D6-50723305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1E0-19DB-432E-B215-33A5536F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9766-09D5-4ED6-9C9B-7F228E82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29A5-B816-4EB3-AC8C-449E96E3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3247-85F2-4757-9A57-4B1519B4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8CF7-58DD-427A-B0B4-7CD9ED69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BF5A-DC87-4950-ACC5-BEFB9776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2E20-3743-4EE4-81E5-351F7A56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00FF-6909-4E91-A624-BFC1037E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8C0-5023-4EBE-988E-D10B37CA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F1D3-A7AC-47E5-AEA6-D9CBFCC4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5718-F1FA-47E1-9540-A5B332A6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12C3-213B-48DF-9C19-F30CFB4B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39F9-9718-40B7-BF2B-07F5E645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0323-25A7-4404-964A-866E50AD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726-2FC7-4D5C-90BD-A28234A2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7DF-99A5-44CA-B974-A6C30379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418-4F0E-47C0-8AAF-8F96CF05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9A2-FE85-43D6-987F-FD9F8151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C2A-1E75-4DD7-976B-0A09D0C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C42-9C3A-45C6-BDD3-590ED282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BD5-008A-43FC-881F-56CC70EB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277B-EE4A-4883-9B79-B90D5968E3B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C2AD-6B3D-48FB-A7C0-AB4CD3BEB23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85840" y="1365120"/>
            <a:ext cx="869292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843280" y="4076280"/>
            <a:ext cx="593712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дагог- психолог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зарацкас Елена Анатолье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755640" y="54936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БОУ школа-интернат №8 Пушкинского района г. Санкт-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2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400960" cy="115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Olga\Desktop\Елена Анатольевна\25.jpg"/>
          <p:cNvPicPr/>
          <p:nvPr/>
        </p:nvPicPr>
        <p:blipFill>
          <a:blip r:embed="rId2"/>
          <a:stretch/>
        </p:blipFill>
        <p:spPr>
          <a:xfrm>
            <a:off x="1979640" y="1484280"/>
            <a:ext cx="5065560" cy="388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1042920" y="5516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 чем оно говорит нам, взрослы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500040" y="66600"/>
            <a:ext cx="8729640" cy="426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Olga\Desktop\Елена Анатольевна\www.videovv.com.jpg"/>
          <p:cNvPicPr/>
          <p:nvPr/>
        </p:nvPicPr>
        <p:blipFill>
          <a:blip r:embed="rId2"/>
          <a:stretch/>
        </p:blipFill>
        <p:spPr>
          <a:xfrm>
            <a:off x="2214720" y="3071880"/>
            <a:ext cx="3295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Olga\Desktop\Елена Анатольевна\757b46271a453ac3362835d296ccc7f0.jpg"/>
          <p:cNvPicPr/>
          <p:nvPr/>
        </p:nvPicPr>
        <p:blipFill>
          <a:blip r:embed="rId1"/>
          <a:srcRect l="11631" t="0" r="12184" b="0"/>
          <a:stretch/>
        </p:blipFill>
        <p:spPr>
          <a:xfrm>
            <a:off x="971640" y="765000"/>
            <a:ext cx="721980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37960" y="6480"/>
            <a:ext cx="8637840" cy="115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Olga\Desktop\Елена Анатольевна\24454.jpg"/>
          <p:cNvPicPr/>
          <p:nvPr/>
        </p:nvPicPr>
        <p:blipFill>
          <a:blip r:embed="rId2"/>
          <a:srcRect l="0" t="5443" r="0" b="6578"/>
          <a:stretch/>
        </p:blipFill>
        <p:spPr>
          <a:xfrm>
            <a:off x="1042920" y="1052640"/>
            <a:ext cx="6650280" cy="4680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1990440" y="5857920"/>
            <a:ext cx="466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Ему надо помоч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Olga\Desktop\Елена Анатольевна\74389730_4047793_ham.jpg"/>
          <p:cNvPicPr/>
          <p:nvPr/>
        </p:nvPicPr>
        <p:blipFill>
          <a:blip r:embed="rId2"/>
          <a:stretch/>
        </p:blipFill>
        <p:spPr>
          <a:xfrm>
            <a:off x="2268360" y="1268280"/>
            <a:ext cx="46958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-30240" y="-182520"/>
            <a:ext cx="9350280" cy="201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Olga\Desktop\Елена Анатольевна\351d9e3586e7.jpg"/>
          <p:cNvPicPr/>
          <p:nvPr/>
        </p:nvPicPr>
        <p:blipFill>
          <a:blip r:embed="rId2"/>
          <a:srcRect l="0" t="1129" r="0" b="0"/>
          <a:stretch/>
        </p:blipFill>
        <p:spPr>
          <a:xfrm>
            <a:off x="1116000" y="1844640"/>
            <a:ext cx="69771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201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Olga\Desktop\Елена Анатольевна\SchoolMain.jpg"/>
          <p:cNvPicPr/>
          <p:nvPr/>
        </p:nvPicPr>
        <p:blipFill>
          <a:blip r:embed="rId2"/>
          <a:stretch/>
        </p:blipFill>
        <p:spPr>
          <a:xfrm>
            <a:off x="3059280" y="1844640"/>
            <a:ext cx="3394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65040" y="30240"/>
            <a:ext cx="866304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276120" y="1413000"/>
            <a:ext cx="86169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ибко чередуйте и комбинируйте стратегии и тактику в игровом взаимодействи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имулируйте у ребенка способности к сопереживани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могите ребенку осознать причину,  ближайшие и отдаленные последствия его  агрессивного повед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ремитесь привлечь внимание к случившемуся  не вынося оценочных суждений о личности ребенка, а обращая его внимания на чувства,  которые он испытыв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могите ребенку  отреагировать отрицательные эмоции через предметно -  практические игровые действия.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06:27:29Z</dcterms:created>
  <dc:creator>Olga</dc:creator>
  <dc:description/>
  <dc:language>en-US</dc:language>
  <cp:lastModifiedBy>Пользователь</cp:lastModifiedBy>
  <dcterms:modified xsi:type="dcterms:W3CDTF">2012-10-18T13:11:57Z</dcterms:modified>
  <cp:revision>6</cp:revision>
  <dc:subject/>
  <dc:title>Агрессивность детей</dc:title>
</cp:coreProperties>
</file>