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8AA-481E-42A6-A358-64BE50E5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8DE-2FD8-4FD5-81A2-D4F7E4FD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30C-6A8A-4776-AF51-2777E60C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C5F-5EF9-411D-8DBD-EDA2A55F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A34D-B46A-4886-971B-FF2D2028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A1CF-BBD5-45A6-9460-609E75F2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4136-BFFF-4EC7-A8CC-46729998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E5C5-C68F-4386-8E91-4867D208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E958-6A19-4175-B5B3-D95564AA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C219-6525-47B4-8907-AA255402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2900-564D-431F-92B9-F547780C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E1D-FACF-4569-B4FE-6BA43500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6A27-8DE0-44E3-8ED1-67E82BC0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BDFD-4F74-4F0B-8FA8-2D3BAB31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52C7-9E03-4F17-BFD8-33DF00C9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997A-D8CD-49E5-BB52-C165B269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4611-D27A-4BB8-85C6-75C173AB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227-C994-456C-A2F7-69956940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2C5-9146-443E-B35C-3696276A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BD7-DF8F-4DE8-B9E4-E3A85106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F8F-F177-4DA1-B7D3-752F764D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7F5-6AE8-42D7-896D-F9609508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D03-E496-43DD-9EC1-6FE8B96D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33C-624A-4DFC-8334-7528604F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B394-09E5-4121-BEAB-C3DF147C4A1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9671-C4C5-436F-8D34-1781FCF181C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85840" y="1365120"/>
            <a:ext cx="869292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843280" y="4076280"/>
            <a:ext cx="593712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дагог- психолог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зарацкас Елена Анатолье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755640" y="54936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БОУ школа-интернат №8 Пушкинского района г. Санкт-Петербу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2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400960" cy="115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Olga\Desktop\Елена Анатольевна\25.jpg"/>
          <p:cNvPicPr/>
          <p:nvPr/>
        </p:nvPicPr>
        <p:blipFill>
          <a:blip r:embed="rId2"/>
          <a:stretch/>
        </p:blipFill>
        <p:spPr>
          <a:xfrm>
            <a:off x="1979640" y="1484280"/>
            <a:ext cx="5065560" cy="388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1042920" y="5516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 чем оно говорит нам, взрослы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500040" y="66600"/>
            <a:ext cx="8729640" cy="4267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Olga\Desktop\Елена Анатольевна\www.videovv.com.jpg"/>
          <p:cNvPicPr/>
          <p:nvPr/>
        </p:nvPicPr>
        <p:blipFill>
          <a:blip r:embed="rId2"/>
          <a:stretch/>
        </p:blipFill>
        <p:spPr>
          <a:xfrm>
            <a:off x="2214720" y="3071880"/>
            <a:ext cx="3295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Olga\Desktop\Елена Анатольевна\757b46271a453ac3362835d296ccc7f0.jpg"/>
          <p:cNvPicPr/>
          <p:nvPr/>
        </p:nvPicPr>
        <p:blipFill>
          <a:blip r:embed="rId1"/>
          <a:srcRect l="11631" t="0" r="12184" b="0"/>
          <a:stretch/>
        </p:blipFill>
        <p:spPr>
          <a:xfrm>
            <a:off x="971640" y="765000"/>
            <a:ext cx="721980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37960" y="6480"/>
            <a:ext cx="8637840" cy="115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Olga\Desktop\Елена Анатольевна\24454.jpg"/>
          <p:cNvPicPr/>
          <p:nvPr/>
        </p:nvPicPr>
        <p:blipFill>
          <a:blip r:embed="rId2"/>
          <a:srcRect l="0" t="5443" r="0" b="6578"/>
          <a:stretch/>
        </p:blipFill>
        <p:spPr>
          <a:xfrm>
            <a:off x="1042920" y="1052640"/>
            <a:ext cx="6650280" cy="4680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1990440" y="5857920"/>
            <a:ext cx="466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Ему надо помоч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Olga\Desktop\Елена Анатольевна\74389730_4047793_ham.jpg"/>
          <p:cNvPicPr/>
          <p:nvPr/>
        </p:nvPicPr>
        <p:blipFill>
          <a:blip r:embed="rId2"/>
          <a:stretch/>
        </p:blipFill>
        <p:spPr>
          <a:xfrm>
            <a:off x="2268360" y="1268280"/>
            <a:ext cx="46958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-30240" y="-182520"/>
            <a:ext cx="9350280" cy="201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Olga\Desktop\Елена Анатольевна\351d9e3586e7.jpg"/>
          <p:cNvPicPr/>
          <p:nvPr/>
        </p:nvPicPr>
        <p:blipFill>
          <a:blip r:embed="rId2"/>
          <a:srcRect l="0" t="1129" r="0" b="0"/>
          <a:stretch/>
        </p:blipFill>
        <p:spPr>
          <a:xfrm>
            <a:off x="1116000" y="1844640"/>
            <a:ext cx="69771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42560" cy="201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Olga\Desktop\Елена Анатольевна\SchoolMain.jpg"/>
          <p:cNvPicPr/>
          <p:nvPr/>
        </p:nvPicPr>
        <p:blipFill>
          <a:blip r:embed="rId2"/>
          <a:stretch/>
        </p:blipFill>
        <p:spPr>
          <a:xfrm>
            <a:off x="3059280" y="1844640"/>
            <a:ext cx="33940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365040" y="30240"/>
            <a:ext cx="866304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276120" y="1413000"/>
            <a:ext cx="86169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ибко чередуйте и комбинируйте стратегии и тактику в игровом взаимодействи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имулируйте у ребенка способности к сопереживани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могите ребенку осознать причину,  ближайшие и отдаленные последствия его  агрессивного повед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ремитесь привлечь внимание к случившемуся  не вынося оценочных суждений о личности ребенка, а обращая его внимания на чувства,  которые он испытыва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могите ребенку  отреагировать отрицательные эмоции через предметно -  практические игровые действия.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06:27:29Z</dcterms:created>
  <dc:creator>Olga</dc:creator>
  <dc:description/>
  <dc:language>en-US</dc:language>
  <cp:lastModifiedBy>Пользователь</cp:lastModifiedBy>
  <dcterms:modified xsi:type="dcterms:W3CDTF">2012-10-18T13:11:57Z</dcterms:modified>
  <cp:revision>6</cp:revision>
  <dc:subject/>
  <dc:title>Агрессивность детей</dc:title>
</cp:coreProperties>
</file>