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A92-364F-4496-BC2C-577385F4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928-DE4D-4E7E-BE93-06BC5B0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D47-989A-4E40-9F5C-29755DFF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598-1A3F-465A-A62B-DD3C1671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084-210B-45AD-9FDC-5E5E452F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AA9-C748-4AC1-884D-2029075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46E-0769-4D9A-A33F-82F2BF26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0FC-5BEA-4B23-8E7D-28666A8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CD6-3941-4180-B56F-39604AA2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643-931A-4774-B811-AC3A5259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085-C496-486D-B0A1-C1E805A2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252-6BF0-4318-81C4-60DB315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94E2-2125-4275-BA6C-435BC996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d/Michael_I_Romanov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0/03/Alexis_I_of_Russi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0/04/Patriarx_Nikon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ru/0/05/Sobornoe_Ulozheni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d/Michael_I_Romanov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3/39/Philaret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8/80/Novoierusalimsky_monastyr_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Файл:Michael I Roman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14680" cy="5734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Файл:Alexis I of Russi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38600" y="1380960"/>
            <a:ext cx="4505400" cy="547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5877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.Ф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32360" y="260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.М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951360" cy="540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Файл:Patriarx Nik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42120" y="1197000"/>
            <a:ext cx="2801880" cy="566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24000" y="5805360"/>
            <a:ext cx="30970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протопоп Авваку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56360" y="260280"/>
            <a:ext cx="2736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патриарх Ник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 rot="3728400">
            <a:off x="3238560" y="-495000"/>
            <a:ext cx="2304720" cy="7128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Файл:Alexis I of Russia.jpg"/>
          <p:cNvPicPr/>
          <p:nvPr/>
        </p:nvPicPr>
        <p:blipFill>
          <a:blip r:embed="rId1"/>
          <a:stretch/>
        </p:blipFill>
        <p:spPr>
          <a:xfrm>
            <a:off x="0" y="0"/>
            <a:ext cx="4505400" cy="5477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Файл:Patriarx Nikon.jpg"/>
          <p:cNvPicPr/>
          <p:nvPr/>
        </p:nvPicPr>
        <p:blipFill>
          <a:blip r:embed="rId2"/>
          <a:stretch/>
        </p:blipFill>
        <p:spPr>
          <a:xfrm>
            <a:off x="6342120" y="1197000"/>
            <a:ext cx="2801880" cy="566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11280" y="5877000"/>
            <a:ext cx="37447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.М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56360" y="260280"/>
            <a:ext cx="2736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патриарх Ник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 rot="1074000">
            <a:off x="3995280" y="0"/>
            <a:ext cx="2233800" cy="6669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Файл:Patriarx Nikon.jpg"/>
          <p:cNvPicPr/>
          <p:nvPr/>
        </p:nvPicPr>
        <p:blipFill>
          <a:blip r:embed="rId1"/>
          <a:stretch/>
        </p:blipFill>
        <p:spPr>
          <a:xfrm>
            <a:off x="2843280" y="0"/>
            <a:ext cx="3394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5400000">
            <a:off x="3923640" y="2997000"/>
            <a:ext cx="619128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166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Файл:Boyarynja Morozova.jpg"/>
          <p:cNvPicPr/>
          <p:nvPr/>
        </p:nvPicPr>
        <p:blipFill>
          <a:blip r:embed="rId1"/>
          <a:stretch/>
        </p:blipFill>
        <p:spPr>
          <a:xfrm>
            <a:off x="1403280" y="0"/>
            <a:ext cx="6264360" cy="6091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835280" y="6165720"/>
            <a:ext cx="5616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Ф.П. Мороз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p:transition spd="slow">
    <p:pull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48000" y="26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Ц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844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оярская Д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73360"/>
            <a:ext cx="21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итропо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патриар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285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ем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4581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39640" y="76500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765000"/>
            <a:ext cx="1081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48000" y="26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Ц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844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оярская Д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773360"/>
            <a:ext cx="21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итропо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патриар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85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ем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450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339640" y="76500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765000"/>
            <a:ext cx="1081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6237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рганы мест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42920" y="2781360"/>
            <a:ext cx="2305080" cy="6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2708280"/>
            <a:ext cx="201600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Файл:Sobornoe Ulozheni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0"/>
            <a:ext cx="477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1773360"/>
            <a:ext cx="8964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Священство" и "царство"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Файл:Michael I Roman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414680" cy="5734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Файл:Philare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81360" y="476280"/>
            <a:ext cx="456264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95280" y="623736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.Ф. Ром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88000" y="0"/>
            <a:ext cx="39528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триарх Филар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Monotype Corsiva"/>
              </a:rPr>
              <a:t>Кружок «ревнителей древлего благочестия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Стефан Вонифать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Ф.М. Ртищ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архимандрит Ни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протопоп Иван Неро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ff"/>
                </a:solidFill>
                <a:latin typeface="Monotype Corsiva"/>
              </a:rPr>
              <a:t>протопоп Авваку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ff"/>
                </a:solidFill>
                <a:latin typeface="Monotype Corsiva"/>
              </a:rPr>
              <a:t>Епифаний Славинец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ff"/>
                </a:solidFill>
                <a:latin typeface="Monotype Corsiva"/>
              </a:rPr>
              <a:t>Арсений Сатанов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ff"/>
                </a:solidFill>
                <a:latin typeface="Monotype Corsiva"/>
              </a:rPr>
              <a:t>Дамаскин Птиц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Monotype Corsiva"/>
              </a:rPr>
              <a:t>Церковный раско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-374" b="9039"/>
          <a:stretch/>
        </p:blipFill>
        <p:spPr>
          <a:xfrm>
            <a:off x="0" y="1052640"/>
            <a:ext cx="5076720" cy="3824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Файл:Novoierusalimsky monastyr 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3332160"/>
            <a:ext cx="4932360" cy="3525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rot="4280400">
            <a:off x="3598560" y="153720"/>
            <a:ext cx="2305080" cy="7128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39:48Z</dcterms:created>
  <dc:creator>Лена</dc:creator>
  <dc:description/>
  <dc:language>en-US</dc:language>
  <cp:lastModifiedBy>Лена</cp:lastModifiedBy>
  <dcterms:modified xsi:type="dcterms:W3CDTF">2009-02-16T20:50:30Z</dcterms:modified>
  <cp:revision>2</cp:revision>
  <dc:subject/>
  <dc:title>Слайд 1</dc:title>
</cp:coreProperties>
</file>