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4F9-FB94-46AA-A7D5-88A4E261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A0A-9C8B-4B8F-A680-36C0F6E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074-E0D6-4C08-BC95-2F7C4FFE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8CE-D800-4368-B6DB-96BF54F9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3A0-2D78-4240-A5CF-8938B264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034-8940-4ACE-BA3C-6D359FAB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EE7-BAAC-4529-ADA8-D5D59E4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712-F3A9-4840-A879-452CB5D6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943-1296-4206-888C-F3985275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ACA-4BDD-41DC-9F8B-60A1281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5B6-32BF-457F-A8EB-7C47878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215-E5CB-4347-ABED-DFA9F702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F4D-FC85-4007-8F45-99E9770C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d/Michael_I_Romanov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0/03/Alexis_I_of_Russi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0/04/Patriarx_Nikon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ru/0/05/Sobornoe_Ulozheni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d/Michael_I_Romanov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3/39/Philaret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8/80/Novoierusalimsky_monastyr_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Файл:Michael I Roman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14680" cy="5734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Файл:Alexis I of Russi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38600" y="1380960"/>
            <a:ext cx="4505400" cy="547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5877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.Ф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32360" y="260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.М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951360" cy="540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Файл:Patriarx Nik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42120" y="1197000"/>
            <a:ext cx="2801880" cy="566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24000" y="5805360"/>
            <a:ext cx="30970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протопоп Авваку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56360" y="260280"/>
            <a:ext cx="2736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патриарх Ник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 rot="3728400">
            <a:off x="3238560" y="-495000"/>
            <a:ext cx="2304720" cy="7128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Файл:Alexis I of Russia.jpg"/>
          <p:cNvPicPr/>
          <p:nvPr/>
        </p:nvPicPr>
        <p:blipFill>
          <a:blip r:embed="rId1"/>
          <a:stretch/>
        </p:blipFill>
        <p:spPr>
          <a:xfrm>
            <a:off x="0" y="0"/>
            <a:ext cx="4505400" cy="5477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Файл:Patriarx Nikon.jpg"/>
          <p:cNvPicPr/>
          <p:nvPr/>
        </p:nvPicPr>
        <p:blipFill>
          <a:blip r:embed="rId2"/>
          <a:stretch/>
        </p:blipFill>
        <p:spPr>
          <a:xfrm>
            <a:off x="6342120" y="1197000"/>
            <a:ext cx="2801880" cy="566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11280" y="5877000"/>
            <a:ext cx="37447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.М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56360" y="260280"/>
            <a:ext cx="2736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патриарх Ник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 rot="1074000">
            <a:off x="3995280" y="0"/>
            <a:ext cx="2233800" cy="6669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Файл:Patriarx Nikon.jpg"/>
          <p:cNvPicPr/>
          <p:nvPr/>
        </p:nvPicPr>
        <p:blipFill>
          <a:blip r:embed="rId1"/>
          <a:stretch/>
        </p:blipFill>
        <p:spPr>
          <a:xfrm>
            <a:off x="2843280" y="0"/>
            <a:ext cx="3394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5400000">
            <a:off x="3923640" y="2997000"/>
            <a:ext cx="619128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166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Файл:Boyarynja Morozova.jpg"/>
          <p:cNvPicPr/>
          <p:nvPr/>
        </p:nvPicPr>
        <p:blipFill>
          <a:blip r:embed="rId1"/>
          <a:stretch/>
        </p:blipFill>
        <p:spPr>
          <a:xfrm>
            <a:off x="1403280" y="0"/>
            <a:ext cx="6264360" cy="6091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835280" y="6165720"/>
            <a:ext cx="5616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Ф.П. Мороз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p:transition spd="slow">
    <p:pull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48000" y="26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Ц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844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оярская Д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73360"/>
            <a:ext cx="21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итропо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патриар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285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ем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4581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39640" y="76500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765000"/>
            <a:ext cx="1081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48000" y="26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Ц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844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оярская Д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773360"/>
            <a:ext cx="21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итропо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патриар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85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ем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450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339640" y="76500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765000"/>
            <a:ext cx="1081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6237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рганы мест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42920" y="2781360"/>
            <a:ext cx="2305080" cy="6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2708280"/>
            <a:ext cx="201600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Файл:Sobornoe Ulozheni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0"/>
            <a:ext cx="477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1773360"/>
            <a:ext cx="8964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Священство" и "царство"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Файл:Michael I Roman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414680" cy="5734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Файл:Philare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81360" y="476280"/>
            <a:ext cx="456264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95280" y="623736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.Ф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88000" y="0"/>
            <a:ext cx="39528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триарх Филар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Monotype Corsiva"/>
              </a:rPr>
              <a:t>Кружок «ревнителей древлего благочестия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Стефан Вонифать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Ф.М. Ртищ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архимандрит Ни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протопоп Иван Неро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протопоп Авваку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ff"/>
                </a:solidFill>
                <a:latin typeface="Monotype Corsiva"/>
              </a:rPr>
              <a:t>Епифаний Славинец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ff"/>
                </a:solidFill>
                <a:latin typeface="Monotype Corsiva"/>
              </a:rPr>
              <a:t>Арсений Сатанов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ff"/>
                </a:solidFill>
                <a:latin typeface="Monotype Corsiva"/>
              </a:rPr>
              <a:t>Дамаскин Птиц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Monotype Corsiva"/>
              </a:rPr>
              <a:t>Церковный раско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-374" b="9039"/>
          <a:stretch/>
        </p:blipFill>
        <p:spPr>
          <a:xfrm>
            <a:off x="0" y="1052640"/>
            <a:ext cx="5076720" cy="3824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Файл:Novoierusalimsky monastyr 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3332160"/>
            <a:ext cx="4932360" cy="3525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rot="4280400">
            <a:off x="3598560" y="153720"/>
            <a:ext cx="2305080" cy="7128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39:48Z</dcterms:created>
  <dc:creator>Лена</dc:creator>
  <dc:description/>
  <dc:language>en-US</dc:language>
  <cp:lastModifiedBy>Лена</cp:lastModifiedBy>
  <dcterms:modified xsi:type="dcterms:W3CDTF">2009-02-16T20:50:30Z</dcterms:modified>
  <cp:revision>2</cp:revision>
  <dc:subject/>
  <dc:title>Слайд 1</dc:title>
</cp:coreProperties>
</file>