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026-A5D3-4851-99E0-17B4595F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192-8A6D-4877-986E-8E4024E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918-0B08-4131-BF2F-BE1D3A2F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08E-BEBD-446D-AC44-B2F83F20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78B-6C67-4CAB-868D-50D4B61C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AFD-6BF8-4547-8148-DF6A3636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80C-20E4-4BEE-9FF0-1EA9CA1D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989-2198-4B7F-B9A2-D8F718D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265-755C-48BF-BB1F-FD41421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93C-CC90-4F8A-8809-9A5DAB1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2A1-8239-42D6-88F8-D744BEF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6AC-495C-45CB-970E-1640D36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5F52-BBEC-473F-AD91-F85E42E0D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4929120"/>
            <a:ext cx="4286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61579ba1e7"/>
          <p:cNvPicPr/>
          <p:nvPr/>
        </p:nvPicPr>
        <p:blipFill>
          <a:blip r:embed="rId2"/>
          <a:stretch/>
        </p:blipFill>
        <p:spPr>
          <a:xfrm rot="20089200">
            <a:off x="4721040" y="2976480"/>
            <a:ext cx="3929040" cy="31971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433440" y="262080"/>
            <a:ext cx="7558200" cy="37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Настя\Desktop\анастасия\Театр\1244811129_70829.gif"/>
          <p:cNvPicPr/>
          <p:nvPr/>
        </p:nvPicPr>
        <p:blipFill>
          <a:blip r:embed="rId4"/>
          <a:stretch/>
        </p:blipFill>
        <p:spPr>
          <a:xfrm rot="20974800">
            <a:off x="468360" y="3906720"/>
            <a:ext cx="226368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643280" y="63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556000" y="57326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питатель –Дементьева С.А. МДОУ д/с «Сказка» подготовительная групп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2781360" cy="352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484360" y="386064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Портрет основателя первого придворного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Артамон Сергеевич  Матвеев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18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Настя\Desktop\анастасия\Театр\2011-10-03_142415.jpg"/>
          <p:cNvPicPr/>
          <p:nvPr/>
        </p:nvPicPr>
        <p:blipFill>
          <a:blip r:embed="rId2"/>
          <a:stretch/>
        </p:blipFill>
        <p:spPr>
          <a:xfrm>
            <a:off x="17928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Настя\Desktop\анастасия\Театр\images (10).jpg"/>
          <p:cNvPicPr/>
          <p:nvPr/>
        </p:nvPicPr>
        <p:blipFill>
          <a:blip r:embed="rId3"/>
          <a:stretch/>
        </p:blipFill>
        <p:spPr>
          <a:xfrm>
            <a:off x="3924360" y="0"/>
            <a:ext cx="2108160" cy="316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Настя\Desktop\анастасия\Театр\images (11).jpg"/>
          <p:cNvPicPr/>
          <p:nvPr/>
        </p:nvPicPr>
        <p:blipFill>
          <a:blip r:embed="rId4"/>
          <a:stretch/>
        </p:blipFill>
        <p:spPr>
          <a:xfrm>
            <a:off x="1979640" y="4844880"/>
            <a:ext cx="302400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Настя\Desktop\анастасия\Театр\images (13).jpg"/>
          <p:cNvPicPr/>
          <p:nvPr/>
        </p:nvPicPr>
        <p:blipFill>
          <a:blip r:embed="rId5"/>
          <a:stretch/>
        </p:blipFill>
        <p:spPr>
          <a:xfrm>
            <a:off x="6372360" y="1268280"/>
            <a:ext cx="2232000" cy="33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Users\Настя\Desktop\анастасия\Театр\images (14).jpg"/>
          <p:cNvPicPr/>
          <p:nvPr/>
        </p:nvPicPr>
        <p:blipFill>
          <a:blip r:embed="rId6"/>
          <a:stretch/>
        </p:blipFill>
        <p:spPr>
          <a:xfrm>
            <a:off x="179280" y="3141720"/>
            <a:ext cx="292104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Users\Настя\Desktop\анастасия\Театр\W600_H400_Ocenter.jpg"/>
          <p:cNvPicPr/>
          <p:nvPr/>
        </p:nvPicPr>
        <p:blipFill>
          <a:blip r:embed="rId7"/>
          <a:stretch/>
        </p:blipFill>
        <p:spPr>
          <a:xfrm>
            <a:off x="5651640" y="4680000"/>
            <a:ext cx="326700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Users\Настя\Desktop\анастасия\Театр\images (12).jpg"/>
          <p:cNvPicPr/>
          <p:nvPr/>
        </p:nvPicPr>
        <p:blipFill>
          <a:blip r:embed="rId8"/>
          <a:stretch/>
        </p:blipFill>
        <p:spPr>
          <a:xfrm>
            <a:off x="3564000" y="306864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175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857840" y="3645000"/>
            <a:ext cx="4286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661579ba1e7"/>
          <p:cNvPicPr/>
          <p:nvPr/>
        </p:nvPicPr>
        <p:blipFill>
          <a:blip r:embed="rId2"/>
          <a:stretch/>
        </p:blipFill>
        <p:spPr>
          <a:xfrm>
            <a:off x="5724360" y="0"/>
            <a:ext cx="3132360" cy="2655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3"/>
          <a:stretch/>
        </p:blipFill>
        <p:spPr>
          <a:xfrm>
            <a:off x="426960" y="4548240"/>
            <a:ext cx="8661600" cy="11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Настя\Desktop\анастасия\Театр\images (3).jpg"/>
          <p:cNvPicPr/>
          <p:nvPr/>
        </p:nvPicPr>
        <p:blipFill>
          <a:blip r:embed="rId4"/>
          <a:stretch/>
        </p:blipFill>
        <p:spPr>
          <a:xfrm rot="20753400">
            <a:off x="277920" y="1233000"/>
            <a:ext cx="5389560" cy="29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mircitaty.com/img_pisatel/shekspir.jpg"/>
          <p:cNvPicPr/>
          <p:nvPr/>
        </p:nvPicPr>
        <p:blipFill>
          <a:blip r:embed="rId2"/>
          <a:stretch/>
        </p:blipFill>
        <p:spPr>
          <a:xfrm>
            <a:off x="324000" y="189000"/>
            <a:ext cx="4176720" cy="5373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859280" y="1779480"/>
            <a:ext cx="3816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Шексп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выдающийся английский поэт и драматур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564 – 16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драматург Уильям Шекспир сказал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Весь мир – театр, а люди в нём актёр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661579ba1e7"/>
          <p:cNvPicPr/>
          <p:nvPr/>
        </p:nvPicPr>
        <p:blipFill>
          <a:blip r:embed="rId2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5" descr="http://ancientrome.ru/archaeol/img/0338-01.jpg"/>
          <p:cNvPicPr/>
          <p:nvPr/>
        </p:nvPicPr>
        <p:blipFill>
          <a:blip r:embed="rId3"/>
          <a:stretch/>
        </p:blipFill>
        <p:spPr>
          <a:xfrm>
            <a:off x="250920" y="692280"/>
            <a:ext cx="796932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68360" y="33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Первый театр появился в Афинах, в 497 году до н.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755640" y="62064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Риме первый каменный театр появился только в 55 году до н.э. .  До этого актеры и зрители довольствовались лишь временными деревянными постройками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ектакли прошлых лет мало походили на то, что мы понимаем под спектаклем сегодня. На сцене мог быть только один актер, менявший маски и игравший сразу несколько ролей. Необходимость масок была обусловлена большими размерами театров, вмещавших десять, а то и семнадцать тысяч человек. Разглядеть черты лица актера с далекого расстояния было практически невозможно, и маски легко решали эту пробл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Настя\Desktop\анастасия\Театр\58668357.gif"/>
          <p:cNvPicPr/>
          <p:nvPr/>
        </p:nvPicPr>
        <p:blipFill>
          <a:blip r:embed="rId2"/>
          <a:stretch/>
        </p:blipFill>
        <p:spPr>
          <a:xfrm>
            <a:off x="0" y="1370160"/>
            <a:ext cx="644364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324000" y="549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атр – это объединение всех искусств, он включает в себя музыку, архитектуру, живопись, кинемато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отографию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755640" y="620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87280" y="112536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до XVII века не было театра. На протяжении веков эта культурная ниша заполнялась обрядами и народными праздниками, включавшими элементы театрализованного действия, и скоморохами, музыкантами, плясунами, кукольниками, медвежьими поводыр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13080" cy="450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3290760" cy="268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3708360" y="3065400"/>
            <a:ext cx="5256360" cy="3573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 rot="20770200">
            <a:off x="323640" y="53578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Виды теа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95280" y="981000"/>
            <a:ext cx="813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7 октября 1672 года состоялось первое представление. Царь  Алексей Михайлович так был восхищен, что 10 часов подряд не вставал с места, пока шло представление.  Бояре стояли: в присутствии государя им садиться не дозволялось. Накануне монарх получил благословение своего духовника протопопа Андрея Савинова, который заверил, что еще византийские императоры устраивали театральные зрелища. Алексея пришлось долго убеждать в том, чтобы он дозволил использовать музыку, без которой нельзя устроить хора. Царь неохотно согласился.                                                               Придворный театр не имел постоянного помещения. Власти не скупились с расходами на костюмы актеров и декорации для театральных постановок, но экономили на оплате русским актер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3363840" cy="446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771640" y="5373720"/>
            <a:ext cx="5832720" cy="520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Царь Алексей Михайлови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20:10:57Z</dcterms:created>
  <dc:creator>Admin</dc:creator>
  <dc:description/>
  <dc:language>en-US</dc:language>
  <cp:lastModifiedBy>Настя</cp:lastModifiedBy>
  <dcterms:modified xsi:type="dcterms:W3CDTF">2012-10-10T12:59:30Z</dcterms:modified>
  <cp:revision>119</cp:revision>
  <dc:subject/>
  <dc:title>Слайд 1</dc:title>
</cp:coreProperties>
</file>