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5FD-AC54-497F-ACC0-AABAA5F1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8B3-7C52-4774-84B6-E82D0C57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147-E501-4FB9-8B59-DFBD6C7B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ACC-6F31-49E7-BB76-A245CDFD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3F2-EF18-49DB-B288-EB0EAC6A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016-F744-4276-91D7-B24A4012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FB6-AAC6-41EF-A265-7237B039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709-2A60-4E40-9E72-25C6696B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C86-33ED-445D-8917-660BD1BF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D7C-DB9C-4F22-87A9-D6B67D52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CBD-C29C-427E-9181-C554557E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AFC3-E0C5-42CB-835B-CB6D640A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7C54-1328-4AF7-BEE6-21701712B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91856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группа главная подгрупп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a50021"/>
                </a:solidFill>
                <a:latin typeface="Arial"/>
              </a:rPr>
              <a:t>Углеро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227640" y="4365720"/>
            <a:ext cx="2400480" cy="1780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Окислительные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некоторыми металлами образует карб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Al + 3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a + 2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a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одор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глерод – это особый химический элемент, он основа многообразия органических соединений, из которых построены все живые организмы на нашей план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956720" y="765000"/>
            <a:ext cx="668160" cy="668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1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Применение угле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403280" y="1268280"/>
            <a:ext cx="6408720" cy="4175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632560"/>
            <a:ext cx="853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дсорбент        2. производство сахара        3. приготовление черной кра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Очистка веществ        5. производство бензина        6. получение резины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Получение карбида кальция        8. получение иск. алмазов         9. в медиц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Составная часть крема для обуви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Соединения угле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700280"/>
            <a:ext cx="6400800" cy="39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ксид углерода (II) CO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арный газ; бесцветный, без запаха, малорастворим в воде, растворим в органических растворителях, ядо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°кип = -192°C; t пл. = -205°C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28000" y="1268280"/>
            <a:ext cx="733320" cy="814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Пол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мышленности (в газогенераторах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 + 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C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лаборатории - термическим разложением муравьиной или щавелевой кислоты в присутствии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конц.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COOH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 + CO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77616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Химически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ычных условиях CO инертен; при нагревании –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восстанов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несолеобразующий оксид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 с кислор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с оксидами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+ Cu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u + 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 с хлором (на свет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 + C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COC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фосген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гирует с расплавами щелочей (под давлен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 + NaO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CO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формиат натр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101080" y="333360"/>
            <a:ext cx="71280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947000" y="476280"/>
            <a:ext cx="71280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147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ксид углерода (IV) СO</a:t>
            </a:r>
            <a:r>
              <a:rPr b="1" lang="ru-RU" sz="2800" spc="-1" strike="noStrike" baseline="-25000">
                <a:solidFill>
                  <a:srgbClr val="a50021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=C=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екислый газ, бесцветный, без запа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воримость в воде – в 1V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раствор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9 V 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нормальных условиях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желее воздух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°пл.= -78,5°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вёрдый 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"сухой лёд"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ддерживает гор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 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716360" y="1268280"/>
            <a:ext cx="180036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6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лучени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оксида углерода (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IV)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ческим разложением солей угольной кислоты (карбонатов). Обжиг известня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CaO + 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ем сильных кислот на карбонаты и гидрокарбон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2HC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CaC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HC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NaCl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028000" y="404640"/>
            <a:ext cx="712800" cy="79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Способы собир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956720" y="476280"/>
            <a:ext cx="712440" cy="792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68360" y="2492280"/>
            <a:ext cx="7850160" cy="2344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Химические свойства оксида углерода (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V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Кислотный оксид: реагирует с основными оксидами и основаниями, образуя соли угольной кислоты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NaOH +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OH +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NaH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овышенной температуре может проявл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окислительные свойст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2Mg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  2Mg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+ 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чественная реакция - помутнение известковой 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Ca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елый осад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длительном пропускании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ерез известковую воду осадок исчезает, т.к. нерастворимый карбонат кальция переходит в растворимый гидрокарбон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a(H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20240" y="333360"/>
            <a:ext cx="58248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Угольная кислота и её сол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Кислота слабая, неустойчив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уществует только в водном раствор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     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хосновна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H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ны все свойства кисло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редние соли -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карбон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слые соли -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гидрокарбонаты (HCO</a:t>
            </a:r>
            <a:r>
              <a:rPr b="1" i="1" lang="ru-RU" sz="20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r>
              <a:rPr b="1" i="1" lang="ru-RU" sz="2000" spc="-1" strike="noStrike" baseline="30000">
                <a:solidFill>
                  <a:srgbClr val="0066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).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бонаты и гидрокарбонаты могут превращаться друг в друг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NaH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N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NaH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172360" y="404640"/>
            <a:ext cx="646200" cy="71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5292720" y="333360"/>
            <a:ext cx="180036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Arial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ряд ядра атома       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нергетических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лектрона на внешнем энергетическом уро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оение внешнего энергетического  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завершения внешнего энергетического уровня атом может отдавать 4 электр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4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выступает в роли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восстанов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завершения внешнего энергетического уровня атом может принимать 4 электр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4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выступает в роли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кис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бонаты металлов (кроме щелочных металлов) при нагревании разлагаются с образованием окси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u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uO + 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Качественная реа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"вскипание" при действии сильной кислоты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HC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NaCl +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8000" y="333360"/>
            <a:ext cx="71280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539640" y="516240"/>
            <a:ext cx="7919280" cy="5751360"/>
            <a:chOff x="539640" y="516240"/>
            <a:chExt cx="7919280" cy="5751360"/>
          </a:xfrm>
        </p:grpSpPr>
        <p:sp>
          <p:nvSpPr>
            <p:cNvPr id="110" name="_s56346"/>
            <p:cNvSpPr/>
            <p:nvPr/>
          </p:nvSpPr>
          <p:spPr>
            <a:xfrm flipH="1">
              <a:off x="2513520" y="3390840"/>
              <a:ext cx="9964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56345"/>
            <p:cNvSpPr/>
            <p:nvPr/>
          </p:nvSpPr>
          <p:spPr>
            <a:xfrm>
              <a:off x="539640" y="2674080"/>
              <a:ext cx="1977480" cy="1436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K</a:t>
              </a:r>
              <a:r>
                <a:rPr b="1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идкое мыло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бумага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оющие сред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56344"/>
            <p:cNvSpPr/>
            <p:nvPr/>
          </p:nvSpPr>
          <p:spPr>
            <a:xfrm>
              <a:off x="4497840" y="4107600"/>
              <a:ext cx="0" cy="723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56343"/>
            <p:cNvSpPr/>
            <p:nvPr/>
          </p:nvSpPr>
          <p:spPr>
            <a:xfrm>
              <a:off x="3510360" y="4831560"/>
              <a:ext cx="1977480" cy="1436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7960" bIns="57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CaCO</a:t>
              </a:r>
              <a:r>
                <a:rPr b="1" lang="en-US" sz="2400" spc="-1" strike="noStrike" baseline="-25000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л, мрамор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звестняк 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рои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териа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56342"/>
            <p:cNvSpPr/>
            <p:nvPr/>
          </p:nvSpPr>
          <p:spPr>
            <a:xfrm>
              <a:off x="5484960" y="3390840"/>
              <a:ext cx="9964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56341"/>
            <p:cNvSpPr/>
            <p:nvPr/>
          </p:nvSpPr>
          <p:spPr>
            <a:xfrm>
              <a:off x="6481440" y="2674080"/>
              <a:ext cx="1977480" cy="1436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7960" bIns="57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NaHCO</a:t>
              </a:r>
              <a:r>
                <a:rPr b="1" lang="en-US" sz="2400" spc="-1" strike="noStrike" baseline="-25000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ищев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омышленность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диц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56340"/>
            <p:cNvSpPr/>
            <p:nvPr/>
          </p:nvSpPr>
          <p:spPr>
            <a:xfrm flipV="1">
              <a:off x="4497840" y="1950480"/>
              <a:ext cx="0" cy="723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56339"/>
            <p:cNvSpPr/>
            <p:nvPr/>
          </p:nvSpPr>
          <p:spPr>
            <a:xfrm>
              <a:off x="3510360" y="516240"/>
              <a:ext cx="1977480" cy="14360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7960" bIns="57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Na</a:t>
              </a:r>
              <a:r>
                <a:rPr b="1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оизво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екла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ыла, бумаги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оющих средств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56338"/>
            <p:cNvSpPr/>
            <p:nvPr/>
          </p:nvSpPr>
          <p:spPr>
            <a:xfrm>
              <a:off x="3510360" y="2674080"/>
              <a:ext cx="1977480" cy="1436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7960" bIns="57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50021"/>
                  </a:solidFill>
                  <a:latin typeface="Arial"/>
                </a:rPr>
                <a:t>применени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50021"/>
                  </a:solidFill>
                  <a:latin typeface="Arial"/>
                </a:rPr>
                <a:t>соле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50021"/>
                  </a:solidFill>
                  <a:latin typeface="Arial"/>
                </a:rPr>
                <a:t>угольно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50021"/>
                  </a:solidFill>
                  <a:latin typeface="Arial"/>
                </a:rPr>
                <a:t>кислоты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Углерод- простое ве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 аллотропные мод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Причи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лотро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ное строение кристаллической реше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лмаз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ъемная тетраэдрическая реш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рафи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лоскостная атомная реш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рби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линейная решет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уллере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экзотическая модификация в виде футбольных мяч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48320" y="1843200"/>
            <a:ext cx="4038480" cy="4038480"/>
            <a:chOff x="4648320" y="1843200"/>
            <a:chExt cx="4038480" cy="4038480"/>
          </a:xfrm>
        </p:grpSpPr>
        <p:sp>
          <p:nvSpPr>
            <p:cNvPr id="49" name="_s4125"/>
            <p:cNvSpPr/>
            <p:nvPr/>
          </p:nvSpPr>
          <p:spPr>
            <a:xfrm flipH="1">
              <a:off x="5657400" y="3862440"/>
              <a:ext cx="505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24"/>
            <p:cNvSpPr/>
            <p:nvPr/>
          </p:nvSpPr>
          <p:spPr>
            <a:xfrm>
              <a:off x="4648320" y="3357720"/>
              <a:ext cx="1009440" cy="10094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раф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22"/>
            <p:cNvSpPr/>
            <p:nvPr/>
          </p:nvSpPr>
          <p:spPr>
            <a:xfrm>
              <a:off x="6667560" y="4367160"/>
              <a:ext cx="0" cy="505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4121"/>
            <p:cNvSpPr/>
            <p:nvPr/>
          </p:nvSpPr>
          <p:spPr>
            <a:xfrm>
              <a:off x="6162840" y="4872240"/>
              <a:ext cx="1009440" cy="10094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уллер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20"/>
            <p:cNvSpPr/>
            <p:nvPr/>
          </p:nvSpPr>
          <p:spPr>
            <a:xfrm>
              <a:off x="7172280" y="3862440"/>
              <a:ext cx="505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4119"/>
            <p:cNvSpPr/>
            <p:nvPr/>
          </p:nvSpPr>
          <p:spPr>
            <a:xfrm>
              <a:off x="7677360" y="3357720"/>
              <a:ext cx="1009440" cy="10094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арб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18"/>
            <p:cNvSpPr/>
            <p:nvPr/>
          </p:nvSpPr>
          <p:spPr>
            <a:xfrm flipV="1">
              <a:off x="6667560" y="2853000"/>
              <a:ext cx="0" cy="504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17"/>
            <p:cNvSpPr/>
            <p:nvPr/>
          </p:nvSpPr>
          <p:spPr>
            <a:xfrm>
              <a:off x="6162840" y="1843200"/>
              <a:ext cx="1009440" cy="10098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лм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4116"/>
            <p:cNvSpPr/>
            <p:nvPr/>
          </p:nvSpPr>
          <p:spPr>
            <a:xfrm>
              <a:off x="6162840" y="3357720"/>
              <a:ext cx="1009440" cy="100944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«С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Алма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395280" y="2133720"/>
            <a:ext cx="4248000" cy="3313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сталлическое вещество, прозрачное, сильно преломляет лучи света, очень твёрдое, не проводит электрический ток, плохо проводит тепло, Можно получить из графита при p &gt; 50 тыс. атм; t° = 1200°C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Приме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лифовальный порошок, буры, стеклорезы, после огранки - бриллиант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Графит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сталлическое вещество, слоистое, непрозрачное, тёмно-серое, обладает металлическим блеском, мягкое, проводит электрический ток; атомы углерода образуют слои из шестичленных колец; между слоями действуют межмолекулярные си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Применение</a:t>
            </a:r>
            <a:br>
              <a:rPr sz="2000"/>
            </a:b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лектроды, карандашные грифели, замедлитель нейтронов в ядерных реакторах, входит в состав некоторых смазочных материалов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900000" y="2349360"/>
            <a:ext cx="2948040" cy="250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Карби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ёрный порошок; полупроводни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ит из линейных цепочек 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–C</a:t>
            </a:r>
            <a:r>
              <a:rPr b="1" lang="ru-RU" sz="2800" spc="-1" strike="noStrike">
                <a:solidFill>
                  <a:srgbClr val="a50021"/>
                </a:solidFill>
                <a:latin typeface="Symbol"/>
                <a:ea typeface="Symbol"/>
              </a:rPr>
              <a:t>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C–C</a:t>
            </a:r>
            <a:r>
              <a:rPr b="1" lang="ru-RU" sz="2800" spc="-1" strike="noStrike">
                <a:solidFill>
                  <a:srgbClr val="a50021"/>
                </a:solidFill>
                <a:latin typeface="Symbol"/>
                <a:ea typeface="Symbol"/>
              </a:rPr>
              <a:t>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C–  и  =С=С=С=С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нагревании переходит в графит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826920" y="2349360"/>
            <a:ext cx="3092760" cy="2853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5300640"/>
            <a:ext cx="36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дель молекулы фулле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Адсорб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59280" y="1341360"/>
            <a:ext cx="5627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дсорб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поглощение газообразных или растворённых веществ поверхностью твёрдого веществ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тный процесс - выделение этих поглощённых веществ - десорбция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 адсорб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истка от примесей (в производстве сахара и др.), для защиты органов дыхания (противогазы), в медицине (таблетки "Карболен") и др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22161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Интересная история, произошедшая с учеными М.Фарадеем и Г. Дэ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тешествуя, они остановились в одном замке, во время беседы с хозяином этого замка случилось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рцог не верил, что </a:t>
            </a:r>
            <a:r>
              <a:rPr b="0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алмаз состоит из углер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Он снял свой перстень с алмазом и сказал: «Сожгите его, тогда поверю!» И, когда увидел результат, воскликнул: «Удивительно, мой алмаз испарилс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что ученые ему твердо ответили: «Не испарился, а сгорел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л у герцога алмаз и не стало ег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т что значит не верить учены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236000" y="5157720"/>
            <a:ext cx="1423800" cy="1427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Химически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07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ерод - малоактивен, на холоду реагирует только со фтором; химическая активность проявляется при высоких температу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Восстановительные свойства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 избытком кислор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  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достатке кислорода образуется оксид углеро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 2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 фтор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+ 2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водяным па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 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оксидами мет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2CuO  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Cu + 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кислотами – окислител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нц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2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0 + 4HN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нц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4N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8:07:22Z</dcterms:created>
  <dc:creator>Никита</dc:creator>
  <dc:description/>
  <dc:language>en-US</dc:language>
  <cp:lastModifiedBy>Никита</cp:lastModifiedBy>
  <dcterms:modified xsi:type="dcterms:W3CDTF">2007-02-20T16:59:49Z</dcterms:modified>
  <cp:revision>23</cp:revision>
  <dc:subject/>
  <dc:title>IV группа главная подгруппа</dc:title>
</cp:coreProperties>
</file>