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E96-6DDF-4DBC-A587-FBE2640C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4A7-430A-4B78-AD23-10C532E8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854-8827-4C46-8491-CE7F9E61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4E0-6373-4275-AE0F-995E769D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807-5337-424F-91E8-B37649B4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3EC-7800-47ED-944C-AECDD64C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798-20D7-4643-9A27-CB61E1BC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B0C-3610-4D0B-91B1-A2BA8151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2CC-5E74-430D-9939-B7C89FB3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1AA-6593-4382-97FC-47A9153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48E-058A-4D1A-A0F5-7B18F71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213-D90D-4C6D-B6E3-2F46EF93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2E45-B624-4A48-AC43-90F69E848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185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группа главная подгруп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Arial"/>
              </a:rPr>
              <a:t>Угле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227640" y="4365720"/>
            <a:ext cx="2400480" cy="1780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Окислительны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екоторыми металлами образует карб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Al + 3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a + 2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a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одор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глерод – это особый химический элемент, он основа многообразия органических соединений, из которых построены все живые организмы на нашей план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956720" y="765000"/>
            <a:ext cx="668160" cy="668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Применение угле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403280" y="1268280"/>
            <a:ext cx="6408720" cy="4175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632560"/>
            <a:ext cx="853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сорбент        2. производство сахара        3. приготовление черной кра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Очистка веществ        5. производство бензина        6. получение резины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Получение карбида кальция        8. получение иск. алмазов         9. в медиц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Составная часть крема для обуви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Соединения угле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ид углерода (II) CO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арный газ; бесцветный, без запаха, малорастворим в воде, растворим в органических растворителях, яд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°кип = -192°C; t пл. = -205°C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28000" y="1268280"/>
            <a:ext cx="733320" cy="81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ол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мышленности (в газогенераторах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 + 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аборатории - термическим разложением муравьиной или щавелевой кислоты в присутствии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онц.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COO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CO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77616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Хим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ычных условиях CO инертен; при нагревании –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восстанов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несолеобразующий оксид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с кислор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с оксидами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Cu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u + 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с хлором (на све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 + 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CO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осген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гирует с расплавами щелочей (под давлен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 + NaO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CO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ормиат нат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101080" y="333360"/>
            <a:ext cx="71280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47000" y="476280"/>
            <a:ext cx="71280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ксид углерода (IV) СO</a:t>
            </a:r>
            <a:r>
              <a:rPr b="1" lang="ru-RU" sz="2800" spc="-1" strike="noStrike" baseline="-25000">
                <a:solidFill>
                  <a:srgbClr val="a50021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=C=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ый газ, бесцветный, без запа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мость в воде – в 1V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раство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9 V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нормальных условиях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ее воздух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°пл.= -78,5°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вёрдый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"сухой лёд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держивает гор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16360" y="1268280"/>
            <a:ext cx="180036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ени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оксида углерода (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IV)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ческим разложением солей угольной кислоты (карбонатов). Обжиг известня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CaO +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м сильных кислот на карбонаты и гидрокарбон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HC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Ca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HC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NaCl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028000" y="404640"/>
            <a:ext cx="71280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Способы собир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712440" cy="79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8360" y="2492280"/>
            <a:ext cx="7850160" cy="234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имические свойства оксида углерода (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V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Кислотный оксид: реагирует с основными оксидами и основаниями, образуя соли угольной кислоты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NaOH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OH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Na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вышенной температуре может проявл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окислительные свой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2Mg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 2Mg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енная реакция - помутнение известковой 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a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лый осад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лительном пропускании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рез известковую воду осадок исчезает, т.к. нерастворимый карбонат кальция переходит в растворимый гидрокарбон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a(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20240" y="333360"/>
            <a:ext cx="58248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Угольная кислота и её сол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ислота слабая, неустойчи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уществует только в водном раствор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     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основна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ы все свойства кисл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редние соли -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арбон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лые соли -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гидрокарбонаты (HCO</a:t>
            </a:r>
            <a:r>
              <a:rPr b="1" i="1" lang="ru-RU" sz="20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i="1" lang="ru-RU" sz="2000" spc="-1" strike="noStrike" baseline="30000">
                <a:solidFill>
                  <a:srgbClr val="0066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).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бонаты и гидрокарбонаты могут превращаться друг в друг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Na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Na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172360" y="404640"/>
            <a:ext cx="646200" cy="7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292720" y="333360"/>
            <a:ext cx="180036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яд ядра атома       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нергетических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лектрона на внешнем энергетическ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оение внешнего энергетического  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вершения внешнего энергетического уровня атом может отдавать 4 элект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4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выступает в роли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восстанов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вершения внешнего энергетического уровня атом может принимать 4 элект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4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выступает в роли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кис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бонаты металлов (кроме щелочных металлов) при нагревании разлагаются с образованием окс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u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uO +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Качественная реа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"вскипание" при действии сильной кислот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C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NaCl +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8000" y="333360"/>
            <a:ext cx="71280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39640" y="516240"/>
            <a:ext cx="7919280" cy="5751360"/>
            <a:chOff x="539640" y="516240"/>
            <a:chExt cx="7919280" cy="5751360"/>
          </a:xfrm>
        </p:grpSpPr>
        <p:sp>
          <p:nvSpPr>
            <p:cNvPr id="110" name="_s56346"/>
            <p:cNvSpPr/>
            <p:nvPr/>
          </p:nvSpPr>
          <p:spPr>
            <a:xfrm flipH="1">
              <a:off x="2513520" y="3390840"/>
              <a:ext cx="996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56345"/>
            <p:cNvSpPr/>
            <p:nvPr/>
          </p:nvSpPr>
          <p:spPr>
            <a:xfrm>
              <a:off x="539640" y="2674080"/>
              <a:ext cx="1977480" cy="1436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K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идкое мыло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умаг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ющие сред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56344"/>
            <p:cNvSpPr/>
            <p:nvPr/>
          </p:nvSpPr>
          <p:spPr>
            <a:xfrm>
              <a:off x="4497840" y="4107600"/>
              <a:ext cx="0" cy="72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56343"/>
            <p:cNvSpPr/>
            <p:nvPr/>
          </p:nvSpPr>
          <p:spPr>
            <a:xfrm>
              <a:off x="3510360" y="4831560"/>
              <a:ext cx="1977480" cy="1436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CaCO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л, мрамор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звестняк 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ро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56342"/>
            <p:cNvSpPr/>
            <p:nvPr/>
          </p:nvSpPr>
          <p:spPr>
            <a:xfrm>
              <a:off x="5484960" y="3390840"/>
              <a:ext cx="996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56341"/>
            <p:cNvSpPr/>
            <p:nvPr/>
          </p:nvSpPr>
          <p:spPr>
            <a:xfrm>
              <a:off x="6481440" y="2674080"/>
              <a:ext cx="1977480" cy="1436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NaHCO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ищев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мышленность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диц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56340"/>
            <p:cNvSpPr/>
            <p:nvPr/>
          </p:nvSpPr>
          <p:spPr>
            <a:xfrm flipV="1">
              <a:off x="4497840" y="1950480"/>
              <a:ext cx="0" cy="72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56339"/>
            <p:cNvSpPr/>
            <p:nvPr/>
          </p:nvSpPr>
          <p:spPr>
            <a:xfrm>
              <a:off x="3510360" y="516240"/>
              <a:ext cx="1977480" cy="1436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Na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екл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ыла, бумаги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ющих средств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56338"/>
            <p:cNvSpPr/>
            <p:nvPr/>
          </p:nvSpPr>
          <p:spPr>
            <a:xfrm>
              <a:off x="3510360" y="2674080"/>
              <a:ext cx="1977480" cy="1436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примене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соле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угольно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Углерод- прост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 аллотропные мод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ричи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о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ое строение кристаллической реш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маз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ъемная тетраэдрическая реш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афи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лоскостная атомная реш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рб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линейная реше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уллере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экзотическая модификация в виде футбольных мяч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48320" y="1843200"/>
            <a:ext cx="4038480" cy="4038480"/>
            <a:chOff x="4648320" y="1843200"/>
            <a:chExt cx="4038480" cy="4038480"/>
          </a:xfrm>
        </p:grpSpPr>
        <p:sp>
          <p:nvSpPr>
            <p:cNvPr id="49" name="_s4125"/>
            <p:cNvSpPr/>
            <p:nvPr/>
          </p:nvSpPr>
          <p:spPr>
            <a:xfrm flipH="1">
              <a:off x="5657400" y="3862440"/>
              <a:ext cx="505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24"/>
            <p:cNvSpPr/>
            <p:nvPr/>
          </p:nvSpPr>
          <p:spPr>
            <a:xfrm>
              <a:off x="4648320" y="3357720"/>
              <a:ext cx="1009440" cy="1009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раф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22"/>
            <p:cNvSpPr/>
            <p:nvPr/>
          </p:nvSpPr>
          <p:spPr>
            <a:xfrm>
              <a:off x="6667560" y="4367160"/>
              <a:ext cx="0" cy="505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21"/>
            <p:cNvSpPr/>
            <p:nvPr/>
          </p:nvSpPr>
          <p:spPr>
            <a:xfrm>
              <a:off x="6162840" y="4872240"/>
              <a:ext cx="1009440" cy="10094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уллер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20"/>
            <p:cNvSpPr/>
            <p:nvPr/>
          </p:nvSpPr>
          <p:spPr>
            <a:xfrm>
              <a:off x="7172280" y="3862440"/>
              <a:ext cx="505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19"/>
            <p:cNvSpPr/>
            <p:nvPr/>
          </p:nvSpPr>
          <p:spPr>
            <a:xfrm>
              <a:off x="7677360" y="3357720"/>
              <a:ext cx="1009440" cy="10094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рб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8"/>
            <p:cNvSpPr/>
            <p:nvPr/>
          </p:nvSpPr>
          <p:spPr>
            <a:xfrm flipV="1">
              <a:off x="6667560" y="2853000"/>
              <a:ext cx="0" cy="50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7"/>
            <p:cNvSpPr/>
            <p:nvPr/>
          </p:nvSpPr>
          <p:spPr>
            <a:xfrm>
              <a:off x="6162840" y="1843200"/>
              <a:ext cx="1009440" cy="10098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лм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116"/>
            <p:cNvSpPr/>
            <p:nvPr/>
          </p:nvSpPr>
          <p:spPr>
            <a:xfrm>
              <a:off x="6162840" y="3357720"/>
              <a:ext cx="1009440" cy="10094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«С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Алма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395280" y="2133720"/>
            <a:ext cx="4248000" cy="3313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сталлическое вещество, прозрачное, сильно преломляет лучи света, очень твёрдое, не проводит электрический ток, плохо проводит тепло, Можно получить из графита при p &gt; 50 тыс. атм; t° = 1200°C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лифовальный порошок, буры, стеклорезы, после огранки - бриллиан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Графит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ическое вещество, слоистое, непрозрачное, тёмно-серое, обладает металлическим блеском, мягкое, проводит электрический ток; атомы углерода образуют слои из шестичленных колец; между слоями действуют межмолекулярные си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Применение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лектроды, карандашные грифели, замедлитель нейтронов в ядерных реакторах, входит в состав некоторых смазочных материал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900000" y="2349360"/>
            <a:ext cx="2948040" cy="250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Карби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ёрный порошок; полупроводн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ит из линейных цепочек 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–C</a:t>
            </a:r>
            <a:r>
              <a:rPr b="1" lang="ru-RU" sz="2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–C</a:t>
            </a:r>
            <a:r>
              <a:rPr b="1" lang="ru-RU" sz="2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–  и  =С=С=С=С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агревании переходит в графи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26920" y="2349360"/>
            <a:ext cx="3092760" cy="2853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5300640"/>
            <a:ext cx="36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дель молекулы фулле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Адсорб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59280" y="1341360"/>
            <a:ext cx="562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поглощение газообразных или растворённых веществ поверхностью твёрдого веществ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тный процесс - выделение этих поглощённых веществ - десорбци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адсорб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истка от примесей (в производстве сахара и др.), для защиты органов дыхания (противогазы), в медицине (таблетки "Карболен") и др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2216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Интересная история, произошедшая с учеными М.Фарадеем и Г. Дэ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тешествуя, они остановились в одном замке, во время беседы с хозяином этого замка случилось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рцог не верил, что </a:t>
            </a:r>
            <a:r>
              <a:rPr b="0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алмаз состоит из углер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н снял свой перстень с алмазом и сказал: «Сожгите его, тогда поверю!» И, когда увидел результат, воскликнул: «Удивительно, мой алмаз испарилс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что ученые ему твердо ответили: «Не испарился, а сгоре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л у герцога алмаз и не стало ег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что значит не верить учен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236000" y="5157720"/>
            <a:ext cx="1423800" cy="142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Х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 - малоактивен, на холоду реагирует только со фтором; химическая активность проявляется при высо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Восстановительные свойств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избытком кислор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 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достатке кислорода образуется оксид углер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2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фт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+ 2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дяным па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оксидами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CuO  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Cu + 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ислотами – окислите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ц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2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0 + 4H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ц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4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8:07:22Z</dcterms:created>
  <dc:creator>Никита</dc:creator>
  <dc:description/>
  <dc:language>en-US</dc:language>
  <cp:lastModifiedBy>Никита</cp:lastModifiedBy>
  <dcterms:modified xsi:type="dcterms:W3CDTF">2007-02-20T16:59:49Z</dcterms:modified>
  <cp:revision>23</cp:revision>
  <dc:subject/>
  <dc:title>IV группа главная подгруппа</dc:title>
</cp:coreProperties>
</file>