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0CF-A9C9-4C4E-A980-9728008E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9F2-BA38-45EF-B904-8E5D571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54C-740B-45FF-AAC3-230B71FC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13C-96CD-46B3-B8F3-173304AC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72D-B5C8-4686-9266-B750F03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143-2CF9-4EA9-8151-2E77721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C9F-7807-479F-B206-E36F8024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36A-C64E-47E0-87D6-15C44B90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D9D-96F1-41D3-9778-173F4D1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75B-6247-476C-B37A-CD3B9EE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5B2-11C4-4528-BB20-E242E79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88D-67ED-4CAD-8DEB-5643E89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07C-EEDD-4ABC-A158-5D6C5677F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ОУ «Средняя общеобразовательная школа №14»</a:t>
            </a:r>
            <a:br>
              <a:rPr sz="2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8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г» 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beichuan_07.jpg"/>
          <p:cNvPicPr/>
          <p:nvPr/>
        </p:nvPicPr>
        <p:blipFill>
          <a:blip r:embed="rId1"/>
          <a:stretch/>
        </p:blipFill>
        <p:spPr>
          <a:xfrm>
            <a:off x="96840" y="0"/>
            <a:ext cx="89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китай 2009 04.jpg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rague_flood_01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Китай 2009.jpg"/>
          <p:cNvPicPr/>
          <p:nvPr/>
        </p:nvPicPr>
        <p:blipFill>
          <a:blip r:embed="rId1"/>
          <a:stretch/>
        </p:blipFill>
        <p:spPr>
          <a:xfrm>
            <a:off x="30240" y="0"/>
            <a:ext cx="90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резвычайные ситуации природного характе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еофиз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еологические опас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теорологические и агрометеоролог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идролог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ирод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Инфекционные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30800_std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0060607_au1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234378019_2.jpg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281716725_lesnye-pozhary-(www_votrube_ru)1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281716725_lesnye-pozhary-(www_votrube_ru)1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Если ученик не научится в школе сам ничего творить, то и в жизни он всегда будет только подражать, копировать, так как мало таких, которые, научившись копировать, умели делат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амостоятельное приложение этих свед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Л.Н.Тол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281716725_lesnye-pozhary-(www_votrube_ru)18.jpg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резвычайные ситуации экологического характе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ояния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ава и свойств атм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ояния гидр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Также, в зависимости от масштабов и размеров возникшей чрезвычайной ситуации они подразделяются на: локальные; местные; региональные;  республиканские; трансграни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fire-068-fr-006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4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79906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slide0065_image275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Если начался пожар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Когда человек  оказывается в эпицентре чрезвычайной ситуации – пожара, его первейшее желание – выбраться из огня. Когда ищешь путь спасения нужно четко помнить, об опасности отравления дымом. Не убегать, не предупредив людей, оказавшихся в этом же помещении о пожаре. Оказать помощь при эвакуации малолетних детей и ста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бнаружив начавшийся пожар, необходимо скорее сообщить о нем в подразделение по чрезвычайным ситуациям, набрав номер 101. Даже если вы смогли потушить загорание сами, вызов профессионалов необходим, потому что огонь может вспыхнуть с новой силой через пустоты строения или вырвавшись из недоступного при беглом осмотр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Распространению пожара в жилом доме могут способствовать вентиляционные каналы, окна, двери, через которые поступает свежий воздух. Они дают дополнительный приток кислорода. Поэтому, не рекомендуется разбивать стекла в окнах горящего помещения и оставлять открытыми двери в соседние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full_1_1_1_Pojari.jpg"/>
          <p:cNvPicPr/>
          <p:nvPr/>
        </p:nvPicPr>
        <p:blipFill>
          <a:blip r:embed="rId1"/>
          <a:stretch/>
        </p:blipFill>
        <p:spPr>
          <a:xfrm>
            <a:off x="0" y="3189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рок безопасности.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Тушить пожар самим можно только в начальной стадии, пока огонь не начал распростра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Если дом или квартира заполняются дымом, дышать надо через мокрую ткань, а двигаться к выходу из помещения – пригнувшись как можно ближе к полу (там меньше всего ды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Если потушить загорание в начальной стадии не представляется возможным, срочно покиньте опасное помещение, не теряя времени на поиск ценных в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ыбирайте как можно более безопасный путь эвакуации и не паникуйте. Во время пожара не пользуйтесь лифтами. По прибытии подразделений МЧС полностью подчиняйтесь их коман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 случае, если огонь отрезал путь к выходу из дома (квартиры), уходите в дальнюю от горящего помещения комнату, плотно закрывая за собой все двери. Откройте окно или выйдите на балкон и попросите прохожих позвонить по телефону и сообщить о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Террориз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600200"/>
            <a:ext cx="4835520" cy="4525920"/>
            <a:chOff x="457200" y="1600200"/>
            <a:chExt cx="4835520" cy="45259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8355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457200" y="1600200"/>
              <a:ext cx="48355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51640" y="141300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Террористический 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 сентября 2001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565"/>
                </a:solidFill>
                <a:latin typeface="Times New Roman"/>
              </a:rPr>
              <a:t>Памятник жертвам теракта в Беслане открылся в Москве 1 ию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90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80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6280"/>
            <a:ext cx="849780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резвычайные ситу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аждый день на планете происходят тысячи катастроф - смерчи, наводнения, аварии, землетрясения, в которые попадают десятки и сотни людей. Многие из них погибают. Что делать в таких ситуациях, как вести себя тем, кто попал в беду? Экстремальные ситуации возникают внезапно, требуя от человека незамедлительных и активных действий. Нередко экстремальную ситуацию человеку приходиться преодолевать в одиночку. Перед бедой все равны. Так почему же одни люди выходят из таких ситуаций целыми и невредимыми, а другие получают травмы и даже погибают? Ответ прост - человек, помимо мужества и воли, должен иметь специальные знания, с помощью которых он и добьется победы над возникшими труд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DSCN4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ажно знать основные принципы безопасности, которые гласят, что необходимо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352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РЕДВИДЕТЬ ОПАСНОСТЬ, ПО ВОЗМОЖНОСТИ ИЗБЕГАТЬ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РИ НЕОБХОДИМОСТИ ДЕЙСТВОВАТЬ РЕШИТЕЛЬНО И  ЧЕТКО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БОРОТЬСЯ ДО ПОСЛЕДНЕ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АКТИВНО (ВСЕМИ ВОЗМОЖНЫМИ СПОСОБАМИ) ПРОСИТЬ О ПОМОЩИ И ЕЁ ОКАЗЫВАТЬ Е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УЖДАЮЩЕМУ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3135240"/>
            <a:ext cx="64292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Чрезвычайная ситуация (ЧС) 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становка, сложившаяся в результате аварии, катастрофы, стихийного или иного бедствия, которые повлекли или могут повлечь за собой человеческие жертвы, вред здоровью людей или окружающей нас среде, значительные материальные потери и нарушение условий нормальной жизнедеятельности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азличают следующие виды чрезвычайных ситуа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beichuan_06.jpg"/>
          <p:cNvPicPr/>
          <p:nvPr/>
        </p:nvPicPr>
        <p:blipFill>
          <a:blip r:embed="rId1"/>
          <a:stretch/>
        </p:blipFill>
        <p:spPr>
          <a:xfrm>
            <a:off x="139680" y="0"/>
            <a:ext cx="886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2:14:39Z</dcterms:created>
  <dc:creator>Нина Сергеевна</dc:creator>
  <dc:description/>
  <dc:language>en-US</dc:language>
  <cp:lastModifiedBy>Нина Сергеевна</cp:lastModifiedBy>
  <dcterms:modified xsi:type="dcterms:W3CDTF">2012-10-22T17:40:04Z</dcterms:modified>
  <cp:revision>11</cp:revision>
  <dc:subject/>
  <dc:title>МОУ «Средняя общеобразовательная школа №14»   ИКТ как средство активизации творческого потенциала учителя и учащихся в образовательном процессе  </dc:title>
</cp:coreProperties>
</file>