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C49-5BD6-489E-B622-CE15FB2C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F58F-6E00-40C3-85AB-DEB37364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7D8-D254-49B1-BD4C-F05AF892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842-FC8A-49D6-A755-69148509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2AF-0A39-4379-8AC4-5F284866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6D7-DED9-4326-A39D-C4C22976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E5E-EEFA-4348-8DEE-D3EDC7C1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7D5-8FB9-472B-9556-AF1757BB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7E6-CE6F-41D2-8B70-97362637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93B-E182-4751-A21E-FBB02F3B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AD7-5677-425D-A7A5-391C2F15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B327-8FB1-4B5B-A2BB-7648902C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ED90-08E2-477F-AAE1-C9659D971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ОУ «Средняя общеобразовательная школа №14»</a:t>
            </a:r>
            <a:br>
              <a:rPr sz="28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8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«г» 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2349000"/>
            <a:ext cx="8785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beichuan_07.jpg"/>
          <p:cNvPicPr/>
          <p:nvPr/>
        </p:nvPicPr>
        <p:blipFill>
          <a:blip r:embed="rId1"/>
          <a:stretch/>
        </p:blipFill>
        <p:spPr>
          <a:xfrm>
            <a:off x="96840" y="0"/>
            <a:ext cx="895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китай 2009 04.jpg"/>
          <p:cNvPicPr/>
          <p:nvPr/>
        </p:nvPicPr>
        <p:blipFill>
          <a:blip r:embed="rId1"/>
          <a:stretch/>
        </p:blipFill>
        <p:spPr>
          <a:xfrm>
            <a:off x="0" y="461880"/>
            <a:ext cx="914400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prague_flood_01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Китай 2009.jpg"/>
          <p:cNvPicPr/>
          <p:nvPr/>
        </p:nvPicPr>
        <p:blipFill>
          <a:blip r:embed="rId1"/>
          <a:stretch/>
        </p:blipFill>
        <p:spPr>
          <a:xfrm>
            <a:off x="30240" y="0"/>
            <a:ext cx="908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Чрезвычайные ситуации природного характер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Геофизически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Геологические опасны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Метеорологические и агрометеорологически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Гидрологически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рирод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Инфекционные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130800_std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20060607_au1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1234378019_2.jpg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1281716725_lesnye-pozhary-(www_votrube_ru)14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1281716725_lesnye-pozhary-(www_votrube_ru)14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Если ученик не научится в школе сам ничего творить, то и в жизни он всегда будет только подражать, копировать, так как мало таких, которые, научившись копировать, умели делать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самостоятельное приложение этих сведен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Л.Н.Толст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1281716725_lesnye-pozhary-(www_votrube_ru)18.jpg"/>
          <p:cNvPicPr/>
          <p:nvPr/>
        </p:nvPicPr>
        <p:blipFill>
          <a:blip r:embed="rId1"/>
          <a:stretch/>
        </p:blipFill>
        <p:spPr>
          <a:xfrm>
            <a:off x="0" y="411120"/>
            <a:ext cx="9144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Чрезвычайные ситуации экологического характера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Чрезвычайные ситуации, связанные с изменением состояния су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Чрезвычайные ситуации, связанные с изменением состава и свойств атм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Чрезвычайные ситуации, связанные с изменением состояния гидр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Также, в зависимости от масштабов и размеров возникшей чрезвычайной ситуации они подразделяются на: локальные; местные; региональные;  республиканские; трансграни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fire-068-fr-0068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14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799064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slide0065_image275.jpg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Если начался пожар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Когда человек  оказывается в эпицентре чрезвычайной ситуации – пожара, его первейшее желание – выбраться из огня. Когда ищешь путь спасения нужно четко помнить, об опасности отравления дымом. Не убегать, не предупредив людей, оказавшихся в этом же помещении о пожаре. Оказать помощь при эвакуации малолетних детей и ста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Обнаружив начавшийся пожар, необходимо скорее сообщить о нем в подразделение по чрезвычайным ситуациям, набрав номер 101. Даже если вы смогли потушить загорание сами, вызов профессионалов необходим, потому что огонь может вспыхнуть с новой силой через пустоты строения или вырвавшись из недоступного при беглом осмотре м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Распространению пожара в жилом доме могут способствовать вентиляционные каналы, окна, двери, через которые поступает свежий воздух. Они дают дополнительный приток кислорода. Поэтому, не рекомендуется разбивать стекла в окнах горящего помещения и оставлять открытыми двери в соседние пом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full_1_1_1_Pojari.jpg"/>
          <p:cNvPicPr/>
          <p:nvPr/>
        </p:nvPicPr>
        <p:blipFill>
          <a:blip r:embed="rId1"/>
          <a:stretch/>
        </p:blipFill>
        <p:spPr>
          <a:xfrm>
            <a:off x="0" y="318960"/>
            <a:ext cx="91440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Урок безопасности.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Тушить пожар самим можно только в начальной стадии, пока огонь не начал распространя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Если дом или квартира заполняются дымом, дышать надо через мокрую ткань, а двигаться к выходу из помещения – пригнувшись как можно ближе к полу (там меньше всего ды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Если потушить загорание в начальной стадии не представляется возможным, срочно покиньте опасное помещение, не теряя времени на поиск ценных вещ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Выбирайте как можно более безопасный путь эвакуации и не паникуйте. Во время пожара не пользуйтесь лифтами. По прибытии подразделений МЧС полностью подчиняйтесь их коман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В случае, если огонь отрезал путь к выходу из дома (квартиры), уходите в дальнюю от горящего помещения комнату, плотно закрывая за собой все двери. Откройте окно или выйдите на балкон и попросите прохожих позвонить по телефону и сообщить о пожа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Террориз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57200" y="1600200"/>
            <a:ext cx="4835520" cy="4525920"/>
            <a:chOff x="457200" y="1600200"/>
            <a:chExt cx="4835520" cy="452592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83552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 txBox="1"/>
            <p:nvPr/>
          </p:nvSpPr>
          <p:spPr>
            <a:xfrm>
              <a:off x="457200" y="1600200"/>
              <a:ext cx="483552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5651640" y="1413000"/>
            <a:ext cx="31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Террористический а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1 сентября 2001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565"/>
                </a:solidFill>
                <a:latin typeface="Times New Roman"/>
              </a:rPr>
              <a:t>Памятник жертвам теракта в Беслане открылся в Москве 1 ию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490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2803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476280"/>
            <a:ext cx="849780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Чрезвычайные ситу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аждый день на планете происходят тысячи катастроф - смерчи, наводнения, аварии, землетрясения, в которые попадают десятки и сотни людей. Многие из них погибают. Что делать в таких ситуациях, как вести себя тем, кто попал в беду? Экстремальные ситуации возникают внезапно, требуя от человека незамедлительных и активных действий. Нередко экстремальную ситуацию человеку приходиться преодолевать в одиночку. Перед бедой все равны. Так почему же одни люди выходят из таких ситуаций целыми и невредимыми, а другие получают травмы и даже погибают? Ответ прост - человек, помимо мужества и воли, должен иметь специальные знания, с помощью которых он и добьется победы над возникшими трудност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DSCN47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Важно знать основные принципы безопасности, которые гласят, что необходимо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7352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ПРЕДВИДЕТЬ ОПАСНОСТЬ, ПО ВОЗМОЖНОСТИ ИЗБЕГАТЬ 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ПРИ НЕОБХОДИМОСТИ ДЕЙСТВОВАТЬ РЕШИТЕЛЬНО И  ЧЕТКО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БОРОТЬСЯ ДО ПОСЛЕДНЕГО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АКТИВНО (ВСЕМИ ВОЗМОЖНЫМИ СПОСОБАМИ) ПРОСИТЬ О ПОМОЩИ И ЕЁ ОКАЗЫВАТЬ ЕЁ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НУЖДАЮЩЕМУ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76360" y="3135240"/>
            <a:ext cx="64292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Чрезвычайная ситуация (ЧС) –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бстановка, сложившаяся в результате аварии, катастрофы, стихийного или иного бедствия, которые повлекли или могут повлечь за собой человеческие жертвы, вред здоровью людей или окружающей нас среде, значительные материальные потери и нарушение условий нормальной жизнедеятельности лю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азличают следующие виды чрезвычайных ситуац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beichuan_06.jpg"/>
          <p:cNvPicPr/>
          <p:nvPr/>
        </p:nvPicPr>
        <p:blipFill>
          <a:blip r:embed="rId1"/>
          <a:stretch/>
        </p:blipFill>
        <p:spPr>
          <a:xfrm>
            <a:off x="139680" y="0"/>
            <a:ext cx="886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22:14:39Z</dcterms:created>
  <dc:creator>Нина Сергеевна</dc:creator>
  <dc:description/>
  <dc:language>en-US</dc:language>
  <cp:lastModifiedBy>Нина Сергеевна</cp:lastModifiedBy>
  <dcterms:modified xsi:type="dcterms:W3CDTF">2012-10-22T17:40:04Z</dcterms:modified>
  <cp:revision>11</cp:revision>
  <dc:subject/>
  <dc:title>МОУ «Средняя общеобразовательная школа №14»   ИКТ как средство активизации творческого потенциала учителя и учащихся в образовательном процессе  </dc:title>
</cp:coreProperties>
</file>