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654-154C-47BC-AEEC-E51E91AB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00B-DFF9-412A-94E0-C2677067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ED0-0EEE-4263-9CBB-33A55FBE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BF9-0222-43BC-A0FF-7F8F95AD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376-4F1C-4524-A79B-CCB7E917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830-962A-48F9-B0FA-BFAD9315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AE0-2566-4879-882A-F6F31B3E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761-38AF-4850-870D-E1155710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3B3-8BE5-4B1E-99D0-409A2572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5A3-73AF-4D0A-9D55-0E6FD10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5A3-8918-4106-8BA3-5DD4699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DC1-4095-45CD-A316-A17F78A9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930C-4B8C-448B-9777-3834E453A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МБОУ СОШ №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еревья нашего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координ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социально-экологического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роткевич М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руева М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руководит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едведева Е.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Электроугли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Липовая алл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Деревья – хранители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Липовая аллея, ведущая от Каменского пруда к Центру культуры и искусств была заложена в конце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 века Петром Григорьвичем Брун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55640" y="16002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аша школа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Школа была построена в 1963 году на месте кукурузного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А теперь рядом с ней зеленеет березовая роща – Парк П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666960" cy="2433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37288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арк Поб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48000" y="4653000"/>
            <a:ext cx="5616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Деревья в Парке Победы  сажали учителя и ученики нашей школы в честь 40-летия Победы в Великой Отечественной вой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173400" cy="4229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80000" y="1341360"/>
            <a:ext cx="487656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олодая липовая алл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В 2010 году, в честь 65-летия Победы, работники предприятий нашего города посадили липовую аллею, ведущую вдоль школы к Каменскому пруду. Со временем маленькие липки вырастут в большие дере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 2013 году нашей школе исполнится 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58920" y="1700280"/>
            <a:ext cx="3822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Весной одиннадцати-классники посадят рядом со школой молодые березы и клены, вместо погибших ясеней. Это станет еще одной частью летописи истории, записанной деревьями нашего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6638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ы благодарим учеников нашего, 9 В класса за участие в работе над проектом и за готовность весной стать экскурсоводами для перво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55280" y="2637000"/>
            <a:ext cx="7931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 презентации были использованы фотографии наших одноклассников, руководителя проекта  Елены Леонидовны, а также из книг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Н.Г.Новожилова и Ю.Б.Максутовой «Электроугли. Мой город – моя судьб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Деревья наше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59280" y="2060280"/>
            <a:ext cx="3673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498840" cy="4664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5226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Ледяной дождь», прошедший в декабре 2010 года ослабил теплолюбивые дере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5599080" cy="280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84720" y="4508640"/>
            <a:ext cx="24861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Ясени, растущие вдоль забора нашей школы, засохли, и их спил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311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076480"/>
            <a:ext cx="403848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2036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17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акие деревья посадить на их место?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ы решили найти ответ на этот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080000">
            <a:off x="6372000" y="335736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0400000">
            <a:off x="539640" y="3284640"/>
            <a:ext cx="1889280" cy="3044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600000">
            <a:off x="4571640" y="1844280"/>
            <a:ext cx="2181240" cy="290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rot="21000000">
            <a:off x="2124000" y="1699920"/>
            <a:ext cx="2289240" cy="3051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059280" y="4581360"/>
            <a:ext cx="2795400" cy="21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етод селекционных индексов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(Л. Хейзель, 194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изнаки, по которым проводился выбор деревье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Скорость роста                  – 10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Морозостойкость                – 9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Газо-,пылеустойчивость   – 7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Устойчивость к поврежде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вредителями                      – 7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«Красота»                              - 6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Фитонцидность                   – 6 б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Светолюбивость                 – 5 б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Максимальная сумма баллов: (10+9+7+7+6+6+5)х10=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онитировоч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Для рябины обыкновен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Общая оценка: 10х10+9х10+7х1+7х5+6х5+6х10+5х10=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72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ндекс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372х100/500=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4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8083800" cy="3397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44000" y="3933720"/>
            <a:ext cx="272880" cy="27324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3240"/>
              <a:gd name="textAreaBottom" fmla="*/ 210960 h 2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44000" y="4365720"/>
            <a:ext cx="272880" cy="27288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2880"/>
              <a:gd name="textAreaBottom" fmla="*/ 210600 h 27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4653000"/>
            <a:ext cx="273240" cy="272880"/>
          </a:xfrm>
          <a:custGeom>
            <a:avLst/>
            <a:gdLst>
              <a:gd name="textAreaLeft" fmla="*/ 62280 w 273240"/>
              <a:gd name="textAreaRight" fmla="*/ 210960 w 273240"/>
              <a:gd name="textAreaTop" fmla="*/ 62280 h 272880"/>
              <a:gd name="textAreaBottom" fmla="*/ 210600 h 27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2000" y="4941720"/>
            <a:ext cx="272880" cy="27324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3240"/>
              <a:gd name="textAreaBottom" fmla="*/ 210960 h 2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44000" y="5950080"/>
            <a:ext cx="272880" cy="27288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2880"/>
              <a:gd name="textAreaBottom" fmla="*/ 210600 h 27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5589720"/>
            <a:ext cx="272880" cy="27288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2880"/>
              <a:gd name="textAreaBottom" fmla="*/ 210600 h 27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6381720"/>
            <a:ext cx="272880" cy="273240"/>
          </a:xfrm>
          <a:custGeom>
            <a:avLst/>
            <a:gdLst>
              <a:gd name="textAreaLeft" fmla="*/ 62280 w 272880"/>
              <a:gd name="textAreaRight" fmla="*/ 210600 w 272880"/>
              <a:gd name="textAreaTop" fmla="*/ 62280 h 273240"/>
              <a:gd name="textAreaBottom" fmla="*/ 210960 h 273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Итоговая таб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Наибольшее число баллов набрали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ереза и к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Их мы рекомендуем для посадки рядом со школ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81262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00"/>
            </a:gs>
            <a:gs pos="100000">
              <a:srgbClr val="00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ядом со школой мы решили проложить «Зеленую тропу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Много разных видов деревьев растет рядом со шко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По этому маршруту весной мы будем проводить экскурсии для младших школьников, рассказывая о деревьях и истории их пос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55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11:18Z</dcterms:created>
  <dc:creator>мир</dc:creator>
  <dc:description/>
  <dc:language>en-US</dc:language>
  <cp:lastModifiedBy>мир</cp:lastModifiedBy>
  <dcterms:modified xsi:type="dcterms:W3CDTF">2012-10-22T16:28:53Z</dcterms:modified>
  <cp:revision>16</cp:revision>
  <dc:subject/>
  <dc:title>Слайд 1</dc:title>
</cp:coreProperties>
</file>