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83BD-C923-4C36-A37B-B79996B231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8EF-D459-4F12-B428-D37C0175D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2F91-40A6-4782-B722-A9E6FEE79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976E-6F14-47CE-A564-5415D4BC3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77DD-0CA5-4B50-8CEB-547952196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E63-BADD-4D1D-BB4F-AF149B0A9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A59-EA5F-43EC-8912-766A8DA84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B155-36E3-4882-A7B9-81746870D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B9F-0549-48B9-9556-741419C12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28A5-353C-4F51-8B8C-EE9257D48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B9CF-39FF-430B-9B0D-DB8BD9628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179C-D67C-4526-8BEC-D546FA4ED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7E3D-1571-4778-8C36-4847AB056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01F-E432-46AD-B7EF-B218A0637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730E-EC13-4E11-9887-0F1E5179E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A02F-4AE1-4390-82F7-2D78E6348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AAF6-E529-4DEC-9AC1-74EE9F38B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628-E7BD-43E7-9318-EF00A54E4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5631-27D5-4BE1-B162-262A905B6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E334-1382-4C90-BD90-7FA7A787A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3F57-C4E7-47F0-9AF7-23F0D893B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4ECE-63AD-49FC-814C-BE7C8D2B8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2A7A-DE3D-4459-AB97-AFD18FE22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72AE-A25E-466F-A221-CBDCF5A9F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5F7-5D19-4999-AB14-0D4053676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A1BB-44BC-415E-93E9-E8CAE5E11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9ACE-5C12-4EF3-BF07-491037114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548-6EAE-4076-A7B7-244A7EDB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386-3961-4782-B57A-13844B2F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CBE-6DB7-441D-A609-B2721A87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664-D091-4466-AADA-4ACD0E6B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8F1-ECEB-44B6-A683-12383A57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6948-54A2-442A-BF45-BE308B09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B92-735C-4343-A385-B0F7F821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6FC-506E-4842-A82C-51285316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1E17-4795-492D-940F-E66FF403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97CD-DAA7-4A24-A494-F030BC60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B1D-3E14-44F0-A052-BE1D62E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9D7-9683-4B32-B8F7-D3DAE996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294-7B4F-4384-8754-C4B1B95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F93-C92D-4C56-94A4-671900F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5DC-C0E7-4877-8A44-412CB4BF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84C3-A984-4A0D-AFFB-51471769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C0A6-0168-43E5-9752-44D5924E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B34B-935B-47B1-ACF0-4F307B7B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5EFE-8DBC-4798-A111-32D527C5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2EC0-CB6F-4BED-9D05-4190695E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4ED7-CF50-454E-9964-3DCA0294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CD5B-950F-40AA-B48A-30DE1857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E85-A56A-4225-BB85-C4F9673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E99B-749F-4FCB-AF70-25977504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6362-996A-4960-AD70-A38866E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68D2-BD97-49F4-BFF8-E08B9041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7A5B-F39E-4D8A-B44F-F270CCE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745A-F25D-4EFE-97D8-AF7526AF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5AB2-45D1-4496-AE88-FD8B5F57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2F1D-8F34-46E7-B42E-7B051CE6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BA0AA-046F-41EC-9671-21FD71EA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BAD8-4C6A-4026-BABE-8EB18A4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95BF-CBA9-4873-BA55-F5A1C3AC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B3A-71F2-47E5-9597-8200E413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6E21-B271-4265-9F9E-E3E140B8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8AE3-47ED-4AE7-B715-1AA618F1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1FE2-EEAA-4B77-A80A-D50937FC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5262-4E46-4DCD-9EF0-CC3E6D54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A0A22-C6C1-433E-A745-E8E253BE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A499-5C07-4C21-86D2-109B1E1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261C-06FF-45AD-906C-E1473682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4E1E-04C4-44C8-B34D-780327C0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0F48-4C24-465D-97FD-DE90E8BD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0B42-E71D-43A4-8C4F-9F6C0A8A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ED8-387F-4AE1-B498-2D3B363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19D58-E4FE-434A-AD36-D9641349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D0B4-092E-4BE8-8C04-4A401CF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61E92-B9EE-4B0B-AC82-B24B1B92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7001-6346-4C7E-A642-12337AD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2F5E3-722F-4FCB-AF26-F67BA21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7A3A-7A17-432C-B52E-390B3308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E711-172D-4B46-A660-272C604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B3E8-5286-4613-B904-F04AB116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118C-A6DA-40E7-A432-2EC1FE4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433C-F73B-4723-9A86-8D089A10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83D-B4CE-4806-96E3-7DC84278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2533-9664-4847-8699-7AF80CB7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FA73C-C3FE-4409-9B66-CB39E01C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51F4D-795B-4B2A-8F36-6CC96FA4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293A-360B-4E65-8DAE-D2575BEA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200D5-9DD1-437C-99B1-50802A92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83F7-E2D4-48EE-836C-D58EAD6E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452A-E1C4-42A1-9F67-A3ECEA3F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8EED9-CDE7-4E71-942D-5B528AE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625B-1FC1-4167-B489-745C8F7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A41B0-CB13-4C82-B7F0-0FBDE382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93F-F53F-4AD3-A1C8-0506728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FC93-0D40-4F2A-901E-45B89EA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642B-DBA6-40E4-A166-82DC2D16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A6EDC-A1EE-4977-B94A-E0D3762E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C2731-2D4E-45C5-B470-BB41BA11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ED97B-EFD0-49F2-B776-7CA04F51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675C-AAEF-4668-AE2F-9D48B89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A737E-0AD0-4A5E-9182-2B6F5204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8748-429D-41B6-AE80-AD0650AC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C730-4E7B-428E-976A-1D3CE79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4A910-5E5A-4BB5-BF5F-657B372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837-CC3B-4E0E-ABA5-3261A056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B713-5383-4901-9E29-E04D1B71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0B333-76D6-418E-9EC6-0E0E7450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F5C1D-5C66-47EA-B673-0E47B68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EF05-97C8-4375-A6B5-5D46C6C5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1C3B7-38C4-493A-8738-0E5B3256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37D-2662-4ACC-A898-B8CB5462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5215-2B16-4166-9F8E-A38A79BFB1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4DCA-3904-4139-AA6C-BE0F341231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4EF-27B4-4F4B-B4EF-81460A7A13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9DC5-FF26-438E-8820-7B7BCE1775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50E-D2DB-48EB-BBDE-1E44BB59D3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6430-5EE0-488C-8231-B78A2023E7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848D-28C4-4DC3-A782-E18B7CDDF3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1.xml"/><Relationship Id="rId8" Type="http://schemas.openxmlformats.org/officeDocument/2006/relationships/slide" Target="slide19.xml"/><Relationship Id="rId9" Type="http://schemas.openxmlformats.org/officeDocument/2006/relationships/slide" Target="slide18.xml"/><Relationship Id="rId10" Type="http://schemas.openxmlformats.org/officeDocument/2006/relationships/slide" Target="slide17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2168&amp;d_no=133504&amp;ext=Attachment.aspx?Id=47266" TargetMode="External"/><Relationship Id="rId2" Type="http://schemas.openxmlformats.org/officeDocument/2006/relationships/hyperlink" Target="http://www.it-n.ru/communities.aspx?cat_no=2168&amp;d_no=133504&amp;ext=Attachment.aspx?Id=47266" TargetMode="External"/><Relationship Id="rId3" Type="http://schemas.openxmlformats.org/officeDocument/2006/relationships/hyperlink" Target="http://school-collection.edu.ru/catalog/res/188fa10f-84e8-4ad4-bd89-4dccf884829b/view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250920" y="1890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04920" y="1371600"/>
            <a:ext cx="847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А1</a:t>
            </a: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2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258480" y="5029200"/>
            <a:ext cx="64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Павд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8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1814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3"/>
          <p:cNvSpPr/>
          <p:nvPr/>
        </p:nvSpPr>
        <p:spPr>
          <a:xfrm>
            <a:off x="1600200" y="30481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1"/>
          <p:cNvSpPr/>
          <p:nvPr/>
        </p:nvSpPr>
        <p:spPr>
          <a:xfrm>
            <a:off x="304920" y="533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екра..вая                               В) удоста..ва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эмал..вый                                    Г) дешёв..н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9"/>
          <p:cNvSpPr/>
          <p:nvPr/>
        </p:nvSpPr>
        <p:spPr>
          <a:xfrm>
            <a:off x="51055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1"/>
          <p:cNvSpPr/>
          <p:nvPr/>
        </p:nvSpPr>
        <p:spPr>
          <a:xfrm>
            <a:off x="50292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2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6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7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8"/>
          <p:cNvSpPr/>
          <p:nvPr/>
        </p:nvSpPr>
        <p:spPr>
          <a:xfrm>
            <a:off x="746748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9"/>
          <p:cNvSpPr/>
          <p:nvPr/>
        </p:nvSpPr>
        <p:spPr>
          <a:xfrm>
            <a:off x="35812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21"/>
          <p:cNvSpPr/>
          <p:nvPr/>
        </p:nvSpPr>
        <p:spPr>
          <a:xfrm>
            <a:off x="228600" y="380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о..вать                                            В) успока..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сспраш..вать                              Г) подбадр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2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5"/>
          <p:cNvSpPr/>
          <p:nvPr/>
        </p:nvSpPr>
        <p:spPr>
          <a:xfrm>
            <a:off x="1523880" y="4724280"/>
            <a:ext cx="175284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8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1"/>
          <p:cNvSpPr/>
          <p:nvPr/>
        </p:nvSpPr>
        <p:spPr>
          <a:xfrm>
            <a:off x="228600" y="380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одол..вать                                   В) выпарх..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крик..вать                                    Г) кварц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2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8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9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1"/>
          <p:cNvSpPr/>
          <p:nvPr/>
        </p:nvSpPr>
        <p:spPr>
          <a:xfrm>
            <a:off x="228600" y="3808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азвеш..вать                                   В) вра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говар..вать                                     Г) пот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228600" y="228600"/>
            <a:ext cx="847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>
            <a:hlinkClick r:id="rId1" action="ppaction://hlinksldjump"/>
          </p:cNvPr>
          <p:cNvSpPr/>
          <p:nvPr/>
        </p:nvSpPr>
        <p:spPr>
          <a:xfrm>
            <a:off x="1066680" y="3276720"/>
            <a:ext cx="69343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6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4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AutoShape 8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9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6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7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1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2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3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4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21"/>
          <p:cNvSpPr/>
          <p:nvPr/>
        </p:nvSpPr>
        <p:spPr>
          <a:xfrm>
            <a:off x="152280" y="53352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вздраг..вать                                      В) линч..вать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взвеш..вать                                       Г) усаж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594" name="Line 3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5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6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AutoShape 8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0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10666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2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3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4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7"/>
          <p:cNvSpPr/>
          <p:nvPr/>
        </p:nvSpPr>
        <p:spPr>
          <a:xfrm>
            <a:off x="35053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8"/>
          <p:cNvSpPr/>
          <p:nvPr/>
        </p:nvSpPr>
        <p:spPr>
          <a:xfrm>
            <a:off x="74674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0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21"/>
          <p:cNvSpPr/>
          <p:nvPr/>
        </p:nvSpPr>
        <p:spPr>
          <a:xfrm>
            <a:off x="228600" y="152280"/>
            <a:ext cx="84582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запуг..вать                                      В) выста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вынаш..вать                                   Г) кор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106668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3"/>
          <p:cNvSpPr/>
          <p:nvPr/>
        </p:nvSpPr>
        <p:spPr>
          <a:xfrm>
            <a:off x="1600200" y="29718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350532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1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31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32"/>
          <p:cNvSpPr/>
          <p:nvPr/>
        </p:nvSpPr>
        <p:spPr>
          <a:xfrm>
            <a:off x="304920" y="12193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оч..вать                                       В) настойч…в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слеж..вать                                  Г) скле..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1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3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0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) отсвеч..вать                             В) уживч..вы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) осматр..вать                               Г) коч..вать</a:t>
            </a:r>
            <a:r>
              <a:rPr b="1" lang="ru-RU" sz="22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1" name="Прямоугольник 28"/>
          <p:cNvSpPr/>
          <p:nvPr/>
        </p:nvSpPr>
        <p:spPr>
          <a:xfrm>
            <a:off x="22860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352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304920" y="457200"/>
            <a:ext cx="847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тмер..вать                                      В) довер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ткач..вать                                       Г) мал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5715000" y="47242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5257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9907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51814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5715000" y="28954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7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7"/>
          <p:cNvSpPr/>
          <p:nvPr/>
        </p:nvSpPr>
        <p:spPr>
          <a:xfrm>
            <a:off x="228600" y="533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106668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3"/>
          <p:cNvSpPr/>
          <p:nvPr/>
        </p:nvSpPr>
        <p:spPr>
          <a:xfrm>
            <a:off x="1600200" y="29718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4"/>
          <p:cNvSpPr/>
          <p:nvPr/>
        </p:nvSpPr>
        <p:spPr>
          <a:xfrm>
            <a:off x="55627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5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8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20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27"/>
          <p:cNvSpPr/>
          <p:nvPr/>
        </p:nvSpPr>
        <p:spPr>
          <a:xfrm>
            <a:off x="228600" y="533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тсуж..вать                                   В) преодол…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доходч…вый                                  Г) танц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Rectangle 7"/>
          <p:cNvSpPr/>
          <p:nvPr/>
        </p:nvSpPr>
        <p:spPr>
          <a:xfrm>
            <a:off x="228600" y="533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ич..вать                                     В) откру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слуш..в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Г) отовар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8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9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2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9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20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1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1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5"/>
          <p:cNvSpPr/>
          <p:nvPr/>
        </p:nvSpPr>
        <p:spPr>
          <a:xfrm>
            <a:off x="1600200" y="28954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7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20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22"/>
          <p:cNvSpPr/>
          <p:nvPr/>
        </p:nvSpPr>
        <p:spPr>
          <a:xfrm>
            <a:off x="228600" y="609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дирч..вый                          В) заман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служл..вый                             Г) локт..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3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7"/>
          <p:cNvSpPr/>
          <p:nvPr/>
        </p:nvSpPr>
        <p:spPr>
          <a:xfrm>
            <a:off x="304920" y="533520"/>
            <a:ext cx="847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крош…чный                                 В) изменч…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наращ…вать                                 Г) запечатл…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3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4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Rectangle 7"/>
          <p:cNvSpPr/>
          <p:nvPr/>
        </p:nvSpPr>
        <p:spPr>
          <a:xfrm>
            <a:off x="380880" y="533520"/>
            <a:ext cx="847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никел..вый                                  В) совестл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заносч..вый                                 Г) плюш…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1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2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3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14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68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95">
            <a:hlinkClick r:id="rId4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96">
            <a:hlinkClick r:id="rId5" action="ppaction://hlinksldjump"/>
          </p:cNvPr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97">
            <a:hlinkClick r:id="rId6" action="ppaction://hlinksldjump"/>
          </p:cNvPr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98">
            <a:hlinkClick r:id="rId7" action="ppaction://hlinksldjump"/>
          </p:cNvPr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99">
            <a:hlinkClick r:id="rId8" action="ppaction://hlinksldjump"/>
          </p:cNvPr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0">
            <a:hlinkClick r:id="rId9" action="ppaction://hlinksldjump"/>
          </p:cNvPr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01">
            <a:hlinkClick r:id="rId10" action="ppaction://hlinksldjump"/>
          </p:cNvPr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02">
            <a:hlinkClick r:id="rId11" action="ppaction://hlinksldjump"/>
          </p:cNvPr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2286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Миронова Ю. С. Русский язык. ЕГЭ. (Раздаточный  материал тренировочных тестов.) СПб.: Тригон, 2009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Пучкова Л.И. ЕГЭ 2007. Русский язык. Типовые тестовые задания. -  М.: Экзамен, 2007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Цыбулько И.П., Львова С.И., Коханова В.А. ЕГЭ-2007. Русский язык. Тренировочные задания.-М.: Просвещение, Эксмо, 2007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it-n.ru/communities.aspx?cat_no=130742&amp;tmpl=com</a:t>
            </a:r>
            <a:r>
              <a:rPr b="0" lang="ru-RU" sz="13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 Захарова Т.А., Байдакова Т.Б. Шаблон учебного тренажёра и проверочного теста по русскому языку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188fa10f-84e8-4ad4-bd89-4dccf884829b-view-</a:t>
            </a:r>
            <a:r>
              <a:rPr b="0" lang="ru-RU" sz="1300" spc="-1" strike="noStrike" u="sng">
                <a:solidFill>
                  <a:srgbClr val="0080ff"/>
                </a:solidFill>
                <a:uFillTx/>
                <a:latin typeface="Candara"/>
                <a:hlinkClick r:id="rId3"/>
              </a:rPr>
              <a:t>Таблица "О и Ё в существительных после шипящих под ударением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e32f345-16fe-4e28-a39c-5bea2f621246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безударных окончаний прилагательных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5c666438-efd0-4caa-834c-f2d9e1963a37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безударных гласных в суффиксах и корнях глаголов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eb85246b-29ab-4ae3-82a2-c947b676fa69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  Таблица "Правописание суффиксов -ыва- и -ова-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a2ac389d-1c37-4a88-a168-fb4b3e26383c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суффиксов глагола -ива- и -ева-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6.   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7a533b5-a9a7-4930-a95e-6dca7f73af18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нтерактивная орфограмма "Правописание страдательных причастий прошедшего времени (суффикс ЕНН)«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7.   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f405884-060c-40aa-8703-87dcaee5c086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нтерактивная орфограмма "Правописание страдательных причастий прошедшего времени (суффиксы А и Я перед НН)"</a:t>
            </a:r>
            <a:br>
              <a:rPr sz="1300"/>
            </a:b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ndara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9"/>
          <p:cNvSpPr/>
          <p:nvPr/>
        </p:nvSpPr>
        <p:spPr>
          <a:xfrm>
            <a:off x="250920" y="1890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228600" y="12193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10"/>
          <p:cNvSpPr/>
          <p:nvPr/>
        </p:nvSpPr>
        <p:spPr>
          <a:xfrm>
            <a:off x="5791320" y="3276720"/>
            <a:ext cx="14475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"/>
          <p:cNvSpPr/>
          <p:nvPr/>
        </p:nvSpPr>
        <p:spPr>
          <a:xfrm>
            <a:off x="5181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2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3"/>
          <p:cNvSpPr/>
          <p:nvPr/>
        </p:nvSpPr>
        <p:spPr>
          <a:xfrm>
            <a:off x="1371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137160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5791320" y="4724280"/>
            <a:ext cx="14475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8"/>
          <p:cNvSpPr/>
          <p:nvPr/>
        </p:nvSpPr>
        <p:spPr>
          <a:xfrm>
            <a:off x="1981080" y="3276720"/>
            <a:ext cx="14479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,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9"/>
          <p:cNvSpPr/>
          <p:nvPr/>
        </p:nvSpPr>
        <p:spPr>
          <a:xfrm>
            <a:off x="1981080" y="4724280"/>
            <a:ext cx="1447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3"/>
          <p:cNvSpPr/>
          <p:nvPr/>
        </p:nvSpPr>
        <p:spPr>
          <a:xfrm>
            <a:off x="7467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467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9"/>
          <p:cNvSpPr/>
          <p:nvPr/>
        </p:nvSpPr>
        <p:spPr>
          <a:xfrm>
            <a:off x="3657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20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тюл..вый                                     В) выздоров..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настойч..вый                              Г) обветр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AutoShape 10"/>
          <p:cNvSpPr/>
          <p:nvPr/>
        </p:nvSpPr>
        <p:spPr>
          <a:xfrm>
            <a:off x="57913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1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2"/>
          <p:cNvSpPr/>
          <p:nvPr/>
        </p:nvSpPr>
        <p:spPr>
          <a:xfrm>
            <a:off x="51814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3"/>
          <p:cNvSpPr/>
          <p:nvPr/>
        </p:nvSpPr>
        <p:spPr>
          <a:xfrm>
            <a:off x="8380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4"/>
          <p:cNvSpPr/>
          <p:nvPr/>
        </p:nvSpPr>
        <p:spPr>
          <a:xfrm>
            <a:off x="8380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7"/>
          <p:cNvSpPr/>
          <p:nvPr/>
        </p:nvSpPr>
        <p:spPr>
          <a:xfrm>
            <a:off x="5791320" y="3276720"/>
            <a:ext cx="17524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,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1447920" y="3276720"/>
            <a:ext cx="1827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,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1523880" y="4724280"/>
            <a:ext cx="17510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2"/>
          <p:cNvSpPr/>
          <p:nvPr/>
        </p:nvSpPr>
        <p:spPr>
          <a:xfrm>
            <a:off x="350532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3"/>
          <p:cNvSpPr/>
          <p:nvPr/>
        </p:nvSpPr>
        <p:spPr>
          <a:xfrm>
            <a:off x="7848720" y="3581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4"/>
          <p:cNvSpPr/>
          <p:nvPr/>
        </p:nvSpPr>
        <p:spPr>
          <a:xfrm>
            <a:off x="7848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5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1"/>
          <p:cNvSpPr/>
          <p:nvPr/>
        </p:nvSpPr>
        <p:spPr>
          <a:xfrm>
            <a:off x="228600" y="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кварц..вый                                    В) вежл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дожд..вой                                        Г) ялт..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AutoShape 10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3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4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16002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8"/>
          <p:cNvSpPr/>
          <p:nvPr/>
        </p:nvSpPr>
        <p:spPr>
          <a:xfrm>
            <a:off x="5715000" y="4724280"/>
            <a:ext cx="1557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6002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2"/>
          <p:cNvSpPr/>
          <p:nvPr/>
        </p:nvSpPr>
        <p:spPr>
          <a:xfrm>
            <a:off x="7467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3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4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5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1"/>
          <p:cNvSpPr/>
          <p:nvPr/>
        </p:nvSpPr>
        <p:spPr>
          <a:xfrm>
            <a:off x="304920" y="457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придерж..вать                              В) назойл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фасол..вый                                   Г) танц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2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3"/>
          <p:cNvSpPr/>
          <p:nvPr/>
        </p:nvSpPr>
        <p:spPr>
          <a:xfrm>
            <a:off x="1676520" y="2895480"/>
            <a:ext cx="160020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8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0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1"/>
          <p:cNvSpPr/>
          <p:nvPr/>
        </p:nvSpPr>
        <p:spPr>
          <a:xfrm>
            <a:off x="228600" y="533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ысме..вать                           В) обид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олоточ..к                              Г) вол..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8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3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1"/>
          <p:cNvSpPr/>
          <p:nvPr/>
        </p:nvSpPr>
        <p:spPr>
          <a:xfrm>
            <a:off x="228600" y="6094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держ..вать                             В) свад..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зойл..вый                                  Г) настой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AutoShape 8"/>
          <p:cNvSpPr/>
          <p:nvPr/>
        </p:nvSpPr>
        <p:spPr>
          <a:xfrm>
            <a:off x="1600200" y="31240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1600200" y="47242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1"/>
          <p:cNvSpPr/>
          <p:nvPr/>
        </p:nvSpPr>
        <p:spPr>
          <a:xfrm>
            <a:off x="228600" y="533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думч..вый                               В) изюм..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череш..нка                                Г) но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10-20T10:11:19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