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97B-F095-4FF7-8EDA-85DB60A2C1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FEA8-D065-48E6-81B9-3C8D284E5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5F61-6F99-4995-9392-E7F32F07E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ACF0-8121-4524-B45D-1D5E15558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EABD-060C-4985-937B-A1E45C1A29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F478-B19C-434A-BC42-8F39AFADA4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F373-3EBE-48A1-964D-9051120E60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94AE-4DFE-4CE4-9976-69F5D6207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B648-4EC1-4F98-98B4-B24B68923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9E80-B0DB-472D-A081-A8BD0F7DF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19D6-AB03-49D2-90E1-AD41562AFD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C2D-1E01-4565-90C0-E907D1FBD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495-1FAD-499A-ABBA-A3498D598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29B-EFEA-4131-A159-0E7B4EA6A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127-0D5A-4FEF-B14C-57B497BD3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A51A-C8B7-462B-B8AF-62B50319E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1A4F-91D9-49C6-ABF4-1153572F9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F83-0EE6-4B24-A840-B67D544FC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752B-426E-48CE-BD26-0D30707A8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A1B-3E5D-4058-9E55-A0097EF70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A661-0D49-4C35-AD6B-F890C8A8C0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DC24-423D-4CAA-A9C0-2CD2282A1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1807-2482-4D50-BD4C-06EDBD2BA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158A-A666-444B-B60B-C364A80ED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144-92B8-4418-891D-44FD35E2D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E888-CA2E-43E4-A965-8269E6B73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FAF-7690-4884-94A4-7E041B88D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3A0-A3C0-4AC9-B294-D57DC419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080-5A4D-4AFE-8EB9-D0CDB45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61D-EC53-41EB-9C6F-434E8D87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7F1-5679-4858-8466-4A8F2BA0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EB8-29E7-4C68-9013-CF9069CD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ACBA-3B8C-4FAD-A760-CE1C05FB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83BE-2C11-48E9-B68D-BBFEA357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2E85-D5E9-4942-9130-95F191E3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180-50F6-4293-B3EB-F823D55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9666-0BD8-4B4C-B179-0447002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43EA-6FE8-43A3-88BA-C5D6BBDC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742C-E4F7-4AF7-834B-38F04D86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8BCD-BA17-4C84-9967-FBF9963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A78B-8C8E-4C8C-9947-8D66AA17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59AD-ED11-4D24-9A35-ADB48AC9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C8D5-F4F9-4D67-A8A6-E6F71ABF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00D7-BA78-415A-BDD0-CFDA2A73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053C-13EE-4083-82D2-5D9B2D97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F96E-6CE7-486E-A228-3899D6B5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B8DD-76FF-4E8E-8983-8A4103E2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32DC-2213-43CB-AE57-51E6E9D3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D7A0-6880-40B6-AD20-331460A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315-8724-424E-8E0A-E2A3CF1F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DE2F-F6F2-4294-8BB3-D235334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BD41A-B9D6-4D31-A6B6-33AAFD1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FC47-06C1-4FF0-80C6-8174F00C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7109-76A0-454D-B4E1-FE2F560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775EE-5EB2-4B1C-97BC-1524860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2C04-DBA8-437B-B625-0D4B4BC5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32325-2694-4047-B17C-F5B4B5C4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3C36-9379-4EF4-A965-DD1210F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8DD1-C885-4C39-9479-8AE6C34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C64FC-6075-40F1-8CD8-BAED06D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25B-66E0-4C99-B20E-6F61DACC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3442-FB5B-4875-B6BA-DF406116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DE18-ECC0-45E3-B85B-DE14D7DF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65E27-0A1C-4091-B100-AF8D59F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86E1-8F41-464B-A3D2-0E3838AA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80A2-5868-48B2-B07F-9E30497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7DD49-01F3-4AE4-A43F-7395C092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BD65-6B3F-4DE5-8E17-1E651D9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17E0-956B-41E0-B6D7-BF4BA507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CC5D-1A6E-4EAB-B84A-CCB87787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0A16-E2C5-4341-9B05-E7F7A637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76C-FBB7-4FF7-83B6-FAE49358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C096-950A-4AD5-A5E8-8AD9A38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D449-87E7-4E07-B666-DBE5F761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2B95-B304-49EA-960C-F8355C06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9754F-DC97-4F0B-BCA6-7B4A05A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08174-36AA-4A8D-97DC-61DB22F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682C-6FE1-4E91-9DA3-7BBFAAE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0635-338D-449F-93F9-499127F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347A-AE37-4678-B659-A71B3797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F55D1-2F28-48B0-BE4A-F8F1BDE1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7BA2-6C37-4595-AD82-725C667B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827-72B2-41C7-9B9C-4AC7F7F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75CB9-7399-415C-B851-BAB892D7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833C6-3C2C-4FA1-B0E2-945EBCC9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360A-98A6-4FED-8505-2408C176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53861-63F4-43FC-A4F2-33BC22A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54E1-BD72-41B8-B4F4-2A0C72F6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810F-D22F-40CA-9C1F-EFC708F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035F6-1267-4ECD-91C2-6ED6A5A1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3437D-77D2-46AA-AB64-E176482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ADAE5-25AF-4348-A2BA-7D2E1FF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F178-D3E3-4833-BF60-531FADC4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ED2-8B72-4D63-BE9C-27DD2AA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16754-5E37-42A0-84D8-C7983791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1C219-E743-4AE6-9864-36C65B88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0CB82-8E9F-448A-9557-DA60AC81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3490-2A21-4BAB-8F60-32948CBC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EB353-CCF1-4BE8-B6C4-0A06C54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34BA1-4164-47B5-9CAF-C55680F8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4FEB0-8AC6-4AC0-AE11-38811694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DBA8D-77A7-4640-9D39-D494BD2D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A364-3893-4684-A74E-E22A5DEC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ADFB5-7E0A-499F-BD4E-7BB2F92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E65-4544-4DA0-9C47-0BEDE69F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4286D-8AB9-416A-8478-DC0F082A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E3D0-E370-4A5B-8A7F-9D7BCDC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9CADF-6447-41EF-8D61-30956A06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2B56-741D-4AA9-8F7E-ED7F48AD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871D7-A0E2-4F0D-BB0F-4A9DFDA1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436-853E-48F5-85CD-D40308F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7CA-A105-465D-94DA-231FAF2BFFE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BE5-502B-4ECB-B83A-14F769B8534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43C-DD3F-43BC-9FFB-909663065BF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353-723A-4BB0-B586-1353244CCC9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089B-97B2-45B8-8FD3-0DD46C92FA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CDD3-77DF-4126-BBD6-57AC7ED7EB9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2EB-A6CC-4719-BF90-A0A839EEBD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0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" Target="slide21.xml"/><Relationship Id="rId8" Type="http://schemas.openxmlformats.org/officeDocument/2006/relationships/slide" Target="slide19.xml"/><Relationship Id="rId9" Type="http://schemas.openxmlformats.org/officeDocument/2006/relationships/slide" Target="slide18.xml"/><Relationship Id="rId10" Type="http://schemas.openxmlformats.org/officeDocument/2006/relationships/slide" Target="slide17.xml"/><Relationship Id="rId11" Type="http://schemas.openxmlformats.org/officeDocument/2006/relationships/slide" Target="slide16.xml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t-n.ru/communities.aspx?cat_no=2168&amp;d_no=133504&amp;ext=Attachment.aspx?Id=47266" TargetMode="External"/><Relationship Id="rId2" Type="http://schemas.openxmlformats.org/officeDocument/2006/relationships/hyperlink" Target="http://www.it-n.ru/communities.aspx?cat_no=2168&amp;d_no=133504&amp;ext=Attachment.aspx?Id=47266" TargetMode="External"/><Relationship Id="rId3" Type="http://schemas.openxmlformats.org/officeDocument/2006/relationships/hyperlink" Target="http://school-collection.edu.ru/catalog/res/188fa10f-84e8-4ad4-bd89-4dccf884829b/view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250920" y="189000"/>
            <a:ext cx="847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Е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304920" y="1371600"/>
            <a:ext cx="84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Учебный тренажёр и провероч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А1</a:t>
            </a:r>
            <a:r>
              <a:rPr b="1" lang="en-US" sz="3200" spc="-1" strike="noStrike">
                <a:solidFill>
                  <a:srgbClr val="505050"/>
                </a:solidFill>
                <a:latin typeface="Stenci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5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2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258480" y="5029200"/>
            <a:ext cx="642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кушина О.Н.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Павдин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8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1"/>
          <p:cNvSpPr/>
          <p:nvPr/>
        </p:nvSpPr>
        <p:spPr>
          <a:xfrm>
            <a:off x="51814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2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3"/>
          <p:cNvSpPr/>
          <p:nvPr/>
        </p:nvSpPr>
        <p:spPr>
          <a:xfrm>
            <a:off x="1600200" y="30481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21"/>
          <p:cNvSpPr/>
          <p:nvPr/>
        </p:nvSpPr>
        <p:spPr>
          <a:xfrm>
            <a:off x="304920" y="533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ерекра..вая                               В) удоста..ва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эмал..вый                                    Г) дешёв..н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9"/>
          <p:cNvSpPr/>
          <p:nvPr/>
        </p:nvSpPr>
        <p:spPr>
          <a:xfrm>
            <a:off x="51055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1"/>
          <p:cNvSpPr/>
          <p:nvPr/>
        </p:nvSpPr>
        <p:spPr>
          <a:xfrm>
            <a:off x="50292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2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6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7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8"/>
          <p:cNvSpPr/>
          <p:nvPr/>
        </p:nvSpPr>
        <p:spPr>
          <a:xfrm>
            <a:off x="746748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19"/>
          <p:cNvSpPr/>
          <p:nvPr/>
        </p:nvSpPr>
        <p:spPr>
          <a:xfrm>
            <a:off x="35812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21"/>
          <p:cNvSpPr/>
          <p:nvPr/>
        </p:nvSpPr>
        <p:spPr>
          <a:xfrm>
            <a:off x="228600" y="380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о..вать                                            В) успока..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сспраш..вать                              Г) подбад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2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5"/>
          <p:cNvSpPr/>
          <p:nvPr/>
        </p:nvSpPr>
        <p:spPr>
          <a:xfrm>
            <a:off x="1523880" y="4724280"/>
            <a:ext cx="175284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8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1"/>
          <p:cNvSpPr/>
          <p:nvPr/>
        </p:nvSpPr>
        <p:spPr>
          <a:xfrm>
            <a:off x="228600" y="380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еодол..вать                                   В) выпарх..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крик..вать                                    Г) квар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AutoShape 8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2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563868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5"/>
          <p:cNvSpPr/>
          <p:nvPr/>
        </p:nvSpPr>
        <p:spPr>
          <a:xfrm>
            <a:off x="1600200" y="4724280"/>
            <a:ext cx="175248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6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8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9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1"/>
          <p:cNvSpPr/>
          <p:nvPr/>
        </p:nvSpPr>
        <p:spPr>
          <a:xfrm>
            <a:off x="228600" y="3808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звеш..вать                                   В) вра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говар..вать                                     Г) пот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228600" y="228600"/>
            <a:ext cx="847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>
            <a:hlinkClick r:id="rId1" action="ppaction://hlinksldjump"/>
          </p:cNvPr>
          <p:cNvSpPr/>
          <p:nvPr/>
        </p:nvSpPr>
        <p:spPr>
          <a:xfrm>
            <a:off x="1066680" y="3276720"/>
            <a:ext cx="69343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2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67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ежде чем нажимать переключатель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Чтобы узнать свой результат, нажми на кнопку «Результат». 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4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AutoShape 8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9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1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5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16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7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0">
            <a:hlinkClick r:id="" action="ppaction://hlinkshowjump?jump=nextslide"/>
          </p:cNvPr>
          <p:cNvSpPr/>
          <p:nvPr/>
        </p:nvSpPr>
        <p:spPr>
          <a:xfrm>
            <a:off x="80773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21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2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3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4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52280" y="53352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вздраг..вать                                      В) линч..вать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взвеш..вать                                       Г) усаж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594" name="Line 3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5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6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AutoShape 8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"/>
          <p:cNvSpPr/>
          <p:nvPr/>
        </p:nvSpPr>
        <p:spPr>
          <a:xfrm>
            <a:off x="9907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10666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2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3"/>
          <p:cNvSpPr/>
          <p:nvPr/>
        </p:nvSpPr>
        <p:spPr>
          <a:xfrm>
            <a:off x="5715000" y="28195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4"/>
          <p:cNvSpPr/>
          <p:nvPr/>
        </p:nvSpPr>
        <p:spPr>
          <a:xfrm>
            <a:off x="1600200" y="28195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7"/>
          <p:cNvSpPr/>
          <p:nvPr/>
        </p:nvSpPr>
        <p:spPr>
          <a:xfrm>
            <a:off x="35053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8"/>
          <p:cNvSpPr/>
          <p:nvPr/>
        </p:nvSpPr>
        <p:spPr>
          <a:xfrm>
            <a:off x="746748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9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0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21"/>
          <p:cNvSpPr/>
          <p:nvPr/>
        </p:nvSpPr>
        <p:spPr>
          <a:xfrm>
            <a:off x="228600" y="152280"/>
            <a:ext cx="84582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запуг..вать                                      В) выста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вынаш..вать                                   Г) кор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1"/>
          <p:cNvSpPr/>
          <p:nvPr/>
        </p:nvSpPr>
        <p:spPr>
          <a:xfrm>
            <a:off x="106668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2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350532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21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31"/>
          <p:cNvSpPr/>
          <p:nvPr/>
        </p:nvSpPr>
        <p:spPr>
          <a:xfrm>
            <a:off x="304920" y="457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32"/>
          <p:cNvSpPr/>
          <p:nvPr/>
        </p:nvSpPr>
        <p:spPr>
          <a:xfrm>
            <a:off x="304920" y="1219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оч..вать                                       В) настойч…в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слеж..вать                                  Г) скле..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0"/>
          <p:cNvSpPr/>
          <p:nvPr/>
        </p:nvSpPr>
        <p:spPr>
          <a:xfrm>
            <a:off x="51055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11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17"/>
          <p:cNvSpPr/>
          <p:nvPr/>
        </p:nvSpPr>
        <p:spPr>
          <a:xfrm>
            <a:off x="350532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8"/>
          <p:cNvSpPr/>
          <p:nvPr/>
        </p:nvSpPr>
        <p:spPr>
          <a:xfrm>
            <a:off x="754380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А) отсвеч..вать                             В) уживч..вый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) осматр..вать                               Г) коч..вать</a:t>
            </a:r>
            <a:r>
              <a:rPr b="1" lang="ru-RU" sz="22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1" name="Прямоугольник 28"/>
          <p:cNvSpPr/>
          <p:nvPr/>
        </p:nvSpPr>
        <p:spPr>
          <a:xfrm>
            <a:off x="228600" y="3808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352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9"/>
          <p:cNvSpPr/>
          <p:nvPr/>
        </p:nvSpPr>
        <p:spPr>
          <a:xfrm>
            <a:off x="228600" y="228600"/>
            <a:ext cx="861048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орогой дру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году тебе предстоит сдавать Единый государственный экзамен по рус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ся к нему тебе поможет данный образовательный ресурс. Его первый уровень представляет собой тренажёр, с помощью которого ты можешь вспомнить определённое правило из курса русского языка  и усовершенствовать свои умения и навы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 – проверочный тест по данной теме, за который ты получишь отмет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емся, что эти занятия помогут тебе успешно подготовиться к ЕГЭ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Желаем удачи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0">
            <a:hlinkClick r:id="rId1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304920" y="45720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тмер..вать                                      В) довер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ткач..вать                                       Г) мал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5715000" y="47242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5257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9907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9907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51814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5715000" y="2895480"/>
            <a:ext cx="1598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533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106668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1600200" y="29718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55627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754380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27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тсуж..вать                                   В) преодол…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доходч…вый                                  Г) тан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7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ич..вать                                     В) откру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слуш..в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Г) отова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8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9"/>
          <p:cNvSpPr/>
          <p:nvPr/>
        </p:nvSpPr>
        <p:spPr>
          <a:xfrm>
            <a:off x="5105520" y="3124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10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2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13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val 18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val 19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val 20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21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53" dur="indefinite" restart="never" nodeType="tmRoot">
          <p:childTnLst>
            <p:seq>
              <p:cTn id="1554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555" nodeType="clickEffect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5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4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8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579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0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6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1627" nodeType="clickEffect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3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3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11"/>
          <p:cNvSpPr/>
          <p:nvPr/>
        </p:nvSpPr>
        <p:spPr>
          <a:xfrm>
            <a:off x="106668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"/>
          <p:cNvSpPr/>
          <p:nvPr/>
        </p:nvSpPr>
        <p:spPr>
          <a:xfrm>
            <a:off x="1600200" y="28954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7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20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22"/>
          <p:cNvSpPr/>
          <p:nvPr/>
        </p:nvSpPr>
        <p:spPr>
          <a:xfrm>
            <a:off x="228600" y="609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дирч..вый                          В) заман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услужл..вый                             Г) локт..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0" dur="indefinite" restart="never" nodeType="tmRoot">
          <p:childTnLst>
            <p:seq>
              <p:cTn id="1651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1652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6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1676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0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1724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3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3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7"/>
          <p:cNvSpPr/>
          <p:nvPr/>
        </p:nvSpPr>
        <p:spPr>
          <a:xfrm>
            <a:off x="304920" y="53352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крош…чный                                 В) изменч…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наращ…вать                                 Г) запечатл…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8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9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11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12"/>
          <p:cNvSpPr/>
          <p:nvPr/>
        </p:nvSpPr>
        <p:spPr>
          <a:xfrm>
            <a:off x="51055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3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4"/>
          <p:cNvSpPr/>
          <p:nvPr/>
        </p:nvSpPr>
        <p:spPr>
          <a:xfrm>
            <a:off x="1600200" y="4648320"/>
            <a:ext cx="16765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5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17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18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19"/>
          <p:cNvSpPr/>
          <p:nvPr/>
        </p:nvSpPr>
        <p:spPr>
          <a:xfrm>
            <a:off x="35053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0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47" dur="indefinite" restart="never" nodeType="tmRoot">
          <p:childTnLst>
            <p:seq>
              <p:cTn id="1748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5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5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2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73" nodeType="clickEffect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7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1797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0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182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0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74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Rectangle 7"/>
          <p:cNvSpPr/>
          <p:nvPr/>
        </p:nvSpPr>
        <p:spPr>
          <a:xfrm>
            <a:off x="380880" y="533520"/>
            <a:ext cx="847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никел..вый                                  В) совест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заносч..вый                                 Г) плюш…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8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9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0"/>
          <p:cNvSpPr/>
          <p:nvPr/>
        </p:nvSpPr>
        <p:spPr>
          <a:xfrm>
            <a:off x="51055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1"/>
          <p:cNvSpPr/>
          <p:nvPr/>
        </p:nvSpPr>
        <p:spPr>
          <a:xfrm>
            <a:off x="106668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2"/>
          <p:cNvSpPr/>
          <p:nvPr/>
        </p:nvSpPr>
        <p:spPr>
          <a:xfrm>
            <a:off x="10666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13"/>
          <p:cNvSpPr/>
          <p:nvPr/>
        </p:nvSpPr>
        <p:spPr>
          <a:xfrm>
            <a:off x="5715000" y="28954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14"/>
          <p:cNvSpPr/>
          <p:nvPr/>
        </p:nvSpPr>
        <p:spPr>
          <a:xfrm>
            <a:off x="1600200" y="28954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350532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7543800" y="32004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2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44" dur="indefinite" restart="never" nodeType="tmRoot">
          <p:childTnLst>
            <p:seq>
              <p:cTn id="1845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1846" nodeType="clickEffect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5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7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8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7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98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7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918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68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00">
            <a:hlinkClick r:id="rId1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93">
            <a:hlinkClick r:id="rId2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4">
            <a:hlinkClick r:id="rId3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95">
            <a:hlinkClick r:id="rId4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196">
            <a:hlinkClick r:id="rId5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97">
            <a:hlinkClick r:id="rId6" action="ppaction://hlinksldjump"/>
          </p:cNvPr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98">
            <a:hlinkClick r:id="rId7" action="ppaction://hlinksldjump"/>
          </p:cNvPr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99">
            <a:hlinkClick r:id="rId8" action="ppaction://hlinksldjump"/>
          </p:cNvPr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0">
            <a:hlinkClick r:id="rId9" action="ppaction://hlinksldjump"/>
          </p:cNvPr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1">
            <a:hlinkClick r:id="rId10" action="ppaction://hlinksldjump"/>
          </p:cNvPr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02">
            <a:hlinkClick r:id="rId11" action="ppaction://hlinksldjump"/>
          </p:cNvPr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Миронова Ю. С. Русский язык. ЕГЭ. (Раздаточный  материал тренировочных тестов.) СПб.: Тригон, 2009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Пучкова Л.И. ЕГЭ 2007. Русский язык. Типовые тестовые задания. -  М.: Экзамен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Цыбулько И.П., Львова С.И., Коханова В.А. ЕГЭ-2007. Русский язык. Тренировочные задания.-М.: Просвещение, Эксмо, 2007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it-n.ru/communities.aspx?cat_no=130742&amp;tmpl=com</a:t>
            </a:r>
            <a:r>
              <a:rPr b="0" lang="ru-RU" sz="13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 Захарова Т.А., Байдакова Т.Б. Шаблон учебного тренажёра и проверочного теста по русскому языку.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188fa10f-84e8-4ad4-bd89-4dccf884829b-view-</a:t>
            </a:r>
            <a:r>
              <a:rPr b="0" lang="ru-RU" sz="1300" spc="-1" strike="noStrike" u="sng">
                <a:solidFill>
                  <a:srgbClr val="0080ff"/>
                </a:solidFill>
                <a:uFillTx/>
                <a:latin typeface="Candara"/>
                <a:hlinkClick r:id="rId3"/>
              </a:rPr>
              <a:t>Таблица "О и Ё в существительных после шипящих под ударением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e32f345-16fe-4e28-a39c-5bea2f62124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окончаний прилагательных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5c666438-efd0-4caa-834c-f2d9e1963a37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безударных гласных в суффиксах и корнях глаголов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eb85246b-29ab-4ae3-82a2-c947b676fa69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  Таблица "Правописание суффиксов -ыва- и -о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a2ac389d-1c37-4a88-a168-fb4b3e26383c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Таблица "Правописание суффиксов глагола -ива- и -ева-«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6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7a533b5-a9a7-4930-a95e-6dca7f73af18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 ЕНН)« </a:t>
            </a: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7.    </a:t>
            </a:r>
            <a:r>
              <a:rPr b="0" lang="en-US" sz="1300" spc="-1" strike="noStrike">
                <a:solidFill>
                  <a:srgbClr val="073e87"/>
                </a:solidFill>
                <a:latin typeface="Candara"/>
              </a:rPr>
              <a:t>http--school-collection.edu.ru-catalog-res-cf405884-060c-40aa-8703-87dcaee5c086-view-</a:t>
            </a:r>
            <a:r>
              <a:rPr b="0" lang="ru-RU" sz="1300" spc="-1" strike="noStrike">
                <a:solidFill>
                  <a:srgbClr val="073e87"/>
                </a:solidFill>
                <a:latin typeface="Candara"/>
              </a:rPr>
              <a:t>Интерактивная орфограмма "Правописание страдательных причастий прошедшего времени (суффиксы А и Я перед НН)"</a:t>
            </a:r>
            <a:br>
              <a:rPr sz="1300"/>
            </a:b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lnSpc>
                <a:spcPct val="90000"/>
              </a:lnSpc>
              <a:spcBef>
                <a:spcPts val="326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andara"/>
              </a:rPr>
              <a:t>Источники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9"/>
          <p:cNvSpPr/>
          <p:nvPr/>
        </p:nvSpPr>
        <p:spPr>
          <a:xfrm>
            <a:off x="250920" y="1890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228600" y="12193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5">
            <a:hlinkClick r:id="" action="ppaction://hlinkshowjump?jump=nextslide"/>
          </p:cNvPr>
          <p:cNvSpPr/>
          <p:nvPr/>
        </p:nvSpPr>
        <p:spPr>
          <a:xfrm>
            <a:off x="800100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ем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6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10"/>
          <p:cNvSpPr/>
          <p:nvPr/>
        </p:nvSpPr>
        <p:spPr>
          <a:xfrm>
            <a:off x="5791320" y="3276720"/>
            <a:ext cx="14475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"/>
          <p:cNvSpPr/>
          <p:nvPr/>
        </p:nvSpPr>
        <p:spPr>
          <a:xfrm>
            <a:off x="5181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2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3"/>
          <p:cNvSpPr/>
          <p:nvPr/>
        </p:nvSpPr>
        <p:spPr>
          <a:xfrm>
            <a:off x="1371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4"/>
          <p:cNvSpPr/>
          <p:nvPr/>
        </p:nvSpPr>
        <p:spPr>
          <a:xfrm>
            <a:off x="1371600" y="4952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7"/>
          <p:cNvSpPr/>
          <p:nvPr/>
        </p:nvSpPr>
        <p:spPr>
          <a:xfrm>
            <a:off x="5791320" y="4724280"/>
            <a:ext cx="14475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8"/>
          <p:cNvSpPr/>
          <p:nvPr/>
        </p:nvSpPr>
        <p:spPr>
          <a:xfrm>
            <a:off x="1981080" y="3276720"/>
            <a:ext cx="14479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,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9"/>
          <p:cNvSpPr/>
          <p:nvPr/>
        </p:nvSpPr>
        <p:spPr>
          <a:xfrm>
            <a:off x="1981080" y="4724280"/>
            <a:ext cx="14479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746748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467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9"/>
          <p:cNvSpPr/>
          <p:nvPr/>
        </p:nvSpPr>
        <p:spPr>
          <a:xfrm>
            <a:off x="3657600" y="3505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1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20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тюл..вый                                     В) выздоров..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настойч..вый                              Г) обветр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AutoShape 10"/>
          <p:cNvSpPr/>
          <p:nvPr/>
        </p:nvSpPr>
        <p:spPr>
          <a:xfrm>
            <a:off x="5791320" y="4724280"/>
            <a:ext cx="17524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51814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51814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3"/>
          <p:cNvSpPr/>
          <p:nvPr/>
        </p:nvSpPr>
        <p:spPr>
          <a:xfrm>
            <a:off x="83808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4"/>
          <p:cNvSpPr/>
          <p:nvPr/>
        </p:nvSpPr>
        <p:spPr>
          <a:xfrm>
            <a:off x="8380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7"/>
          <p:cNvSpPr/>
          <p:nvPr/>
        </p:nvSpPr>
        <p:spPr>
          <a:xfrm>
            <a:off x="5791320" y="3276720"/>
            <a:ext cx="17524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1447920" y="3276720"/>
            <a:ext cx="1827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,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1523880" y="4724280"/>
            <a:ext cx="17510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2"/>
          <p:cNvSpPr/>
          <p:nvPr/>
        </p:nvSpPr>
        <p:spPr>
          <a:xfrm>
            <a:off x="3505320" y="36576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23"/>
          <p:cNvSpPr/>
          <p:nvPr/>
        </p:nvSpPr>
        <p:spPr>
          <a:xfrm>
            <a:off x="7848720" y="3581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24"/>
          <p:cNvSpPr/>
          <p:nvPr/>
        </p:nvSpPr>
        <p:spPr>
          <a:xfrm>
            <a:off x="7848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5"/>
          <p:cNvSpPr/>
          <p:nvPr/>
        </p:nvSpPr>
        <p:spPr>
          <a:xfrm>
            <a:off x="358128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1"/>
          <p:cNvSpPr/>
          <p:nvPr/>
        </p:nvSpPr>
        <p:spPr>
          <a:xfrm>
            <a:off x="2286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кварц..вый                                    В) веж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дожд..вой                                        Г) ялт..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AutoShape 10"/>
          <p:cNvSpPr/>
          <p:nvPr/>
        </p:nvSpPr>
        <p:spPr>
          <a:xfrm>
            <a:off x="57150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"/>
          <p:cNvSpPr/>
          <p:nvPr/>
        </p:nvSpPr>
        <p:spPr>
          <a:xfrm>
            <a:off x="990720" y="3276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3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1600200" y="29718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8"/>
          <p:cNvSpPr/>
          <p:nvPr/>
        </p:nvSpPr>
        <p:spPr>
          <a:xfrm>
            <a:off x="5715000" y="4724280"/>
            <a:ext cx="1557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6002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2"/>
          <p:cNvSpPr/>
          <p:nvPr/>
        </p:nvSpPr>
        <p:spPr>
          <a:xfrm>
            <a:off x="7467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3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4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5"/>
          <p:cNvSpPr/>
          <p:nvPr/>
        </p:nvSpPr>
        <p:spPr>
          <a:xfrm>
            <a:off x="35053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6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304920" y="457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каком варианте ответа указаны все слова, где пропущена буква 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придерж..вать                              В) назойл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фасол..вый                                   Г) танц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2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8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2"/>
          <p:cNvSpPr/>
          <p:nvPr/>
        </p:nvSpPr>
        <p:spPr>
          <a:xfrm>
            <a:off x="1066680" y="5181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3"/>
          <p:cNvSpPr/>
          <p:nvPr/>
        </p:nvSpPr>
        <p:spPr>
          <a:xfrm>
            <a:off x="1676520" y="2895480"/>
            <a:ext cx="160020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4"/>
          <p:cNvSpPr/>
          <p:nvPr/>
        </p:nvSpPr>
        <p:spPr>
          <a:xfrm>
            <a:off x="1600200" y="480060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5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35053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8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0">
            <a:hlinkClick r:id="" action="ppaction://hlinkshowjump?jump=nextslide"/>
          </p:cNvPr>
          <p:cNvSpPr/>
          <p:nvPr/>
        </p:nvSpPr>
        <p:spPr>
          <a:xfrm>
            <a:off x="7848720" y="6095880"/>
            <a:ext cx="738000" cy="509760"/>
          </a:xfrm>
          <a:custGeom>
            <a:avLst/>
            <a:gdLst>
              <a:gd name="textAreaLeft" fmla="*/ 32760 w 738000"/>
              <a:gd name="textAreaRight" fmla="*/ 705240 w 7380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64" h="21600">
                <a:moveTo>
                  <a:pt x="0" y="0"/>
                </a:moveTo>
                <a:lnTo>
                  <a:pt x="31264" y="0"/>
                </a:lnTo>
                <a:lnTo>
                  <a:pt x="31264" y="21600"/>
                </a:lnTo>
                <a:lnTo>
                  <a:pt x="0" y="21600"/>
                </a:lnTo>
                <a:close/>
              </a:path>
              <a:path fill="lightenLess" w="31264" h="21600">
                <a:moveTo>
                  <a:pt x="0" y="0"/>
                </a:moveTo>
                <a:lnTo>
                  <a:pt x="31264" y="0"/>
                </a:lnTo>
                <a:lnTo>
                  <a:pt x="29864" y="1400"/>
                </a:lnTo>
                <a:lnTo>
                  <a:pt x="1400" y="1400"/>
                </a:lnTo>
                <a:close/>
              </a:path>
              <a:path fill="darken" w="31264" h="21600">
                <a:moveTo>
                  <a:pt x="31264" y="0"/>
                </a:moveTo>
                <a:lnTo>
                  <a:pt x="31264" y="21600"/>
                </a:lnTo>
                <a:lnTo>
                  <a:pt x="29864" y="20200"/>
                </a:lnTo>
                <a:lnTo>
                  <a:pt x="29864" y="1400"/>
                </a:lnTo>
                <a:close/>
              </a:path>
              <a:path fill="darkenLess" w="31264" h="21600">
                <a:moveTo>
                  <a:pt x="312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4" y="20200"/>
                </a:lnTo>
                <a:close/>
              </a:path>
              <a:path fill="lighten" w="312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4" h="21600">
                <a:moveTo>
                  <a:pt x="8626" y="3794"/>
                </a:moveTo>
                <a:lnTo>
                  <a:pt x="22639" y="10800"/>
                </a:lnTo>
                <a:lnTo>
                  <a:pt x="8626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1"/>
          <p:cNvSpPr/>
          <p:nvPr/>
        </p:nvSpPr>
        <p:spPr>
          <a:xfrm>
            <a:off x="228600" y="533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сме..вать                           В) обид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олоточ..к                              Г) вол..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8"/>
          <p:cNvSpPr/>
          <p:nvPr/>
        </p:nvSpPr>
        <p:spPr>
          <a:xfrm>
            <a:off x="5715000" y="31240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51055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99072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51055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3"/>
          <p:cNvSpPr/>
          <p:nvPr/>
        </p:nvSpPr>
        <p:spPr>
          <a:xfrm>
            <a:off x="1600200" y="31240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600200" y="4724280"/>
            <a:ext cx="16765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,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715000" y="472428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754380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21"/>
          <p:cNvSpPr/>
          <p:nvPr/>
        </p:nvSpPr>
        <p:spPr>
          <a:xfrm>
            <a:off x="228600" y="6094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идерж..вать                             В) свад..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зойл..вый                                  Г) настойч..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6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AutoShape 8"/>
          <p:cNvSpPr/>
          <p:nvPr/>
        </p:nvSpPr>
        <p:spPr>
          <a:xfrm>
            <a:off x="1600200" y="31240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51814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0"/>
          <p:cNvSpPr/>
          <p:nvPr/>
        </p:nvSpPr>
        <p:spPr>
          <a:xfrm>
            <a:off x="106668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1"/>
          <p:cNvSpPr/>
          <p:nvPr/>
        </p:nvSpPr>
        <p:spPr>
          <a:xfrm>
            <a:off x="51055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2"/>
          <p:cNvSpPr/>
          <p:nvPr/>
        </p:nvSpPr>
        <p:spPr>
          <a:xfrm>
            <a:off x="990720" y="502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5715000" y="3048120"/>
            <a:ext cx="16002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Б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715000" y="4800600"/>
            <a:ext cx="1600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В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1600200" y="4724280"/>
            <a:ext cx="1674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6"/>
          <p:cNvSpPr/>
          <p:nvPr/>
        </p:nvSpPr>
        <p:spPr>
          <a:xfrm>
            <a:off x="7543800" y="33526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7"/>
          <p:cNvSpPr/>
          <p:nvPr/>
        </p:nvSpPr>
        <p:spPr>
          <a:xfrm>
            <a:off x="754380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8"/>
          <p:cNvSpPr/>
          <p:nvPr/>
        </p:nvSpPr>
        <p:spPr>
          <a:xfrm>
            <a:off x="3505320" y="34290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9"/>
          <p:cNvSpPr/>
          <p:nvPr/>
        </p:nvSpPr>
        <p:spPr>
          <a:xfrm>
            <a:off x="3505320" y="5105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0">
            <a:hlinkClick r:id="" action="ppaction://hlinkshowjump?jump=nextslide"/>
          </p:cNvPr>
          <p:cNvSpPr/>
          <p:nvPr/>
        </p:nvSpPr>
        <p:spPr>
          <a:xfrm>
            <a:off x="7924680" y="609588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1"/>
          <p:cNvSpPr/>
          <p:nvPr/>
        </p:nvSpPr>
        <p:spPr>
          <a:xfrm>
            <a:off x="228600" y="533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варианте ответа указаны все слова, где пропущена буква 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думч..вый                               В) изюм..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череш..нка                                Г) ноч..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2-10-20T10:11:19Z</dcterms:modified>
  <cp:revision>1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