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gif" ContentType="image/gif"/>
  <Override PartName="/ppt/media/image9.png" ContentType="image/png"/>
  <Override PartName="/ppt/media/image11.png" ContentType="image/pn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E4F7-FB33-4FE2-9CA6-4D6521FDB9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к курсу разработана Аверьяновой Ю.С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.Ухта, МОУ «СОШ №2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4902-979E-498B-9CC3-9C5AE09E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D5B-2F81-4302-B4D4-4B44A2B8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274-3124-4C62-9DF0-E9A0A030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5E40-414E-4DAF-97C8-F1A5B010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5378-1222-4F42-98C3-1FDE1ED4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589C-56B5-42AA-A5C6-5C0BEDC5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C48A-59EE-41A4-936F-7F77F6B0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95B6-15B2-4472-8E7E-8B325C94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8150-B7F7-49BA-8882-91F6DECE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C4D3-B60D-4F74-A4C4-EE604351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F904-7BF5-47B1-BE5F-5D65D7F9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1F7-ADBE-41B9-BA54-E33BFB9A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96A6-E0B8-40D9-AF4A-C05AC2A4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75CB-F0A2-4285-BC2F-6296903A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E487-07E3-4CE7-914D-23E10906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9CCC-6BA5-4075-9F04-2A721CB1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F799-0F4C-4122-B22D-8588982C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2E0A-F906-4EEA-83D1-25CE5D36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6F3-EDE4-4A95-8393-1E907118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16F-F429-4531-9AC1-8EE3695B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005-3B08-4043-AE14-0EBC7524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AB40-4509-418A-89D1-B36620CF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C83-77F6-4D1E-ABC8-BAC1AB86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FA0-271B-407F-B5D3-2687AD9A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25C4-AB6D-4C33-80FA-414D48EDFB2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7EBA-3426-4445-903D-F7F98BCD73F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-458640"/>
            <a:ext cx="696564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0b854"/>
                </a:solidFill>
                <a:uFillTx/>
                <a:latin typeface="Arial"/>
              </a:rPr>
              <a:t>Элективный курс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971280" y="2420640"/>
            <a:ext cx="6467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f1311"/>
                </a:solidFill>
                <a:latin typeface="Arial"/>
              </a:rPr>
              <a:t>Сочинение в жанре письма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11280" y="4508640"/>
            <a:ext cx="2111400" cy="1990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19640" y="5951520"/>
            <a:ext cx="43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Презентация к курсу разработана Аверьяновой Ю.С.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Г.Ухта, МОУ «СОШ №2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Человек любой профессии: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Педагог и чиновник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Менеджер и программист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Инженер и  журналист,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Юрист и врач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f1311"/>
                </a:solidFill>
                <a:latin typeface="Arial"/>
              </a:rPr>
              <a:t>должен приобрести  коммуникативные навыки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f1311"/>
                </a:solidFill>
                <a:latin typeface="Arial"/>
              </a:rPr>
              <a:t>научиться выражать свои мысли  в официальном выступлении перед аудиторией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f1311"/>
                </a:solidFill>
                <a:latin typeface="Arial"/>
              </a:rPr>
              <a:t>в деловой бесед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f1311"/>
                </a:solidFill>
                <a:latin typeface="Arial"/>
              </a:rPr>
              <a:t>грамотно и свободно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0b854"/>
                </a:solidFill>
                <a:uFillTx/>
                <a:latin typeface="Arial"/>
              </a:rPr>
              <a:t>КУЛЬТУРА ПИСЬМА –</a:t>
            </a:r>
            <a:br>
              <a:rPr sz="4400"/>
            </a:br>
            <a:r>
              <a:rPr b="1" i="1" lang="en-US" sz="4400" spc="-1" strike="noStrike" u="sng">
                <a:solidFill>
                  <a:srgbClr val="f0b854"/>
                </a:solidFill>
                <a:uFillTx/>
                <a:latin typeface="Arial"/>
              </a:rPr>
              <a:t>КУЛЬТУРА ЧЕЛОВЕКА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Нельзя писать в пустоту.                             Работая, надо представлять                        того человека,                                         которому ты пишешь все лучшее, что накопилось у тебя на душе и на сердце. Тогда придут сильные и свежие слова”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.Г.Паустовск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7d47d"/>
                </a:solidFill>
                <a:uFillTx/>
                <a:latin typeface="Arial"/>
              </a:rPr>
              <a:t>Цель курса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f1311"/>
                </a:solidFill>
                <a:latin typeface="Arial"/>
              </a:rPr>
              <a:t>научить самостоятельно писать сочинение в жанре письма;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karandah" descr=""/>
          <p:cNvPicPr/>
          <p:nvPr/>
        </p:nvPicPr>
        <p:blipFill>
          <a:blip r:embed="rId2"/>
          <a:stretch/>
        </p:blipFill>
        <p:spPr>
          <a:xfrm>
            <a:off x="5867280" y="3860640"/>
            <a:ext cx="1441440" cy="24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7d47d"/>
                </a:solidFill>
                <a:uFillTx/>
                <a:latin typeface="Arial"/>
              </a:rPr>
              <a:t>Задачи курса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Дать представление о сочинении в жанре письма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Совершенствовать коммуникативные навыки обучающихся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Совершенствовать навыки монологической речи и, как следствие, создание собственных текстов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Развивать творческие способности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7d47d"/>
                </a:solidFill>
                <a:uFillTx/>
                <a:latin typeface="Arial"/>
              </a:rPr>
              <a:t>Значимые темы.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Сочинение в жанре письма – жанр письменной работы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Виды писем (личное, деловое, благодарственное, поздравительное)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7d47d"/>
                </a:solidFill>
                <a:uFillTx/>
                <a:latin typeface="Arial"/>
              </a:rPr>
              <a:t>Предполагаемые проекты</a:t>
            </a:r>
            <a:br>
              <a:rPr sz="4400"/>
            </a:b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f1311"/>
                </a:solidFill>
                <a:latin typeface="Arial"/>
              </a:rPr>
              <a:t>Письмо – это жанр, развивающий истинно грамотную речь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f1311"/>
                </a:solidFill>
                <a:latin typeface="Arial"/>
              </a:rPr>
              <a:t>Признание в любви с помощью письма в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XIX </a:t>
            </a:r>
            <a:r>
              <a:rPr b="0" i="1" lang="ru-RU" sz="3600" spc="-1" strike="noStrike">
                <a:solidFill>
                  <a:srgbClr val="2f1311"/>
                </a:solidFill>
                <a:latin typeface="Arial"/>
              </a:rPr>
              <a:t>веке…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f1311"/>
                </a:solidFill>
                <a:latin typeface="Arial"/>
              </a:rPr>
              <a:t>Сравнительный анализ современного письма и писем военных лет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.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981000"/>
            <a:ext cx="73864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f1311"/>
                </a:solidFill>
                <a:latin typeface="Arial"/>
              </a:rPr>
              <a:t>В жизни часто возникает необходимость обратиться     к кому-либо с посланием,       то есть написать письмо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f1311"/>
                </a:solidFill>
                <a:latin typeface="Arial"/>
              </a:rPr>
              <a:t>Существуют правила написания письма – Вы узнаете, как правильно написать письмо!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572000" y="4437000"/>
            <a:ext cx="2376360" cy="18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5:12:49Z</dcterms:created>
  <dc:creator>Юля</dc:creator>
  <dc:description/>
  <dc:language>en-US</dc:language>
  <cp:lastModifiedBy>Юля</cp:lastModifiedBy>
  <dcterms:modified xsi:type="dcterms:W3CDTF">2012-10-11T14:53:29Z</dcterms:modified>
  <cp:revision>5</cp:revision>
  <dc:subject/>
  <dc:title>Элективный курс</dc:title>
</cp:coreProperties>
</file>