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gif" ContentType="image/gif"/>
  <Override PartName="/ppt/media/image9.png" ContentType="image/png"/>
  <Override PartName="/ppt/media/image11.png" ContentType="image/pn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4929-0A47-44DC-BC36-9D8664117B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к курсу разработана Аверьяновой Ю.С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.Ухта, МОУ «СОШ №2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1AC5-6063-42B3-ACAD-1E6543BE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E44A-3315-45E6-A0D3-B0D57A74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5460-E4BE-4301-8C27-409D4072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7D6-4D7A-4500-AE24-933187FC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EF71-87BF-4D9F-9158-A23EB026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0D6A-4CC8-412C-BC4B-76FAB28F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24B1-E237-4503-9388-99CA14A3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E5C1-1A96-433F-B9FA-E8A7FE81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BC63-F80B-4886-B317-CD62E88A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A0C3-4576-4EFA-8C35-A5EFFB37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C345-8952-4FA4-A0E9-4321172B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126-3916-4220-869E-C7287C7C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580A-2F24-4459-87F0-E06E2AB0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C9E6-6F58-466B-9607-CEB09B70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3FAA-DA4C-4EBF-AFA9-A28FA9ED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23C1-A9BE-4AF9-B716-59FA1016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FBD3-ECEF-4C55-B920-041AECCD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EF7E-C748-4360-8D1C-C00598DF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96D-4F9D-480D-8B84-A24CD2E2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DABB-CF48-4293-94F9-80B95F80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7FC4-A7A9-492B-9AC2-F89E16B6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578-9AE3-4E8F-85B7-67F8CF24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0060-2C82-4335-96BF-11657CB9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C83-ED38-401C-8B71-09F565BF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C0C3-EFFB-4AC3-B0AC-9913FA40A7B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2BD4-D05D-4B93-B8F9-322C4455488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-458640"/>
            <a:ext cx="696564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0b854"/>
                </a:solidFill>
                <a:uFillTx/>
                <a:latin typeface="Arial"/>
              </a:rPr>
              <a:t>Элективный курс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971280" y="2420640"/>
            <a:ext cx="6467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f1311"/>
                </a:solidFill>
                <a:latin typeface="Arial"/>
              </a:rPr>
              <a:t>Сочинение в жанре письма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11280" y="4508640"/>
            <a:ext cx="2111400" cy="1990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19640" y="5951520"/>
            <a:ext cx="43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Презентация к курсу разработана Аверьяновой Ю.С.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Г.Ухта, МОУ «СОШ №2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Человек любой профессии: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Педагог и чиновник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Менеджер и программист,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Инженер и  журналист,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Юрист и врач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f1311"/>
                </a:solidFill>
                <a:latin typeface="Arial"/>
              </a:rPr>
              <a:t>должен приобрести  коммуникативные навыки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f1311"/>
                </a:solidFill>
                <a:latin typeface="Arial"/>
              </a:rPr>
              <a:t>научиться выражать свои мысли  в официальном выступлении перед аудиторией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f1311"/>
                </a:solidFill>
                <a:latin typeface="Arial"/>
              </a:rPr>
              <a:t>в деловой бесед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f1311"/>
                </a:solidFill>
                <a:latin typeface="Arial"/>
              </a:rPr>
              <a:t>грамотно и свободно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0b854"/>
                </a:solidFill>
                <a:uFillTx/>
                <a:latin typeface="Arial"/>
              </a:rPr>
              <a:t>КУЛЬТУРА ПИСЬМА –</a:t>
            </a:r>
            <a:br>
              <a:rPr sz="4400"/>
            </a:br>
            <a:r>
              <a:rPr b="1" i="1" lang="en-US" sz="4400" spc="-1" strike="noStrike" u="sng">
                <a:solidFill>
                  <a:srgbClr val="f0b854"/>
                </a:solidFill>
                <a:uFillTx/>
                <a:latin typeface="Arial"/>
              </a:rPr>
              <a:t>КУЛЬТУРА ЧЕЛОВЕКА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Нельзя писать в пустоту.                             Работая, надо представлять                        того человека,                                         которому ты пишешь все лучшее, что накопилось у тебя на душе и на сердце. Тогда придут сильные и свежие слова”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.Г.Паустовск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7d47d"/>
                </a:solidFill>
                <a:uFillTx/>
                <a:latin typeface="Arial"/>
              </a:rPr>
              <a:t>Цель курса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f1311"/>
                </a:solidFill>
                <a:latin typeface="Arial"/>
              </a:rPr>
              <a:t>научить самостоятельно писать сочинение в жанре письма;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karandah" descr=""/>
          <p:cNvPicPr/>
          <p:nvPr/>
        </p:nvPicPr>
        <p:blipFill>
          <a:blip r:embed="rId2"/>
          <a:stretch/>
        </p:blipFill>
        <p:spPr>
          <a:xfrm>
            <a:off x="5867280" y="3860640"/>
            <a:ext cx="1441440" cy="24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7d47d"/>
                </a:solidFill>
                <a:uFillTx/>
                <a:latin typeface="Arial"/>
              </a:rPr>
              <a:t>Задачи курса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Дать представление о сочинении в жанре письма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Совершенствовать коммуникативные навыки обучающихся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Совершенствовать навыки монологической речи и, как следствие, создание собственных текстов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Развивать творческие способности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7d47d"/>
                </a:solidFill>
                <a:uFillTx/>
                <a:latin typeface="Arial"/>
              </a:rPr>
              <a:t>Значимые темы.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Сочинение в жанре письма – жанр письменной работы;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f1311"/>
                </a:solidFill>
                <a:latin typeface="Arial"/>
              </a:rPr>
              <a:t>Виды писем (личное, деловое, благодарственное, поздравительное)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7d47d"/>
                </a:solidFill>
                <a:uFillTx/>
                <a:latin typeface="Arial"/>
              </a:rPr>
              <a:t>Предполагаемые проекты</a:t>
            </a:r>
            <a:br>
              <a:rPr sz="4400"/>
            </a:b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f1311"/>
                </a:solidFill>
                <a:latin typeface="Arial"/>
              </a:rPr>
              <a:t>Письмо – это жанр, развивающий истинно грамотную речь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f1311"/>
                </a:solidFill>
                <a:latin typeface="Arial"/>
              </a:rPr>
              <a:t>Признание в любви с помощью письма в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XIX </a:t>
            </a:r>
            <a:r>
              <a:rPr b="0" i="1" lang="ru-RU" sz="3600" spc="-1" strike="noStrike">
                <a:solidFill>
                  <a:srgbClr val="2f1311"/>
                </a:solidFill>
                <a:latin typeface="Arial"/>
              </a:rPr>
              <a:t>веке…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f1311"/>
                </a:solidFill>
                <a:latin typeface="Arial"/>
              </a:rPr>
              <a:t>Сравнительный анализ современного письма и писем военных лет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7d47d"/>
                </a:solidFill>
                <a:uFillTx/>
                <a:latin typeface="Arial"/>
              </a:rPr>
              <a:t>.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981000"/>
            <a:ext cx="73864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f1311"/>
                </a:solidFill>
                <a:latin typeface="Arial"/>
              </a:rPr>
              <a:t>В жизни часто возникает необходимость обратиться     к кому-либо с посланием,       то есть написать письмо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f1311"/>
                </a:solidFill>
                <a:latin typeface="Arial"/>
              </a:rPr>
              <a:t>Существуют правила написания письма – Вы узнаете, как правильно написать письмо!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572000" y="4437000"/>
            <a:ext cx="2376360" cy="18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5:12:49Z</dcterms:created>
  <dc:creator>Юля</dc:creator>
  <dc:description/>
  <dc:language>en-US</dc:language>
  <cp:lastModifiedBy>Юля</cp:lastModifiedBy>
  <dcterms:modified xsi:type="dcterms:W3CDTF">2012-10-11T14:53:29Z</dcterms:modified>
  <cp:revision>5</cp:revision>
  <dc:subject/>
  <dc:title>Элективный курс</dc:title>
</cp:coreProperties>
</file>