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25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8.gif" ContentType="image/gi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AFEA-4F01-478E-901D-C69E15C2E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5E7D-D48D-47D8-829C-8FD04913D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9555-6982-47A2-A7D9-87DAF7705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EC6-8D7D-49B0-8D88-B37A54A3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15B-DCEB-487F-B3C2-86BF1224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E03-28C4-4109-875D-53E163FA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AF6-935C-434A-8E90-627AF1CC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0833-E710-4923-8ABD-03D0BC26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499F-0964-4020-8B0B-62CC4991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5417-883C-4FAB-8C2C-5DAF7AD1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7023-1512-4840-A287-4B105E99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8EDA-F1E3-405C-8D98-7A31B086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A6EA-0D3A-47B3-971A-C4DE4E7D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64CE-9EDF-4CB9-A97D-CDAA031C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F17-0874-4029-851A-F31E3B85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0697-448F-4A8F-87A0-BFD3F629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2E77-87A9-4D0F-9D0E-D35C650E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503F-10E8-4E74-8DE3-43DD7D77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789E-9076-4699-B167-BD04A04A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DF4F-8659-407F-A249-D5737412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87C9-F52E-4843-80B3-C5E9D67F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A7EF-5A30-46D8-916A-94ACE123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1068A-0A15-47A5-9BC4-630196FF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8B1B-688F-47CE-9A90-024B5BFE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385F6-296D-46AB-B037-075C759D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2E8-F7A0-4807-8A2B-128EA774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8470-EB7C-455B-84D2-A1E16DD0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DB80-A7DE-4D65-95A4-4F3543A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7231-C94F-4BE5-9CEE-11754C1A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82D2-8A44-4F3A-8F9A-2137C47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D769-FB0D-4303-9327-071D1ADD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FE07-DD41-4F4C-BAF2-FB3676FC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4F65-B747-4445-99BE-76224338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1F61E-0315-47F9-A557-78D3377F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D5556-546E-44A2-9E99-55DF2280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CFBBA-6982-4A0C-801A-97725AED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664-C6BD-477D-9697-A815520F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193FF-38BD-4FE6-8464-D8D41C23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02FD-1166-4971-8720-5AC2669A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C3A28-B979-47D9-AF2D-CB2CDC8D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8F7A6-FEB3-4D8C-81F8-9D945E9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5B30E-1042-4460-9C28-1509F376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7D3B4-B248-42F0-B08A-005F34CA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B0DE-8988-4858-A2B0-029A5C0D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3CEE-D26B-483E-892E-1A60750A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3D95D-221B-4ED4-A5F6-04951E5B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981-2D02-48BE-9067-5CE9D925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E41-8345-4517-A2E9-DC70A0C1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4A4-B8D9-4291-9F66-AB60C5D6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6C1-B225-4712-8236-B565487C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D13-8B0C-44CF-B538-FD8B68E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EAD3-D6B1-477D-92B9-B51FE45845D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0C51-8E71-4C52-AA3C-20F891ACA6E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7819-C0CF-4FC1-90BE-19EB754950C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7508-8A4C-4201-B619-513DA4B864C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nevnik.ru/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:\Users\Таня\Downloads\MP900438865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Monotype Corsiva"/>
              </a:rPr>
              <a:t>Исследовательская работа</a:t>
            </a:r>
            <a:br>
              <a:rPr sz="4800"/>
            </a:br>
            <a:r>
              <a:rPr b="1" lang="ru-RU" sz="4800" spc="-1" strike="noStrike">
                <a:solidFill>
                  <a:srgbClr val="003399"/>
                </a:solidFill>
                <a:latin typeface="Monotype Corsiva"/>
              </a:rPr>
              <a:t> по информатике на тему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2133720"/>
            <a:ext cx="885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 </a:t>
            </a:r>
            <a:endParaRPr b="1" lang="en-US" sz="12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4357800" y="3214800"/>
            <a:ext cx="47862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Работу выполнила:</a:t>
            </a:r>
            <a:br>
              <a:rPr sz="3300"/>
            </a:b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ученица 5 «Б» класса </a:t>
            </a:r>
            <a:br>
              <a:rPr sz="3300"/>
            </a:b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МБОУ СОШ № 10</a:t>
            </a:r>
            <a:br>
              <a:rPr sz="3300"/>
            </a:b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Сорокина Ирин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Научный руководитель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Леонтьева Анна Петровн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H1130007"/>
          <p:cNvPicPr/>
          <p:nvPr/>
        </p:nvPicPr>
        <p:blipFill>
          <a:blip r:embed="rId2"/>
          <a:srcRect l="10396" t="11559" r="23370" b="0"/>
          <a:stretch/>
        </p:blipFill>
        <p:spPr>
          <a:xfrm>
            <a:off x="1214280" y="4000680"/>
            <a:ext cx="2571840" cy="1931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0" y="2214720"/>
            <a:ext cx="9144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«Интернет: за и проти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7"/>
          <p:cNvSpPr/>
          <p:nvPr/>
        </p:nvSpPr>
        <p:spPr>
          <a:xfrm>
            <a:off x="4011840" y="64882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857160" y="189360"/>
            <a:ext cx="73580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«Дневник.ру» - официально зарегистрированная информационная система для обработки персональных данных. Доступ в систему осуществляется только по специальному коду, полученному в школе. Содержание общедоступных разделов контролируется системными администраторами во избежание появления нежелательной информации и рекла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В этом учебном году «Дневник.ру» стартовал в нашей школе. Познакомлю вас с тем, как я и мои родители работают в этой системе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Monotype Corsiva"/>
                <a:ea typeface="Times New Roman"/>
                <a:hlinkClick r:id="rId1"/>
              </a:rPr>
              <a:t>http://dnevnik.ru/</a:t>
            </a:r>
            <a:r>
              <a:rPr b="1" lang="ru-RU" sz="24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C:\Users\Таня\Desktop\48105666_1251533133_032_1.gif"/>
          <p:cNvPicPr/>
          <p:nvPr/>
        </p:nvPicPr>
        <p:blipFill>
          <a:blip r:embed="rId2"/>
          <a:stretch/>
        </p:blipFill>
        <p:spPr>
          <a:xfrm>
            <a:off x="7236000" y="4653000"/>
            <a:ext cx="152064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C:\Users\Таня\Desktop\specialist-it-1.jpg"/>
          <p:cNvPicPr/>
          <p:nvPr/>
        </p:nvPicPr>
        <p:blipFill>
          <a:blip r:embed="rId1"/>
          <a:srcRect l="0" t="9094" r="0" b="9094"/>
          <a:stretch/>
        </p:blipFill>
        <p:spPr>
          <a:xfrm>
            <a:off x="6651720" y="4929120"/>
            <a:ext cx="2492280" cy="19288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440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99"/>
                </a:solidFill>
                <a:latin typeface="Monotype Corsiva"/>
              </a:rPr>
              <a:t>Заключение</a:t>
            </a:r>
            <a:r>
              <a:rPr b="0" lang="ru-RU" sz="5000" spc="-1" strike="noStrike">
                <a:solidFill>
                  <a:srgbClr val="003399"/>
                </a:solidFill>
                <a:latin typeface="Sylfaen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107560" cy="58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Monotype Corsiva"/>
              </a:rPr>
              <a:t>В результате работы над выбранной темой «Интернет: за и против», изучив в литературе общественное  мнение по этому вопросу и мнение обучающихся 2–7, 11 классов нашей школы, я пришла к выводу – Мы – за, а не против Интернет. Представляя собой «мир» параллельный нашему, Интернет  дает достаточно много полезного для пользователей, имея и очень много отрицательного. Человек, «входящий» в сеть Интернета должен сделать свой выбор самостоятель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Monotype Corsiva"/>
              </a:rPr>
              <a:t>Обучающиеся нашей школы используют Интернет для получения информации, для общения, для развлечений, для выполнения домашней работы, для скачивания фильмов. Я считаю, что выбранные –позволили мне в полном объеме проанализировать ситуацию по использованию Интернет обучающимися школы по параллелям 2–7,11 классов. В процессе работы над темой я освоила программу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Monotype Corsiva"/>
              </a:rPr>
              <a:t>«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Monotype Corsiva"/>
              </a:rPr>
              <a:t>MS Excel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Monotype Corsiv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Monotype Corsiva"/>
              </a:rPr>
              <a:t>Новизну темы я вижу в том, что в моей работе предлагаются такие варианты применения Интернета, как использовани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99"/>
                </a:solidFill>
                <a:uFillTx/>
                <a:latin typeface="Monotype Corsiva"/>
              </a:rPr>
              <a:t>ЭОР </a:t>
            </a:r>
            <a:r>
              <a:rPr b="1" lang="ru-RU" sz="2400" spc="-1" strike="noStrike">
                <a:solidFill>
                  <a:srgbClr val="003399"/>
                </a:solidFill>
                <a:latin typeface="Monotype Corsiva"/>
              </a:rPr>
              <a:t>и системы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Monotype Corsiva"/>
              </a:rPr>
              <a:t>«Дневник.ру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Users\Таня\Desktop\0_66c40_a3fc9df7_XL.gif"/>
          <p:cNvPicPr/>
          <p:nvPr/>
        </p:nvPicPr>
        <p:blipFill>
          <a:blip r:embed="rId1"/>
          <a:stretch/>
        </p:blipFill>
        <p:spPr>
          <a:xfrm>
            <a:off x="755640" y="836640"/>
            <a:ext cx="6840720" cy="5630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623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Цель исследования :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Определение влияния Интернета на подростков, выявление их предпочтений и  предложение вариантов его использования.</a:t>
            </a: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адачи исследования:</a:t>
            </a:r>
            <a:br>
              <a:rPr sz="3200"/>
            </a:br>
            <a:r>
              <a:rPr b="0" lang="ru-RU" sz="3200" spc="-1" strike="noStrike">
                <a:solidFill>
                  <a:srgbClr val="003399"/>
                </a:solidFill>
                <a:latin typeface="Monotype Corsiva"/>
              </a:rPr>
              <a:t>- </a:t>
            </a: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Изучить информацию  о положительном и отрицательном влиянии Интернета.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- Выявить варианты использования Интернета обучающимися МБОУ СОШ  №10г. Павлово.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- Познакомиться с ЭОР (электронные образовательные ресурсы).</a:t>
            </a:r>
            <a:br>
              <a:rPr sz="3200"/>
            </a:br>
            <a:r>
              <a:rPr b="0" lang="ru-RU" sz="3200" spc="-1" strike="noStrike">
                <a:solidFill>
                  <a:srgbClr val="003399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6" descr="C:\Users\Таня\Desktop\0_4f6cc_bb45f55a_S.gif"/>
          <p:cNvPicPr/>
          <p:nvPr/>
        </p:nvPicPr>
        <p:blipFill>
          <a:blip r:embed="rId1"/>
          <a:stretch/>
        </p:blipFill>
        <p:spPr>
          <a:xfrm>
            <a:off x="6983280" y="4857840"/>
            <a:ext cx="2160720" cy="1765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Таня\Downloads\MP900422412.JPG"/>
          <p:cNvPicPr/>
          <p:nvPr/>
        </p:nvPicPr>
        <p:blipFill>
          <a:blip r:embed="rId1"/>
          <a:srcRect l="1054" t="0" r="9255" b="10235"/>
          <a:stretch/>
        </p:blipFill>
        <p:spPr>
          <a:xfrm>
            <a:off x="3583080" y="3857760"/>
            <a:ext cx="5560920" cy="30002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285840" y="1000080"/>
            <a:ext cx="678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етод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- Метод опроса (анкетирование и бесе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- Изучение литературы (рефериров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- Статистический метод (диаграмм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Интернет - глобальная компьютерная сеть,  всемирная сеть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Интернет является на сегодняшний день основной информационной средой. В ближайшем будущем информация будет играть все более важную роль в жизни человека. Доступ к информационным потокам стал и будет неотъемлемой частью нашей жизн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Рисунок 5" descr="istockvideoworldwideweb.jpg"/>
          <p:cNvPicPr/>
          <p:nvPr/>
        </p:nvPicPr>
        <p:blipFill>
          <a:blip r:embed="rId1"/>
          <a:srcRect l="7455" t="1700" r="11623" b="17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50752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Положительное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  влияние  Интернета на подростк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Интернет упрощает нашу жизнь, открывает перед нами всё большие возможности! Так же это большая помощь в учёбе и работе. Сейчас в один момент можно получить любую интересующую нас информацию на заданную тему, самые свежие новости, сплетни, информацию о кумирах. Появилась возможность связаться с любой точкой мира за считанные секунды, играть в очень интересные и увлекательные on-lain игры, общаться в режиме on-lain по социальным сетям «</a:t>
            </a:r>
            <a:r>
              <a:rPr b="1" lang="en-US" sz="2000" spc="-1" strike="noStrike">
                <a:solidFill>
                  <a:srgbClr val="000099"/>
                </a:solidFill>
                <a:latin typeface="Monotype Corsiva"/>
              </a:rPr>
              <a:t>vkontakte</a:t>
            </a: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», «О</a:t>
            </a:r>
            <a:r>
              <a:rPr b="1" lang="en-US" sz="2000" spc="-1" strike="noStrike">
                <a:solidFill>
                  <a:srgbClr val="000099"/>
                </a:solidFill>
                <a:latin typeface="Monotype Corsiva"/>
              </a:rPr>
              <a:t>dnoklassniki</a:t>
            </a: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Отрицательное влияние  Интернета на подростк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эйфория  при работе за компьютером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невозможность остановиться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увеличение количества времени, проводимого за компьютером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пренебрежение семьей и друзьям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ощущения пустоты, депрессии, раздражения не за компьютером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ложь  членам семьи о своей деятельност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проблемы с  учебо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C:\Users\Таня\Desktop\48105666_1251533133_032_1.gif"/>
          <p:cNvPicPr/>
          <p:nvPr/>
        </p:nvPicPr>
        <p:blipFill>
          <a:blip r:embed="rId1"/>
          <a:stretch/>
        </p:blipFill>
        <p:spPr>
          <a:xfrm>
            <a:off x="7236000" y="4653000"/>
            <a:ext cx="152064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333720" y="119160"/>
            <a:ext cx="81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спользование Интернет обучающими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МБОУ СОШ №10 г. Пав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79280" y="767160"/>
            <a:ext cx="878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Первым шагом выполнения  моей работы было исследование проблемы интернет - зависимости среди учащихся нашей школы. Учащимся 2–7, 11 классов были задан вопрос:  «В каких целях используется Интернет?» и предложены варианты отве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ля получения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ля 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ля развле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ля выполнения домашне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ля скачивания филь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Число респондентов распределилось следующим образом: 2б класс – 27 человек, 3б класс – 26 человек, 4б класс – 26 человек, 5б – 28 человек, 6в – 25 человек, 7б – 16 человек, 11 класс  - 28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Анализ ответов по классам представлен на 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Диаграмма 4" descr=""/>
          <p:cNvPicPr/>
          <p:nvPr/>
        </p:nvPicPr>
        <p:blipFill>
          <a:blip r:embed="rId1"/>
          <a:srcRect l="5512" t="15884" r="7072" b="18515"/>
          <a:stretch/>
        </p:blipFill>
        <p:spPr>
          <a:xfrm>
            <a:off x="1187280" y="4221000"/>
            <a:ext cx="582012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250920" y="1944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анные диаграммы показывают, что в большей степени Интернет используется учащимися выбранных классов является получение информации и составляет 32%, в меньшей – для выполнения домашней работы, что составляет лишь 14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Проанализируем, как используют Интернет для получения информации обучающиеся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Диаграмма 3" descr=""/>
          <p:cNvPicPr/>
          <p:nvPr/>
        </p:nvPicPr>
        <p:blipFill>
          <a:blip r:embed="rId1"/>
          <a:srcRect l="0" t="10391" r="0" b="9536"/>
          <a:stretch/>
        </p:blipFill>
        <p:spPr>
          <a:xfrm>
            <a:off x="2195640" y="1916280"/>
            <a:ext cx="4248000" cy="1657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179280" y="3200760"/>
            <a:ext cx="860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Больше других используют интернет для получения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выпускники 11 класса, это 21%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Напротив как средство общения Интернет используют, как это можно увидеть на следующей диаграмме, почти в равных долях 5б и 11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Диаграмма 5" descr=""/>
          <p:cNvPicPr/>
          <p:nvPr/>
        </p:nvPicPr>
        <p:blipFill>
          <a:blip r:embed="rId2"/>
          <a:srcRect l="6652" t="13205" r="0" b="10259"/>
          <a:stretch/>
        </p:blipFill>
        <p:spPr>
          <a:xfrm>
            <a:off x="2050920" y="4869000"/>
            <a:ext cx="44784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0" y="728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Интересно распределяется выбор выше предложенных вариантов использования Интернет в тестируемых классах. Приведем данные по каждому классу в виде диа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Диаграмма 9" descr=""/>
          <p:cNvPicPr/>
          <p:nvPr/>
        </p:nvPicPr>
        <p:blipFill>
          <a:blip r:embed="rId1"/>
          <a:srcRect l="20785" t="11756" r="21736" b="21534"/>
          <a:stretch/>
        </p:blipFill>
        <p:spPr>
          <a:xfrm>
            <a:off x="611280" y="2060640"/>
            <a:ext cx="2303280" cy="121104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8"/>
          <p:cNvSpPr/>
          <p:nvPr/>
        </p:nvSpPr>
        <p:spPr>
          <a:xfrm>
            <a:off x="1022400" y="170028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2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Диаграмма 10" descr=""/>
          <p:cNvPicPr/>
          <p:nvPr/>
        </p:nvPicPr>
        <p:blipFill>
          <a:blip r:embed="rId2"/>
          <a:srcRect l="13896" t="9498" r="12998" b="9498"/>
          <a:stretch/>
        </p:blipFill>
        <p:spPr>
          <a:xfrm>
            <a:off x="3348000" y="2060640"/>
            <a:ext cx="2303640" cy="12240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0"/>
          <p:cNvSpPr/>
          <p:nvPr/>
        </p:nvSpPr>
        <p:spPr>
          <a:xfrm>
            <a:off x="3792600" y="170028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3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Диаграмма 11" descr=""/>
          <p:cNvPicPr/>
          <p:nvPr/>
        </p:nvPicPr>
        <p:blipFill>
          <a:blip r:embed="rId3"/>
          <a:srcRect l="20753" t="8344" r="20117" b="11115"/>
          <a:stretch/>
        </p:blipFill>
        <p:spPr>
          <a:xfrm>
            <a:off x="6012000" y="2133720"/>
            <a:ext cx="231588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2"/>
          <p:cNvSpPr/>
          <p:nvPr/>
        </p:nvSpPr>
        <p:spPr>
          <a:xfrm>
            <a:off x="6494760" y="177336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4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Диаграмма 12" descr=""/>
          <p:cNvPicPr/>
          <p:nvPr/>
        </p:nvPicPr>
        <p:blipFill>
          <a:blip r:embed="rId4"/>
          <a:srcRect l="10305" t="9192" r="8690" b="9192"/>
          <a:stretch/>
        </p:blipFill>
        <p:spPr>
          <a:xfrm>
            <a:off x="468360" y="3645000"/>
            <a:ext cx="244800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4"/>
          <p:cNvSpPr/>
          <p:nvPr/>
        </p:nvSpPr>
        <p:spPr>
          <a:xfrm>
            <a:off x="1022400" y="328464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5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Диаграмма 13" descr=""/>
          <p:cNvPicPr/>
          <p:nvPr/>
        </p:nvPicPr>
        <p:blipFill>
          <a:blip r:embed="rId5"/>
          <a:srcRect l="13059" t="7693" r="12977" b="11547"/>
          <a:stretch/>
        </p:blipFill>
        <p:spPr>
          <a:xfrm>
            <a:off x="3276720" y="3645000"/>
            <a:ext cx="2363760" cy="143676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16"/>
          <p:cNvSpPr/>
          <p:nvPr/>
        </p:nvSpPr>
        <p:spPr>
          <a:xfrm>
            <a:off x="3754080" y="328464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6в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Диаграмма 14" descr=""/>
          <p:cNvPicPr/>
          <p:nvPr/>
        </p:nvPicPr>
        <p:blipFill>
          <a:blip r:embed="rId6"/>
          <a:srcRect l="9968" t="8040" r="10313" b="9768"/>
          <a:stretch/>
        </p:blipFill>
        <p:spPr>
          <a:xfrm>
            <a:off x="6012000" y="3645000"/>
            <a:ext cx="2422440" cy="14367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8"/>
          <p:cNvSpPr/>
          <p:nvPr/>
        </p:nvSpPr>
        <p:spPr>
          <a:xfrm>
            <a:off x="6567840" y="33577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7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Диаграмма 16" descr=""/>
          <p:cNvPicPr/>
          <p:nvPr/>
        </p:nvPicPr>
        <p:blipFill>
          <a:blip r:embed="rId7"/>
          <a:srcRect l="6936" t="16786" r="36282" b="20026"/>
          <a:stretch/>
        </p:blipFill>
        <p:spPr>
          <a:xfrm>
            <a:off x="468360" y="5373720"/>
            <a:ext cx="2519280" cy="148428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0"/>
          <p:cNvSpPr/>
          <p:nvPr/>
        </p:nvSpPr>
        <p:spPr>
          <a:xfrm>
            <a:off x="961200" y="508464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1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Диаграмма 17" descr=""/>
          <p:cNvPicPr/>
          <p:nvPr/>
        </p:nvPicPr>
        <p:blipFill>
          <a:blip r:embed="rId8"/>
          <a:srcRect l="53332" t="51485" r="1768" b="2632"/>
          <a:stretch/>
        </p:blipFill>
        <p:spPr>
          <a:xfrm>
            <a:off x="3203640" y="5229360"/>
            <a:ext cx="3168720" cy="148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0" y="13716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Вторым шагом исследования было определение числа учащихся в тех же классах, что и на первом шаге исследования, которые используют электронные образовательные ресурсы Интер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8"/>
          <p:cNvSpPr/>
          <p:nvPr/>
        </p:nvSpPr>
        <p:spPr>
          <a:xfrm>
            <a:off x="357120" y="4929120"/>
            <a:ext cx="857268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По диаграмме видно, что ЭОР в большей степени используют учащиеся 2б, 4б, 5б, 11 классов. В результате проведенного собеседования удалось выяснить, что классные руководители именно этих классов являются продвинутыми пользователями Интернет (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Monotype Corsiva"/>
                <a:hlinkClick r:id="rId1"/>
              </a:rPr>
              <a:t>http://school-collection.edu.ru/</a:t>
            </a: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Диаграмма 18" descr=""/>
          <p:cNvPicPr/>
          <p:nvPr/>
        </p:nvPicPr>
        <p:blipFill>
          <a:blip r:embed="rId2"/>
          <a:srcRect l="7867" t="11615" r="1501" b="14837"/>
          <a:stretch/>
        </p:blipFill>
        <p:spPr>
          <a:xfrm>
            <a:off x="1928880" y="1928880"/>
            <a:ext cx="571500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6:38:09Z</dcterms:created>
  <dc:creator>sorokinatl</dc:creator>
  <dc:description/>
  <dc:language>en-US</dc:language>
  <cp:lastModifiedBy>Пользователь</cp:lastModifiedBy>
  <dcterms:modified xsi:type="dcterms:W3CDTF">2012-10-22T16:09:00Z</dcterms:modified>
  <cp:revision>83</cp:revision>
  <dc:subject/>
  <dc:title>Тема  работы: «Профессия моей мечты»</dc:title>
</cp:coreProperties>
</file>