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2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8.gif" ContentType="image/gi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6DC-030E-4140-9477-182F922A2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A13E-6FBC-433C-AD1B-C10DBE63B6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690A-D1A3-4D3C-9429-E00ABD461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A95-D1ED-46AC-B79D-889821E6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3EE-B9E5-4799-934E-9A744D3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22A-F475-42F8-B207-7481089B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C84F-CF7B-432F-BC68-9C49C934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5F12-5286-4F9B-92B0-5D16D335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53D6-7A55-4F5C-A6C6-4CC6FFBC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2E53-C081-48F4-806A-F5834437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5097-A3EE-469B-9CF1-A5E74179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EDF7-6CF4-4020-BF60-797F6C05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784-2B6A-4BAE-A37B-EA628F41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1FB6-0224-457F-8C6D-D38FDFCA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B71-674E-4D0B-B505-F895AF0C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672D-9886-477B-8FD6-551726C1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94D-89C0-4500-86EC-1840A2AA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5CDA-5A1F-4AAD-B6B3-8AE93ABC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A7C-38B0-4F7D-8AC9-9613B599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8388-051C-4595-99F8-ED08EBF1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456B9-6789-4CB1-A0B4-DF360807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CD5C6-951D-4FDC-B7E8-8E68281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1DA7-A0D1-47F2-BA27-25292B7C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EAB0-9BD2-431E-BEB5-92D459F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A194-34D3-4329-8C9C-3F908F0C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8EB-EEEC-4DB7-862B-B8DD682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8B18-8D5D-4018-AF0D-F3D512E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25E1-80E8-4D08-BA93-22FBC99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9845B-1F5A-4BC9-92CD-23FB1D0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EB2C-33AA-44AF-BFA8-6ED6269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FA71-7887-4F7F-8015-8940198A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F78C-06EE-40F8-B6F3-0C0716E8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66A2-4D64-4BA3-94CE-F388C337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CCAF-4DF8-4E71-9087-B0C9BF97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14B3-0042-4FA8-97A4-6EC6953D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92CA-8E41-4E87-98DD-715ADA2C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4BC-A1B6-46DD-B4C1-C7D56265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6B068-EC6E-41BE-95B0-AE5C454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0583-15B0-4C96-8116-E8A12A8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18F2-C818-4DDE-AED2-374175D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7706-07D2-4BBF-93A7-B33A99BE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D015-7B03-4C19-ABA7-DD0D73D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4D5DD-231A-45C6-8F49-03191C6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78F7-0FB0-46CA-B21E-3765E60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24D8-0C2D-4A14-B3E3-F01C5F03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FEA6-FF48-43EE-920D-F7F35734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C39-177E-4548-A8C8-5D720B0E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3CF-0BBD-480F-8510-39ABAC65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C8E-E4CC-427F-A619-878527F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A27-9928-4DB7-954E-A2A09D2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0BF-C469-4C16-A679-A010974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8DD1-7B73-49E8-AD52-820B95E262F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2A9-7BFA-4940-B737-33D78895CF6E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DDDB-B356-4238-A7EE-03728BDA9AB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64DD-43D5-4CE6-8408-4C94246605B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nevnik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:\Users\Таня\Downloads\MP900438865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Monotype Corsiva"/>
              </a:rPr>
              <a:t>Исследовательская работа</a:t>
            </a:r>
            <a:br>
              <a:rPr sz="4800"/>
            </a:br>
            <a:r>
              <a:rPr b="1" lang="ru-RU" sz="4800" spc="-1" strike="noStrike">
                <a:solidFill>
                  <a:srgbClr val="003399"/>
                </a:solidFill>
                <a:latin typeface="Monotype Corsiva"/>
              </a:rPr>
              <a:t> по информатике на тему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179280" y="2133720"/>
            <a:ext cx="885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 </a:t>
            </a:r>
            <a:endParaRPr b="1" lang="en-US" sz="12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357800" y="3214800"/>
            <a:ext cx="47862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Работу выполнила: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ученица 5 «Б» класса 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МБОУ СОШ № 10</a:t>
            </a:r>
            <a:br>
              <a:rPr sz="3300"/>
            </a:b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Сорокина Ири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Научный руководитель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99"/>
                </a:solidFill>
                <a:latin typeface="Monotype Corsiva"/>
              </a:rPr>
              <a:t>Леонтьева Анна Петров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H1130007"/>
          <p:cNvPicPr/>
          <p:nvPr/>
        </p:nvPicPr>
        <p:blipFill>
          <a:blip r:embed="rId2"/>
          <a:srcRect l="10396" t="11559" r="23370" b="0"/>
          <a:stretch/>
        </p:blipFill>
        <p:spPr>
          <a:xfrm>
            <a:off x="1214280" y="4000680"/>
            <a:ext cx="2571840" cy="1931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0" y="221472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«Интернет: за и проти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7"/>
          <p:cNvSpPr/>
          <p:nvPr/>
        </p:nvSpPr>
        <p:spPr>
          <a:xfrm>
            <a:off x="4011840" y="64882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857160" y="189360"/>
            <a:ext cx="73580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«Дневник.ру» - официально зарегистрированная информационная система для обработки персональных данных. Доступ в систему осуществляется только по специальному коду, полученному в школе. Содержание общедоступных разделов контролируется системными администраторами во избежание появления нежелательной информации и рекла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 этом учебном году «Дневник.ру» стартовал в нашей школе. Познакомлю вас с тем, как я и мои родители работают в этой системе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Monotype Corsiva"/>
                <a:ea typeface="Times New Roman"/>
                <a:hlinkClick r:id="rId1"/>
              </a:rPr>
              <a:t>http://dnevnik.ru/</a:t>
            </a:r>
            <a:r>
              <a:rPr b="1" lang="ru-RU" sz="24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C:\Users\Таня\Desktop\48105666_1251533133_032_1.gif"/>
          <p:cNvPicPr/>
          <p:nvPr/>
        </p:nvPicPr>
        <p:blipFill>
          <a:blip r:embed="rId2"/>
          <a:stretch/>
        </p:blipFill>
        <p:spPr>
          <a:xfrm>
            <a:off x="7236000" y="4653000"/>
            <a:ext cx="152064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C:\Users\Таня\Desktop\specialist-it-1.jpg"/>
          <p:cNvPicPr/>
          <p:nvPr/>
        </p:nvPicPr>
        <p:blipFill>
          <a:blip r:embed="rId1"/>
          <a:srcRect l="0" t="9094" r="0" b="9094"/>
          <a:stretch/>
        </p:blipFill>
        <p:spPr>
          <a:xfrm>
            <a:off x="6651720" y="4929120"/>
            <a:ext cx="2492280" cy="19288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440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Monotype Corsiva"/>
              </a:rPr>
              <a:t>Заключение</a:t>
            </a:r>
            <a:r>
              <a:rPr b="0" lang="ru-RU" sz="5000" spc="-1" strike="noStrike">
                <a:solidFill>
                  <a:srgbClr val="003399"/>
                </a:solidFill>
                <a:latin typeface="Sylfaen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13840" y="785880"/>
            <a:ext cx="8107560" cy="58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В результате работы над выбранной темой «Интернет: за и против», изучив в литературе общественное  мнение по этому вопросу и мнение обучающихся 2–7, 11 классов нашей школы, я пришла к выводу – Мы – за, а не против Интернет. Представляя собой «мир» параллельный нашему, Интернет  дает достаточно много полезного для пользователей, имея и очень много отрицательного. Человек, «входящий» в сеть Интернета должен сделать свой выбор самостоятельн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Обучающиеся нашей школы используют Интернет для получения информации, для общения, для развлечений, для выполнения домашней работы, для скачивания фильмов. Я считаю, что выбранные –позволили мне в полном объеме проанализировать ситуацию по использованию Интернет обучающимися школы по параллелям 2–7,11 классов. В процессе работы над темой я освоила программу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«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Monotype Corsiva"/>
              </a:rPr>
              <a:t>MS Excel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Новизну темы я вижу в том, что в моей работе предлагаются такие варианты применения Интернета, как использовани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ЭОР </a:t>
            </a:r>
            <a:r>
              <a:rPr b="1" lang="ru-RU" sz="2400" spc="-1" strike="noStrike">
                <a:solidFill>
                  <a:srgbClr val="003399"/>
                </a:solidFill>
                <a:latin typeface="Monotype Corsiva"/>
              </a:rPr>
              <a:t>и системы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Monotype Corsiva"/>
              </a:rPr>
              <a:t>«Дневник.ру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Users\Таня\Desktop\0_66c40_a3fc9df7_XL.gif"/>
          <p:cNvPicPr/>
          <p:nvPr/>
        </p:nvPicPr>
        <p:blipFill>
          <a:blip r:embed="rId1"/>
          <a:stretch/>
        </p:blipFill>
        <p:spPr>
          <a:xfrm>
            <a:off x="755640" y="836640"/>
            <a:ext cx="6840720" cy="5630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623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Цель исследования :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Определение влияния Интернета на подростков, выявление их предпочтений и  предложение вариантов его использования.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дачи исследования: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Monotype Corsiva"/>
              </a:rPr>
              <a:t>- </a:t>
            </a: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Изучить информацию  о положительном и отрицательном влиянии Интернета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Выявить варианты использования Интернета обучающимися МБОУ СОШ  №10г. Павлово.</a:t>
            </a:r>
            <a:br>
              <a:rPr sz="3200"/>
            </a:b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Познакомиться с ЭОР (электронные образовательные ресурсы).</a:t>
            </a:r>
            <a:br>
              <a:rPr sz="3200"/>
            </a:br>
            <a:r>
              <a:rPr b="0" lang="ru-RU" sz="3200" spc="-1" strike="noStrike">
                <a:solidFill>
                  <a:srgbClr val="003399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6" descr="C:\Users\Таня\Desktop\0_4f6cc_bb45f55a_S.gif"/>
          <p:cNvPicPr/>
          <p:nvPr/>
        </p:nvPicPr>
        <p:blipFill>
          <a:blip r:embed="rId1"/>
          <a:stretch/>
        </p:blipFill>
        <p:spPr>
          <a:xfrm>
            <a:off x="6983280" y="4857840"/>
            <a:ext cx="2160720" cy="1765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Таня\Downloads\MP900422412.JPG"/>
          <p:cNvPicPr/>
          <p:nvPr/>
        </p:nvPicPr>
        <p:blipFill>
          <a:blip r:embed="rId1"/>
          <a:srcRect l="1054" t="0" r="9255" b="10235"/>
          <a:stretch/>
        </p:blipFill>
        <p:spPr>
          <a:xfrm>
            <a:off x="3583080" y="3857760"/>
            <a:ext cx="5560920" cy="30002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285840" y="1000080"/>
            <a:ext cx="678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Метод опроса (анкетирование и бесе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Изучение литературы (рефериров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Monotype Corsiva"/>
              </a:rPr>
              <a:t>- Статистический метод (диаграмм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Интернет - глобальная компьютерная сеть,  всемирная сеть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Monotype Corsiva"/>
              </a:rPr>
              <a:t>Интернет является на сегодняшний день основной информационной средой. В ближайшем будущем информация будет играть все более важную роль в жизни человека. Доступ к информационным потокам стал и будет неотъемлемой частью нашей жизн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Рисунок 5" descr="istockvideoworldwideweb.jpg"/>
          <p:cNvPicPr/>
          <p:nvPr/>
        </p:nvPicPr>
        <p:blipFill>
          <a:blip r:embed="rId1"/>
          <a:srcRect l="7455" t="1700" r="11623" b="17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0752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Положительное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  влияние  Интернета на подрост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Интернет упрощает нашу жизнь, открывает перед нами всё большие возможности! Так же это большая помощь в учёбе и работе. Сейчас в один момент можно получить любую интересующую нас информацию на заданную тему, самые свежие новости, сплетни, информацию о кумирах. Появилась возможность связаться с любой точкой мира за считанные секунды, играть в очень интересные и увлекательные on-lain игры, общаться в режиме on-lain по социальным сетям «</a:t>
            </a:r>
            <a:r>
              <a:rPr b="1" lang="en-US" sz="2000" spc="-1" strike="noStrike">
                <a:solidFill>
                  <a:srgbClr val="000099"/>
                </a:solidFill>
                <a:latin typeface="Monotype Corsiva"/>
              </a:rPr>
              <a:t>vkontakte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», «О</a:t>
            </a:r>
            <a:r>
              <a:rPr b="1" lang="en-US" sz="2000" spc="-1" strike="noStrike">
                <a:solidFill>
                  <a:srgbClr val="000099"/>
                </a:solidFill>
                <a:latin typeface="Monotype Corsiva"/>
              </a:rPr>
              <a:t>dnoklassniki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Отрицательное влияние  Интернета на подростк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эйфория  при работе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невозможность остановиться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увеличение количества времени, проводимого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пренебрежение семьей и друзьям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ощущения пустоты, депрессии, раздражения не за компьютером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ложь  членам семьи о своей деятельности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-5180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otype Corsiva"/>
              </a:rPr>
              <a:t>проблемы с  учебо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C:\Users\Таня\Desktop\48105666_1251533133_032_1.gif"/>
          <p:cNvPicPr/>
          <p:nvPr/>
        </p:nvPicPr>
        <p:blipFill>
          <a:blip r:embed="rId1"/>
          <a:stretch/>
        </p:blipFill>
        <p:spPr>
          <a:xfrm>
            <a:off x="7236000" y="4653000"/>
            <a:ext cx="152064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333720" y="119160"/>
            <a:ext cx="81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спользование Интернет обучающими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МБОУ СОШ №10 г. Пав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79280" y="767160"/>
            <a:ext cx="878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Первым шагом выполнения  моей работы было исследование проблемы интернет - зависимости среди учащихся нашей школы. Учащимся 2–7, 11 классов были задан вопрос:  «В каких целях используется Интернет?» и предложены варианты от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получения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развле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выполнения домашне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ля скачивания филь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Число респондентов распределилось следующим образом: 2б класс – 27 человек, 3б класс – 26 человек, 4б класс – 26 человек, 5б – 28 человек, 6в – 25 человек, 7б – 16 человек, 11 класс  - 28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Анализ ответов по классам представлен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Диаграмма 4" descr=""/>
          <p:cNvPicPr/>
          <p:nvPr/>
        </p:nvPicPr>
        <p:blipFill>
          <a:blip r:embed="rId1"/>
          <a:srcRect l="5512" t="15884" r="7072" b="18515"/>
          <a:stretch/>
        </p:blipFill>
        <p:spPr>
          <a:xfrm>
            <a:off x="1187280" y="4221000"/>
            <a:ext cx="582012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250920" y="1944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Данные диаграммы показывают, что в большей степени Интернет используется учащимися выбранных классов является получение информации и составляет 32%, в меньшей – для выполнения домашней работы, что составляет лишь 14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Проанализируем, как используют Интернет для получения информации обучающиеся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Диаграмма 3" descr=""/>
          <p:cNvPicPr/>
          <p:nvPr/>
        </p:nvPicPr>
        <p:blipFill>
          <a:blip r:embed="rId1"/>
          <a:srcRect l="0" t="10391" r="0" b="9536"/>
          <a:stretch/>
        </p:blipFill>
        <p:spPr>
          <a:xfrm>
            <a:off x="2195640" y="1916280"/>
            <a:ext cx="4248000" cy="1657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179280" y="3200760"/>
            <a:ext cx="860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Больше других используют интернет для получения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ыпускники 11 класса, это 21%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Напротив как средство общения Интернет используют, как это можно увидеть на следующей диаграмме, почти в равных долях 5б и 11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Диаграмма 5" descr=""/>
          <p:cNvPicPr/>
          <p:nvPr/>
        </p:nvPicPr>
        <p:blipFill>
          <a:blip r:embed="rId2"/>
          <a:srcRect l="6652" t="13205" r="0" b="10259"/>
          <a:stretch/>
        </p:blipFill>
        <p:spPr>
          <a:xfrm>
            <a:off x="2050920" y="4869000"/>
            <a:ext cx="44784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0" y="728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Интересно распределяется выбор выше предложенных вариантов использования Интернет в тестируемых классах. Приведем данные по каждому классу в виде диа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Диаграмма 9" descr=""/>
          <p:cNvPicPr/>
          <p:nvPr/>
        </p:nvPicPr>
        <p:blipFill>
          <a:blip r:embed="rId1"/>
          <a:srcRect l="20785" t="11756" r="21736" b="21534"/>
          <a:stretch/>
        </p:blipFill>
        <p:spPr>
          <a:xfrm>
            <a:off x="611280" y="2060640"/>
            <a:ext cx="2303280" cy="12110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1022400" y="17002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2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Диаграмма 10" descr=""/>
          <p:cNvPicPr/>
          <p:nvPr/>
        </p:nvPicPr>
        <p:blipFill>
          <a:blip r:embed="rId2"/>
          <a:srcRect l="13896" t="9498" r="12998" b="9498"/>
          <a:stretch/>
        </p:blipFill>
        <p:spPr>
          <a:xfrm>
            <a:off x="3348000" y="2060640"/>
            <a:ext cx="2303640" cy="1224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0"/>
          <p:cNvSpPr/>
          <p:nvPr/>
        </p:nvSpPr>
        <p:spPr>
          <a:xfrm>
            <a:off x="3792600" y="170028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3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Диаграмма 11" descr=""/>
          <p:cNvPicPr/>
          <p:nvPr/>
        </p:nvPicPr>
        <p:blipFill>
          <a:blip r:embed="rId3"/>
          <a:srcRect l="20753" t="8344" r="20117" b="11115"/>
          <a:stretch/>
        </p:blipFill>
        <p:spPr>
          <a:xfrm>
            <a:off x="6012000" y="2133720"/>
            <a:ext cx="23158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2"/>
          <p:cNvSpPr/>
          <p:nvPr/>
        </p:nvSpPr>
        <p:spPr>
          <a:xfrm>
            <a:off x="6494760" y="177336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4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Диаграмма 12" descr=""/>
          <p:cNvPicPr/>
          <p:nvPr/>
        </p:nvPicPr>
        <p:blipFill>
          <a:blip r:embed="rId4"/>
          <a:srcRect l="10305" t="9192" r="8690" b="9192"/>
          <a:stretch/>
        </p:blipFill>
        <p:spPr>
          <a:xfrm>
            <a:off x="468360" y="3645000"/>
            <a:ext cx="24480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4"/>
          <p:cNvSpPr/>
          <p:nvPr/>
        </p:nvSpPr>
        <p:spPr>
          <a:xfrm>
            <a:off x="1022400" y="328464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5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Диаграмма 13" descr=""/>
          <p:cNvPicPr/>
          <p:nvPr/>
        </p:nvPicPr>
        <p:blipFill>
          <a:blip r:embed="rId5"/>
          <a:srcRect l="13059" t="7693" r="12977" b="11547"/>
          <a:stretch/>
        </p:blipFill>
        <p:spPr>
          <a:xfrm>
            <a:off x="3276720" y="3645000"/>
            <a:ext cx="2363760" cy="14367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6"/>
          <p:cNvSpPr/>
          <p:nvPr/>
        </p:nvSpPr>
        <p:spPr>
          <a:xfrm>
            <a:off x="3754080" y="328464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6в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Диаграмма 14" descr=""/>
          <p:cNvPicPr/>
          <p:nvPr/>
        </p:nvPicPr>
        <p:blipFill>
          <a:blip r:embed="rId6"/>
          <a:srcRect l="9968" t="8040" r="10313" b="9768"/>
          <a:stretch/>
        </p:blipFill>
        <p:spPr>
          <a:xfrm>
            <a:off x="6012000" y="3645000"/>
            <a:ext cx="2422440" cy="14367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8"/>
          <p:cNvSpPr/>
          <p:nvPr/>
        </p:nvSpPr>
        <p:spPr>
          <a:xfrm>
            <a:off x="6567840" y="33577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7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Диаграмма 16" descr=""/>
          <p:cNvPicPr/>
          <p:nvPr/>
        </p:nvPicPr>
        <p:blipFill>
          <a:blip r:embed="rId7"/>
          <a:srcRect l="6936" t="16786" r="36282" b="20026"/>
          <a:stretch/>
        </p:blipFill>
        <p:spPr>
          <a:xfrm>
            <a:off x="468360" y="5373720"/>
            <a:ext cx="2519280" cy="14842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0"/>
          <p:cNvSpPr/>
          <p:nvPr/>
        </p:nvSpPr>
        <p:spPr>
          <a:xfrm>
            <a:off x="961200" y="508464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1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Диаграмма 17" descr=""/>
          <p:cNvPicPr/>
          <p:nvPr/>
        </p:nvPicPr>
        <p:blipFill>
          <a:blip r:embed="rId8"/>
          <a:srcRect l="53332" t="51485" r="1768" b="2632"/>
          <a:stretch/>
        </p:blipFill>
        <p:spPr>
          <a:xfrm>
            <a:off x="3203640" y="5229360"/>
            <a:ext cx="3168720" cy="1487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0" y="137160"/>
            <a:ext cx="88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  <a:ea typeface="Times New Roman"/>
              </a:rPr>
              <a:t>Вторым шагом исследования было определение числа учащихся в тех же классах, что и на первом шаге исследования, которые используют электронные образовательные ресурсы Интер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18"/>
          <p:cNvSpPr/>
          <p:nvPr/>
        </p:nvSpPr>
        <p:spPr>
          <a:xfrm>
            <a:off x="357120" y="4929120"/>
            <a:ext cx="857268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По диаграмме видно, что ЭОР в большей степени используют учащиеся 2б, 4б, 5б, 11 классов. В результате проведенного собеседования удалось выяснить, что классные руководители именно этих классов являются продвинутыми пользователями Интернет (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Monotype Corsiva"/>
                <a:hlinkClick r:id="rId1"/>
              </a:rPr>
              <a:t>http://school-collection.edu.ru/</a:t>
            </a:r>
            <a:r>
              <a:rPr b="1" lang="ru-RU" sz="2000" spc="-1" strike="noStrike">
                <a:solidFill>
                  <a:srgbClr val="003399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Диаграмма 18" descr=""/>
          <p:cNvPicPr/>
          <p:nvPr/>
        </p:nvPicPr>
        <p:blipFill>
          <a:blip r:embed="rId2"/>
          <a:srcRect l="7867" t="11615" r="1501" b="14837"/>
          <a:stretch/>
        </p:blipFill>
        <p:spPr>
          <a:xfrm>
            <a:off x="1928880" y="1928880"/>
            <a:ext cx="571500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6:38:09Z</dcterms:created>
  <dc:creator>sorokinatl</dc:creator>
  <dc:description/>
  <dc:language>en-US</dc:language>
  <cp:lastModifiedBy>Пользователь</cp:lastModifiedBy>
  <dcterms:modified xsi:type="dcterms:W3CDTF">2012-10-22T16:09:00Z</dcterms:modified>
  <cp:revision>83</cp:revision>
  <dc:subject/>
  <dc:title>Тема  работы: «Профессия моей мечты»</dc:title>
</cp:coreProperties>
</file>