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C123-E973-4B17-BCCD-FB655B2572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B7A-1B42-4147-940C-EFF0439AB97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316-BCC6-4AC9-9749-D4BC290C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547-A892-4428-981A-F232D3F3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EE2-76C2-434D-9A56-F2516D3C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DF6-E25A-4BD5-A56B-BB972241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FB4B-66A9-4E56-B398-5BB97089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F993-262D-4D45-B809-2302DB1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882-F286-48A1-AF0C-ED08A009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85D3-E9BA-40B5-B7FA-0AF4835B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7429-CFF3-4216-89A7-AAFB14D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85A4-9765-4EAF-8183-191B3F7D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36D-1F54-4EFD-B8B7-03EAD241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FEA-9D37-4F5A-A904-36298440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448-5AD5-4300-A97A-7817F55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669A-2F86-46E5-A309-BF5483F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5A21-58A2-4934-B340-BCF2F061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FA79-4BC0-4A6A-A6F9-CDB67243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1B9F-530C-4E20-BB71-3ADA12B6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B55-FB53-4C7B-BE67-BCFBEF8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EA8-436A-430F-8F6F-CE93FDAD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2CB-CF01-42CC-8119-1B3D1224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C0E-F1AD-493F-8037-95DCC1D5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AB4-2212-4ECD-BF10-2D26421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28D-ABD5-4CA7-9FC3-DA28260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C12-2AB8-48EA-9C95-9BCECA1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17F7-1BE4-40FA-88FE-D337375046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339A-DD78-424C-919B-1F3195A9C5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3f9af"/>
                </a:solidFill>
                <a:latin typeface="Garamond"/>
              </a:rPr>
              <a:t>Особенности организации внеурочной деятельности в работе с одаренными детьми.</a:t>
            </a:r>
            <a:br>
              <a:rPr sz="2800"/>
            </a:br>
            <a:r>
              <a:rPr b="1" i="1" lang="ru-RU" sz="2800" spc="-1" strike="noStrike">
                <a:solidFill>
                  <a:srgbClr val="b3f9af"/>
                </a:solidFill>
                <a:latin typeface="Garamond"/>
              </a:rPr>
              <a:t>Реализация индивидуальных способностей одаренных детей в работе этнографического музея.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Что дают музейные уроки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Задача же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Школьный музей  - это сложный механизм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Жизнедеятельность музея целиком зависит от работы коллектива педагогов, одаренных детей и их родител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азвитию одаренности таких детей способствуют высокие познавательные интересы самих родител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Часто родителей с детьми объединяют общие познавательные интересы, на основе которых между ними возникают устойчивые дружеские отнош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сновная цель музея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главная цель, которая поставлена организаторами музея,- цель духовно-нравственного порядка 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ъединение таких семей в их интеллектуальных «хобби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укрепление связи семьи и школ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ой принцип работы музе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В основе музея лежит принцип – музей для детей и руками детей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сновной принцип любой формы культурно-образовательной деятельности  - предоставление посетителям музея возможности заниматься тем, что их интересует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Участие одаренных  детей в поисково-исследовательской работ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зучение и описание музейных экспонатов, создание экспозиций, проведение экскурсий, выполнение творческих работ способствует заполнению их досуга, овладению различными приёмами и навыками краеведческой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G:\фото масленица__01\IMG_0050.JPG"/>
          <p:cNvPicPr/>
          <p:nvPr/>
        </p:nvPicPr>
        <p:blipFill>
          <a:blip r:embed="rId1"/>
          <a:stretch/>
        </p:blipFill>
        <p:spPr>
          <a:xfrm>
            <a:off x="228600" y="152280"/>
            <a:ext cx="368316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G:\фото масленица__01\IMG_0047.JPG"/>
          <p:cNvPicPr/>
          <p:nvPr/>
        </p:nvPicPr>
        <p:blipFill>
          <a:blip r:embed="rId2"/>
          <a:stretch/>
        </p:blipFill>
        <p:spPr>
          <a:xfrm>
            <a:off x="4925880" y="3692520"/>
            <a:ext cx="419112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8" name="Picture 3" descr="G:\фогто экс в музее\IMG_1547.jpg"/>
          <p:cNvPicPr/>
          <p:nvPr/>
        </p:nvPicPr>
        <p:blipFill>
          <a:blip r:embed="rId1"/>
          <a:stretch/>
        </p:blipFill>
        <p:spPr>
          <a:xfrm>
            <a:off x="-14554080" y="-126954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G:\фогто экс в музее\IMG_1546.jpg"/>
          <p:cNvPicPr/>
          <p:nvPr/>
        </p:nvPicPr>
        <p:blipFill>
          <a:blip r:embed="rId2"/>
          <a:stretch/>
        </p:blipFill>
        <p:spPr>
          <a:xfrm>
            <a:off x="3276720" y="3151080"/>
            <a:ext cx="5410080" cy="3478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599840" y="2971800"/>
            <a:ext cx="7086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егодня фонд музея включает в себя не только подлинные музейные предметы (в том числе довольно редкие), но и многочисленные творческие работы учащихся, например, сборники фольклорных текстов, разработки сценариев народных праздников, собирание рецептов астраханской кухни и их систематизация, история астраханских храмов в поэзии и фотографиях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едметы, имеющие историческую ценность, выполненные руками народных мастеров, пробуждают душу ребенка, воспитывают в нем чувство красоты, любознательность, уважение к памяти и мудрости предк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Это поможет детям уже в школьном возрасте понять, что они – часть своего народа, своей стра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efee"/>
                </a:solidFill>
                <a:latin typeface="Garamond"/>
              </a:rPr>
              <a:t>Результатами работы музея являютс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ежегодное пополнение фонда лучшими творческими работами детей и предметами старин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проведение выставок новых поступле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чет о проведении экскурс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ВОРЧЕСКИЕ РАБОТЫ УЧАЩИХС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следовательские работы по фольклору (реферат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даренность – это системное, развивающееся в течение жизни качество психики, которое определяет возможность достижения человеком более высоких, незаурядных результатов в одном или нескольких видах деятельности по сравнению с другими людьм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Таким образом, школьный музей становится своеобразным научно-исследовательским центром духовно-нравственного, гражданского и патриотического воспитания подрастающего поколения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развивает творческие способности одаренных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даренный ребенок – 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880" y="-360"/>
            <a:ext cx="83059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бучение и воспитание одаренности у детей на уроках в школе, на внеклассных занятиях успешно и продуктивно тогда, когда образовательный процесс становится целостным и гармоничны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этом случае обращение к традиционной культуре помогает преодолеть формальные рамки урока или занят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а специфика материала (народная культура синкретична по своей сути) подсказывает педагогу и учащимся новые формы общения и обуче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даренные дети часто стремятся самостоятельно выбирать, какие предметы и разделы учебной программы они хотели бы изучать углубленно, целиком погружаются в то или иное дел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Наличие столь интенсивной склонности к определенному виду деятельности имеет своим следствием поразительное упорство и трудолюб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ы даем возможность таким детям выбрать как вариант внеурочной деятельности музейное дел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то дает возможность при внутренней мотивации  реализовать познавательную потребность, огромную любознательность, страстную увлеченность любимым делом у одаренных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 чем специфика школьного музея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пецифика школьного музея заключается в том, что в его деятельности преобладают образовательно-воспитательные фун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Школьный музей – прежде всего действенное средство повышения эффективности обучения и воспитания школьников как с явной одаренностью, так и со скрытыми её формам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крытые формы одаренности – это сложные по своей природе психические явления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ыявление детей со скрытой одаренностью не может быть одномоментной работ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Это длительный процесс включения ребенка в различные виды реальной деятельности, обогащения его индивидуальной жизненной сре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ебенок сегодняшнего дня катастрофически утрачивает способность видеть, понимать сущность увиденного,  подмечать значительные детали, обобща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Кстати, познавать окружающий мир ребенок начинает именно с «расшифровывания» для себя этих скрытых смыслов веще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Школьник, вступающий в жизнь, более чем кто-либо другой нуждается в получении не только аргументированных, но и эмоционально-выразительных сведений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этому без привлечения наглядных, образных методов обучения образовательный процесс утрачивает самое главное – перестаёт воздействовать на эмоциональную среду ребенка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8:55:57Z</dcterms:created>
  <dc:creator>1</dc:creator>
  <dc:description/>
  <dc:language>en-US</dc:language>
  <cp:lastModifiedBy>BOMBER</cp:lastModifiedBy>
  <dcterms:modified xsi:type="dcterms:W3CDTF">2012-10-22T18:14:0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