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D079A-A5CE-4D77-98B3-31B582E5012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FA4B7-AFFB-40D6-969A-7C8E95821A0E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A967-F646-4220-AD1D-5047A8E69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597A-109D-4255-97A8-F1A627892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2B79-7FCF-4A68-9B35-AFB1ADFA0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CE31-982D-4C46-BD0F-FCDFCBF2A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CF92B-0376-4D06-A893-6EFC5FE8D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81830-18E7-4C54-ADD5-C80D40A8D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302DA-E806-4C02-9612-30710DF54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A52BB-3349-4FF8-A6CE-02EB2E230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B2BCB-69BC-4862-A529-C00CE2429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4DDBE-66DC-468C-9467-6FDB480AC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CF0B0-6679-4ADD-8870-E396BF68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BFB6-B28C-4579-8983-2E3646F21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F2B42-96C7-42E5-8388-D1706CA10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4CA22-0C56-4223-8EFF-FACC4854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23851-B224-4F0A-AF68-9647D7D74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FC801-F14A-4045-8007-916E10B56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8965F-CAEC-4A8B-AB11-C98C390FC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872F-2A0C-4A03-92B8-6198EF26F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A0B3-0103-4A80-A7FE-BFC38748B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61EA-370F-4EB3-B85A-2DC2C3C6E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2CD5-3522-40A8-8FFC-C61FDD006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5DA6-EDC3-425B-B2F6-F4143581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0B47-C244-45B1-9125-8DFD3580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FCB8-735C-4396-AE9E-DF3574C8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9CD5A-4B4A-403A-8190-0A32D34A8C4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98083-B13E-4B89-BC34-9E922B23CD3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b3f9af"/>
                </a:solidFill>
                <a:latin typeface="Garamond"/>
              </a:rPr>
              <a:t>Особенности организации внеурочной деятельности в работе с одаренными детьми.</a:t>
            </a:r>
            <a:br>
              <a:rPr sz="2800"/>
            </a:br>
            <a:r>
              <a:rPr b="1" i="1" lang="ru-RU" sz="2800" spc="-1" strike="noStrike">
                <a:solidFill>
                  <a:srgbClr val="b3f9af"/>
                </a:solidFill>
                <a:latin typeface="Garamond"/>
              </a:rPr>
              <a:t>Реализация индивидуальных способностей одаренных детей в работе этнографического музея.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Что дают музейные уроки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музейные уроки позволяют «вывести» ребенка за пределы школы, дополнить школьное преподавание среди живой природы, в интерьерах музейных залов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Задача же преподавателя состоит не только в том, чтобы раскрыть суть ключевых понятий, но и озадачить детей вечными философскими вопросами, ответы на которые они будут искать все свою жизнь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b9efee"/>
                </a:solidFill>
                <a:latin typeface="Garamond"/>
              </a:rPr>
              <a:t>Школьный музей  - это сложный механизм…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Жизнедеятельность музея целиком зависит от работы коллектива педагогов, одаренных детей и их родителей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развитию одаренности таких детей способствуют высокие познавательные интересы самих родителей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Часто родителей с детьми объединяют общие познавательные интересы, на основе которых между ними возникают устойчивые дружеские отношени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Основная цель музея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главная цель, которая поставлена организаторами музея,- цель духовно-нравственного порядка 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объединение таких семей в их интеллектуальных «хобби»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укрепление связи семьи и школы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Основной принцип работы музея.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В основе музея лежит принцип – музей для детей и руками детей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Основной принцип любой формы культурно-образовательной деятельности  - предоставление посетителям музея возможности заниматься тем, что их интересует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создание условий для самореализаци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Участие одаренных  детей в поисково-исследовательской работе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изучение и описание музейных экспонатов, создание экспозиций, проведение экскурсий, выполнение творческих работ способствует заполнению их досуга, овладению различными приёмами и навыками краеведческой деятельности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G:\фото масленица__01\IMG_0050.JPG"/>
          <p:cNvPicPr/>
          <p:nvPr/>
        </p:nvPicPr>
        <p:blipFill>
          <a:blip r:embed="rId1"/>
          <a:stretch/>
        </p:blipFill>
        <p:spPr>
          <a:xfrm>
            <a:off x="228600" y="152280"/>
            <a:ext cx="3683160" cy="27432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" descr="G:\фото масленица__01\IMG_0047.JPG"/>
          <p:cNvPicPr/>
          <p:nvPr/>
        </p:nvPicPr>
        <p:blipFill>
          <a:blip r:embed="rId2"/>
          <a:stretch/>
        </p:blipFill>
        <p:spPr>
          <a:xfrm>
            <a:off x="4925880" y="3692520"/>
            <a:ext cx="419112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8" name="Picture 3" descr="G:\фогто экс в музее\IMG_1547.jpg"/>
          <p:cNvPicPr/>
          <p:nvPr/>
        </p:nvPicPr>
        <p:blipFill>
          <a:blip r:embed="rId1"/>
          <a:stretch/>
        </p:blipFill>
        <p:spPr>
          <a:xfrm>
            <a:off x="-14554080" y="-12695400"/>
            <a:ext cx="9753480" cy="73152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" descr="G:\фогто экс в музее\IMG_1546.jpg"/>
          <p:cNvPicPr/>
          <p:nvPr/>
        </p:nvPicPr>
        <p:blipFill>
          <a:blip r:embed="rId2"/>
          <a:stretch/>
        </p:blipFill>
        <p:spPr>
          <a:xfrm>
            <a:off x="3276720" y="3151080"/>
            <a:ext cx="5410080" cy="34783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1599840" y="2971800"/>
            <a:ext cx="708660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533520" y="38052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Сегодня фонд музея включает в себя не только подлинные музейные предметы (в том числе довольно редкие), но и многочисленные творческие работы учащихся, например, сборники фольклорных текстов, разработки сценариев народных праздников, собирание рецептов астраханской кухни и их систематизация, история астраханских храмов в поэзии и фотографиях и т.д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Предметы, имеющие историческую ценность, выполненные руками народных мастеров, пробуждают душу ребенка, воспитывают в нем чувство красоты, любознательность, уважение к памяти и мудрости предков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Это поможет детям уже в школьном возрасте понять, что они – часть своего народа, своей страны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b9efee"/>
                </a:solidFill>
                <a:latin typeface="Garamond"/>
              </a:rPr>
              <a:t>Результатами работы музея являются: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ежегодное пополнение фонда лучшими творческими работами детей и предметами старины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проведение выставок новых поступлений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отчет о проведении экскурси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ТВОРЧЕСКИЕ РАБОТЫ УЧАЩИХСЯ: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борник текстов детского фольклора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борник текстов малых жанров фольклора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борник текстов несказочной прозы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Записи текстов лирики, частушек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очинения по теме «Улица, на которой я живу»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стория храмов Астрахани и Астраханской области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сследовательские работы по фольклору (рефераты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Одаренность – это системное, развивающееся в течение жизни качество психики, которое определяет возможность достижения человеком более высоких, незаурядных результатов в одном или нескольких видах деятельности по сравнению с другими людьми.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Таким образом, школьный музей становится своеобразным научно-исследовательским центром духовно-нравственного, гражданского и патриотического воспитания подрастающего поколения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развивает творческие способности одаренных дете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Одаренный ребенок – это ребенок, который выделяется яркими, очевидными, иногда выдающимися достижениями (или имеет внутренние предпосылки для таких достижений) в том или ином виде деятельност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80880" y="-360"/>
            <a:ext cx="83059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Обучение и воспитание одаренности у детей на уроках в школе, на внеклассных занятиях успешно и продуктивно тогда, когда образовательный процесс становится целостным и гармоничным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В этом случае обращение к традиционной культуре помогает преодолеть формальные рамки урока или заняти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Сама специфика материала (народная культура синкретична по своей сути) подсказывает педагогу и учащимся новые формы общения и обучения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Одаренные дети часто стремятся самостоятельно выбирать, какие предметы и разделы учебной программы они хотели бы изучать углубленно, целиком погружаются в то или иное дело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Наличие столь интенсивной склонности к определенному виду деятельности имеет своим следствием поразительное упорство и трудолюбие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Мы даем возможность таким детям выбрать как вариант внеурочной деятельности музейное дело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Это дает возможность при внутренней мотивации  реализовать познавательную потребность, огромную любознательность, страстную увлеченность любимым делом у одаренных дете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В чем специфика школьного музея.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Специфика школьного музея заключается в том, что в его деятельности преобладают образовательно-воспитательные функци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Школьный музей – прежде всего действенное средство повышения эффективности обучения и воспитания школьников как с явной одаренностью, так и со скрытыми её формами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Скрытые формы одаренности – это сложные по своей природе психические явления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Выявление детей со скрытой одаренностью не может быть одномоментной работо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Это длительный процесс включения ребенка в различные виды реальной деятельности, обогащения его индивидуальной жизненной сред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Ребенок сегодняшнего дня катастрофически утрачивает способность видеть, понимать сущность увиденного,  подмечать значительные детали, обобщать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Кстати, познавать окружающий мир ребенок начинает именно с «расшифровывания» для себя этих скрытых смыслов вещей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Школьник, вступающий в жизнь, более чем кто-либо другой нуждается в получении не только аргументированных, но и эмоционально-выразительных сведений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Поэтому без привлечения наглядных, образных методов обучения образовательный процесс утрачивает самое главное – перестаёт воздействовать на эмоциональную среду ребенка.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18:55:57Z</dcterms:created>
  <dc:creator>1</dc:creator>
  <dc:description/>
  <dc:language>en-US</dc:language>
  <cp:lastModifiedBy>BOMBER</cp:lastModifiedBy>
  <dcterms:modified xsi:type="dcterms:W3CDTF">2012-10-22T18:14:02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