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811-BB5C-450D-93A6-A56F3219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42F-BF4A-40A8-ABC5-D627B05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350-5E8E-42B7-8607-2272829B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D1E-245C-45A5-B0AF-A340E160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D610-0568-4CBF-8FF9-D2DC573D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038-9A2E-4FE5-8BF9-B0831634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DA3B-C892-404F-B7BB-8349FCE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1845-3138-4AE5-9168-8C43E647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CEC0-C80E-4A2E-8EB5-43D18FB5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AB60-E27A-4B74-9A72-E173D0D5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834A-F9BA-49F9-9A96-999B3D5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C2B-9E9B-4595-A47F-6A477F79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D276-31B0-4F26-92EF-045E5CC5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E7E8-F78D-4292-A738-1D60F4C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641D-FE70-4B5C-83D7-DF1EB1B3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4DD6-68AD-4B47-A62A-7DF2AB45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ECC2-99E1-4E3E-89AB-839BEE2B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5FB-9A01-4D90-9309-97F2DEA9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526-5CC8-4C76-8D4F-4C1215F2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99F-9FBA-4F20-9C53-0B1D2A5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C38-381D-4117-AA39-E9C8BA35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D66-92E2-4C23-ADDE-AC4B59A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241-E030-457B-AF85-3FE7B92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173-7E50-4EFC-BBEA-D9048D44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74EB-B8F5-4C79-8D0C-87467DAD533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9526-73A2-429A-A80F-71D4580266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ОДГОТОВКА УЧАЩИХСЯ 9 КЛАССА        К ИТОГОВОЙ АТТЕСТАЦИИ ПО РУССКОМУ ЯЗЫКУ В НОВОЙ ФОРМЕ. 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ОТ ЕМЭ К ЕГЭ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ЧТО СОХРА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И СЖАТОМ ИЗЛОЖЕНИ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связность текста, содержание текста, тему, идею высказы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последовательность излож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четкий переход от одного к другом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микротем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ключевые слова и обороты реч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наиболее характерные изобразитель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ыразительные средства, при помощи которых передается колорит тек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56F-5411-4D01-ADE0-7DDAF0DE09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ЧТО МОЖНО ИСКЛЮЧИТЬ ПРИ СЖАТИИ ТЕКСТ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римеры, доказательства, попутные сведения, детали, подробности, лирические  отступл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общающие слова и предложе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днородные член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овтор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диало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ространное описание природы, чувств, настро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язательна замена прямой речи косвенн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язательна замена 1 лица на 3-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8FC-06BB-4B2B-A819-176BC1DDF0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МОЖНО ЛИ МЕН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СЛЕДОВАТЕЛЬНОСТЬ                            ЧАСТЕЙ ИЗЛОЖЕ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Желательно оставить той 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0B8-01F4-47CB-A5BC-EC82C0196C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ОЖНО ЛИ ИЗМЕНИ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ИЛЬ ТЕКСТА И ТИП РЕЧ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ри сжатии художественного повествования утрачивается образность и эмоциональность, оно превращается в подобие информационного сообщения, описываются действия, их характеристики, описания исключаются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ри сжатии рассуждения необходимо сохранить все аргументы, сократив лишь излишние подроб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86F-8CA5-4674-A9E9-9B73C7C1B3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АЛГОРИТМ СЖАТИЯ ТЕКСТ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определение стиля исходного текс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уточнение темы и основной мысли(обратить внимание на заглавие и подтекст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определить тип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анализ содержания текста(выделение микротем, составление плана, уточнение основной части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выполнение чернового вариа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проверка собственного текста на сохранение связности и наличие ключевых языковых средств(не менее 2 раз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 раз-соответствие исходному тексту, логика работы, выделение абзаце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 раз-разнообразие языковых средств, лексики, синтаксиса, исключение повторов, исправление речевых, грамматических, орфографических, пунктуационных ошиб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C16-48E4-43B4-BFA5-6F5E2B3FBA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е – рассуждение на лингвистическую тем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УЧЕБНЫЕ ЗАДАЧИ, КОТОРЫЕ НЕОБХОДИМО РЕШИ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ыпускнику 9 класса ДЛЯ ВЫПОЛНЕНИЯ ЗАДА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Создать текст типа рассужд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выдвинуть тези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босновать тезис и привести пример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сделать вывод, подтверждающий тезис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Показать знание русского языка в соответствии с темой дискуссии герое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Найти два примера-иллюстрации и использовать их в собственном сочинении-рассужде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4)Создать текст в соответствии с его основными признаками и заданной композицией (текст типа рассужде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356-602F-4940-9AEB-7D3DC2EB82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е – рассуждение на лингвистическую тем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ОРЯДОК УЧЕБНЫХ ДЕЙСТВ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ЫПУСКНИКА 9 КЛАСС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чтение задания и тек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отбор необходимых для раскрытия темы терминов-понятий и объяснение их содерж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нахождение в тексте для чтения примеров(в скобках указать номера предложени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отбор языковых средств связи частей текста сочин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этически корректная формулировка собственного мнения (согласие или несогласие с позицией указанных героев дискуссии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593-5C5A-47DF-A1E0-70F32282F0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е – рассуждение на лингвистическую тем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ЛАН СОЧИНЕНИЯ-РАССУЖД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)Формулировка тезиса, связанного с темой сочинения и основной мысл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)Теоретически обоснованный и подтвержденный лингвистическими примерами из текста для чтения ответ на поставленный в теме вопро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)Вывод (подтверждение тези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B20-D987-4ACF-B3E7-5A7506AD94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) фраза, принадлежащая герою дискусс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) собственное высказы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E7B-61B5-462F-90A4-C1A720D97A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ОБСТВЕННОЕ ВЫСКАЗЫВАНИЕ     МОЖЕТ БЫТЬ СФОРМУЛИРОВА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) С помощью предложения, констатирующего актуальность обсуждаемого вопроса(В наше время особенно остро стоит проблема…Или: Проблема… является актуальной в наши дни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86A-438C-4C58-B8AE-82C40D5346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ГЛАВЛ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)История вопроса(3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)Необходимость новой формы экзамена(4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3)Их фамилии надо знать(5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4)Задачи учителя, работающего в 9 классе(6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5)Знакомство с документами(7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6)Структура экзаменационной работы(8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7)Сжатое изложение(9-14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8)Сочинение-рассуждение на лингвистическую тему(15-28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9)Список тем сочинения-рассуждения(29-30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0)Модель урока подготовки к сочинению-рассуждению(31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1)Допущенные ошибки(32 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12)Методические советы(33слайд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046-01E0-4587-9388-C47BE75839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СОБСТВЕННОЕ ВЫСКАЗЫВАНИЕ     МОЖЕТ БЫТЬ СФОРМУЛИРОВАН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2) С ИСПОЛЬЗОВАНИЕМ СТИЛИСТИЧЕСКИХ ФИГУР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именительного темы(Русская орфография. Принципы русской орфографии. Что обозначают эти понятия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парного соединения однородных членов(Звуки и буквы. Как связаны между собой эти понятия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антитезы(Орфограмма и орфографическая ошибка- понятия, противопоставленные друг другу и тесно связанные между собо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умолчания(Риторический вопрос…Что заключено в нем в художественном произведении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вопроса и ответа на него(Нужны ли обращения в речи? Безусловно, нужны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-риторического восклицания(Какая же она трудная, русская орфография!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151-8309-488D-AA56-52E8BC9896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ОБСТВЕННОЕ ВЫСКАЗЫВАНИЕ МОЖЕТ БЫТЬ СФОРМУЛИРОВА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3) С помощью пословиц и поговор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Всем известна поговорка «Что написано пером, не вырубишь топором». В ней скрывается глубокий смысл: нужно быть требовательным к письменной речи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78E-C360-4776-A4CF-74B9C4FE1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ВАРИАНТЫ НАЧАЛ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рассуждения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             (ТЕЗИС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ОБСТВЕННОЕ ВЫСКАЗЫВАНИЕ     МОЖЕТ БЫТЬ СФОРМУЛИРОВАН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4) В виде небольшого отступления, которое может подвести к проблеме текста(Каждый человек хочет, чтобы его считали образованным.Одним из признаков хорошего образования является умение правильно написать письмо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865-0BB5-4FD8-84F6-33DCB8E4C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СВЯЗИ ТЕЗИСА И ДОКАЗАТЕЛЬСТВ ВОЗМОЖНО ИСПОЛЬЗОВАНИЕ ЯЗЫКОВЫХ СРЕД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Глаголов 1-го лица мн.чис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докажем, найдем, подтвердим, приведем, определим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7CB-E987-4E4A-822D-A6CA9C14D1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СВЯЗИ ТЕЗИСА И     ДОКАЗАТЕЛЬСТВ ВОЗМОЖНО ИСПОЛЬЗОВАНИЕ ЯЗЫКОВЫХ СРЕД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оюзов и союзных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так как, так что, потому, поэтому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 результате чего, если, чтоб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того чтоб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89F-ED31-417D-994F-49E474FD73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ЛЯ СВЯЗИ ТЕЗИСА И       ДОКАЗАТЕЛЬСТВ ВОЗМОЖНО ИСПОЛЬЗОВАНИЕ ЯЗЫКОВЫХ СРЕДСТ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водных с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например, следовательно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Я согласен с Ильей. Во-первых,…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о-вторых,…;в-третьих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C161-5F97-4A72-84EE-404E058C05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ЛЯ СВЯЗИ ТЕЗИСА И ДОКАЗАТЕЛЬСТВ ВОЗМОЖНО ИСПОЛЬЗОВАНИЕ СИНТАКСИЧЕСКИХ КОНСТРУКЦ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это подтверждается тем…; это объясняется тем…; это обусловлено тем…; причина состоит в следующем…; отсюда вытекает…; из этого следует, что…; из этого вытекает, что…; это позволяет предположить, чт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FEF-23DF-49D5-B098-95695B0961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ая часть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ЛЯ СВЯЗИ ТЕЗИСА И ДОКАЗАТЕЛЬСТВ ВОЗМОЖНО ИСПОЛЬЗОВАНИЕ ЯЗЫКОВЫХ СРЕДСТ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СПП с придаточными прич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Я разделяю точку зрения Никола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отому что…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использование вопроса и ответа на не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Разве можно не согласиться с мнением Тани? Конечно, нет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FBA-2201-45D6-ABBD-9633F85AED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Заключение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очинения - рассу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ВЯЗЬ ДОКАЗАТЕЛЬСТВ И ВЫВОДА МОЖЕТ БЫТЬ ОФОРМЛЕНА С ПОМОЩЬЮ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вводных слов(таким образом, ита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синтаксических констру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в заключение сделаем вывод, подытожим всё вышесказанное, в итоге мы пришли к выводу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E69-388A-4C3A-A102-8489432DBC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писок тем сочинения-        рассуждения С2.1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(из учебного пособия под ред.Н.А.Сениной.2009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устаревших и книжных слов в публицистической и художественной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книжных слов в публицистической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лексики разных стилей и сфер употребления в художественном произведен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антонимов в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антонимов в  публицистической и художественной реч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тире на письм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Роль тире в текст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Зачем нужны тире и двоеточия в письменной реч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-В каких случаях ставится тире между подлежащим и сказуемы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A3F-B346-42F6-BB58-569C67F814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ИСТОРИЯ ВОПРОС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Около 15 лет выпускники 9 класса писали экзаменационную работу(изложение с элементами сочинения) по открытому сборнику изложений под ре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Л. М. Рыбченк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006 год:60 регионов России (346 тыс. выпускников) участвовали в апробации новой формы экза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Январь 2008 года: на сайте ФИПИ (Федерального института педагогических измерений) обнародован для обсуждения новый проект экзаме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Февраль 2008 года: сформирована  демоверсиия для 9-го кла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Июнь 2008 года:  выпускники 9 классов Краснодарского края сдавали экзамен в новой форме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157-EEEC-4DC5-98C5-1796B209F8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писок тем сочинения-        рассуждения С2.1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(из учебного пособия под ред.Н.А.Сениной.200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Зачем нужны вводные сло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вводных слов и предложений в устной и в письменной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Зачем нужны обращения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риторических вопросов в тексте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Зачем нужны риторические вопросы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риторических вопросов в художественном произведе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Как правильно написать письм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Особенности текстов публицистического стил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Как строится рассужд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цитат в реч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-Роль лексического повтора в художественном произве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E7C-B0C7-4C94-A0FD-871F8881B7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одель урока подготовки к сочинению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)Актуализация знаний(слово учителя, беседа, работа с терминологией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)Работа с текстом(задания, вопро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)Наведение на тему(постановка дискуссионного вопро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4)Работа с изречениями, которые связаны с темой ур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5)Рассмотрение языкового явления на примере других(художественных) текст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6)Устное рассуждение уч-ся  на данную те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7)Самостояте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8) Итоги, выводы, рефлек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9)Домашнее зад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2D5-3D7D-4027-B5B4-1632D109D6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ДОПУЩЕННЫЕ ошибки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(аттестация 2008года)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ИК2-незнание приемов сжатия тек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А5-определение лексического значения с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7-знаки препинания в СС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9-определение предикативной основы    пред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10-простое осложненное предложение(знаки препинания при однородных членах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В14-сложные предложения с различными видами свя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-С1К4-нарушения в композиции сочи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FBB-E62A-4071-AD20-C704545572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ТОДИЧЕСКИЕ СОВЕ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ознакомить учащихся с критериями оценки экзаменационной работ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учить 9-классников находить и классифицировать ошибки в  изложении и сочинении в соответствии с критериями оцени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учить 9-классников основам редактирования текс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по результатам выполнения обучающих, контрольных работ, пробного экзамена вести диагностические карты, выстраивать рейтинг учащихс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учить 9-классников работать над текстом маркером-выделителе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на каждом занятии использовать мини-тес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7B4-B4D9-4177-B8F8-9655AE426A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Необходимость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овой формы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экзамен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Переосмысление целей преподавания русского языка от обучения «в грамматическом духе» к обучению «в риторическом дух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Реализация деятельностного подхода в обучении родному язы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Развитие у учащихся компетенц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коммуникативн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лингвистиче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языков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культуроведче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-способности и готов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к дальнейшему саморазвит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5FD-D906-4AFA-8A47-2435CD731C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ИХ ФАМИЛИИ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        НАДО ЗНА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олотов В.А., руководитель Рособрнадзо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Цибулько Ирина Петровна, председатель Федеральной комиссии по русскому язы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тепанова Людмила Сергеевна, руководитель предметной группы по русскому языку ( 9-й класс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E45C-7014-4894-8B33-4081C7FFA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дачи учителя,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работающего в 9 класс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емиться к повышению своего образовательного уров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Внимательно познакомиться с нормативной базой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ЕМЭ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Познакомиться с различными типами тестовых заданий (А,В,С2.1 и С2.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Научиться выполнять тесты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ЕМЭ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и добиваться адекватных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Овладеть методикой составления КИМ тренировочного характ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2F4-4F65-4776-B9C1-FFADC01C63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Учителю необходимо                  проанализировать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бразовательные стандарты и созданный на их основе кодификатор, представляющий основные проверяемые элементы содержания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Спецификацию, отражающую структуру работы, типы заданий, время выполнения зада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D2A-187F-4654-8B2C-3D6D679A1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      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труктура экзаменационной работы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ЕРВАЯ ЧАСТЬ – написание сжатого изложения по послушанному текс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ТОРАЯ ЧАСТЬ – задания А1–А7 (выбор одного ответа из четырех предложенных) и задания В1-В14 (запись найденного ответа цифрами и слов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РЕТЬЯ ЧАСТЬ – два альтернативных творческих задания С 2.1(сочинение-рассуждение на лингвистическую тему) и С2.2(самостоятельная интерпретация смысла одного из ключевых фрагментов текс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0F6-B00D-45A1-8FD9-29FD3B96F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Сжатое изложе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ОБЪЁМ СЖАТОГО ИЗЛОЖ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незначительное сжа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/2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сходного текс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/3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сходного текс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ЗА СЧЕТ Ч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ОСТИГАЕТСЯ СЖАТ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отбор главного и отбрасывание второстепенн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-нельзя, чтобы сжатое изложение превратилось в выбороч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28C-2569-40EB-B1C3-D3AE527E9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8:40Z</dcterms:created>
  <dc:creator>Дом</dc:creator>
  <dc:description/>
  <dc:language>en-US</dc:language>
  <cp:lastModifiedBy>Пользователь</cp:lastModifiedBy>
  <dcterms:modified xsi:type="dcterms:W3CDTF">1999-12-31T22:55:44Z</dcterms:modified>
  <cp:revision>17</cp:revision>
  <dc:subject/>
  <dc:title>От ЕМЭ К ЕГЭ</dc:title>
</cp:coreProperties>
</file>