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15B-ADCB-4802-98E0-3B310945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3B3-DAAF-4E1E-94B9-B193ED2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8CE-7BB7-4584-B843-3B2E1E92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DE6-EE05-432F-B7BA-76B39551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E28C-40F2-463C-B1B4-7DCAD00D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649F-E6B8-4E38-A6E9-CD165C2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3C49-EAFF-442B-9D29-E3778F80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18B7-7199-4336-8F96-E812DCE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A03B-E1A0-4F2B-8E2B-2979C98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CA75-3B06-42CD-9FE5-02077147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99C7-348D-471C-9481-D6E5981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459-FD2E-46EA-8C7B-C364FC5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BD2-E080-45AE-A36F-B148119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3364-8F40-4AC4-AF51-C1C2FC2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9661-7DFB-4825-90F1-FDF98F0C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CBAA-F305-4BDD-A8A0-B903651A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1841-1FEE-42EE-AA8F-7F68EFEE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D47-DA4F-41BA-9CF0-7516823A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F2C-972A-402E-B885-B36D34E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88E-B962-44B0-AC13-AFE07A4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0E4-75A9-45D6-B14F-1E232B9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490-2FCF-4508-BD33-382B7A7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D90-0E81-4C30-905F-28186561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795-A062-481E-A1DA-1B44B2A4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B58-2509-4ADC-ACA8-EBE6AA6096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436-490E-494B-970A-8C40120676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ОДГОТОВКА УЧАЩИХСЯ 9 КЛАССА        К ИТОГОВОЙ АТТЕСТАЦИИ ПО РУССКОМУ ЯЗЫКУ В НОВОЙ ФОРМЕ. 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ОТ ЕМЭ К ЕГЭ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ЧТО СОХРА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И СЖАТОМ ИЗЛОЖЕ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связность текста, содержание текста, тему, идею высказы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последовательность изло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четкий переход от одного к друго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микро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ключевые слова и обороты ре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наиболее характерные изобразитель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ыразительные средства, при помощи которых передается колорит тек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71F-FEE6-4E74-B6EC-7A366E3F71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ЧТО МОЖНО ИСКЛЮЧИТЬ ПРИ СЖАТИИ ТЕКС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римеры, доказательства, попутные сведения, детали, подробности, лирические  отступ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общающие слова и предлож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днородные член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овто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диало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ространное описание природы, чувств, настро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язательна замена прямой речи косвенн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язательна замена 1 лица на 3-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4B0-9D4B-43BE-A064-F7027D9EC9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МОЖНО ЛИ МЕ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СЛЕДОВАТЕЛЬНОСТЬ                            ЧАСТЕЙ ИЗЛОЖ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Желательно оставить той 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B87-2829-4637-A7A7-67D29A7F75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ОЖНО ЛИ ИЗМЕН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ИЛЬ ТЕКСТА И ТИП РЕЧ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ри сжатии художественного повествования утрачивается образность и эмоциональность, оно превращается в подобие информационного сообщения, описываются действия, их характеристики, описания исключаютс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ри сжатии рассуждения необходимо сохранить все аргументы, сократив лишь излишние подроб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BA8-8C81-4F0F-9FBD-50F1312EB8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АЛГОРИТМ СЖАТИЯ ТЕКС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определение стиля исходного текс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уточнение темы и основной мысли(обратить внимание на заглавие и подтекст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определить тип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анализ содержания текста(выделение микротем, составление плана, уточнение основной части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выполнение чернового вариа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проверка собственного текста на сохранение связности и наличие ключевых языковых средств(не менее 2 раз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 раз-соответствие исходному тексту, логика работы, выделение абзаце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 раз-разнообразие языковых средств, лексики, синтаксиса, исключение повторов, исправление речевых, грамматических, орфографических, пунктуационных ошиб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A25-3EA7-4955-AD17-94FF2231D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е – рассуждение на лингвистическую тем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УЧЕБНЫЕ ЗАДАЧИ, КОТОРЫЕ НЕОБХОДИМО РЕШИ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ыпускнику 9 класса ДЛЯ ВЫПОЛНЕНИЯ ЗАДА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Создать текст типа рассужд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выдвинуть тези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основать тезис и привести пример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сделать вывод, подтверждающий тези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Показать знание русского языка в соответствии с темой дискуссии герое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Найти два примера-иллюстрации и использовать их в собственном сочинении-рассужде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4)Создать текст в соответствии с его основными признаками и заданной композицией (текст типа рассужд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4E6-1713-43FF-8421-4249F77B64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е – рассуждение на лингвистическую тем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ОРЯДОК УЧЕБНЫХ ДЕЙСТВ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ЫПУСКНИКА 9 КЛАС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чтение задания и тек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отбор необходимых для раскрытия темы терминов-понятий и объяснение их содерж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нахождение в тексте для чтения примеров(в скобках указать номера предложени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отбор языковых средств связи частей текста сочи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этически корректная формулировка собственного мнения (согласие или несогласие с позицией указанных героев дискусси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3D1-971F-4B18-8BEA-14E09445B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е – рассуждение на лингвистическую тем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ЛАН СОЧИНЕНИЯ-РАССУ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)Формулировка тезиса, связанного с темой сочинения и основной мысл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)Теоретически обоснованный и подтвержденный лингвистическими примерами из текста для чтения ответ на поставленный в теме вопро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)Вывод (подтверждение тези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C6A-E9D3-49D1-9261-DDFF8B0F4A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) фраза, принадлежащая герою диску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) собственное высказы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902-5520-42AE-928A-055661F325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ОБСТВЕННОЕ ВЫСКАЗЫВАНИЕ     МОЖЕТ БЫТЬ СФОРМУЛИРОВА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) С помощью предложения, констатирующего актуальность обсуждаемого вопроса(В наше время особенно остро стоит проблема…Или: Проблема… является актуальной в наши дни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4D5-115D-459F-B4BD-82467CE3DB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ГЛАВ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)История вопроса(3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)Необходимость новой формы экзамена(4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3)Их фамилии надо знать(5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4)Задачи учителя, работающего в 9 классе(6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5)Знакомство с документами(7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6)Структура экзаменационной работы(8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7)Сжатое изложение(9-14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8)Сочинение-рассуждение на лингвистическую тему(15-28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9)Список тем сочинения-рассуждения(29-30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0)Модель урока подготовки к сочинению-рассуждению(31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1)Допущенные ошибки(32 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2)Методические советы(33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5F4-ACC9-407E-A4E6-3C168A3EAA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СОБСТВЕННОЕ ВЫСКАЗЫВАНИЕ     МОЖЕТ БЫТЬ СФОРМУЛИРОВА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) С ИСПОЛЬЗОВАНИЕМ СТИЛИСТИЧЕСКИХ ФИГУ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именительного темы(Русская орфография. Принципы русской орфографии. Что обозначают эти понятия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парного соединения однородных членов(Звуки и буквы. Как связаны между собой эти понятия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антитезы(Орфограмма и орфографическая ошибка- понятия, противопоставленные друг другу и тесно связанные между соб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умолчания(Риторический вопрос…Что заключено в нем в художественном произведении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вопроса и ответа на него(Нужны ли обращения в речи? Безусловно, нужн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риторического восклицания(Какая же она трудная, русская орфография!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959-C9DD-4E68-8EEC-34E0D54C87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ОБСТВЕННОЕ ВЫСКАЗЫВАНИЕ МОЖЕТ БЫТЬ СФОРМУЛИРОВА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) С помощью пословиц и погово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Всем известна поговорка «Что написано пером, не вырубишь топором». В ней скрывается глубокий смысл: нужно быть требовательным к письменной речи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970-A883-4215-BA5C-C7524E9F25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ОБСТВЕННОЕ ВЫСКАЗЫВАНИЕ     МОЖЕТ БЫТЬ СФОРМУЛИРОВА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4) В виде небольшого отступления, которое может подвести к проблеме текста(Каждый человек хочет, чтобы его считали образованным.Одним из признаков хорошего образования является умение правильно написать письмо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59D-C41F-42E3-9EC6-A4943D497A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СВЯЗИ ТЕЗИСА И ДОКАЗАТЕЛЬСТВ ВОЗМОЖНО ИСПОЛЬЗОВАНИЕ ЯЗЫКОВЫХ СРЕД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Глаголов 1-го лица мн.чис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докажем, найдем, подтвердим, приведем, определи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2C3-4CC5-4219-9F8C-FAB4D8743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СВЯЗИ ТЕЗИСА И     ДОКАЗАТЕЛЬСТВ ВОЗМОЖНО ИСПОЛЬЗОВАНИЕ ЯЗЫКОВЫХ СРЕД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оюзов и союзных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так как, так что, потому, поэтом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 результате чего, если, чтоб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того чтоб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6EF-A33C-40FB-9469-28389DE390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СВЯЗИ ТЕЗИСА И       ДОКАЗАТЕЛЬСТВ ВОЗМОЖНО ИСПОЛЬЗОВАНИЕ ЯЗЫКОВЫХ СРЕД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водных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например, следователь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Я согласен с Ильей. Во-первых,…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о-вторых,…;в-третьих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9F2-A4AC-4757-AA34-BD36304AB3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ЛЯ СВЯЗИ ТЕЗИСА И ДОКАЗАТЕЛЬСТВ ВОЗМОЖНО ИСПОЛЬЗОВАНИЕ СИНТАКСИЧЕСКИХ КОНСТРУКЦ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это подтверждается тем…; это объясняется тем…; это обусловлено тем…; причина состоит в следующем…; отсюда вытекает…; из этого следует, что…; из этого вытекает, что…; это позволяет предположить, чт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D37-B421-43ED-9CE1-7A12C30603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ЛЯ СВЯЗИ ТЕЗИСА И ДОКАЗАТЕЛЬСТВ ВОЗМОЖНО ИСПОЛЬЗОВАНИЕ ЯЗЫКОВЫХ СРЕДСТ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СПП с придаточными прич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Я разделяю точку зрения Никола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отому что…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использование вопроса и ответа на н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Разве можно не согласиться с мнением Тани? Конечно, нет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588-1032-4DEA-B32A-E397E887E6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Заключение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 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ВЯЗЬ ДОКАЗАТЕЛЬСТВ И ВЫВОДА МОЖЕТ БЫТЬ ОФОРМЛЕНА С ПОМОЩЬЮ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вводных слов(таким образом, ита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синтаксических констру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в заключение сделаем вывод, подытожим всё вышесказанное, в итоге мы пришли к выводу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06A-F99E-45DD-9C9F-0656E6C35D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писок тем сочинения-        рассуждения С2.1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(из учебного пособия под ред.Н.А.Сениной.2009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устаревших и книжных слов в публицистической и художественной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книжных слов в публицистической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лексики разных стилей и сфер употребления в художественном произведе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антонимов в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антонимов в  публицистической и художественной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тире на пись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тире в текс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Зачем нужны тире и двоеточия в письменной реч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В каких случаях ставится тире между подлежащим и сказуем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F72-2F85-4B01-809E-5EDF87D560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ИСТОРИЯ ВОПРОС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Около 15 лет выпускники 9 класса писали экзаменационную работу(изложение с элементами сочинения) по открытому сборнику изложений под р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Л. М. Рыбченк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006 год:60 регионов России (346 тыс. выпускников) участвовали в апробации новой формы экза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Январь 2008 года: на сайте ФИПИ (Федерального института педагогических измерений) обнародован для обсуждения новый проект экза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евраль 2008 года: сформирована  демоверсиия для 9-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Июнь 2008 года:  выпускники 9 классов Краснодарского края сдавали экзамен в новой форме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E01-6E26-4AF1-94D7-92AEE43979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писок тем сочинения-        рассуждения С2.1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(из учебного пособия под ред.Н.А.Сениной.200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Зачем нужны вводные сло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вводных слов и предложений в устной и в письменной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Зачем нужны обращен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риторических вопросов в тексте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Зачем нужны риторические вопрос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риторических вопросов в художественном произведе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Как правильно написать письм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Особенности текстов публицистического стил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Как строится рассужд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цитат в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лексического повтора в художественном произве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9FA-824E-4571-9CF6-BA69E376DD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одель урока подготовки к сочинению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Актуализация знаний(слово учителя, беседа, работа с терминологи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Работа с текстом(задания, вопро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Наведение на тему(постановка дискуссионного вопро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4)Работа с изречениями, которые связаны с темой ур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5)Рассмотрение языкового явления на примере других(художественных) текс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6)Устное рассуждение уч-ся  на данную 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7)Самостояте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8) Итоги, выводы, рефлек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9)Домашнее зад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1BC-CE60-411A-AF38-0739495B2C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ОПУЩЕННЫЕ ошибки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(аттестация 2008года)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ИК2-незнание приемов сжатия тек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А5-определение лексического значения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7-знаки препинания в СС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9-определение предикативной основы   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10-простое осложненное предложение(знаки препинания при однородных члена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14-сложные предложения с различными видами свя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С1К4-нарушения в композиции сочи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233-656F-4CD9-8DC5-8288178A95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ТОДИЧЕСКИЕ СОВ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знакомить учащихся с критериями оценки экзаменационной рабо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учить 9-классников находить и классифицировать ошибки в  изложении и сочинении в соответствии с критериями оцени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учить 9-классников основам редактирования тек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о результатам выполнения обучающих, контрольных работ, пробного экзамена вести диагностические карты, выстраивать рейтинг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учить 9-классников работать над текстом маркером-выделител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на каждом занятии использовать мини-тес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F56-19FB-4B45-ACB1-97B8291AC5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Необходимость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овой формы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кзам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ереосмысление целей преподавания русского языка от обучения «в грамматическом духе» к обучению «в риторическом дух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Реализация деятельностного подхода в обучении родному язы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Развитие у учащихся компетенц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коммуникативн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лингвистиче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языков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культуроведче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способности и готов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к дальнейшему саморазвит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D83-E7D4-49D8-83D6-3BC715451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ИХ ФАМИЛИИ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       НАДО ЗНА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олотов В.А., руководитель Рособрнадзо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Цибулько Ирина Петровна, председатель Федеральной комиссии по русскому язы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тепанова Людмила Сергеевна, руководитель предметной группы по русскому языку ( 9-й класс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B17-8A9C-4BC2-9B18-A227725DD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дачи учителя,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аботающего в 9 класс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емиться к повышению своего образовательного уров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Внимательно познакомиться с нормативной базой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ЕМЭ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ознакомиться с различными типами тестовых заданий (А,В,С2.1 и С2.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Научиться выполнять тесты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ЕМЭ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и добиваться адекватных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Овладеть методикой составления КИМ тренировочного характ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F23-43C9-4181-853E-05659F8A22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Учителю необходимо                  проанализирова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бразовательные стандарты и созданный на их основе кодификатор, представляющий основные проверяемые элементы содержания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пецификацию, отражающую структуру работы, типы заданий, время выполнения зад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11E-14B2-46D1-97CB-4894ED00E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труктура экзаменационной работы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РВАЯ ЧАСТЬ – написание сжатого изложения по послушанному текс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ТОРАЯ ЧАСТЬ – задания А1–А7 (выбор одного ответа из четырех предложенных) и задания В1-В14 (запись найденного ответа цифрами и слов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РЕТЬЯ ЧАСТЬ – два альтернативных творческих задания С 2.1(сочинение-рассуждение на лингвистическую тему) и С2.2(самостоятельная интерпретация смысла одного из ключевых фрагментов текс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853-FF4F-49C0-B267-BFDBEECC4A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БЪЁМ СЖАТОГО ИЗЛОЖ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незначительное сжа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/2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сходного тек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/3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ходного тек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А СЧЕТ Ч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ОСТИГАЕТСЯ СЖАТ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отбор главного и отбрасывание второстепенн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нельзя, чтобы сжатое изложение превратилось в выбороч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0E6-8372-4C78-A440-D9BB8B673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8:40Z</dcterms:created>
  <dc:creator>Дом</dc:creator>
  <dc:description/>
  <dc:language>en-US</dc:language>
  <cp:lastModifiedBy>Пользователь</cp:lastModifiedBy>
  <dcterms:modified xsi:type="dcterms:W3CDTF">1999-12-31T22:55:44Z</dcterms:modified>
  <cp:revision>17</cp:revision>
  <dc:subject/>
  <dc:title>От ЕМЭ К ЕГЭ</dc:title>
</cp:coreProperties>
</file>