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8DA6-A241-4B09-B912-F5DD84182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D0E6-2C3D-44DA-9783-8ED672631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D2A6-5CCC-4F22-8FCE-16B16B082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1BF3-08C1-4A93-9F7E-9721FC4E8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ADF79-84C2-4801-897E-482CB8AAB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11E95-36F1-47E0-B688-B7C441394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C585A-E93D-4891-A350-252D04D92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95CE5-BA64-4BA7-8CD8-D15F231BE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72DFC-F79A-4189-8AD7-D3A8BC3A0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20B60-D420-4AE2-A791-A9B8E4C95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42261-6756-4A7E-B2B2-E5C14172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B3D3-3A5B-4927-B045-1F7B17B6C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E6C08-CA67-4639-9A0F-C6D579CF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CED1A-ECC8-46BC-BEAF-64F6721A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95069-4637-46C6-B11B-F223ECFD7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AD0CB-59D6-4008-8250-2CC5F0ADE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C20A4-65D0-49F7-824F-BC36BBB1B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95FA-4A34-4E14-A919-9BEA374A1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34BB-EFD8-4ACD-ACF0-0BC684740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20E7-0394-49A4-9AC5-A4885340D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3F28-181C-4B7A-954D-1A4667996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EC12-5542-4964-BA7A-FA102F9CC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15B5-2D69-4CB9-BAB1-C82DA5AE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67CA-A4A4-4063-AC4D-D6D0A040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ECC54-4684-46EC-8FD3-845D32ABA15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B77BC-DDBF-421A-B2AA-C1EE23713F1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Музейная практика как средство воспитания толерантности у обучающихся 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Школьный этнографический муз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узей позволит развивать ум и сердце, мышление и чувство, воображение и интуицию, приобретать функциональные знания о мире. А самое главное, позволит творить себя как целостного человека, занимающего достойное место в обществе, сохранившего свою самобытную культуру, вызывающего к себе интерес и уважение других людей 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ЦЕЛИ СОЗДАНИЯ МУЗЕ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воспитывать чувство любви к своей Родине, гордость за соотечественников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познакомить с предметами быта 19 – 20 в.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использовать экспонаты на уроках и внеклассных мероприятиях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сохранить старинные вещ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Основные направления деятельности музея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информировани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развитие творческих начал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обучени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общени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отды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Основной принцип деятельности музея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доставление посетителям музея возможности заниматься тем, что их интересует, создание условий для самореализац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частие детей в поисково-исследовательской работе, изучение и описание музейных экспонатов, создание экспозиций, проведение экскурси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полнение досуга учащихся, овладение различными приёмами и навыками краеведческой деятельност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Результаты работы музея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жегодное пополнение фонда лучшими творческими работами детей и предметами старин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ведение выставок новых поступлени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частие в профильных конкурсах (районных, городских, областных и т.д.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чет о проведении экскурс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cc"/>
                </a:solidFill>
                <a:latin typeface="Tahoma"/>
              </a:rPr>
              <a:t>Школьный музей – центр духовно-нравственного воспитания</a:t>
            </a:r>
            <a:endParaRPr b="0" lang="en-US" sz="3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304920" y="1879920"/>
            <a:ext cx="86104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ши дети должны знать и любить прошлое родной земли, беречь его для счастливого и достойного будущего. Будущее – это новое поколение. Поэтому, чтобы создавались крепкие и дружные семьи, мы должны обратиться к отечественной культуре, так как именно в народной культуре заложены гуманные идеи единения человека и природы, ценные ориентиры для формирования трудолюбия, милосердия, мужества, любви к отчей земл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2"/>
          <p:cNvSpPr/>
          <p:nvPr/>
        </p:nvSpPr>
        <p:spPr>
          <a:xfrm>
            <a:off x="0" y="3086280"/>
            <a:ext cx="914400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Rectangle 13"/>
          <p:cNvSpPr/>
          <p:nvPr/>
        </p:nvSpPr>
        <p:spPr>
          <a:xfrm>
            <a:off x="0" y="50184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Таким образом, школьный музей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- становится своеобразным научно-исследовательским центром духовно-нравственного, гражданского и патриотического воспитания подрастающего поколения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- развивает творческие способности детей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Так все начиналось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0" name="Picture 4" descr="03-08-06_0957"/>
          <p:cNvPicPr/>
          <p:nvPr/>
        </p:nvPicPr>
        <p:blipFill>
          <a:blip r:embed="rId1"/>
          <a:stretch/>
        </p:blipFill>
        <p:spPr>
          <a:xfrm>
            <a:off x="711360" y="1676520"/>
            <a:ext cx="3708360" cy="2781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04-08-06_1623"/>
          <p:cNvPicPr/>
          <p:nvPr/>
        </p:nvPicPr>
        <p:blipFill>
          <a:blip r:embed="rId2"/>
          <a:stretch/>
        </p:blipFill>
        <p:spPr>
          <a:xfrm>
            <a:off x="3809880" y="266688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Таким наш музей стал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3" name="Picture 6" descr="SS852659"/>
          <p:cNvPicPr/>
          <p:nvPr/>
        </p:nvPicPr>
        <p:blipFill>
          <a:blip r:embed="rId1"/>
          <a:stretch/>
        </p:blipFill>
        <p:spPr>
          <a:xfrm>
            <a:off x="1219320" y="118116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ТВОРЧЕСКИЕ РАБОТЫ УЧАЩИХСЯ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борник текстов детского фольклор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борник текстов малых жанров фольклор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борник текстов несказочной проз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писи текстов лирики, частушек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чинения по теме «Улица, на которой я живу»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стория храмов Астрахани и Астраханской област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сследовательские работы по фольклору (рефераты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Культурное наследие стран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ез знания основ православной культуры нельзя оценить до конца российскую культуру в целом, язык, на котором говорит все население страны вне зависимости от национальности и вероисповедани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авославная культура – это культурное наследие нашей страны, так как она связана с национальными культурами многих народов Росс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Результаты деятельности организаторов музея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вторизированная программа факультативного курса «Русский фольклор»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борник фольклорных произведений (авторы: учителя русского языка и литературы Портнова Е.М., Ларионова И.Г.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ценарии народных праздник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Из истории музейного дел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чебные музеи как кабинеты истории, литературы существовали во многих российских гимназиях в 19 век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прос о целесообразности создания школьных музеев историко-краеведческой тематики был впервые поставлен в книге В.Я. Уланова «Опыт методики истории в начальной школе» (1914). С развитием школьного краеведения в 20-е годы ХХ века в России началось массовое создание школьных музее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ибольшее развитие этот процесс получил во 2-й половине 50-х годов и особенно в70-е годы под влиянием широкомасштабных акций, проводившихся комсомольской и пионерской организация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 1989 году в Париже проходила Генеральная конференция ООН по вопросам образования, науки и культуры. Основной темой заседаний стал фольклор. Результатом работы конференции был ряд рекомендаций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Рекомендации заседания ООН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Государствам – членам ООН рекомендовано (в числе других мер) создавать музеи или отделы фольклора в существующих музеях, где могут устраиваться выставки традиционных и народных культур. Поэтому сохранение культурного наследия является одним из приоритетов и Российской государственной культурной политики. Как же это может быть воплощено в жизнь в конкретно взятом учебном заведении?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Давая определение фольклора, отмечалось, что его формы включают, в частности, язык, музыку, танцы, игры, мифологию, обряды, обычаи, ремесла, архитектуру и другие виды художественного творчества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пецифика школьного музея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Школьные музеи являются негосударственными музеями, работающими на общественных началах, и выполняют те же функции, что и государственны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пецифика школьного музея заключается в том, что в его деятельности преобладают образовательно-воспитательные функци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Школьный музей – прежде всего действенное средство повышения эффективности обучения и воспитания школьник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Что дают музейные уроки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узейные уроки позволяют «вывести» ребенка за пределы школы, дополнить школьное преподавание среди живой природы, в интерьерах музейных за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дача преподавателя состоит не только в том, чтобы раскрыть суть ключевых понятий, но и озадачить детей вечными философскими вопросами, ответы на которые они будут искать все свою жизн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О создании музе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ш музей русского быта относительно молод, находится в стадии развития. В основе музея лежит принцип – музей для детей и руками детей. Задача образования видится не просто в усвоении ребенком суммы сведений, а в воспитании просвещённой личности путем сопричастности к живому опыту культур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Школьный музей  - это сложный механизм, его жизнедеятельность целиком зависит от работы коллектива педагогов, учащихся, родителей. Наш музей создавался по инициативе педагогов и обучающихся, его организация в нашем образовательном учреждении есть результат краеведческой, экскурсионной работы учащихся и педагог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Главная цель организаторов музея – цель духовно-нравственного порядк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«Национальной государственной концепции образования в России» четко сформулированы задачи, стоящие перед школой: «В этих тяжелых условиях наша школа, материально обессиленная, духовно дезориентированная, болеющая всеми болезнями сегодняшнего общества, остается, тем не менее, основным инструментом нравственного и умственного воспитания подрастающих поколений. Если мы еще упустим  несколько поколений, как уже было упущено, то будет уже не с кем восстанавливать наше Отечество. Россия, как духовная сущность, как вдохновляющий идеал перестанет существовать.  Система образования в сегодняшних условиях становится одним из главных инструментов преодоления духовно-нравственного кризиса нашего общества.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17:17:13Z</dcterms:created>
  <dc:creator>1</dc:creator>
  <dc:description/>
  <dc:language>en-US</dc:language>
  <cp:lastModifiedBy>BOMBER</cp:lastModifiedBy>
  <dcterms:modified xsi:type="dcterms:W3CDTF">2012-10-22T17:51:35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