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A41-1199-4717-A0A3-A1A40344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E21-9430-4E1D-BB56-2FDC03A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B1B-7860-477E-B504-4E823831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B58-E7A5-47E3-993C-A9C44C7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24B3-14F7-4CA7-AAA6-5A4E441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335A-4D1D-4176-BAB2-15C1EB24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838B-9414-45ED-A6DE-56A6D64A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02B9-39B6-480E-8670-6445207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0B86-B65B-44AF-B229-71FCF25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605C-3A31-43FF-A36D-F57D474F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311-136C-4C09-8289-543EB60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863-5E71-46DE-BB11-76908F8F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C0C8-FCA6-4F10-BA27-9903DB2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7AF-1ACB-42A9-A55F-244A61E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09E-D431-4B51-BB9B-16D5DD64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F64B-A30C-4D1F-BADD-35B24096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BAB6-2803-4CEF-8295-5B8CB61A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888-9D5D-46F9-A64E-3E6D93BF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18A-E647-4E1B-895A-B73F1BB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959-A4D2-4DF5-BEDD-093179E2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E40-6BF4-420B-9B0B-695A5E02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111-DAD8-4EFB-B4F7-0263599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E80-E405-43E5-89B3-93558EBF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859-2095-4669-8578-CFB22F15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1D45-F2BC-4EF9-8EDC-D00406112D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D35B-28E2-439C-BE51-3BE77BAEB0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Музейная практика как средство воспитания толерантности у обучающихся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кольный 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узей позволит развивать ум и сердце, мышление и чувство, воображение и интуицию, приобретать функциональные знания о мире. А самое главное, позволит творить себя как целостного человека, занимающего достойное место в обществе, сохранившего свою самобытную культуру, вызывающего к себе интерес и уважение других людей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ЦЕЛИ СОЗДАНИЯ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воспитывать чувство любви к своей Родине, гордость за соотечествен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ознакомить с предметами быта 19 – 20 в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спользовать экспонаты на уроках и внеклассных мероприят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сохранить старинные ве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направления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информир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развитие творческих нача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у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бщ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отд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ой принцип деятельности музе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оставление посетителям музея возможности заниматься тем, что их интересует, создание условий для самореал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детей в поисково-исследовательской работе, изучение и описание музейных экспонатов, создание экспозиций, проведение экскурс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олнение досуга учащихся, овладение различными приёмами и навыками краевед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зультаты работы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е пополнение фонда лучшими творческими работами детей и предметами стари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дение выставок новых поступл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стие в профильных конкурсах (районных, городских, областных и т.д.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чет о проведении экскурс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ahoma"/>
              </a:rPr>
              <a:t>Школьный музей – центр духовно-нравственного воспитания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79920"/>
            <a:ext cx="8610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дети должны знать и любить прошлое родной земли, беречь его для счастливого и достойного будущего. Будущее – это новое поколение. Поэтому, чтобы создавались крепкие и дружные семьи, мы должны обратиться к отечественной культуре, так как именно в народной культуре заложены гуманные идеи единения человека и природы, ценные ориентиры для формирования трудолюбия, милосердия, мужества, любви к отчей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0" y="3086280"/>
            <a:ext cx="9144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0" y="501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аким образом, школьный музе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становится своеобразным научно-исследовательским центром духовно-нравственного, гражданского и патриотического воспитания подрастающего покол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развивает творческие способности дет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ак все начиналос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03-08-06_0957"/>
          <p:cNvPicPr/>
          <p:nvPr/>
        </p:nvPicPr>
        <p:blipFill>
          <a:blip r:embed="rId1"/>
          <a:stretch/>
        </p:blipFill>
        <p:spPr>
          <a:xfrm>
            <a:off x="711360" y="167652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4-08-06_1623"/>
          <p:cNvPicPr/>
          <p:nvPr/>
        </p:nvPicPr>
        <p:blipFill>
          <a:blip r:embed="rId2"/>
          <a:stretch/>
        </p:blipFill>
        <p:spPr>
          <a:xfrm>
            <a:off x="3809880" y="26668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аким наш музей стал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6" descr="SS852659"/>
          <p:cNvPicPr/>
          <p:nvPr/>
        </p:nvPicPr>
        <p:blipFill>
          <a:blip r:embed="rId1"/>
          <a:stretch/>
        </p:blipFill>
        <p:spPr>
          <a:xfrm>
            <a:off x="121932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ВОРЧЕСКИЕ РАБОТЫ УЧАЩИХСЯ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детского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малых жанров фолькл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ник текстов несказочной пр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и текстов лирики, частуш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инения по теме «Улица, на которой я живу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тория храмов Астрахани и Астраханской обла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сследовательские работы по фольклору (реферат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ультурное наследие стра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з знания основ православной культуры нельзя оценить до конца российскую культуру в целом, язык, на котором говорит все население страны вне зависимости от национальности и вероисповед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славная культура – это культурное наследие нашей страны, так как она связана с национальными культурами многих народов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зультаты деятельности организаторов музе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изированная программа факультативного курса «Русский фольклор»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борник фольклорных произведений (авторы: учителя русского языка и литературы Портнова Е.М., Ларионова И.Г.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и народных празд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з истории музейного де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бные музеи как кабинеты истории, литературы существовали во многих российских гимназиях в 19 ве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прос о целесообразности создания школьных музеев историко-краеведческой тематики был впервые поставлен в книге В.Я. Уланова «Опыт методики истории в начальной школе» (1914). С развитием школьного краеведения в 20-е годы ХХ века в России началось массовое создание школьных музе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ибольшее развитие этот процесс получил во 2-й половине 50-х годов и особенно в70-е годы под влиянием широкомасштабных акций, проводившихся комсомольской и пионерской организац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1989 году в Париже проходила Генеральная конференция ООН по вопросам образования, науки и культуры. Основной темой заседаний стал фольклор. Результатом работы конференции был ряд рекомендаци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комендации заседания ООН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Государствам – членам ООН рекомендовано (в числе других мер) создавать музеи или отделы фольклора в существующих музеях, где могут устраиваться выставки традиционных и народных культур. Поэтому сохранение культурного наследия является одним из приоритетов и Российской государственной культурной политики. Как же это может быть воплощено в жизнь в конкретно взятом учебном заведении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авая определение фольклора, отмечалось, что его формы включают, в частности, язык, музыку, танцы, игры, мифологию, обряды, обычаи, ремесла, архитектуру и другие виды художественного творчеств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ецифика школьного музе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е музеи 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фика школьного музея заключается в том, что в его деятельности преобладают образовательно-воспитательные функ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кольный музей – прежде всего действенное средство повышения эффективности обучения и воспитани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то дают музейные уро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зейные уроки позволяют «вывести» ребенка за пределы школы, дополнить школьное преподавание среди живой природы, в интерьерах музейных за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ча преподавателя состоит не только в том, чтобы раскрыть суть ключевых понятий, но и озадачить детей вечными философскими вопросами, ответы на которые они будут искать все свою жизн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 создании музе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ш музей русского быта относительно молод, находится в стадии развития. В основе музея лежит принцип – музей для детей и руками детей. Задача образования видится не просто в усвоении ребенком суммы сведений, а в воспитании просвещённой личности путем сопричастности к живому опыту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музей  - это сложный механизм, его жизнедеятельность целиком зависит от работы коллектива педагогов, учащихся, родителей. Наш музей создавался по инициативе педагогов и обучающихся, его организация в нашем образовательном учреждении есть результат краеведческой, экскурсионной работы учащихся и педагог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ая цель организаторов музея – цель духовно-нравственного поряд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«Национальной государственной концепции образования в России» четко сформулированы задачи, стоящие перед школой: «В этих тяжелых условиях наша школа, материально обессиленная, духовно дезориентированная, болеющая всеми болезнями сегодняшнего общества, остается, тем не менее, основным инструментом нравственного и умственного воспитания подрастающих поколений. Если мы еще упустим  несколько поколений, как уже было упущено, то будет уже не с кем восстанавливать наше Отечество. Россия, как духовная сущность, как вдохновляющий идеал перестанет существовать.  Система образования в сегодняшних условиях становится одним из главных инструментов преодоления духовно-нравственного кризиса нашего обществ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7:17:13Z</dcterms:created>
  <dc:creator>1</dc:creator>
  <dc:description/>
  <dc:language>en-US</dc:language>
  <cp:lastModifiedBy>BOMBER</cp:lastModifiedBy>
  <dcterms:modified xsi:type="dcterms:W3CDTF">2012-10-22T17:51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