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8F9-6AFA-4A1A-B267-63D660A5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560-C661-400C-8E1E-69770BBF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5CD-7106-47E0-87F2-53F77AF7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768-6310-4361-9AB2-EF35BA9A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3BCB-9DD9-44A2-9280-A699D720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B358B-7B79-4AA5-B9D7-D23D3217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CA0D5-8E68-47DE-AE9C-F3BB874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DBC7-5E39-4829-B4D4-0622A99B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07C7-367D-4DAE-BE47-3A385214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CD24-6486-4EEF-99A0-C4E054A9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5685A-ADF0-4663-A544-C2050E13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350-2E64-4D3D-A26F-5750ED94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8A9C4-77ED-4E8D-8FA2-13144B1E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3C59-15BE-4198-A61B-C74584AD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E7C02-EA26-43AA-8C8F-6B08FB91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993D1-9E85-4124-BDE5-83B0725D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A7210-3304-4B94-A160-9BC9D32D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1304-E3B9-4DE6-9F22-8580D628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8DA5-1B68-46AE-BBD9-30FA849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16E2-B3CF-45B7-ADC2-7852B0C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176E-92AC-4B25-A1EC-299D74D4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B1A4-558E-4A8C-BF5C-FF93AE4C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81B-A5B2-4CB5-9E65-D2F50875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6643-0291-4B58-945B-061E4E6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145F-238B-4DAB-9D66-80647C0F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1295-30C6-432F-A625-98E4B0F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EC17-E491-4DEA-B1AF-AB257E5C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29D1F-AFF3-4EF3-83E2-7DC624D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0AAA-DA4F-423C-BD3B-FB9C0623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1AB26-D458-4468-8AAE-8BA898C5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65903-0D5F-4299-837C-2BDD6902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9958C-CAE0-4F6A-A28D-6CFDB4E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9237A-6D6E-43EE-9644-CD44D6D7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2C3-CB72-4AE7-BDFD-1309E4B8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DAA2C-814E-48A2-AFED-DE153BD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97267-5322-4F47-80E4-B8F65F42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8A27A-5563-4A49-968F-65A84CEB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0FC3C8-49A7-49ED-9A39-FEB72E3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1F9A3-04C5-4C66-A382-5E2D4FA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9B931-B5B0-489B-AE1C-AF9AFD96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B5E72-6C25-471B-9D61-A68CFB07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41541-91F7-4351-B9CE-3FD2D6CF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BA63E-A05E-469C-ADF9-61713BD6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96D-BAB4-48EE-8274-68B6868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EF7-8483-44AF-A869-DC2370B3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5CB-19CF-4E7E-B6AF-30EF6967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FC8-502D-44D9-97DF-284C82A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B26-3914-4805-9FC1-A7D8696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50C7-C303-4EF5-8F69-F1D526DAC65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D7C-EE86-4DDE-9DD0-99F14EFFEB8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BBF-2279-42BD-80E8-31DAAF0CC28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44A-FF27-464F-B2BF-7A50D1D7D97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0.png"/><Relationship Id="rId6" Type="http://schemas.openxmlformats.org/officeDocument/2006/relationships/package" Target="../embeddings/oleObject3.xlsx"/><Relationship Id="rId7" Type="http://schemas.openxmlformats.org/officeDocument/2006/relationships/image" Target="../media/image21.png"/><Relationship Id="rId8" Type="http://schemas.openxmlformats.org/officeDocument/2006/relationships/package" Target="../embeddings/oleObject4.xlsx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5791320" y="0"/>
            <a:ext cx="3047760" cy="66294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2" name="anastasiya_-__vsokii_kabluk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3581280" cy="662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3200400" y="0"/>
            <a:ext cx="2666880" cy="6629400"/>
          </a:xfrm>
          <a:prstGeom prst="rect">
            <a:avLst/>
          </a:prstGeom>
          <a:ln w="0">
            <a:noFill/>
          </a:ln>
        </p:spPr>
      </p:pic>
      <p:pic>
        <p:nvPicPr>
          <p:cNvPr id="175" name="anastasiya_-__vsokii_kabluk.mp3" descr=""/>
          <p:cNvPicPr/>
          <p:nvPr/>
        </p:nvPicPr>
        <p:blipFill>
          <a:blip r:embed="rId5"/>
          <a:stretch/>
        </p:blipFill>
        <p:spPr>
          <a:xfrm>
            <a:off x="914400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6" name="Блок-схема: перфолента 7"/>
          <p:cNvSpPr/>
          <p:nvPr/>
        </p:nvSpPr>
        <p:spPr>
          <a:xfrm>
            <a:off x="228600" y="0"/>
            <a:ext cx="8686800" cy="1676520"/>
          </a:xfrm>
          <a:prstGeom prst="flowChartPunchedTape">
            <a:avLst/>
          </a:prstGeom>
          <a:solidFill>
            <a:srgbClr val="7153a1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Любительницам высоких каблуков посвящ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86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0" descr=""/>
          <p:cNvPicPr/>
          <p:nvPr/>
        </p:nvPicPr>
        <p:blipFill>
          <a:blip r:embed="rId1"/>
          <a:stretch/>
        </p:blipFill>
        <p:spPr>
          <a:xfrm>
            <a:off x="360360" y="23760"/>
            <a:ext cx="8515440" cy="135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6"/>
          <p:cNvGraphicFramePr/>
          <p:nvPr/>
        </p:nvGraphicFramePr>
        <p:xfrm>
          <a:off x="0" y="1295280"/>
          <a:ext cx="4952880" cy="213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95280"/>
                    <a:ext cx="49528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" name="Объект 9"/>
          <p:cNvGraphicFramePr/>
          <p:nvPr/>
        </p:nvGraphicFramePr>
        <p:xfrm>
          <a:off x="3657600" y="1447920"/>
          <a:ext cx="6248520" cy="2214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7" name="Объект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1447920"/>
                    <a:ext cx="62485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Объект 10"/>
          <p:cNvGraphicFramePr/>
          <p:nvPr/>
        </p:nvGraphicFramePr>
        <p:xfrm>
          <a:off x="-457200" y="3505320"/>
          <a:ext cx="5670720" cy="28191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9" name="Объект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457200" y="3505320"/>
                    <a:ext cx="56707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Объект 11"/>
          <p:cNvGraphicFramePr/>
          <p:nvPr/>
        </p:nvGraphicFramePr>
        <p:xfrm>
          <a:off x="4572000" y="3581280"/>
          <a:ext cx="4952880" cy="2679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11" name="Объект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3581280"/>
                    <a:ext cx="495288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Прямоугольник 8"/>
          <p:cNvSpPr/>
          <p:nvPr/>
        </p:nvSpPr>
        <p:spPr>
          <a:xfrm>
            <a:off x="1066680" y="3429000"/>
            <a:ext cx="2438640" cy="3049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11-14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5257800" y="3505320"/>
            <a:ext cx="2590920" cy="3045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15-22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1"/>
          <p:cNvSpPr/>
          <p:nvPr/>
        </p:nvSpPr>
        <p:spPr>
          <a:xfrm>
            <a:off x="990720" y="6095880"/>
            <a:ext cx="2590560" cy="3049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23-3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5791320" y="6248520"/>
            <a:ext cx="2361960" cy="30456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ВОЗРАСТ 31-40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4" descr=""/>
          <p:cNvPicPr/>
          <p:nvPr/>
        </p:nvPicPr>
        <p:blipFill>
          <a:blip r:embed="rId1"/>
          <a:stretch/>
        </p:blipFill>
        <p:spPr>
          <a:xfrm>
            <a:off x="274680" y="146160"/>
            <a:ext cx="8693280" cy="21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14"/>
          <p:cNvGraphicFramePr/>
          <p:nvPr/>
        </p:nvGraphicFramePr>
        <p:xfrm>
          <a:off x="-685800" y="1523880"/>
          <a:ext cx="533412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85800" y="1523880"/>
                    <a:ext cx="5334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Объект 13"/>
          <p:cNvGraphicFramePr/>
          <p:nvPr/>
        </p:nvGraphicFramePr>
        <p:xfrm>
          <a:off x="4419720" y="2209680"/>
          <a:ext cx="4572000" cy="2438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0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209680"/>
                    <a:ext cx="4572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Прямоугольник 7"/>
          <p:cNvSpPr/>
          <p:nvPr/>
        </p:nvSpPr>
        <p:spPr>
          <a:xfrm>
            <a:off x="457200" y="4648320"/>
            <a:ext cx="3429000" cy="10666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тветы родителей, учителей и жителей микро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105520" y="4724280"/>
            <a:ext cx="3504960" cy="9907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тветы обучающих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-11 классов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ffff00"/>
                </a:solidFill>
                <a:latin typeface="Constantia"/>
              </a:rPr>
              <a:t>ОУ СОШ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№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75248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Дано: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Решение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64см2=0,0064м2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(37 размер обуви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g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: 2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S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40кг (девочка 8 кл)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400</a:t>
            </a: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H 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: 0,0128м2=31250 Па=31,250 кПа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2=50кг (девочка 9 кл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Р2=500Н : 0,0128м2=39062,5 Па=39,063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3=60кг (девочка 10 кл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Р3=600Н : 0,0128м2=46875 Па=46,875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4=78кг (учитель)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Р4=780Н : 0,0128м2=60938 Па=60,938 кПа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Определить: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Для справки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1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- давление, которое оказывает тяжелый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2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    гусеничный  трактор на почву 40К кПа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3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- давление, которое оказывает тяжелый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nstantia"/>
              </a:rPr>
              <a:t>P</a:t>
            </a: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4=?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гусеничный артиллерийский тягач АТ-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                                                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Constantia"/>
              </a:rPr>
              <a:t>на почву 57 кП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838080" y="304920"/>
            <a:ext cx="7620120" cy="1295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ксперименте участвов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цы 8-11 классов и учитель МОУ СОШ №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8" descr=""/>
          <p:cNvPicPr/>
          <p:nvPr/>
        </p:nvPicPr>
        <p:blipFill>
          <a:blip r:embed="rId1"/>
          <a:stretch/>
        </p:blipFill>
        <p:spPr>
          <a:xfrm>
            <a:off x="7772400" y="457200"/>
            <a:ext cx="1127160" cy="1752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Фото0623"/>
          <p:cNvPicPr/>
          <p:nvPr/>
        </p:nvPicPr>
        <p:blipFill>
          <a:blip r:embed="rId2"/>
          <a:stretch/>
        </p:blipFill>
        <p:spPr>
          <a:xfrm>
            <a:off x="2286000" y="3657600"/>
            <a:ext cx="1643040" cy="11095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6"/>
          <p:cNvSpPr/>
          <p:nvPr/>
        </p:nvSpPr>
        <p:spPr>
          <a:xfrm>
            <a:off x="228600" y="5334120"/>
            <a:ext cx="86868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девятиклассницы и десятиклассницы  своими каблуками  оказывают давление на почву больше, чем гусеничный трактор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-учитель оказывает своими каблуками  давление на почву больше, чем тяжелый гусеничный артиллерийский тягач АТ-Т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3(27)"/>
          <p:cNvPicPr/>
          <p:nvPr/>
        </p:nvPicPr>
        <p:blipFill>
          <a:blip r:embed="rId1"/>
          <a:stretch/>
        </p:blipFill>
        <p:spPr>
          <a:xfrm>
            <a:off x="6172200" y="-4680"/>
            <a:ext cx="2971800" cy="686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286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Девочки уже в раннем возрасте стремятся носить обувь на высоком каблуке, что уродует не только ноги, но и может вызвать искривление позвоночника, изменение формы таза, смещение внутренних орган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Статистика проведенных исследований говорит о том, что у 47% девочек МОУ СОШ №6 есть отклонения от нормы из-за неправильного выбора обуви по медицинским требования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.Многие из тех, кто принимал участие в исследовании, осознавали, что обувь на высоких каблуках неудобна и даже травм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пасна, но отдавая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ань модным тенденциям, все-таки носят именно такую обувь, тем самым заведомо вредят своему здоровь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.При  раннем и долгом  ношении обуви на высоких каблуках происходит  изменение положения внутренних органов из-за смещения центра тяже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3360" indent="-603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.Девушки и женщины на каблуках подвержены излишнему давлению и сами оказывают огромное давление на опору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1143000" y="457200"/>
            <a:ext cx="7086600" cy="60948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Выводы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2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0" y="838080"/>
            <a:ext cx="6324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1. Необходимо  врачу и медицинской сестре проводить беседы с учащимися и родителями по профилактике  болезней, которые могут появиться у девушек за счет раннего и длительного ношения обуви на высоких каблу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2.Посоветовать материалы исследования использовать на классных часах, посвященных здоровому образу жизни школьни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3.Предоставить материалы исследования администраци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У СОШ №6 </a:t>
            </a: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и предложить ввести дресс-код на обувь для школьни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4.Провести просветительскую работу среди родителей на общешкольном родительском собрании, ведь именно они покупают своим девочкам обувь на высоких каблуках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838080" y="0"/>
            <a:ext cx="7925040" cy="83808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Рекоменд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tumblr_kwng52hO6K1qaac4zo1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00400" y="4648320"/>
            <a:ext cx="5943600" cy="17524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Constantia"/>
              </a:rPr>
              <a:t>Автор работы: Шевченко Софья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, ученица  9 класс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        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МОУ СОШ №6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Constantia"/>
              </a:rPr>
              <a:t>Учитель:</a:t>
            </a:r>
            <a:r>
              <a:rPr b="0" lang="ru-RU" sz="2000" spc="-1" strike="noStrike">
                <a:solidFill>
                  <a:srgbClr val="66ffff"/>
                </a:solidFill>
                <a:latin typeface="Constantia"/>
              </a:rPr>
              <a:t> Коннова Ольга Василье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WordArt 5" descr=""/>
          <p:cNvPicPr/>
          <p:nvPr/>
        </p:nvPicPr>
        <p:blipFill>
          <a:blip r:embed="rId2"/>
          <a:stretch/>
        </p:blipFill>
        <p:spPr>
          <a:xfrm>
            <a:off x="291960" y="225360"/>
            <a:ext cx="85964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8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520"/>
          <p:cNvPicPr/>
          <p:nvPr/>
        </p:nvPicPr>
        <p:blipFill>
          <a:blip r:embed="rId1"/>
          <a:stretch/>
        </p:blipFill>
        <p:spPr>
          <a:xfrm>
            <a:off x="6248520" y="228600"/>
            <a:ext cx="2895480" cy="6629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Constantia"/>
              </a:rPr>
              <a:t>Цель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ормирование здоровье сберегающей среды для профилактики опорно - двигательного аппарата  обучающихс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дачи: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.Изучить литературу по данной теме исслед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2.Выявить, как влияет на опорно-двигательный аппарат человека высота каблука обу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.Выяснить медицинские требования к обу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.Сформировать группу желающих участвовать в эксперимент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.Провести исследовани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6.Сделать вывод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7.Разработать рекомендации по профилактике выявленных отклонени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8.Изготовить буклет с рекомендациями по профилактике болезней, вызванных длительным ношением обуви на высоких каблука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9. Предложить администрации ОУ ввести дресс-код  для обучающихся на сменную обув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ap99012101540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6970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380880" y="685440"/>
            <a:ext cx="68580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Объект -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факторы, опасно влияющие на опорно-двигательный аппарат вследствие длительного  ношения обуви на высоком каблуке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редмет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обучающиеся и преподаватели МОУ СОШ №6 Центрального района Волгоград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5367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4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34552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504960" cy="4876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5181480" y="1523880"/>
            <a:ext cx="3086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лоскостопие (</a:t>
            </a:r>
            <a:r>
              <a:rPr b="0" i="1" lang="en-US" sz="2200" spc="-1" strike="noStrike">
                <a:solidFill>
                  <a:srgbClr val="ffffff"/>
                </a:solidFill>
                <a:latin typeface="Constantia"/>
              </a:rPr>
              <a:t>pes planus</a:t>
            </a: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– деформация стопы. Характеризуется стойким уплощением ее сводов. Стопа является органом опоры, она выполняет рессорную функцию за счет имеющихся сводов, продольного и поперечного. Если своды сформированы правильно, то точками опоры являются пяточная кость и  головки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V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люсневых кост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9" descr="nogi7"/>
          <p:cNvPicPr/>
          <p:nvPr/>
        </p:nvPicPr>
        <p:blipFill>
          <a:blip r:embed="rId1"/>
          <a:stretch/>
        </p:blipFill>
        <p:spPr>
          <a:xfrm>
            <a:off x="4800600" y="2362320"/>
            <a:ext cx="3770280" cy="23922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8"/>
          <p:cNvSpPr/>
          <p:nvPr/>
        </p:nvSpPr>
        <p:spPr>
          <a:xfrm>
            <a:off x="1371600" y="380880"/>
            <a:ext cx="7010280" cy="1067040"/>
          </a:xfrm>
          <a:prstGeom prst="rect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Плоскостоп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4475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ной из задач моей работы было проведение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исследования по выявлению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лоскостопия из-за ношения обуви на высоком каблуке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у девочек  9-11 классов нашей школ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делала измерения стопы и сравнивала их с данными, соответствующими норме. Предварительно я поинтересовалась у  фельдшера  школы о количестве  учениц с плоскостопием в  этих классах. После того как я провела свой эксперимент и закончила выявления деформаций стоп, я сравнила полученные результаты с тем числом, которое было выявлено вследствие  медосмот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450720" y="85680"/>
            <a:ext cx="8242560" cy="1292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228600" y="4724280"/>
            <a:ext cx="8610480" cy="2133720"/>
          </a:xfrm>
          <a:prstGeom prst="rect">
            <a:avLst/>
          </a:prstGeom>
          <a:solidFill>
            <a:srgbClr val="94a6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медицинским данным в 9-11 классах 14 человек с плоскостопи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После проведения измерени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у 50 девочек,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я установил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у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12  из них плоскостоп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11 - уплощение стопы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зможно, есть небольшая погрешность в точности этого диагноз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в основном количество учениц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ановленное мной совпадает с количеством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оставленным мне  фельдшер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се эти девочки очень часто носят и обувь на высоком каблу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4191120" y="4038480"/>
            <a:ext cx="7617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результате исследования была выявлена закономерность  между  постоянны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ошение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буви на высоком каблуке и  плоскостопие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девочек, начавших носить обувь на высоком каблуке  достаточно давно,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было выявлено плоскостоп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 у  девочек, носящих эту обувь сравнительно недавно уже наметились отклонения, что </a:t>
            </a:r>
            <a:r>
              <a:rPr b="1" lang="ru-RU" sz="3200" spc="-1" strike="noStrike">
                <a:solidFill>
                  <a:srgbClr val="ff3399"/>
                </a:solidFill>
                <a:latin typeface="Times New Roman"/>
              </a:rPr>
              <a:t>ведет к появлению уплощения стоп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кн"/>
          <p:cNvPicPr/>
          <p:nvPr/>
        </p:nvPicPr>
        <p:blipFill>
          <a:blip r:embed="rId1"/>
          <a:stretch/>
        </p:blipFill>
        <p:spPr>
          <a:xfrm>
            <a:off x="380880" y="914400"/>
            <a:ext cx="2103480" cy="15764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5"/>
          <p:cNvSpPr/>
          <p:nvPr/>
        </p:nvSpPr>
        <p:spPr>
          <a:xfrm>
            <a:off x="3352680" y="533520"/>
            <a:ext cx="4876920" cy="990360"/>
          </a:xfrm>
          <a:prstGeom prst="rect">
            <a:avLst/>
          </a:prstGeom>
          <a:solidFill>
            <a:srgbClr val="b55475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Фотоотчет анкет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3" descr="Фото0532"/>
          <p:cNvPicPr/>
          <p:nvPr/>
        </p:nvPicPr>
        <p:blipFill>
          <a:blip r:embed="rId2"/>
          <a:stretch/>
        </p:blipFill>
        <p:spPr>
          <a:xfrm>
            <a:off x="380880" y="3429000"/>
            <a:ext cx="236232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1.Как вы думаете, с какого возраста следует носить обувь на высоком каблуке без вреда здоровью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2.На ваш взгляд, какой высоты должен быть каблук у учениц школы средней и старшей ступени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3.По вашему мнению, причиной каких болезней может стать обувь на высоком каблуке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nstantia"/>
              </a:rPr>
              <a:t>4.Назовите, пожалуйста, причины, по которым девочки рано начинают носить обувь на высоком каблук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Ольга</cp:lastModifiedBy>
  <dcterms:modified xsi:type="dcterms:W3CDTF">2012-10-22T18:50:3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