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F9B-4B48-4456-8188-23B088AF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803-A25F-4FD4-8734-88A88C3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586-A40B-4B17-852B-9F687C0D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8A8-3D7E-4881-A82A-FBD9E08C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61E9-B859-4F51-BCA8-88149586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4DCB9-085F-4902-BC12-18E3FBD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1300B-02D6-4964-8AFD-14894133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64A43-7243-4B4D-A9D7-EEC13260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72D77-1D6A-43A0-81D7-F7AFF62C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BCBB8-913E-4018-A0E9-D1457573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1B7A-8936-44EC-A84F-00AE449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309-D116-42AF-8DD8-956CC22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8F174-94DA-4260-B464-60F5E9A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5E07-F291-43D7-AA9E-41540FE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426CA-B960-46A1-8B49-42F1183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30A12-A894-4310-97C4-3AAD1D43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F95F-AD82-458F-B02F-F07C93B6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9789-13EA-4CE5-A71D-6B9E03C3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567E-EF62-4BC1-A687-821C8250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1F68-BA01-4AE7-8333-E102F91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4813-D1CE-4422-8990-3A65A55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F56A-E7D4-4658-A7A3-FCE321B9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DDF-493D-4948-969D-A86D96D9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AAB9-68DF-42E0-BEB9-5A528FE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7329-0893-4FF3-BDC4-9674B99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67BE-1C23-4A79-8B68-37C3998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4F17-FC71-46E1-8B1B-E47E762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EA50-3347-4136-9314-8D31F6E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763C-4BA9-466A-ACD7-A2A90951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B234-A153-42E2-AE28-A5DE0A1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488DA-1F06-477D-B06F-CDCB3209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74023-7DEC-48A3-BE4E-A334629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7CF88-D7AA-4F82-BCB2-AFF5B5B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186-C035-4A15-9ACB-7D465B0E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263E8-F3F2-441F-A26F-5CFB60B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E9475-2DD6-44EB-AB12-E90A784E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C1D4A-B454-476A-8C9F-A8883BC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444B2-253E-4A82-921B-6ED7CAC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F1D4E-F08F-4714-97C7-5E83F8D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C9A65-08FC-4D82-9EAF-6E92D3E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D09F9-2BB8-47F4-9EB8-E121BAD8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FE2EA-1837-4844-97FF-43AC7A15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41ABA-BE6B-4A77-A00D-4EDA318B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B4F-D2AF-4325-AD6B-A92BB9B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EDB-7432-44B2-AC0E-444E181F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E5D-CC36-4AB9-9DB0-87C116D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CED-9832-4DBD-A318-D1A21BE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F80-3ADD-4E49-98EA-F25087C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809-A237-48F7-A632-AE79753725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09B-1883-405C-B1A5-D9E08D90BD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C83-B52E-4F41-BAFE-B968B6E42A0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563-8C6A-4E36-8925-39F99D96969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1.png"/><Relationship Id="rId8" Type="http://schemas.openxmlformats.org/officeDocument/2006/relationships/package" Target="../embeddings/oleObject4.xlsx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6629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2" name="anastasiya_-__vsokii_kabluk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662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3200400" y="0"/>
            <a:ext cx="2666880" cy="6629400"/>
          </a:xfrm>
          <a:prstGeom prst="rect">
            <a:avLst/>
          </a:prstGeom>
          <a:ln w="0">
            <a:noFill/>
          </a:ln>
        </p:spPr>
      </p:pic>
      <p:pic>
        <p:nvPicPr>
          <p:cNvPr id="175" name="anastasiya_-__vsokii_kabluk.mp3" descr=""/>
          <p:cNvPicPr/>
          <p:nvPr/>
        </p:nvPicPr>
        <p:blipFill>
          <a:blip r:embed="rId5"/>
          <a:stretch/>
        </p:blipFill>
        <p:spPr>
          <a:xfrm>
            <a:off x="91440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6" name="Блок-схема: перфолента 7"/>
          <p:cNvSpPr/>
          <p:nvPr/>
        </p:nvSpPr>
        <p:spPr>
          <a:xfrm>
            <a:off x="228600" y="0"/>
            <a:ext cx="8686800" cy="1676520"/>
          </a:xfrm>
          <a:prstGeom prst="flowChartPunchedTape">
            <a:avLst/>
          </a:prstGeom>
          <a:solidFill>
            <a:srgbClr val="7153a1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Любительницам высоких каблуков посвящ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86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0" descr=""/>
          <p:cNvPicPr/>
          <p:nvPr/>
        </p:nvPicPr>
        <p:blipFill>
          <a:blip r:embed="rId1"/>
          <a:stretch/>
        </p:blipFill>
        <p:spPr>
          <a:xfrm>
            <a:off x="360360" y="23760"/>
            <a:ext cx="8515440" cy="135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6"/>
          <p:cNvGraphicFramePr/>
          <p:nvPr/>
        </p:nvGraphicFramePr>
        <p:xfrm>
          <a:off x="0" y="1295280"/>
          <a:ext cx="4952880" cy="213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4952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Объект 9"/>
          <p:cNvGraphicFramePr/>
          <p:nvPr/>
        </p:nvGraphicFramePr>
        <p:xfrm>
          <a:off x="3657600" y="1447920"/>
          <a:ext cx="6248520" cy="2214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7" name="Объект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1447920"/>
                    <a:ext cx="62485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Объект 10"/>
          <p:cNvGraphicFramePr/>
          <p:nvPr/>
        </p:nvGraphicFramePr>
        <p:xfrm>
          <a:off x="-457200" y="3505320"/>
          <a:ext cx="5670720" cy="2819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9" name="Объект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457200" y="3505320"/>
                    <a:ext cx="56707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Объект 11"/>
          <p:cNvGraphicFramePr/>
          <p:nvPr/>
        </p:nvGraphicFramePr>
        <p:xfrm>
          <a:off x="4572000" y="3581280"/>
          <a:ext cx="4952880" cy="2679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11" name="Объект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3581280"/>
                    <a:ext cx="49528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Прямоугольник 8"/>
          <p:cNvSpPr/>
          <p:nvPr/>
        </p:nvSpPr>
        <p:spPr>
          <a:xfrm>
            <a:off x="1066680" y="3429000"/>
            <a:ext cx="2438640" cy="3049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11-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5257800" y="3505320"/>
            <a:ext cx="2590920" cy="3045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15-22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1"/>
          <p:cNvSpPr/>
          <p:nvPr/>
        </p:nvSpPr>
        <p:spPr>
          <a:xfrm>
            <a:off x="990720" y="6095880"/>
            <a:ext cx="2590560" cy="3049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23-3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5791320" y="6248520"/>
            <a:ext cx="2361960" cy="3045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31-4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4" descr=""/>
          <p:cNvPicPr/>
          <p:nvPr/>
        </p:nvPicPr>
        <p:blipFill>
          <a:blip r:embed="rId1"/>
          <a:stretch/>
        </p:blipFill>
        <p:spPr>
          <a:xfrm>
            <a:off x="274680" y="146160"/>
            <a:ext cx="8693280" cy="21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14"/>
          <p:cNvGraphicFramePr/>
          <p:nvPr/>
        </p:nvGraphicFramePr>
        <p:xfrm>
          <a:off x="-685800" y="1523880"/>
          <a:ext cx="533412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85800" y="1523880"/>
                    <a:ext cx="5334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Объект 13"/>
          <p:cNvGraphicFramePr/>
          <p:nvPr/>
        </p:nvGraphicFramePr>
        <p:xfrm>
          <a:off x="4419720" y="2209680"/>
          <a:ext cx="4572000" cy="2438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0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209680"/>
                    <a:ext cx="4572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Прямоугольник 7"/>
          <p:cNvSpPr/>
          <p:nvPr/>
        </p:nvSpPr>
        <p:spPr>
          <a:xfrm>
            <a:off x="457200" y="4648320"/>
            <a:ext cx="3429000" cy="10666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тветы родителей, учителей и жителей микро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105520" y="4724280"/>
            <a:ext cx="3504960" cy="990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тветы обучающих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-11 классов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У СОШ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№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7524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Дано: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Решение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64см2=0,0064м2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(37 размер обуви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g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: 2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40кг (девочка 8 кл)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400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H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: 0,0128м2=31250 Па=31,250 кПа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2=50кг (девочка 9 кл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Р2=500Н : 0,0128м2=39062,5 Па=39,063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3=60кг (девочка 10 кл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Р3=600Н : 0,0128м2=46875 Па=46,875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4=78кг (учитель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Р4=780Н : 0,0128м2=60938 Па=60,938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Определить: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Для справки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- давление, которое оказывает тяжелый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2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    гусеничный  трактор на почву 40К кПа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3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- давление, которое оказывает тяжел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4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гусеничный артиллерийский тягач АТ-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на почву 57 кП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838080" y="304920"/>
            <a:ext cx="7620120" cy="1295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ксперименте участвов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цы 8-11 классов и учитель МОУ СОШ №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27160" cy="1752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Фото0623"/>
          <p:cNvPicPr/>
          <p:nvPr/>
        </p:nvPicPr>
        <p:blipFill>
          <a:blip r:embed="rId2"/>
          <a:stretch/>
        </p:blipFill>
        <p:spPr>
          <a:xfrm>
            <a:off x="2286000" y="3657600"/>
            <a:ext cx="1643040" cy="11095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6"/>
          <p:cNvSpPr/>
          <p:nvPr/>
        </p:nvSpPr>
        <p:spPr>
          <a:xfrm>
            <a:off x="228600" y="533412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девятиклассницы и десятиклассницы  своими каблуками  оказывают давление на почву больше, чем гусеничный тракто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учитель оказывает своими каблуками  давление на почву больше, чем тяжелый гусеничный артиллерийский тягач АТ-Т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3(27)"/>
          <p:cNvPicPr/>
          <p:nvPr/>
        </p:nvPicPr>
        <p:blipFill>
          <a:blip r:embed="rId1"/>
          <a:stretch/>
        </p:blipFill>
        <p:spPr>
          <a:xfrm>
            <a:off x="6172200" y="-4680"/>
            <a:ext cx="2971800" cy="686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286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Девочки уже в раннем возрасте стремятся носить обувь на высоком каблуке, что уродует не только ноги, но и может вызвать искривление позвоночника, изменение формы таза, смещение внутренних орган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Статистика проведенных исследований говорит о том, что у 47% девочек МОУ СОШ №6 есть отклонения от нормы из-за неправильного выбора обуви по медицинским требования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.Многие из тех, кто принимал участие в исследовании, осознавали, что обувь на высоких каблуках неудобна и даже травм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пасна, но отдавая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ань модным тенденциям, все-таки носят именно такую обувь, тем самым заведомо вредят своему здоровь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.При  раннем и долгом  ношении обуви на высоких каблуках происходит  изменение положения внутренних органов из-за смещения центра тяже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.Девушки и женщины на каблуках подвержены излишнему давлению и сами оказывают огромное давление на опору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143000" y="457200"/>
            <a:ext cx="7086600" cy="60948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Вывод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2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0" y="838080"/>
            <a:ext cx="6324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1. Необходимо  врачу и медицинской сестре проводить беседы с учащимися и родителями по профилактике  болезней, которые могут появиться у девушек за счет раннего и длительного ношения обуви на высоких каблу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2.Посоветовать материалы исследования использовать на классных часах, посвященных здоровому образу жизни школьни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3.Предоставить материалы исследования администраци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У СОШ №6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и предложить ввести дресс-код на обувь для школьни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4.Провести просветительскую работу среди родителей на общешкольном родительском собрании, ведь именно они покупают своим девочкам обувь на высоких каблуках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838080" y="0"/>
            <a:ext cx="7925040" cy="83808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Рекоменд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tumblr_kwng52hO6K1qaac4zo1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00400" y="4648320"/>
            <a:ext cx="5943600" cy="1752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Constantia"/>
              </a:rPr>
              <a:t>Автор работы: Шевченко Софья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, ученица  9 класс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МОУ СОШ №6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Constantia"/>
              </a:rPr>
              <a:t>Учитель: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 Коннова Ольга Василь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WordArt 5" descr=""/>
          <p:cNvPicPr/>
          <p:nvPr/>
        </p:nvPicPr>
        <p:blipFill>
          <a:blip r:embed="rId2"/>
          <a:stretch/>
        </p:blipFill>
        <p:spPr>
          <a:xfrm>
            <a:off x="291960" y="225360"/>
            <a:ext cx="85964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520"/>
          <p:cNvPicPr/>
          <p:nvPr/>
        </p:nvPicPr>
        <p:blipFill>
          <a:blip r:embed="rId1"/>
          <a:stretch/>
        </p:blipFill>
        <p:spPr>
          <a:xfrm>
            <a:off x="6248520" y="228600"/>
            <a:ext cx="2895480" cy="6629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onstantia"/>
              </a:rPr>
              <a:t>Цель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ормирование здоровье сберегающей среды для профилактики опорно - двигательного аппарата  обучающихс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дачи: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Изучить литературу по данной теме исслед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Выявить, как влияет на опорно-двигательный аппарат человека высота каблука обу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.Выяснить медицинские требования к обу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.Сформировать группу желающих участвовать в эксперимент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.Провести исслед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6.Сделать вывод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7.Разработать рекомендации по профилактике выявленных отклонени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.Изготовить буклет с рекомендациями по профилактике болезней, вызванных длительным ношением обуви на высоких каблу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9. Предложить администрации ОУ ввести дресс-код  для обучающихся на сменную обув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ap99012101540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6970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380880" y="685440"/>
            <a:ext cx="6858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Объект -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акторы, опасно влияющие на опорно-двигательный аппарат вследствие длительного  ношения обуви на высоком каблуке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редмет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обучающиеся и преподаватели МОУ СОШ №6 Центрального района Волгоград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536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34552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504960" cy="487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3086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лоскостопие (</a:t>
            </a:r>
            <a:r>
              <a:rPr b="0" i="1" lang="en-US" sz="2200" spc="-1" strike="noStrike">
                <a:solidFill>
                  <a:srgbClr val="ffffff"/>
                </a:solidFill>
                <a:latin typeface="Constantia"/>
              </a:rPr>
              <a:t>pes planus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– деформация стопы. Характеризуется стойким уплощением ее сводов. Стопа является органом опоры, она выполняет рессорную функцию за счет имеющихся сводов, продольного и поперечного. Если своды сформированы правильно, то точками опоры являются пяточная кость и  головки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люсневых кост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9" descr="nogi7"/>
          <p:cNvPicPr/>
          <p:nvPr/>
        </p:nvPicPr>
        <p:blipFill>
          <a:blip r:embed="rId1"/>
          <a:stretch/>
        </p:blipFill>
        <p:spPr>
          <a:xfrm>
            <a:off x="4800600" y="2362320"/>
            <a:ext cx="3770280" cy="2392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371600" y="380880"/>
            <a:ext cx="7010280" cy="10670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лоскостоп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ной из задач моей работы было проведение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исследования по выявлению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лоскостопия из-за ношения обуви на высоком каблуке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у девочек  9-11 классов нашей школ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делала измерения стопы и сравнивала их с данными, соответствующими норме. Предварительно я поинтересовалась у  фельдшера  школы о количестве  учениц с плоскостопием в  этих классах. После того как я провела свой эксперимент и закончила выявления деформаций стоп, я сравнила полученные результаты с тем числом, которое было выявлено вследствие  медосмот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228600" y="4724280"/>
            <a:ext cx="8610480" cy="2133720"/>
          </a:xfrm>
          <a:prstGeom prst="rect">
            <a:avLst/>
          </a:prstGeom>
          <a:solidFill>
            <a:srgbClr val="94a6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медицинским данным в 9-11 классах 14 человек с плоскостоп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После проведения измерен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 50 девочек,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я установил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у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12  из них плоскостоп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11 - уплощение стоп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, есть небольшая погрешность в точности этого диагноз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в основном количество учениц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ановленное мной совпадает с количество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оставленным мне  фельдшер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е эти девочки очень часто носят и обувь на высоком каблу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4191120" y="4038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результате исследования была выявлена закономерность  между  постоянны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ошение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буви на высоком каблуке и  плоскостопие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девочек, начавших носить обувь на высоком каблуке  достаточно давно,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было выявлено плоскостоп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у  девочек, носящих эту обувь сравнительно недавно уже наметились отклонения, что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ведет к появлению уплощения стоп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кн"/>
          <p:cNvPicPr/>
          <p:nvPr/>
        </p:nvPicPr>
        <p:blipFill>
          <a:blip r:embed="rId1"/>
          <a:stretch/>
        </p:blipFill>
        <p:spPr>
          <a:xfrm>
            <a:off x="380880" y="914400"/>
            <a:ext cx="2103480" cy="15764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3352680" y="533520"/>
            <a:ext cx="4876920" cy="99036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Фотоотчет анке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3" descr="Фото0532"/>
          <p:cNvPicPr/>
          <p:nvPr/>
        </p:nvPicPr>
        <p:blipFill>
          <a:blip r:embed="rId2"/>
          <a:stretch/>
        </p:blipFill>
        <p:spPr>
          <a:xfrm>
            <a:off x="380880" y="3429000"/>
            <a:ext cx="236232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1.Как вы думаете, с какого возраста следует носить обувь на высоком каблуке без вреда здоровью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2.На ваш взгляд, какой высоты должен быть каблук у учениц школы средней и старшей ступени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3.По вашему мнению, причиной каких болезней может стать обувь на высоком каблуке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4.Назовите, пожалуйста, причины, по которым девочки рано начинают носить обувь на высоком каблук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Ольга</cp:lastModifiedBy>
  <dcterms:modified xsi:type="dcterms:W3CDTF">2012-10-22T18:50:3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