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D100-951E-4F80-8AEE-2547F009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0A3-486F-4FBD-8FB9-D8BEF112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FEC-3F90-4099-BD1C-A67C1CE8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F22-BAA5-4E7E-8DA3-541A3526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143-2AB6-40F6-88EE-C41FC3D7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94C-D6D1-4094-8828-270865E2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5AE-34A5-48C0-ACAF-2D40687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6F9-E7B1-4A8B-A82C-46AC632A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7B6-443E-4296-9BA4-A1429876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354-AE49-4C3D-9752-9340DC5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6E8-F29D-49B0-9C34-1C78AA41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B7B-E218-4C16-B71F-9CE6916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5944-43B0-40B6-AFF2-9F3A53936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43240" y="4429080"/>
            <a:ext cx="478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Учитель: Данилова И.М</a:t>
            </a:r>
            <a:r>
              <a:rPr b="0" lang="ru-RU" sz="3200" spc="-1" strike="noStrike">
                <a:solidFill>
                  <a:srgbClr val="08684e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567160" y="225360"/>
            <a:ext cx="6583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1400" y="213840"/>
            <a:ext cx="5257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овидности использования дневника как жанра в литератур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бственно дневни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дневники Анны Франк, Юры Рябинкина, Тани Савичевой). Сила впечатления, производимого дневником, в большой степени зависит от его контекста, исторического и литературног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невник писателя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невники писателей, учёных, артистов, не предназначавшиеся для опубликования, но тем не менее их художественная ценность часто соперничает с намеренно создаваемыми дневниками литературных героев (Л.Н. Толстой,  М.М. Пришвин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тературные произведения в форме дневник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 «Записки сумасшедшего» Н.В. Гоголя, «Демикотоновая книга» в «Соборянах» Н.С. Лескова, «Журнал Печорина» в «Герое нашего времени» М.Ю. Лермонтова, «Чапаев» Д.А. Фурманова, «Дневник лишнего человека» И.С. Тургенева, «Дневник Кости Рябцева» Н.Огнева, «Деревенский дневник» Е.Я. Дороша, «Мой брат играет на кларнете» А.Г. Алексин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14240" y="356760"/>
            <a:ext cx="8429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обенности жанра дневниковых запис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ированность (указывается  число, год, время суто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(город, село учебное заведение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ествование ведётся от первого л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олог (внутренний диалог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ысли отрывочные, запись кратк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шифрованность имён и фамил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шется для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081582a3b9c1ae8b852ca7d1db296c2f.jpeg"/>
          <p:cNvPicPr/>
          <p:nvPr/>
        </p:nvPicPr>
        <p:blipFill>
          <a:blip r:embed="rId1"/>
          <a:stretch/>
        </p:blipFill>
        <p:spPr>
          <a:xfrm rot="451800">
            <a:off x="5892840" y="5024160"/>
            <a:ext cx="20494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400" y="64260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оведь ведущего дневни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«Ни дня без строчки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Ю.Олеша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аждую запись датиру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Будь искренним и честным в записях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Если пишешь путевой дневник – точно обозначай даты, широты, места нахожд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Не читай чужого дневника без разрешени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62354961_11cb2637210e.png"/>
          <p:cNvPicPr/>
          <p:nvPr/>
        </p:nvPicPr>
        <p:blipFill>
          <a:blip r:embed="rId1"/>
          <a:stretch/>
        </p:blipFill>
        <p:spPr>
          <a:xfrm>
            <a:off x="2857680" y="4357800"/>
            <a:ext cx="2133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21420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тературный (читательский) дневни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жит для накапливания знаний, является обязательной формой работы читателя. Он повышает культуру чт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основные по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ажи автора и название книг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ыпиши выходные данные: место издания, издательство, год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тметь время написания произведения, а также время, о котором идет речь в книг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характеризуй тему произведени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 общих чертах изложи содержан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формулируй для себя идею книг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запиши общее впечатление от книг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рассуждай об особенностях художественной формы (композиции, авторском стил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равни данное произведение этого автора с другим его произведением, запиши это с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 ведения дневника свободная. Читательский  дневник ведется только для себя. Ведение его вырабатывает навык самостоятельного мышл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7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писать сочинение в жанре дневниковых запис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накомьтесь с письмами, дневниковыми записями писателей, произведениями, написанными в жанре дневника. Это поможет вам выдержать форму и условности изложения, характерные для этого жан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ите идею сочинения, основную мысль, которую беретесь доказать своей работой. Правильное определение идеи позволит вам глубоко и полно раскрыть тему сочинения и не «утонуть» в обширном материа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ьте план, который поможет вам наметить, с чего начать работу, какие разделы выделить в сочинении, в какой последовательности излагать материал и к каким выводам необходимо прий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йте в виду, что вступление и заключение в сочинении данного жанра могут иметь обрамление, придающее работе личностны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ните, что дневниковые записи, письма помогают проследить за становлением личности, раскрывают внутренний мир ведущего дневник. Проверьте, отвечает ли этому требованию ваше сочи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5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ое вступл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жды мне в руки попала старая тетрадь в кожаном переплет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-то раз, роясь в старом сундуке, я наткнулся на папку с  пожелтевшими листами. Среди них была и небольшая ученическая тетрадка (блокнот). Я  смахнул с нее пыль и осторожно перевернул страницу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ое заключ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этом записи прерываются, но образ …    с его чувствами, мыслями, сомнениями и размышлениями, как живой встает передо м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 закрыл последнюю страницу. Образ … , вставший передо мной,  долго не отпускал меня. Вот что,  оказывается,  волновало  его (её) . Чувства, мысли, переживания, сомнения и размышления были близки и мне. Неужели всё повторяется в этом ми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4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флексия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нев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Есть ли в нем указание на дату, место, где происходило действ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сегда ли называются имена, фамилии или их можно зашифр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кие свойства характерны для дневниковых записе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Чьи записи из дневников запомнились и че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хотелось ли   вам   писать свой днев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0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9500"/>
                            </p:stCondLst>
                            <p:childTnLst>
                              <p:par>
                                <p:cTn id="4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15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3500"/>
                            </p:stCondLst>
                            <p:childTnLst>
                              <p:par>
                                <p:cTn id="462" nodeType="after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500200" y="428760"/>
            <a:ext cx="65008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72428"/>
                </a:solidFill>
                <a:latin typeface="Calibri"/>
              </a:rPr>
              <a:t>Помните:</a:t>
            </a:r>
            <a:r>
              <a:rPr b="0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2428"/>
                </a:solidFill>
                <a:latin typeface="Calibri"/>
              </a:rPr>
              <a:t>вести дневник – значит дисциплинировать себя, шлифовать свои мысли и фразы, лучше разбираться в жизни, глубже познавать себя, ведь  «...слово – единственное, что будет жить вечно» </a:t>
            </a:r>
            <a:r>
              <a:rPr b="0" i="1" lang="ru-RU" sz="3200" spc="-1" strike="noStrike">
                <a:solidFill>
                  <a:srgbClr val="072428"/>
                </a:solidFill>
                <a:latin typeface="Calibri"/>
              </a:rPr>
              <a:t>(Гэзлитт)</a:t>
            </a:r>
            <a:r>
              <a:rPr b="0" lang="ru-RU" sz="3200" spc="-1" strike="noStrike">
                <a:solidFill>
                  <a:srgbClr val="072428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6" descr="150px-Sovik_na_sayt.gif"/>
          <p:cNvPicPr/>
          <p:nvPr/>
        </p:nvPicPr>
        <p:blipFill>
          <a:blip r:embed="rId2"/>
          <a:stretch/>
        </p:blipFill>
        <p:spPr>
          <a:xfrm>
            <a:off x="428760" y="2143080"/>
            <a:ext cx="2928960" cy="35006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6572160" y="385776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Выноска-облако 17"/>
          <p:cNvGrpSpPr/>
          <p:nvPr/>
        </p:nvGrpSpPr>
        <p:grpSpPr>
          <a:xfrm>
            <a:off x="2523960" y="334800"/>
            <a:ext cx="6675480" cy="4042080"/>
            <a:chOff x="2523960" y="334800"/>
            <a:chExt cx="6675480" cy="4042080"/>
          </a:xfrm>
        </p:grpSpPr>
        <p:pic>
          <p:nvPicPr>
            <p:cNvPr id="71" name="Выноска-облако 17" descr=""/>
            <p:cNvPicPr/>
            <p:nvPr/>
          </p:nvPicPr>
          <p:blipFill>
            <a:blip r:embed="rId3"/>
            <a:stretch/>
          </p:blipFill>
          <p:spPr>
            <a:xfrm>
              <a:off x="2523960" y="334800"/>
              <a:ext cx="6675480" cy="40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510160" y="950760"/>
              <a:ext cx="2752920" cy="25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Monotype Corsiva"/>
                </a:rPr>
                <a:t>Желаю удачи 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9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14720" y="213840"/>
            <a:ext cx="6929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2303e"/>
                </a:solidFill>
                <a:latin typeface="Calibri"/>
              </a:rPr>
              <a:t>Тема: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очинение в жанре дневниковых запис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786040" y="1999800"/>
            <a:ext cx="6215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2303e"/>
                </a:solidFill>
                <a:latin typeface="Calibri"/>
              </a:rPr>
              <a:t>Цель: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познакомить учащихся с историей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возникновения дневника как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литературного    произведения,  с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особенностями жанра дневниковых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записей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объяснить правила ведения дневника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предоставить избранные образцы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дневниковых  запис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buClr>
                <a:srgbClr val="02303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подготовить к написанию домашнего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     </a:t>
            </a:r>
            <a:r>
              <a:rPr b="0" lang="ru-RU" sz="2600" spc="-1" strike="noStrike">
                <a:solidFill>
                  <a:srgbClr val="02303e"/>
                </a:solidFill>
                <a:latin typeface="Calibri"/>
              </a:rPr>
              <a:t>сочинения в жанре днев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0160" y="142560"/>
            <a:ext cx="685800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ть память крепкая – большое благ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о все ж надежней памяти – бумаг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Юсуф Хас Хаджиб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невнику весьма удобно судить о самом себе.        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.Н.Толстой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невни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-а, м. 1. Записи, ведущиеся изо дня в день. Вести дневник. 2. Ученическая тетрадь для записи заданных уроков и для отметок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С.И. Ожегов. Словарь русского язы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невник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личается с Петровской эпохи. Словообразовательная калька с французског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journ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«газета, журнал», суффикс производного о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journe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«день»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Этимологический словар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невни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оденные записи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(Толковый словарь В.И.Дал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«Чтобы научиться писать, надо писать. Поэтому пишите письма друзьям, ведите дневник, пишите воспоминания, их можно и нужно писать как можно раньше – не худо еще в юные годы –  о своем детстве, например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.С.Лихачё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BOOK006.gif"/>
          <p:cNvPicPr/>
          <p:nvPr/>
        </p:nvPicPr>
        <p:blipFill>
          <a:blip r:embed="rId1"/>
          <a:stretch/>
        </p:blipFill>
        <p:spPr>
          <a:xfrm rot="21393000">
            <a:off x="2125440" y="4135320"/>
            <a:ext cx="2176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 истории возникновения дне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Древняя Русь. В этот период отсутствуют русские мемуары и имеются лишь записи иностранных путешественников, преимущественно восточн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–XVI вв. . Дневниковые литературные произведения разных жанров : “хождения”, путешествия, путевые очерки, автобиографические записи, появляются различного рода записки, сказания, принадлежащие русским людям. Эти произведения содержат в себе начала мемуарного (дневникового) жанра, но их еще трудно отделить от публицистики и летописного повествования, например, сочинение  А.М. Курбского «История о великом князе Московском...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VII в. Дальнейшее развитие жанра, но эти записи содержат в себе в большей степени сведения, основанные либо на личных впечатлениях, либо на свидетельствах совреме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7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VIII-нача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XI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. Сформировано понятие дневника, в России начинается издание записных книжек и дневников, дорожных заметок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льденштедт И. «Дневник путешествия по Слободско-Украинской губернии академика С.-Петербургской Академии наук Гильденштедта в августе и сентябре 1774 года»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Записки князя Бориса Ивановича Куракина о пребывании в Англии, отъезде в Россию к армии, путешествии с царём Петром Алексеевичем в Карлсбад и о назначении своём на съезд в Утрехт. 1710–1711–1712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яземский П. «Из старой записной книжк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иод утверждения мемуарного жанра,  только к концу XVIII ве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невники приобретают четко очерченный ви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1425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IX – начало XX в. Завершилась дифференциация всех элементов жанровой структуры дневника. Количество дневников возрастает (по сравнению с XVIII веком примерно в 10 раз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-й эта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XX–XXI века. Благодаря использованию писателями фрагментарной формы письма дневниковая форма повествования получает широкое распространение в современном литературном процес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развитие дневникового повествования оказали влияние новые технологии. Так, интернетовский «LiveJournal» («ЖЖ») в значительной мере опирается на жанровые структуры, существующие в литерату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логи состоят из “постов” (пост — сообщение в дневнике), каждый из которых содержит дату и время публикации, а также ссылки на страницы с фотографиями, комментариями и именем автора. Записи блогов разных пользователей возникают в ленте новостей и по прошествии времени замещаются другими; временные промежутки, в реальности существующие между ними, не могут быть отражены в режиме он-лай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авное отличие дневника «ЖЖ» от бытового дневника состоит в установке автора блога на поиск единомышленников, людей, разделяющих его жизненную позицию, — для общения с ними. Автор создаёт коммуникативно грамотный текст, на который потенциальный адресат захотел бы так или иначе отреагирова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c9f8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21384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невник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– это ежедневные записи о событиях текуще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невни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литературное произведение в форме ежедневных записей (чаще всего с указанием даты), современных описываемым событи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невн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значально предполагает полную откровенность, искренность мыслей и чувств пишущего, создаёт впечатление достоверности, жизненной полноты. . Эти свойства придают дневнику интимность, лиричность, страстность интон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AG00428_.gif"/>
          <p:cNvPicPr/>
          <p:nvPr/>
        </p:nvPicPr>
        <p:blipFill>
          <a:blip r:embed="rId1"/>
          <a:stretch/>
        </p:blipFill>
        <p:spPr>
          <a:xfrm rot="20573400">
            <a:off x="280800" y="3958920"/>
            <a:ext cx="200016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004.jpg"/>
          <p:cNvPicPr/>
          <p:nvPr/>
        </p:nvPicPr>
        <p:blipFill>
          <a:blip r:embed="rId2"/>
          <a:stretch/>
        </p:blipFill>
        <p:spPr>
          <a:xfrm rot="741600">
            <a:off x="7142040" y="358776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1pf_enl.jpg"/>
          <p:cNvPicPr/>
          <p:nvPr/>
        </p:nvPicPr>
        <p:blipFill>
          <a:blip r:embed="rId3"/>
          <a:stretch/>
        </p:blipFill>
        <p:spPr>
          <a:xfrm rot="430200">
            <a:off x="5178600" y="4516200"/>
            <a:ext cx="1500120" cy="1785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diary.jpg"/>
          <p:cNvPicPr/>
          <p:nvPr/>
        </p:nvPicPr>
        <p:blipFill>
          <a:blip r:embed="rId4"/>
          <a:stretch/>
        </p:blipFill>
        <p:spPr>
          <a:xfrm>
            <a:off x="2643120" y="3929040"/>
            <a:ext cx="23576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1:32:27Z</dcterms:created>
  <dc:creator>галина</dc:creator>
  <dc:description/>
  <dc:language>en-US</dc:language>
  <cp:lastModifiedBy>xoziain</cp:lastModifiedBy>
  <dcterms:modified xsi:type="dcterms:W3CDTF">2011-08-07T10:27:03Z</dcterms:modified>
  <cp:revision>28</cp:revision>
  <dc:subject/>
  <dc:title>Слайд 1</dc:title>
</cp:coreProperties>
</file>