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A4B-6414-414B-8D1E-D6451C03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403-A02D-4C58-996F-3629DCBB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49718-720E-49F7-8A7F-137FC096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7B3F2-F309-4983-8642-B54A8C66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2BB80-D7D5-4186-88F2-C57CB6FB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6D637-8C5A-4EA7-B50D-5D9C1803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6D942-D345-4E98-8B32-E0690589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54700-A7C1-4A8C-89B1-B54D082D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906E2-DB50-4594-A50F-6414DE69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D3EEC-270A-4E3D-955C-E40085B0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8A0FA-9181-4897-8CAE-4DFB7458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35B5-70E8-4460-95F4-B8E7B5A7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50C-7245-493F-8765-45357741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4654-B2F8-48AC-A0C7-B6A2FFA8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0040-69B9-4F1F-8E30-F52B02B3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589B-DD0C-4B2F-A1B5-3DBB81F4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A33E-01C1-4C3B-B746-E1097FDD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E0AA-C72B-4976-AB89-F42CAEAE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67DA-9455-4C05-8501-7D5DF6FF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1ADA-3B0E-4456-AF29-1A82F9C4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E75-B056-461C-9A60-3C0F5DC4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C15F-F3AD-439D-8CA9-3025D526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32F4-E6B9-4CFE-AB0D-B0981780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9B0B-2816-43D3-B0E0-2809D676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8E39-498D-43C7-B832-DB584558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C2AC-FB50-4D84-8308-B01222E9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14A67-47BC-45BF-A5C4-74383220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1B725-6FD0-41C4-81E1-EC7D7939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FA367-D757-4084-AAC0-53666E46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8B3A6-2621-4D0F-859A-1911684A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A48CA-B4A7-4737-9872-E31E826D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398-5182-4962-9D71-70CF908C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1B1B3-7F76-4B84-B683-7B13A33E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012E8-267E-4EFB-8F0C-DCF99091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1B2DA-2119-4814-A0F7-C2BA1065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D0F23-3FCB-4B61-9CC5-D3B46576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6F947-495D-41FE-90A2-652526C5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7DB88-6A9B-4941-A9C3-4E99FF4A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44ECD-3419-47D8-A040-F62BE4CA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22A9C-70AD-4403-8C80-73BBE799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2BF3D-1A8D-48AC-8F34-12884104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024A3-FECD-47CD-B11B-3A46E9A1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5AD-6877-4600-B286-C7FF00BB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354B9-A286-44FF-ABC2-BFA66BA9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6BF2A-910A-4B56-BC59-8CCD6D52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1719A-B7C3-4EB8-8050-15F837AA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9BB99-2BFD-489E-BA7C-06E52B80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1EE94-6D84-4389-82C4-1E5FBDD6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B555D-137D-47FA-9994-4E7FA2AF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18456-A5F0-4D7C-AB0D-ED8D430D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73F3B-6D66-4803-97CA-66D3B819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D8640-9CC2-429A-A93A-2326E33C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57025-3565-428B-BB6B-B3CC1D10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386-D5D5-433A-8C51-A2FC747A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F1A6A-D27B-49AD-8800-ECF078E9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2B686-A9E2-450A-B2FF-5D49C80E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EB21C-C1C8-43EB-BCDC-191C913D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C2EDA-D945-4EED-B24F-73DFCD00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D71AC-70D0-4CAE-B37B-A41E6E16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C0FF5-9A7C-41CD-B3BC-346A340F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F628D-2C4B-4D72-A106-5363B341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D5C2E-DEF6-4CD0-95BE-A7C665FE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095FE-84EA-4BD2-A2F7-014DFD80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1BC15-C040-49AD-A2FB-7E2BA996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F34-1F55-41E0-9010-97B00DB1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B5B3F-30BC-4569-ACDC-6F953091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DDA39-CD57-4D5B-98FF-923A590F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E63BE-35F5-48F2-A052-9CB521F7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A86B0-7C2C-446F-880E-470DC16F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722F5-0416-474A-B30D-6F04229B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58279-FF2B-4089-AC73-3F0A1F53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9B974-4605-46EA-B003-611C24D9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08316-6ABB-4F7F-8BB4-FF0FDE54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3A0F5-EF08-471E-90EF-D6336611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846CA-5522-423A-90B2-AC8078AA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40AE-E5FB-4719-AC8E-99DF4E70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D2DD4-9206-4E11-A04C-0722EA52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B495F-338B-47E0-ADEB-04E770BB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4DA30-E84E-44AE-8CE7-CCBDA5DE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97178-3DF6-46BF-85B1-16ED7F01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8F05D-44BB-4552-BB0A-BCCEBB1B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DE211-FE8A-4B86-A3CF-7F698B2C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AB7E0-1408-462C-93FA-629FFBB1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A3606-AB13-472A-A071-5CC409FC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AFF1B-9746-4E54-9686-04F7C9C6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C49E9-4CD0-4C06-97A4-308A07E1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70E3-F16C-4AB5-B023-91AF1BC0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0BCE1-A0BF-4333-A2EC-DB165F83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BD7BD-2C77-4A58-B379-A17A9867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9DC31-C88B-48FE-A03A-760D34DD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F30F7-2DD2-4F28-84A3-A01E96B2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77F0D-82CF-42B0-811B-DA9ED260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8114F-47A6-4C0A-BB32-79D7B5E6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C0DDA-6494-44C7-B12A-EBD3594C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86EEB-F58C-49E3-902F-F1EAD78E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4439E-09F2-46BA-92EC-9828CA87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3D6F9-06F8-4945-9EFA-5554CBE6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E9D-9287-4A44-B0AB-0897ED10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690FA-335A-49F6-8C61-40A46B8E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B91FE-B608-4074-813D-65E600FF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AF5F1-C901-471E-9C90-9708B1FA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1CD50-B44F-4B37-AD07-F2E6C35C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FA74C-EFE7-4D67-96BE-621AB1EC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1848F-68A0-4FB7-AA59-C49E333B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92E6D-6187-4417-80E8-F27617BD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BFD47-91CC-4FA3-B248-88CDEFC1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232B0-4234-4FA3-AF94-60D31B63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F5BC8-3979-4446-8119-7FFB361C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FF1B-ADE1-48E3-A633-A3C62BBF3A1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35D9-1403-4EAE-999E-3C27F5151E0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E450-E91B-43B7-9D9E-EC41C8606ED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920C-0B28-4B01-9276-B21DE6E539C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2603-9CB3-4C0E-BEF4-EB787C6113B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4B34-02D4-4881-9315-1E2D12E5521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D1D7-A4AA-4FE2-8657-1936669A85F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EF95-F243-4D5D-AFC4-144D214F278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A4D7-CFCB-454C-A01F-0370C64839A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71360" y="682560"/>
            <a:ext cx="8728200" cy="2249640"/>
          </a:xfrm>
          <a:prstGeom prst="rect">
            <a:avLst/>
          </a:prstGeom>
          <a:ln w="0">
            <a:noFill/>
          </a:ln>
        </p:spPr>
      </p:pic>
      <p:sp>
        <p:nvSpPr>
          <p:cNvPr id="400" name="TextBox 3"/>
          <p:cNvSpPr/>
          <p:nvPr/>
        </p:nvSpPr>
        <p:spPr>
          <a:xfrm>
            <a:off x="5286240" y="4357800"/>
            <a:ext cx="357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выполн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«А»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4"/>
          <p:cNvSpPr/>
          <p:nvPr/>
        </p:nvSpPr>
        <p:spPr>
          <a:xfrm>
            <a:off x="4074120" y="6215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5" descr=""/>
          <p:cNvPicPr/>
          <p:nvPr/>
        </p:nvPicPr>
        <p:blipFill>
          <a:blip r:embed="rId2"/>
          <a:stretch/>
        </p:blipFill>
        <p:spPr>
          <a:xfrm>
            <a:off x="357120" y="2428920"/>
            <a:ext cx="2749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F:\6 класс\чтение\Толстой Акула\акула.jpg"/>
          <p:cNvPicPr/>
          <p:nvPr/>
        </p:nvPicPr>
        <p:blipFill>
          <a:blip r:embed="rId1"/>
          <a:stretch/>
        </p:blipFill>
        <p:spPr>
          <a:xfrm>
            <a:off x="428760" y="639720"/>
            <a:ext cx="82864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"/>
          <p:cNvSpPr/>
          <p:nvPr/>
        </p:nvSpPr>
        <p:spPr>
          <a:xfrm>
            <a:off x="285840" y="472284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был прекрасный, с моря дул свежий ветер; но к вечеру погода изменилась: стало душно и точно из топленной печки несло на нас горячим воздухом с пустыни Сах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6572160" y="214200"/>
            <a:ext cx="2257560" cy="1685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2"/>
          <a:stretch/>
        </p:blipFill>
        <p:spPr>
          <a:xfrm>
            <a:off x="6286680" y="2071800"/>
            <a:ext cx="2590560" cy="2419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3"/>
          <a:stretch/>
        </p:blipFill>
        <p:spPr>
          <a:xfrm>
            <a:off x="142920" y="142920"/>
            <a:ext cx="55180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428760" y="522000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и, как ящерицы, вытягивались в воде и что было силы поплыли к тому месту, где был бочонок над якор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6286680" y="3286080"/>
            <a:ext cx="2681280" cy="19274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2"/>
          <a:stretch/>
        </p:blipFill>
        <p:spPr>
          <a:xfrm>
            <a:off x="142920" y="428760"/>
            <a:ext cx="60386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"/>
          <p:cNvSpPr/>
          <p:nvPr/>
        </p:nvSpPr>
        <p:spPr>
          <a:xfrm>
            <a:off x="428760" y="557532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руг с палубы кто-то крикнул: «Акула!» — и все мы увидали в воде спину морского чудовищ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6000840" y="214200"/>
            <a:ext cx="2809800" cy="2070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1643040" cy="2181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3"/>
          <a:stretch/>
        </p:blipFill>
        <p:spPr>
          <a:xfrm>
            <a:off x="1143000" y="2500200"/>
            <a:ext cx="650088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>
            <a:off x="214200" y="5718240"/>
            <a:ext cx="87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ллерист, бледный как полотно, не шевелясь, смотрел на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3357720" y="285840"/>
            <a:ext cx="1998360" cy="16653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1998720" cy="1998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"/>
          <p:cNvPicPr/>
          <p:nvPr/>
        </p:nvPicPr>
        <p:blipFill>
          <a:blip r:embed="rId3"/>
          <a:stretch/>
        </p:blipFill>
        <p:spPr>
          <a:xfrm>
            <a:off x="7358040" y="214200"/>
            <a:ext cx="1400040" cy="2000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"/>
          <p:cNvPicPr/>
          <p:nvPr/>
        </p:nvPicPr>
        <p:blipFill>
          <a:blip r:embed="rId4"/>
          <a:stretch/>
        </p:blipFill>
        <p:spPr>
          <a:xfrm>
            <a:off x="714240" y="2500200"/>
            <a:ext cx="75726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5:04:31Z</dcterms:created>
  <dc:creator>Татьяна</dc:creator>
  <dc:description/>
  <dc:language>en-US</dc:language>
  <cp:lastModifiedBy>Татьяна</cp:lastModifiedBy>
  <dcterms:modified xsi:type="dcterms:W3CDTF">2011-12-15T11:43:36Z</dcterms:modified>
  <cp:revision>5</cp:revision>
  <dc:subject/>
  <dc:title>Сравнительные приёмы  в произведении Л. Н. Толстого «Акула»</dc:title>
</cp:coreProperties>
</file>