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772-8CED-4F8C-8555-BFC8E0FA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4E8-5D58-4FC6-BB3A-C8598D58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0BE91-C919-4AB9-BA06-6F250C10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A61EE-2FCE-4169-AF30-82CF86E7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04F98-DB95-4D15-9B0D-18FC1CE2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2C731-30BF-4E81-B32F-A1414B47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2C07C-9039-410C-B15F-C25DC6B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18024-4D5B-4F76-87CB-68487BD4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FE6A3-BABE-46BE-8245-5562E2C6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3550D-6917-486F-BA11-AF5359CB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7CADE-6BE3-4B86-877D-0FDC7A28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BF9B-EA33-4A7B-A4A9-A43BE919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877-5AAC-43B8-B3CE-95E77EDA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73B3-8B10-4D8C-8F9D-96B90FEC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152D-EFF1-4539-8E9A-99BBA452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6FF4-A339-457E-B72A-0811F32E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9F32-33E3-46F0-89DD-A9F4B314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0D77-4694-49A8-AF16-835A52C2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4824-99DC-4B8D-B4E3-CA2D3BF2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8543-2728-4FD6-ABBC-07B75F43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A64-058B-4824-8873-D55593D0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22F4-25AD-4670-8487-A21E8507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D985-FEB5-45E0-A4E8-38137EC6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2902-C212-49FB-8836-2CC055E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F881-0049-410C-9564-9BDE2D1B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8D34-3130-4851-9329-3EB104FE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71581-847C-43CF-A9B4-69570351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F6AF-BE1D-4A74-9992-E0721497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2899-C1BB-4775-A35A-7ED0074D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F2BA-F466-4007-A643-4459BF60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D316-8B93-44D8-BACB-D45871C0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626-B754-4F02-A278-974BC827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B472-9C48-4E6E-9F0D-6166B48C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52CD-6C8D-4FA1-8337-62041E78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B166F-CE92-48EA-ADC6-EB6A6657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C4BCF-6F0B-412E-AAF9-5697BB9A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3261-7C28-4456-B81B-7A28CA89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BD9D-B357-42A4-9721-DC5B3106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3C6F-5E07-4078-8E83-6728848E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4EA4B-6B71-4FBD-8A5A-28B83B41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BD627-01A1-4210-8493-EFEB217D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EB29-38E6-466E-B72A-28901A15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39E-3A06-4AAA-8160-E5609732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305A-234B-4DBF-8BC5-EF1C26A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346E-D0A6-413C-B949-848F261D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E0A61-D72D-449F-A1D4-05C1563F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59FCE-3482-4EE0-B693-C87CF0A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EAF0-8522-44FE-80B3-CF9DC2F0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DE9F-A9B4-443E-A9BD-AFF29EFB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1D5B-146D-4051-9F03-77CF9E99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27AC0-A297-4BFD-B1C1-7CB3B98E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02F1-4E84-4407-85D8-F71B5176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88CBC-1FCF-4227-9967-D441114E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A368-0B61-4C39-AF66-0671005E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28994-BD2E-4122-A6E3-E5208D3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B6236-38FA-4D98-962A-73C1B6F1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AAC7-B11D-49E3-B7F8-140E5BBD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0D113-2A34-4B69-9ADC-A82EEF81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43C00-2123-4750-8F27-1E62B504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A5BB9-D0FC-4875-B5B9-824891FF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1635F-B413-4D80-8AE5-40E418D3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29F7-97B5-44F7-9F8C-EED57FE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2F76F-1280-46D6-B42A-C9666F35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2C994-E676-4C20-ADAF-E13984C6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DBF-DFFE-43FC-A3C2-09CE864E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7B24B-A937-466E-9B9F-148847AB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EC40-31B7-451F-9E14-CEA3041B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4FEB2-6D23-48DF-BD7F-70F9523A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CB2CA-9393-416B-A31D-1CA3A4E5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2EDB7-2EC5-44AA-AF93-8E7BB407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3B999-726A-4AF0-85AB-1970C010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EB6B5-5C9D-45BD-8FB2-C19CA13D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B0B30-D152-4F56-87CD-39698257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57930-22D7-439A-90E2-9979D73D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6A2B4-ACEA-413A-ACE2-1357826A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E56-95F9-4ED1-ABF7-4977BD2D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24882-D1B3-471F-ABFF-27AF3835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E181A-06C0-481B-8AC1-A675C867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0FE26-8A13-4818-8037-97E9C551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F9A2-1997-4A3F-BE7D-11AA7C36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8C130-3FFD-4159-8C66-1CEB4F1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D2BE6-45C6-418C-BA26-F3DA28E3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11321-6B13-46A6-B210-51A8F998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28EF6-C5DB-4B3B-A67E-E53A71DE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51B51-CF36-423A-8DB7-BD841EA0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4774B-0D32-4A75-B55C-53C9A26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3B2-D138-44CE-94F5-27122350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C407-23B1-4910-BB80-CD451B52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ECB5-628D-4F5E-B97D-21E65CBF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BB3D8-E90C-4DCC-86B0-D8462824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05D3A-DD1D-4A3F-B831-8AAE7DBE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0B847-8F1D-4E62-B2B9-D359B55D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250F0-B76A-4503-B930-E6CCDDAE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347F-C312-43BC-9D60-62B01946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B8D27-62F4-42D2-B2BC-E82D8F1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1B396-FE7F-46C1-8FBA-35A2D25D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C0940-65FA-40C7-B74C-6141516E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1FF-65B4-4B9F-84F5-9C8319B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DAFBB-6C3C-4818-A904-41756B2B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75E50-18CA-480E-84D4-EC68F8B6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73E91-57E7-421F-8156-DF6BB6A9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CADE0-E8A0-4E29-AA87-A5979348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963D1-D992-4789-9498-B93C511E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B320A-BF0B-44C7-ABEE-42BC37DC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14BEA-8450-4FEB-9724-27C4F9D2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EB412-A595-4AC5-82FF-7C3128C0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67172-D5A6-422C-BEAC-5D244C98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F0EEC-DD4D-4068-9485-A3D77A3E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0DAA-9BA6-4452-9581-9E65CBDE077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02F2-0F01-4DA9-8FF1-804A3D13C3F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7965-2734-4843-881A-D144DDC1A86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25A2-1FAD-414F-86F1-9C0DABD200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1AC9-A1EB-4C73-AB57-BD11C1DB251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3A20-7866-48B9-B02D-60E9221B9A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2711-3A71-4C58-B2F4-3C434E6FB4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0D59-85E1-4FAF-B7D4-1FC94F453EC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2F8A-9CC4-4CE9-9C9E-5E98EFE2F5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71360" y="682560"/>
            <a:ext cx="8728200" cy="22496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3"/>
          <p:cNvSpPr/>
          <p:nvPr/>
        </p:nvSpPr>
        <p:spPr>
          <a:xfrm>
            <a:off x="5286240" y="4357800"/>
            <a:ext cx="357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выпол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«А»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4074120" y="6215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2"/>
          <a:stretch/>
        </p:blipFill>
        <p:spPr>
          <a:xfrm>
            <a:off x="357120" y="2428920"/>
            <a:ext cx="2749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F:\6 класс\чтение\Толстой Акула\акула.jpg"/>
          <p:cNvPicPr/>
          <p:nvPr/>
        </p:nvPicPr>
        <p:blipFill>
          <a:blip r:embed="rId1"/>
          <a:stretch/>
        </p:blipFill>
        <p:spPr>
          <a:xfrm>
            <a:off x="428760" y="639720"/>
            <a:ext cx="82864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"/>
          <p:cNvSpPr/>
          <p:nvPr/>
        </p:nvSpPr>
        <p:spPr>
          <a:xfrm>
            <a:off x="285840" y="472284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был прекрасный, с моря дул свежий ветер; но к вечеру погода изменилась: стало душно и точно из топленной печки несло на нас горячим воздухом с пустыни Сах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6572160" y="214200"/>
            <a:ext cx="2257560" cy="1685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/>
          <a:stretch/>
        </p:blipFill>
        <p:spPr>
          <a:xfrm>
            <a:off x="6286680" y="2071800"/>
            <a:ext cx="2590560" cy="2419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3"/>
          <a:stretch/>
        </p:blipFill>
        <p:spPr>
          <a:xfrm>
            <a:off x="142920" y="142920"/>
            <a:ext cx="5518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428760" y="522000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и, как ящерицы, вытягивались в воде и что было силы поплыли к тому месту, где был бочонок над яко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6286680" y="3286080"/>
            <a:ext cx="2681280" cy="19274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142920" y="428760"/>
            <a:ext cx="6038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428760" y="557532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с палубы кто-то крикнул: «Акула!» — и все мы увидали в воде спину морского чудов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809800" cy="2070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1643040" cy="2181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1143000" y="2500200"/>
            <a:ext cx="6500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214200" y="571824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ллерист, бледный как полотно, не шевелясь, смотрел на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3357720" y="285840"/>
            <a:ext cx="1998360" cy="1665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3"/>
          <a:stretch/>
        </p:blipFill>
        <p:spPr>
          <a:xfrm>
            <a:off x="7358040" y="214200"/>
            <a:ext cx="1400040" cy="2000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7572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5:04:31Z</dcterms:created>
  <dc:creator>Татьяна</dc:creator>
  <dc:description/>
  <dc:language>en-US</dc:language>
  <cp:lastModifiedBy>Татьяна</cp:lastModifiedBy>
  <dcterms:modified xsi:type="dcterms:W3CDTF">2011-12-15T11:43:36Z</dcterms:modified>
  <cp:revision>5</cp:revision>
  <dc:subject/>
  <dc:title>Сравнительные приёмы  в произведении Л. Н. Толстого «Акула»</dc:title>
</cp:coreProperties>
</file>