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F5F-5707-44DD-AE82-A2192150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D03-5C0B-493E-B336-8FBF88AF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4D3-C87D-4792-A148-4EBE5450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AE4-00A7-4079-AED6-BF372CEE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003C-47BC-40EE-9EE7-D495B16E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82E1-B4E7-4FE4-A978-33CC06A6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9989-2734-41CC-BD64-DDD45635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66F8-668E-4D62-BA3C-1992A1D2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BDB2-544B-4F22-B845-1CEE7207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4972-5BAA-4798-9D51-9C5851B1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2890-1B68-4DD9-9705-7DB9C8C0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488-D5A5-47D2-AF7B-68135C96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F9D6-D02C-48AE-8F79-1BFAFB6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3C78-3111-4AE0-9769-792C0E80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5B5D-777E-4E5A-99C0-0E0760C3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A5F9-D16F-4B9D-8063-160B62FE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EB29-7478-42C0-8D53-C1D620F7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2DC-3600-42B1-9224-8311642D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E09-4CFB-469A-9DF6-F3E775AB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671-B290-4285-B18A-05F7F3FA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597-498D-43DB-ACE1-7084176B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256-C948-4747-9434-B240734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4FB-CFFE-4393-AD85-C242A78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274-818E-469E-AE93-4903EF2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B0F0-2AF2-428F-91CD-38B2A00C7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665-647D-4C2E-8812-1BBCDACF9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7790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одительское собр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57240" y="2112480"/>
            <a:ext cx="5429520" cy="1752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4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КОРО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4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В ШКОЛ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228600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Calibri"/>
              </a:rPr>
              <a:t>МБОУ «Средняя общеобразовательная школа №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Calibri"/>
              </a:rPr>
              <a:t>г. Заин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Calibri"/>
              </a:rPr>
              <a:t>Учитель начальных классов  Чернова Л.М</a:t>
            </a:r>
            <a:r>
              <a:rPr b="1" lang="ru-RU" sz="1800" spc="-1" strike="noStrike">
                <a:solidFill>
                  <a:srgbClr val="3399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Обратная связ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468360" y="1484280"/>
            <a:ext cx="83516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зменилось ли ваше представление о проблеме готовности ребенка к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зменилось ли Ваше видение  родительской помощи на этапе подготовке ребенка к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1110"/>
          <p:cNvPicPr/>
          <p:nvPr/>
        </p:nvPicPr>
        <p:blipFill>
          <a:blip r:embed="rId1"/>
          <a:stretch/>
        </p:blipFill>
        <p:spPr>
          <a:xfrm>
            <a:off x="7524720" y="429264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Чтобы мой ребенок был успешным</a:t>
            </a:r>
            <a:br>
              <a:rPr sz="3200"/>
            </a:b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  в школе ему необходимо</a:t>
            </a: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…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Игорь\Desktop\для психолога\школьный психолог\флекшка 2\S6307075.JPG"/>
          <p:cNvPicPr/>
          <p:nvPr/>
        </p:nvPicPr>
        <p:blipFill>
          <a:blip r:embed="rId1"/>
          <a:stretch/>
        </p:blipFill>
        <p:spPr>
          <a:xfrm>
            <a:off x="179280" y="1197000"/>
            <a:ext cx="8569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ритерии школьной готов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Интеллектуальная зрел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Эмоциональная зрел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Социальная зрел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3" descr="545"/>
          <p:cNvPicPr/>
          <p:nvPr/>
        </p:nvPicPr>
        <p:blipFill>
          <a:blip r:embed="rId1"/>
          <a:stretch/>
        </p:blipFill>
        <p:spPr>
          <a:xfrm>
            <a:off x="7020000" y="4292640"/>
            <a:ext cx="17841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Причины неготовности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детей к школ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ок в воспитательной ср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ки соматического развития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вротическое развитие характ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натальное или постнатальное повреждение центральной нерв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1" descr="1058"/>
          <p:cNvPicPr/>
          <p:nvPr/>
        </p:nvPicPr>
        <p:blipFill>
          <a:blip r:embed="rId1"/>
          <a:stretch/>
        </p:blipFill>
        <p:spPr>
          <a:xfrm>
            <a:off x="7543800" y="50846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Рекомендации для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АК ПОДГОТОВИТЬ РЕБЕН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 ШКОЛ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1060"/>
          <p:cNvPicPr/>
          <p:nvPr/>
        </p:nvPicPr>
        <p:blipFill>
          <a:blip r:embed="rId1"/>
          <a:stretch/>
        </p:blipFill>
        <p:spPr>
          <a:xfrm>
            <a:off x="7236000" y="4581360"/>
            <a:ext cx="13525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К РОДИТЕЛИ МОГУ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ОМОЧЬ РЕБЁНКУ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ИЗБЕЖАТЬ НЕКОТОРЫХ ТРУДНОСТЕЙ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) Организуйте распорядок дн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бильный режим дн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ценный сон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гулки на воздух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) Формируйте у ребенка умения общать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тите внимание на то, умеет ли ваш ребенок вступать в контакт с новым взрослым, с другими детьми,   умеет ли он взаимодействовать, сотруднич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3)Уделите особое внимание  развитию произво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 ребенка управлять своими желаниями, эмоциями, поступками. Он должен уметь подчиняться правилам поведения, выполнять действия по образц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)Ежедневно занимайтесь интеллектуальным развитием  ребенка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 время прогулок наблюдайте изменения в природе. Обращайте внимания  на различные явления природы (дождь, снег, радуга, листопад, туман, ветер, тучи, буря, рассвет, закат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учите  названия времен года. Тренируйте умения определять время года на улице и картинк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уя  лото и книги,  учите с ребенком названия:  диких и домашних животных, птиц, полевых и садовых цветов, деревьев, предметов посуды, предметов мебели, одежды, головных  уборов, видов  обуви, игрушек, школьных принадлежностей, частей тела, названия  городов,  названия  любимых сказок и их геро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Внимание! Ребенок 5-6 лет не может работать долго: 10-15 минут - вот предел, а потом он должен отдохнуть, отвлечься. Потому все занятия должны быть рассчитаны на 10-15 мину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йте связную речь детей. Учите пересказывать сказки, содержания мультфиль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яйте рассказы по картинк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ите за правильным произношением и дикцией детей. Проговаривайте скороговор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заниматься с ребенком звуковым анализом  простых слов (дом, лес, шар, суп). Научите находить слова имеющие, например, звук «л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комьте ребенка с буквами и их печатным изображением, а так же звуком, обозначающим конкретную букв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е ребенка различать и правильно называть основные геометрические фигуры (круг, квадрат, треугольник, прямоугольник), сравнивать и различать предметы по величине (больший, меньший) и цве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е ребенка считать до 10 и обратно, сравнивать количество предметов (больше, меньше, столько же). Познакомьте с изображением цифр (не надо учить их писать, только зн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звитие дошколь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600200"/>
            <a:ext cx="7905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Научите определять положение предметов на плоскости, знать слова, обозначающие местоположение и правильно понимать их значения: впереди, сзади, справа, слева, сверху, над, под, за, перед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Развитию мелкой моторики руки ребенка помогут рисование, штриховка, раскрашивание (но - небольших поверхностей), нанизывание бусинок, пуговиц, лепка, определение вслепую формы предметов (сначала самых простых, потом можно усложнять), игры с мелкими предметами (мозаик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1089"/>
          <p:cNvPicPr/>
          <p:nvPr/>
        </p:nvPicPr>
        <p:blipFill>
          <a:blip r:embed="rId1"/>
          <a:stretch/>
        </p:blipFill>
        <p:spPr>
          <a:xfrm>
            <a:off x="395280" y="189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1054"/>
          <p:cNvPicPr/>
          <p:nvPr/>
        </p:nvPicPr>
        <p:blipFill>
          <a:blip r:embed="rId2"/>
          <a:stretch/>
        </p:blipFill>
        <p:spPr>
          <a:xfrm>
            <a:off x="7543800" y="189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а этапе подготовке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ка к школ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539640" y="134136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збегайте чрезмерных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редоставляйте  право на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е думайте за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е перегружайте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е пропустите первые трудности и обратитесь к узким специалис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Устраивайте ребенку маленькие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1089"/>
          <p:cNvPicPr/>
          <p:nvPr/>
        </p:nvPicPr>
        <p:blipFill>
          <a:blip r:embed="rId1"/>
          <a:stretch/>
        </p:blipFill>
        <p:spPr>
          <a:xfrm>
            <a:off x="7596360" y="450864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7:12:11Z</dcterms:created>
  <dc:creator>Игорь</dc:creator>
  <dc:description/>
  <dc:language>en-US</dc:language>
  <cp:lastModifiedBy>Игорь</cp:lastModifiedBy>
  <dcterms:modified xsi:type="dcterms:W3CDTF">2012-10-17T16:55:25Z</dcterms:modified>
  <cp:revision>6</cp:revision>
  <dc:subject/>
  <dc:title>Родительское собр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