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269-161A-45D8-9BBE-410BE003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B5B-1556-4B17-A5A1-33762F51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F706-159A-4398-999D-95ADED98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E62-53D0-45CA-8E90-145FA685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892E-0653-45A3-8E48-DD3F197E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1576-243F-49EB-A22E-DDCC4151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E4A0-C100-4BEF-A2DB-4AA6EE44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4B6C-0932-4B10-A722-28982000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CF43-8989-4AD9-87FD-44FC67F1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10F7-25DE-435F-A87E-54201F01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FC47-4AF1-44AF-97A4-C83851ED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92A-BA55-46C4-B9F2-9079F13F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21BA-5329-48E2-B38C-C82F10BE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EA15-762A-47F7-88BE-65E40B7B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215F-0770-4126-917F-B77AF33D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0175-22C1-4357-B5C9-2035407B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17BC-9309-4691-81A7-8D32EB0B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19D-12C5-4D45-B9FA-13B41B7A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95C-245A-483C-8D27-5774A6E7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DF8-A38D-4191-96CD-A5956329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999-4620-4F47-BB3C-D0E8CE4D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256-716A-487A-9992-26BD654A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CEA-ECD6-4926-9A06-478E75BF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154-2447-4D83-B32D-CC611331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39D5-D895-4E0A-A47B-9BFC8F969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3A0C-1FA3-478D-AB92-8402CC943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357120"/>
            <a:ext cx="7790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Родительское собр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57240" y="2112480"/>
            <a:ext cx="5429520" cy="17528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4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СКОРО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4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В ШКОЛ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2286000" y="501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Calibri"/>
              </a:rPr>
              <a:t>МБОУ «Средняя общеобразовательная школа №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Calibri"/>
              </a:rPr>
              <a:t>г. Заинс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Calibri"/>
              </a:rPr>
              <a:t>Учитель начальных классов  Чернова Л.М</a:t>
            </a:r>
            <a:r>
              <a:rPr b="1" lang="ru-RU" sz="1800" spc="-1" strike="noStrike">
                <a:solidFill>
                  <a:srgbClr val="3399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Обратная связ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468360" y="1484280"/>
            <a:ext cx="835164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Изменилось ли ваше представление о проблеме готовности ребенка к шк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Изменилось ли Ваше видение  родительской помощи на этапе подготовке ребенка к шк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1110"/>
          <p:cNvPicPr/>
          <p:nvPr/>
        </p:nvPicPr>
        <p:blipFill>
          <a:blip r:embed="rId1"/>
          <a:stretch/>
        </p:blipFill>
        <p:spPr>
          <a:xfrm>
            <a:off x="7524720" y="429264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Comic Sans MS"/>
              </a:rPr>
              <a:t>Чтобы мой ребенок был успешным</a:t>
            </a:r>
            <a:br>
              <a:rPr sz="3200"/>
            </a:br>
            <a:r>
              <a:rPr b="1" lang="ru-RU" sz="3200" spc="-1" strike="noStrike">
                <a:solidFill>
                  <a:srgbClr val="3399ff"/>
                </a:solidFill>
                <a:latin typeface="Comic Sans MS"/>
              </a:rPr>
              <a:t>  в школе ему необходимо</a:t>
            </a:r>
            <a:r>
              <a:rPr b="0" lang="ru-RU" sz="3200" spc="-1" strike="noStrike">
                <a:solidFill>
                  <a:srgbClr val="3399ff"/>
                </a:solidFill>
                <a:latin typeface="Comic Sans MS"/>
              </a:rPr>
              <a:t>…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Игорь\Desktop\для психолога\школьный психолог\флекшка 2\S6307075.JPG"/>
          <p:cNvPicPr/>
          <p:nvPr/>
        </p:nvPicPr>
        <p:blipFill>
          <a:blip r:embed="rId1"/>
          <a:stretch/>
        </p:blipFill>
        <p:spPr>
          <a:xfrm>
            <a:off x="179280" y="1197000"/>
            <a:ext cx="8569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Критерии школьной готовност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omic Sans MS"/>
              </a:rPr>
              <a:t>Интеллектуальная зрел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Эмоциональная зрел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</a:rPr>
              <a:t>Социальная зрел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3" descr="545"/>
          <p:cNvPicPr/>
          <p:nvPr/>
        </p:nvPicPr>
        <p:blipFill>
          <a:blip r:embed="rId1"/>
          <a:stretch/>
        </p:blipFill>
        <p:spPr>
          <a:xfrm>
            <a:off x="7020000" y="4292640"/>
            <a:ext cx="17841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Причины неготовности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Comic Sans MS"/>
              </a:rPr>
              <a:t>детей к школ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достаток в воспитательной сре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достатки соматического развития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Невротическое развитие характе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Пренатальное или постнатальное повреждение центральной нервной сист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1" descr="1058"/>
          <p:cNvPicPr/>
          <p:nvPr/>
        </p:nvPicPr>
        <p:blipFill>
          <a:blip r:embed="rId1"/>
          <a:stretch/>
        </p:blipFill>
        <p:spPr>
          <a:xfrm>
            <a:off x="7543800" y="508464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Comic Sans MS"/>
              </a:rPr>
              <a:t>Рекомендации для родител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КАК ПОДГОТОВИТЬ РЕБЕН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К ШКОЛ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1060"/>
          <p:cNvPicPr/>
          <p:nvPr/>
        </p:nvPicPr>
        <p:blipFill>
          <a:blip r:embed="rId1"/>
          <a:stretch/>
        </p:blipFill>
        <p:spPr>
          <a:xfrm>
            <a:off x="7236000" y="4581360"/>
            <a:ext cx="1352520" cy="13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АК РОДИТЕЛИ МОГУТ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ОМОЧЬ РЕБЁНКУ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ИЗБЕЖАТЬ НЕКОТОРЫХ ТРУДНОСТЕЙ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) Организуйте распорядок дн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бильный режим дн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ноценный сон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гулки на воздух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) Формируйте у ребенка умения общать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тите внимание на то, умеет ли ваш ребенок вступать в контакт с новым взрослым, с другими детьми,   умеет ли он взаимодействовать, сотруднича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3)Уделите особое внимание  развитию произво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ите ребенка управлять своими желаниями, эмоциями, поступками. Он должен уметь подчиняться правилам поведения, выполнять действия по образц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4)Ежедневно занимайтесь интеллектуальным развитием  ребенка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 время прогулок наблюдайте изменения в природе. Обращайте внимания  на различные явления природы (дождь, снег, радуга, листопад, туман, ветер, тучи, буря, рассвет, закат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учите  названия времен года. Тренируйте умения определять время года на улице и картинка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уя  лото и книги,  учите с ребенком названия:  диких и домашних животных, птиц, полевых и садовых цветов, деревьев, предметов посуды, предметов мебели, одежды, головных  уборов, видов  обуви, игрушек, школьных принадлежностей, частей тела, названия  городов,  названия  любимых сказок и их геро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Внимание! Ребенок 5-6 лет не может работать долго: 10-15 минут - вот предел, а потом он должен отдохнуть, отвлечься. Потому все занятия должны быть рассчитаны на 10-15 мину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вайте связную речь детей. Учите пересказывать сказки, содержания мультфиль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яйте рассказы по картинк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едите за правильным произношением и дикцией детей. Проговаривайте скороговор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но заниматься с ребенком звуковым анализом  простых слов (дом, лес, шар, суп). Научите находить слова имеющие, например, звук «л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комьте ребенка с буквами и их печатным изображением, а так же звуком, обозначающим конкретную букв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е ребенка различать и правильно называть основные геометрические фигуры (круг, квадрат, треугольник, прямоугольник), сравнивать и различать предметы по величине (больший, меньший) и цве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е ребенка считать до 10 и обратно, сравнивать количество предметов (больше, меньше, столько же). Познакомьте с изображением цифр (не надо учить их писать, только знат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азвитие дошколь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600200"/>
            <a:ext cx="7905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Научите определять положение предметов на плоскости, знать слова, обозначающие местоположение и правильно понимать их значения: впереди, сзади, справа, слева, сверху, над, под, за, перед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Calibri"/>
              </a:rPr>
              <a:t>Развитию мелкой моторики руки ребенка помогут рисование, штриховка, раскрашивание (но - небольших поверхностей), нанизывание бусинок, пуговиц, лепка, определение вслепую формы предметов (сначала самых простых, потом можно усложнять), игры с мелкими предметами (мозаика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" descr="1089"/>
          <p:cNvPicPr/>
          <p:nvPr/>
        </p:nvPicPr>
        <p:blipFill>
          <a:blip r:embed="rId1"/>
          <a:stretch/>
        </p:blipFill>
        <p:spPr>
          <a:xfrm>
            <a:off x="395280" y="189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1054"/>
          <p:cNvPicPr/>
          <p:nvPr/>
        </p:nvPicPr>
        <p:blipFill>
          <a:blip r:embed="rId2"/>
          <a:stretch/>
        </p:blipFill>
        <p:spPr>
          <a:xfrm>
            <a:off x="7543800" y="189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На этапе подготовке 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ребенка к школе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539640" y="1341360"/>
            <a:ext cx="828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Избегайте чрезмерных треб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Предоставляйте  право на ошиб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Не думайте за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Не перегружайте ребё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Не пропустите первые трудности и обратитесь к узким специалис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mic Sans MS"/>
              </a:rPr>
              <a:t>Устраивайте ребенку маленькие праз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1089"/>
          <p:cNvPicPr/>
          <p:nvPr/>
        </p:nvPicPr>
        <p:blipFill>
          <a:blip r:embed="rId1"/>
          <a:stretch/>
        </p:blipFill>
        <p:spPr>
          <a:xfrm>
            <a:off x="7596360" y="450864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7:12:11Z</dcterms:created>
  <dc:creator>Игорь</dc:creator>
  <dc:description/>
  <dc:language>en-US</dc:language>
  <cp:lastModifiedBy>Игорь</cp:lastModifiedBy>
  <dcterms:modified xsi:type="dcterms:W3CDTF">2012-10-17T16:55:25Z</dcterms:modified>
  <cp:revision>6</cp:revision>
  <dc:subject/>
  <dc:title>Родительское собра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09991</vt:lpwstr>
  </property>
</Properties>
</file>