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33.gif" ContentType="image/gif"/>
  <Override PartName="/ppt/media/image25.png" ContentType="image/png"/>
  <Override PartName="/ppt/media/image12.png" ContentType="image/png"/>
  <Override PartName="/ppt/media/image27.png" ContentType="image/png"/>
  <Override PartName="/ppt/media/image4.png" ContentType="image/png"/>
  <Override PartName="/ppt/media/image9.png" ContentType="image/png"/>
  <Override PartName="/ppt/media/image5.gif" ContentType="image/gif"/>
  <Override PartName="/ppt/media/image28.png" ContentType="image/png"/>
  <Override PartName="/ppt/media/image30.png" ContentType="image/png"/>
  <Override PartName="/ppt/media/image7.gif" ContentType="image/gif"/>
  <Override PartName="/ppt/media/image8.gif" ContentType="image/gif"/>
  <Override PartName="/ppt/media/image11.png" ContentType="image/png"/>
  <Override PartName="/ppt/media/image13.png" ContentType="image/png"/>
  <Override PartName="/ppt/media/image31.png" ContentType="image/png"/>
  <Override PartName="/ppt/media/image6.gif" ContentType="image/gif"/>
  <Override PartName="/ppt/media/image29.png" ContentType="image/png"/>
  <Override PartName="/ppt/media/image3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A39-CBE8-498A-A1C1-BFE34FBE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0E0-6FB5-4BD8-AD79-01F9174D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801-D87D-409A-B98D-43E6722E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88F-BAEE-4862-AFC2-7C3EF3E0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D67-8799-44EF-8FF3-0D70C8BB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AAD-A716-4F35-9C79-FAD5BC0E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928-3F97-41E4-89F6-0F6CF63B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0D8-7B49-4AE7-A581-437BCC0A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44D-4534-470C-BABB-7435AE82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FAE-10E4-47F8-869D-CCF6F147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FC1-CD20-45FC-9F2D-C265F4AA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253-8301-4640-B3B5-8F909D0D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2B1B-1F94-4877-8109-BC41CCD04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plus-msk.ru/" TargetMode="External"/><Relationship Id="rId2" Type="http://schemas.openxmlformats.org/officeDocument/2006/relationships/hyperlink" Target="http://plus-msk.ru/" TargetMode="External"/><Relationship Id="rId3" Type="http://schemas.openxmlformats.org/officeDocument/2006/relationships/hyperlink" Target="http://plus-msk.ru/" TargetMode="External"/><Relationship Id="rId4" Type="http://schemas.openxmlformats.org/officeDocument/2006/relationships/hyperlink" Target="http://plus-msk.ru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7280" y="4365360"/>
            <a:ext cx="4176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гудина Н.Р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ель физическ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У «Лицей №4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:\Users\ЛИДИЯ\Desktop\vollybal_01.gif"/>
          <p:cNvPicPr/>
          <p:nvPr/>
        </p:nvPicPr>
        <p:blipFill>
          <a:blip r:embed="rId2"/>
          <a:stretch/>
        </p:blipFill>
        <p:spPr>
          <a:xfrm>
            <a:off x="539640" y="1700280"/>
            <a:ext cx="1171800" cy="190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ЛИДИЯ\Desktop\vollybal_22.gif"/>
          <p:cNvPicPr/>
          <p:nvPr/>
        </p:nvPicPr>
        <p:blipFill>
          <a:blip r:embed="rId3"/>
          <a:stretch/>
        </p:blipFill>
        <p:spPr>
          <a:xfrm>
            <a:off x="7596360" y="1916280"/>
            <a:ext cx="9522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ЛИДИЯ\Desktop\009.gif"/>
          <p:cNvPicPr/>
          <p:nvPr/>
        </p:nvPicPr>
        <p:blipFill>
          <a:blip r:embed="rId4"/>
          <a:stretch/>
        </p:blipFill>
        <p:spPr>
          <a:xfrm>
            <a:off x="4500720" y="18900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ЛИДИЯ\Desktop\vollybal_20.gif"/>
          <p:cNvPicPr/>
          <p:nvPr/>
        </p:nvPicPr>
        <p:blipFill>
          <a:blip r:embed="rId5"/>
          <a:stretch/>
        </p:blipFill>
        <p:spPr>
          <a:xfrm>
            <a:off x="3132000" y="765000"/>
            <a:ext cx="2781360" cy="173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:\Users\ЛИДИЯ\Desktop\vollybal_11.gif"/>
          <p:cNvPicPr/>
          <p:nvPr/>
        </p:nvPicPr>
        <p:blipFill>
          <a:blip r:embed="rId6"/>
          <a:stretch/>
        </p:blipFill>
        <p:spPr>
          <a:xfrm>
            <a:off x="1042920" y="4437000"/>
            <a:ext cx="857160" cy="148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:\Users\ЛИДИЯ\Desktop\vollybal_23.gif"/>
          <p:cNvPicPr/>
          <p:nvPr/>
        </p:nvPicPr>
        <p:blipFill>
          <a:blip r:embed="rId7"/>
          <a:stretch/>
        </p:blipFill>
        <p:spPr>
          <a:xfrm>
            <a:off x="6443640" y="4581360"/>
            <a:ext cx="2476440" cy="1248120"/>
          </a:xfrm>
          <a:prstGeom prst="rect">
            <a:avLst/>
          </a:prstGeom>
          <a:ln w="0">
            <a:noFill/>
          </a:ln>
        </p:spPr>
      </p:pic>
      <p:pic>
        <p:nvPicPr>
          <p:cNvPr id="49" name="спортивный марш музыка.mp3" descr=""/>
          <p:cNvPicPr/>
          <p:nvPr/>
        </p:nvPicPr>
        <p:blipFill>
          <a:blip r:embed="rId8"/>
          <a:stretch/>
        </p:blipFill>
        <p:spPr>
          <a:xfrm>
            <a:off x="883908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8403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, которым мяч вводится в игру,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подачей.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ими деталями техники для всех видов подач являются устойчивая стойка, удобная для удара, подбрасывание мяча, удар по мячу, переход волейболиста к последующим игровым действ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личают несколько разновидностей подач : нижняя прямая (рис.2), нижняя боковая (рис.3), верхняя прямая (рис.4) и верхняя боковая (рис.5). Так называемая планирующая  подача (рис.6) является разновидностью верхней подачи. Особенность « планирующей » подачи заключается в том, что удар по мячу наносится рукой закрепленной в лучезапястном суставе, без всякого сопровождения (рис.7). В результате этого мяч не вращается, а планирует, не имея траектории полета. Прием таких мячей затрудн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же часто применяется подача в прыжке (рис.8). В подаче в прыжке главное - это правильно подбросить мяч, если не правильно подбросить, то вряд ли вы вообще подадите. Мяч необходимо подбрасывать перед собой и вперед, на расстояние необходимое для разбега. При этом высота и длина подброса определяется индивидуально, исходя из простого удоб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98160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1116000" y="321300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2 Нижняя прямая по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ид спереди и сбо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971800" cy="18194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4"/>
          <p:cNvSpPr/>
          <p:nvPr/>
        </p:nvSpPr>
        <p:spPr>
          <a:xfrm>
            <a:off x="5512680" y="3141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3 Нижняя боковая по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2409840" cy="19717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6"/>
          <p:cNvSpPr/>
          <p:nvPr/>
        </p:nvSpPr>
        <p:spPr>
          <a:xfrm>
            <a:off x="1704600" y="6021360"/>
            <a:ext cx="28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4 Верхняя прямая подача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5364000" y="3716280"/>
            <a:ext cx="2781360" cy="22575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5439960" y="6021360"/>
            <a:ext cx="290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5 Верхняя боковая по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4448160" cy="19717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971640" y="3068640"/>
            <a:ext cx="42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6 Вариант верхней боковой подачи, так называемая планирующая подач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236232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4"/>
          <p:cNvSpPr/>
          <p:nvPr/>
        </p:nvSpPr>
        <p:spPr>
          <a:xfrm>
            <a:off x="5580000" y="2637000"/>
            <a:ext cx="3384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 7 Способы ударов по мячу  при выполнении планирующих по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403280" y="3716280"/>
            <a:ext cx="65818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488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дач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280" y="981000"/>
            <a:ext cx="7715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, с помощью которого мяч направляется партнеру для продолжения игры или переправляется на сторону противни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передач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направлению относительно передающего различают передачи вперед, над собой и назад. По длине траектории различают : длинные передачи – через зону ; короткие  - в соседнюю зону ; укороченные – в свою зону. По высоте различают передачи низкие (до 1 м над сеткой), средние (свыше 2 м), а по расстоянию от сетки – близкие (менее 0,5 м) и отдаленные ( более 0,5 м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иболее распространенной является передача двумя руками сверху (рис.8,а). Ее главные преимущества заключаются в надежности и точности. При выполнении этой передачи в исходном положении ноги игрока согнуты в коленях, руки вынесены перед лицом так, что большие пальцы находятся примерно на уровне бровей. Кисти рук слегка повернуты внутрь, концы пальцев образуют овал в форме ковша (рис.8,б). Пальцы оптимально напряж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042920" y="981000"/>
            <a:ext cx="7489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иближении мяча встречное движение к нему начинают ноги – они выпрямляются в коленных суставах и поднимают тело игрока. Вслед за этим в движение включаются руки -  они поднимаются и выпрямляются на встречу мячу. Основную амортизирующую нагрузку принимают на себя большие пальцы. Указательные (главным образом) и средние пальцы являются ударными. Безымянные пальцы и мизинцы удерживают мяч  с боков, не захватывая его. Эти движения ног, туловища и рук, выполненные слитно, обеспечивают короткое касание мяча упругими пальцами, позволяют направить его в нужную точку по задуманной траектор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учите позы и движения волейболиста при передачах двумя руками сверху,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тите внимание на положение ног, туловища  рук в основной стойке (рис.8,а); расположение пальцев рук на мяче (рис.8,б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ижения волейболиста при передачах мяча вперед, над собой и назад (рис.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ие виды передач применяются реже : двумя руками сверху в прыжке (рис.10,а), одной рукой сверху(рис.10,б),двумя руками снизу(рис.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овременной игре передача –важный элемент организации нападения, связывающий защиту с атакой. Задача передающего игрока в связи с этим – создавать партнерам наилучшие условия для атаки нападающими ударами. Каждый волейболист должен овладеть всем арсеналом быстрых и точных передач, уметь чередовать ( менять ) их по длине, высоте, направлению, своевременно выполнять отвлекающие действ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4286160" cy="19717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116000" y="2276640"/>
            <a:ext cx="403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8 Передача мяча двумя руками сверху (а) ; положение кистей рук и расположение пальцев на мяче в момент выполнения передачи (б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508720" y="2276640"/>
            <a:ext cx="3000240" cy="26002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4"/>
          <p:cNvSpPr/>
          <p:nvPr/>
        </p:nvSpPr>
        <p:spPr>
          <a:xfrm>
            <a:off x="5508720" y="4941720"/>
            <a:ext cx="33112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 10 Другие виды  выполненная в различных направлениях   передач в волейбо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двумя руками в прыжк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одной рукой сверху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2050920" y="3500280"/>
            <a:ext cx="1876680" cy="20955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1476360" y="5732640"/>
            <a:ext cx="395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9 Передача двумя руками сверху,                                       выполненная в различных направлени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вперед ; б) над собой ; в) назад.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34544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ные виды передач 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волейболе: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280" y="1483920"/>
            <a:ext cx="7715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просто» обычный высокий пас во 2-ю и 4-ю з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етр» пасуется в 3-ю зону, на высоту метра от се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етр сзади» пасуется также как и метр, только связующий дает пас себе за сп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взлет» пасуется в 3-ю зону. В момент, когда мяча касается связующий, нападающий уже должен быть в воздухе с вытянутой рукой готовой к удару, а связующий должен быстрым и коротким пасом вложить мяч в руку нападающего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взлет сзади» пасуется как обычный взлет, только за голову и нападающий бежит чуть с опозд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душка» пасуется как взлет, но только в разрыв блока. Например, между третей и четвертой зо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стопка» играется как взлет в 3-й зоне, но мяч не швыряется с силой в руку нападающему, а подвешивается над сеткой на высоте 20-50 см.Нападающий должен бежать с задержкой, по сравнению с взлетом. Но такие удары легче блокировать, так как блокирующим есть время, чтобы успеть поставить б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прострел» пасуется на антенну, ниже и быстрее чем «просто», в момент, когда связующий касается мяча, нападающий должен быть в завершающем этапе разбега и готовым к прыж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«марита» пасуется как «метр»,но отличие в том, что нападающий имитирует разбег на взлет и останавливается, блок поднимается, в тот момент, когда блок опускается, прыгает и бьет нападающ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а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71280" y="1413000"/>
            <a:ext cx="7715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ru-RU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адающие удар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 атаки, состоящий в перебивании одной рукой мяча, находящегося выше верхнего края сетки, на сторону противника, </a:t>
            </a: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нападающим ударом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орость полета мяча зависит от удара: чем сильнее удар, тем больше скорость, следовательно, его труднее принят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технике выполнения, различают прямой нападающий удар и боковой. И тот и другой могут быть выполнены в прыжке с места или с разбега. По скорости полета мяча различают: 1) Силовые(скоростные); 2) Кистевые(ускоренные); 3) Обманные(медленны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ямой нападающий удар. Длина разбега колеблется от 2 до 4 м и состоит из 2 – 4 шагов. Первый шаг короткий, выполняется мягко, как бы крадучись, последний шаг длинный, выполняется в виде скачка. Прямая нога выносится вперед и ставится на пятку, в след за этим быстро приставляется другая нога. Туловище слегка отклоняется назад, руки внизу –сзади. Вместе с перекатом на носки ноги выпрямляются и выполняется прыжок, бьющая рука взмахом по кратчайшему пути поднимае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5256000" cy="52102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6227640" y="692280"/>
            <a:ext cx="2916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ыжке плечи и бьющая рука отводится назад, туловище прогибается(рис.12). С этого момента начинается выполнение собственно нападающего удара. Первое движении – выведение вперед локтя бьющей руки. Бьющая рука, разгибаясь в локтевом суставе, начинает движение вперед и акцентированным движением кистью ударят по мячу. Пальцы кисти в момент удара плотно сжаты, мяч находится несколько впереди игрока.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земление после удара выполняются на согнутые ноги с опущенными руками, что дает игроку возможность быстро начать перемещение в нужном направлении или выполнить повторный прыжок для блокировки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129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ковой нападающий уда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553440" cy="30384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1187280" y="4869000"/>
            <a:ext cx="66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полняется после широкого через сторону замаха бьющей рукой. Изменяя движения руки и кисти, можно выполнять также нападающие удары с переводом мяча вправо и вле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 – создать представление о игре в волейбо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комить учащихся с происхождением волейбола и его исто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накомить с историей волейбола в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здать представление о технике волейб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ировать интерес к игре в волейбол через обучающее виде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129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р переводом вправо или вле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468000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5724360" y="1557360"/>
            <a:ext cx="3203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р переводом вправо или влево бывает с поворотом туловища и бе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дары с поворотом туловища выполняются также как и прямой, но с незначительным поворотом туловища в сторону удара и удар по мячу наносится сверху – сзади - справа. При переводе вправо туловище начинает моментальный поворот после отрыва от земли, далее его порядком при наклоняют влево, а  плечо отводят от се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при ударе без поворота туловища основную роль играет удар по мячу кист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129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окирование в волейб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280" y="1125000"/>
            <a:ext cx="7715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ческий прием защиты, с помощь которого преграждают путь мячу после нападающего удара со стороны противника,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блоком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а действие защитников –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окир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положения игрока (рис.20),готовящегося к блокированию, приставным шагом, скачком или бегом защитник перемещается к предполагаемому месту блокирования. Последний шаг перед выпрыгиванием выполняется как напрыгивающий, стопорящий (по типу разбега перед нападающим ударом); другая нога приставляется на ширину пле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тем следует выпрыгивание. Движение начинают ноги, затем продолжают руки. При приближении мяча руки выпрямляются и ставятся на пути его движения: пальцы рук разведены и оптимально напряжены, кисти слегка согнуты, чтоб мяч направить вперед – вниз на площадку против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2333520" cy="19242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5364000" y="907920"/>
            <a:ext cx="29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20 Стойка защитника перед блокир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372360" y="2133720"/>
            <a:ext cx="2520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акой блок называют неподвижным, в отличие от подвижного, при котором руки над сеткой перемещаются вправо или влево, в зависимости от полета мяча и задуманного отскока. Важно, чтобы при блокировании мяч не проскочил между ладонями блокирующего, а также между его руками и сеткой (рис.а). Против сильного нападающего игрока применяется групповой блок(рис.б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5256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20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в волейб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71280" y="1197000"/>
            <a:ext cx="7715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 защ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щите применяются те же стойки, что и в нападении, но чаще используются низкие стойки. Перемещение в защите так же мало чем отличаются от перемещений в нападении – ходьба, бег, выпады и прыжки, однако выполняются они, как правило, стремительно, с резкими остановками, с быстрой сменой направлений, часто переходит в прыжок или напад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противодействиям относятся приемы мяча и блокир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– технический прием защиты, позволяющий оставить мяч в игре после нападающих действий соперников. Основным в современном волейболе является прием мяча двумя руками снизу(рис.16). Он является наиболее надежным против возросшей мощи нападения, против сильных ударов и планирующих подач. При этом способе приема мяча туловище вертикально или слегка наклонено вперед, прямые руки опущены вперед – вниз, локти сближены, кисти вместе. Мяч принимается на предплечья ближе к кистям рук ( говорят – «на манжет»рис.16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2057400" cy="13813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"/>
          <p:cNvSpPr/>
          <p:nvPr/>
        </p:nvSpPr>
        <p:spPr>
          <a:xfrm>
            <a:off x="3132000" y="306864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6. Прием и передача мя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умя руками с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1547640" y="3933720"/>
            <a:ext cx="648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егка напряженные прямые руки не быстрым движением в плечевых суставах поднимаются на встречу мячу; Но и в момент приема  выпрямляются и туловище поднимается. Полезно после приема мяча выполнять (особенно начинающим волейболистам) некоторое сопровождение мяча руками: это позволит лучше усвоить движение; приняв мяч, точно адресовать его партне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971640" y="981000"/>
            <a:ext cx="792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двумя руками сверху применяется против не сильно летящих мячей, а также в случаях, когда другой способ приема не рационален. Так, игровая ситуация часто заставляет выполнять прием и направленную передачу с последующим падением на спину (рис.17 и рис.18). В других же случаях прием двумя руками сверху аналогичен одноименной передач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4229280" cy="19908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5796000" y="278136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7. Прием мяча с падением и перекатом на спи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1763640" y="4653000"/>
            <a:ext cx="3629160" cy="16765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8"/>
          <p:cNvSpPr/>
          <p:nvPr/>
        </p:nvSpPr>
        <p:spPr>
          <a:xfrm>
            <a:off x="5651640" y="4941720"/>
            <a:ext cx="324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8. Прием мяча с выпадом и падением(перекатом на спин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971640" y="981000"/>
            <a:ext cx="7272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ем мяча одной рукой снизу считается не точным и применяется сравнительно редко, но, если мяч летит далеко от игрока и другим способом его принять невозможно, волейболист вынужден использовать этот прием. Прямая рука с напряженно сжатыми пальцами преграждает путь мячу ; ударное движение выполняется ладонью, кулаком, предплечьем или плечом. Ног в этих движениях, как правило, не участв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й рукой снизу в падении (рис.19) мяч принимается после разбега и прыжка. Прежде чем освоить этот способ приема, следует научиться правильному приземлению. После приема мяча руки вытягиваются вперед и разводятся в стороны несколько шире плеч, ставятся на пол и медленно сгибаются в локтях, амортизируя силу па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556000" y="3860640"/>
            <a:ext cx="4476600" cy="17337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3"/>
          <p:cNvSpPr/>
          <p:nvPr/>
        </p:nvSpPr>
        <p:spPr>
          <a:xfrm>
            <a:off x="1042920" y="558972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ок приземляется на грудь и делает перекат на живот и бедра. Освоив элемент на гимнастических матах и на полу, его можно безопасно применять на игровых площад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440" y="5013000"/>
            <a:ext cx="609264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за внимание! Удачи в игре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1476360" y="189000"/>
            <a:ext cx="6419880" cy="472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ЛИДИЯ\Desktop\vollybal_12.gif"/>
          <p:cNvPicPr/>
          <p:nvPr/>
        </p:nvPicPr>
        <p:blipFill>
          <a:blip r:embed="rId3"/>
          <a:stretch/>
        </p:blipFill>
        <p:spPr>
          <a:xfrm>
            <a:off x="4211640" y="5516640"/>
            <a:ext cx="942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907920"/>
            <a:ext cx="771516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зные с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1262880" y="220500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258920" y="2637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linkietheo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258920" y="306864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3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. 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plus-msk.ru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ртивный мар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05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рия волейб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71280" y="981000"/>
            <a:ext cx="7715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это игровой вид спорта, пользующийся немалой популярностью. Занятия этим видом спорта способствуют развитию многих физических качеств: силы рук и плечевого пояса, прыгучести, быстроты реакции, координации движений в пространстве и в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явился волейбол в США в 1895 году. Основоположником этой игры  был пастор Уильям Морган - преподаватель колледжа, предложивший назвать игру «волейбол», что в переводе с английского  «летящий мяч» (от «volley» - отбивать на лету и «ball» - мяч). В 1900 году появились первые правила волейбо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западной Европе стал очень популярным пляжный волейбол (2 х 2), в последние годы по этому красивейшему виду спорта проходят чемпионаты Европы и мира, и он включен в программу Олимпийских иг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, возникнув в 1895 году, в США, быстро стал популярным в разных странах, особенно на европейском континенте. Первоначально это была игра развлечение. Мяч подолгу находился в воздухе, т.к. большое количество игроков в команде    (8 – 10 человек) и слабая техника нападения подолгу не позволяли мячу упасть на площадку. Однако постепенно стали появляться способы перебивания мяча через сетку, затруднявшие защитные действия соперников. Это привело к выделению основных технических приемов: подача, передача, нападающий удар, блок.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1187280" y="1197000"/>
            <a:ext cx="7705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нялась и тактика игры. Если первоначально вся тактика сводилась к равновесной расстановке игроков на площадке, то усложнение игры сделало необходимым согласованные групповые и командные действия. Волейбол становился коллективной игр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1947 году была создана Международная федерация волейбола(ФИВБ). Развитие волейбола пошло ускоренными темпами. Стали проводиться первенства Европы и мира, разыгрывается Кубок европейских чемпионов. В 1964 г. волейбол включен в программу Олимпийских игр. В настоящее время членами ФИВБ являются более 110 стран. Весомый вклад в становление мирового волейбола внесли советские спортсм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ЛИДИЯ\Desktop\vollybal_20.gif"/>
          <p:cNvPicPr/>
          <p:nvPr/>
        </p:nvPicPr>
        <p:blipFill>
          <a:blip r:embed="rId1"/>
          <a:stretch/>
        </p:blipFill>
        <p:spPr>
          <a:xfrm>
            <a:off x="3564000" y="4221000"/>
            <a:ext cx="2781360" cy="17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ейбол в ССС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71280" y="1052280"/>
            <a:ext cx="7715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нас в стране волейбол появился в 1920 – 1921 гг. в Казани, Нижнем Новгороде и в других городах Поволжья. С 1925 г. он активно развивался на Украине, на Дальнем Востоке. Активным популяризатором спортивного волейбола выступило созданное в 1923 г. по инициативе Ф. Э. Дзержинского физкультурно -спортивное общество « Динамо ». В 1925 г. в Москве были утверждены первые в нашей стране официальные правила по волейболу, по которым вскоре (в 1926 г. ) были проведены первые соревнования. В этом же году была проведена первая междугородная встреча между волейболистами Москвы и Харькова. А уже в 1928 г. на I Всесоюзной спартакиаде в Москве впервые был разыгран всесоюзный чемпионат по волейболу среди мужских и женских команд. Встречи на Спартакиаде способствовали единому толкованию правил соревнований, убедили в необходимости коллективных командных действий. После этого волейбол повсеместно стал массовым видом с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влечению молодежи к занятиям волейболом способствовал введенный в 1931 – 1932 гг. физкультурный комплекс ГТО, одной из задач которого было улучшение общей физической подготовленности занимающихся спортом. На этой базе повышалось мастерство волейболистов, расширялись технические возможности игроков и команд. Волейбол становится в полном смысле слова спортивной игрой. Его включали в программы многих крупных соревнований. В 1932 г.была создана Всесоюзная секция волейбола, а с 1933 г. стали регулярно проводиться первенства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ые международные встречи наши волейболисты провели в 1935 г.с командами Афганистана. В двух играх победили советские спортсм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042920" y="907920"/>
            <a:ext cx="785016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коре уже стали проводиться чемпионаты мира по волейболу. Мужские ЧМ с 1949, а женские с 1952 года. Интересно то, что уже на первом чемпионате мира, сборная СССР заняла первое место, а женская сборная в том же году первое место в Чемпионате Европы. С того времени наши спортсмены и до сих пор в рядах лучших на мировой аре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же в 1964 году волейбол был в включен в программу Олимпийских игр, проходивших в Токио. На этих соревнованиях золото взяли волейболисты СССР, и волейболистки Япо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все время прохождения Олимпийских игр(с того времени как волейбол вошел в программу Олимпийских игр), наши волейболисты и волейболистки семь раз становились олимпийскими чемпионам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лярность волейбола в мире продолжала расти. Проводились первенства стран и континентов. Встал вопрос об включении его в программу летних Олимпийских игр. в 1957 г. сессия Международного олимпийского комитета приняла решение признать волейбол олимпийским видом спорта. На прошедших после этого олимпиадах советские волейболисты и волейболистки по три раза становились чемпионами. Победили наши спортсмены и на ХХI I Олимпийских игр в Моск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года в год росло количество международных соревнований и турниров. С 1965 г. установилась такая их последовательность проведения по годам: волейбольный турнир на Олимпийских играх, в следующем году – кубок мира, затем – первенство мира, затем –первенство Европы, и наконец – вновь Олимпийски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 волейб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ЛИДИЯ\Desktop\Новая папка (4)\15.jpg"/>
          <p:cNvPicPr/>
          <p:nvPr/>
        </p:nvPicPr>
        <p:blipFill>
          <a:blip r:embed="rId1"/>
          <a:stretch/>
        </p:blipFill>
        <p:spPr>
          <a:xfrm>
            <a:off x="1042920" y="981000"/>
            <a:ext cx="7416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0563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щие с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71280" y="1052280"/>
            <a:ext cx="771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хника игры в волейболе подразделяется  на технику нападения и технику защиты. Как в нападении, так и в защите выделяют : стойки и перемещения, технику владения мяч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 время игры волейболист перемещается по площадке. Целью этих перемещений является выбор наилучшего места для приема мяча, для выполнения других технических прием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ксимальная готовность к перемещениям – вот что самое главное в стартовых стойках иг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йки различаются по степени сгибания ног: основная, высокая, низкая. Основная стойка (рис.1): ноги на одном уровне и слегка согнуты, стопы параллельны на расстоянии 20 – 30 см друг от друга, туловище не сильно наклонено вперед, руки согнуты перед собой. Приняв определенную стойку, одни игроки стоят неподвижно ( статическая стойка ), другие двигаются на месте переступанием или подскоками ( динамическая    стойка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мещения по площадке выполняются ходьбой, бегом или скач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4832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дьба.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Игрок ходит пригибным шагом, вынося ногу вперед слегка согнутой.Это позволяет сохранять стойку и быстро принимать необходимые исходные положения для выполнения тактических прие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г .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ыстрые перемещения по площадке и резкие изменения направлений выполняются бегом на слегка согнутых ногах. Последний беговой шаг наиболее длинный, так как после него следует стопорящее движение ( остановка, смена направления, выпрыгивание для нападающего удара или блока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ачок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ычно выполняется после шага или бега, когда игровая ситуация  заставляет предельно быстро занять новую позицию для выполнения технического при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876400" cy="24289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971640" y="3645000"/>
            <a:ext cx="331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ис.1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йки волейболис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основная стой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стоика в момент выпол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дачи  двумя руками сверх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2:54:51Z</dcterms:created>
  <dc:creator>ЛИДИЯ</dc:creator>
  <dc:description/>
  <dc:language>en-US</dc:language>
  <cp:lastModifiedBy>User</cp:lastModifiedBy>
  <dcterms:modified xsi:type="dcterms:W3CDTF">2012-09-17T14:45:50Z</dcterms:modified>
  <cp:revision>37</cp:revision>
  <dc:subject/>
  <dc:title>Слайд 1</dc:title>
</cp:coreProperties>
</file>