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B2F-7392-43DD-9F11-F4128E35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98C-C161-41A2-87D0-8E5D4FA3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FA8-253B-41AE-8094-39776E71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F0D-F93E-48B3-871D-FF866B65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86E-0916-4043-83EF-3A4BA87E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CD9-E7DF-418F-8344-7A007486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431-2092-4941-9102-513575B8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731-9D05-4498-B2C2-685916EA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AB8-0F21-4477-B35F-3C758325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10E-ACE6-469A-BBAC-79BDA6BF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602-8F81-4111-A5CC-9F09C830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494-FD41-4CD8-988D-EF53EA99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C966-4103-432E-B574-5B7B08CFE5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ое учреждение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Излучинская образовательная начальная школа № 2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280" y="2276640"/>
            <a:ext cx="5327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а: «Про воздух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50920" y="4292640"/>
            <a:ext cx="3673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к 2 класса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улов Андр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ма Акулова О.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393720" y="6093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злучинск 2012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загрязняет возду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3" descr="bez-imeni-2_17.jpg"/>
          <p:cNvPicPr/>
          <p:nvPr/>
        </p:nvPicPr>
        <p:blipFill>
          <a:blip r:embed="rId1"/>
          <a:stretch/>
        </p:blipFill>
        <p:spPr>
          <a:xfrm>
            <a:off x="4356000" y="2492280"/>
            <a:ext cx="3168720" cy="2170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truby mal.jpg"/>
          <p:cNvPicPr/>
          <p:nvPr/>
        </p:nvPicPr>
        <p:blipFill>
          <a:blip r:embed="rId2"/>
          <a:stretch/>
        </p:blipFill>
        <p:spPr>
          <a:xfrm>
            <a:off x="633240" y="4221000"/>
            <a:ext cx="322272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0_11a1b_423087b6_XL.jpg"/>
          <p:cNvPicPr/>
          <p:nvPr/>
        </p:nvPicPr>
        <p:blipFill>
          <a:blip r:embed="rId3"/>
          <a:stretch/>
        </p:blipFill>
        <p:spPr>
          <a:xfrm>
            <a:off x="395280" y="1341360"/>
            <a:ext cx="355284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звук 6"/>
          <p:cNvSpPr/>
          <p:nvPr/>
        </p:nvSpPr>
        <p:spPr>
          <a:xfrm>
            <a:off x="5364000" y="5229360"/>
            <a:ext cx="754200" cy="79200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792000"/>
              <a:gd name="textAreaBottom" fmla="*/ 743400 h 7920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8948"/>
                </a:moveTo>
                <a:lnTo>
                  <a:pt x="8224" y="8948"/>
                </a:lnTo>
                <a:lnTo>
                  <a:pt x="12645" y="4335"/>
                </a:lnTo>
                <a:lnTo>
                  <a:pt x="12645" y="18348"/>
                </a:lnTo>
                <a:lnTo>
                  <a:pt x="8224" y="13735"/>
                </a:lnTo>
                <a:lnTo>
                  <a:pt x="3794" y="13735"/>
                </a:lnTo>
                <a:close/>
              </a:path>
              <a:path fill="darken" w="21600" h="22682">
                <a:moveTo>
                  <a:pt x="14299" y="11341"/>
                </a:moveTo>
                <a:lnTo>
                  <a:pt x="17806" y="11341"/>
                </a:lnTo>
              </a:path>
              <a:path fill="darken" w="21600" h="22682">
                <a:moveTo>
                  <a:pt x="14299" y="8948"/>
                </a:moveTo>
                <a:lnTo>
                  <a:pt x="17806" y="6180"/>
                </a:lnTo>
              </a:path>
              <a:path fill="darken" w="21600" h="22682">
                <a:moveTo>
                  <a:pt x="14299" y="13735"/>
                </a:moveTo>
                <a:lnTo>
                  <a:pt x="17806" y="16502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5"/>
          <p:cNvPicPr/>
          <p:nvPr/>
        </p:nvPicPr>
        <p:blipFill>
          <a:blip r:embed="rId1"/>
          <a:stretch/>
        </p:blipFill>
        <p:spPr>
          <a:xfrm>
            <a:off x="2830680" y="1413000"/>
            <a:ext cx="3254040" cy="1809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6" name="Управляющая кнопка: звук 4">
            <a:hlinkClick r:id="rId2"/>
          </p:cNvPr>
          <p:cNvSpPr/>
          <p:nvPr/>
        </p:nvSpPr>
        <p:spPr>
          <a:xfrm>
            <a:off x="6372360" y="1484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3794" y="9289"/>
                </a:moveTo>
                <a:lnTo>
                  <a:pt x="8224" y="9289"/>
                </a:lnTo>
                <a:lnTo>
                  <a:pt x="12645" y="4676"/>
                </a:lnTo>
                <a:lnTo>
                  <a:pt x="12645" y="18689"/>
                </a:lnTo>
                <a:lnTo>
                  <a:pt x="8224" y="14076"/>
                </a:lnTo>
                <a:lnTo>
                  <a:pt x="3794" y="14076"/>
                </a:lnTo>
                <a:close/>
              </a:path>
              <a:path fill="darken" w="21600" h="23365">
                <a:moveTo>
                  <a:pt x="14299" y="11683"/>
                </a:moveTo>
                <a:lnTo>
                  <a:pt x="17806" y="11683"/>
                </a:lnTo>
              </a:path>
              <a:path fill="darken" w="21600" h="23365">
                <a:moveTo>
                  <a:pt x="14299" y="9289"/>
                </a:moveTo>
                <a:lnTo>
                  <a:pt x="17806" y="6521"/>
                </a:lnTo>
              </a:path>
              <a:path fill="darken" w="21600" h="23365">
                <a:moveTo>
                  <a:pt x="14299" y="14076"/>
                </a:moveTo>
                <a:lnTo>
                  <a:pt x="17806" y="16844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Прямоугольник 6" descr=""/>
          <p:cNvPicPr/>
          <p:nvPr/>
        </p:nvPicPr>
        <p:blipFill>
          <a:blip r:embed="rId3"/>
          <a:stretch/>
        </p:blipFill>
        <p:spPr>
          <a:xfrm>
            <a:off x="1828800" y="1450800"/>
            <a:ext cx="858960" cy="6764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7" descr=""/>
          <p:cNvPicPr/>
          <p:nvPr/>
        </p:nvPicPr>
        <p:blipFill>
          <a:blip r:embed="rId4"/>
          <a:stretch/>
        </p:blipFill>
        <p:spPr>
          <a:xfrm>
            <a:off x="5864400" y="3249720"/>
            <a:ext cx="853920" cy="6760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8" descr=""/>
          <p:cNvPicPr/>
          <p:nvPr/>
        </p:nvPicPr>
        <p:blipFill>
          <a:blip r:embed="rId5"/>
          <a:stretch/>
        </p:blipFill>
        <p:spPr>
          <a:xfrm>
            <a:off x="1974960" y="3249720"/>
            <a:ext cx="853920" cy="67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lab-02"/>
          <p:cNvPicPr/>
          <p:nvPr/>
        </p:nvPicPr>
        <p:blipFill>
          <a:blip r:embed="rId6"/>
          <a:stretch/>
        </p:blipFill>
        <p:spPr>
          <a:xfrm>
            <a:off x="1042920" y="3716280"/>
            <a:ext cx="3475080" cy="208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1" name="Рисунок 12" descr="lab-04.gif"/>
          <p:cNvPicPr/>
          <p:nvPr/>
        </p:nvPicPr>
        <p:blipFill>
          <a:blip r:embed="rId7"/>
          <a:stretch/>
        </p:blipFill>
        <p:spPr>
          <a:xfrm>
            <a:off x="5003640" y="3716280"/>
            <a:ext cx="2400480" cy="199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92" name="Управляющая кнопка: звук 13">
            <a:hlinkClick r:id="rId8"/>
          </p:cNvPr>
          <p:cNvSpPr/>
          <p:nvPr/>
        </p:nvSpPr>
        <p:spPr>
          <a:xfrm>
            <a:off x="6084720" y="5805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841320" y="1474920"/>
            <a:ext cx="7809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вете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т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- это перемещение воздуха в горизонтальном направлении из области высокого атмосферного давления в область низк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3" descr="i.jpg"/>
          <p:cNvPicPr/>
          <p:nvPr/>
        </p:nvPicPr>
        <p:blipFill>
          <a:blip r:embed="rId1"/>
          <a:stretch/>
        </p:blipFill>
        <p:spPr>
          <a:xfrm>
            <a:off x="611280" y="3789360"/>
            <a:ext cx="2665440" cy="1776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i (1).jpg"/>
          <p:cNvPicPr/>
          <p:nvPr/>
        </p:nvPicPr>
        <p:blipFill>
          <a:blip r:embed="rId2"/>
          <a:stretch/>
        </p:blipFill>
        <p:spPr>
          <a:xfrm>
            <a:off x="2987640" y="4797360"/>
            <a:ext cx="2448000" cy="1685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0_11a1b_423087b6_XL.jpg"/>
          <p:cNvPicPr/>
          <p:nvPr/>
        </p:nvPicPr>
        <p:blipFill>
          <a:blip r:embed="rId3"/>
          <a:stretch/>
        </p:blipFill>
        <p:spPr>
          <a:xfrm>
            <a:off x="5219640" y="386064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71640" y="1341360"/>
            <a:ext cx="360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– прозрачный невидим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кий и бесцветный г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есомою косы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окутывает на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в лесу – густой, душисты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хнет свежестью смолист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хнет дубом и сос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007960" y="3429000"/>
            <a:ext cx="296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том он бывает тёплы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ет холодом зим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иней красит стек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лежит на них кайм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о нём не говор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то мы его вдыхаем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ведь нам необходим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6" descr="Sunshine.jpg"/>
          <p:cNvPicPr/>
          <p:nvPr/>
        </p:nvPicPr>
        <p:blipFill>
          <a:blip r:embed="rId1"/>
          <a:stretch/>
        </p:blipFill>
        <p:spPr>
          <a:xfrm>
            <a:off x="1332000" y="3716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0_a219_c1f891b2_XL.jpg"/>
          <p:cNvPicPr/>
          <p:nvPr/>
        </p:nvPicPr>
        <p:blipFill>
          <a:blip r:embed="rId2"/>
          <a:stretch/>
        </p:blipFill>
        <p:spPr>
          <a:xfrm>
            <a:off x="5076720" y="1484280"/>
            <a:ext cx="25434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увствовать воздух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жно есл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Круглая лента лицом вверх 9"/>
          <p:cNvSpPr/>
          <p:nvPr/>
        </p:nvSpPr>
        <p:spPr>
          <a:xfrm>
            <a:off x="468360" y="1628640"/>
            <a:ext cx="4030560" cy="2233800"/>
          </a:xfrm>
          <a:custGeom>
            <a:avLst/>
            <a:gdLst>
              <a:gd name="textAreaLeft" fmla="*/ 1007640 w 4030560"/>
              <a:gd name="textAreaRight" fmla="*/ 3022920 w 4030560"/>
              <a:gd name="textAreaTop" fmla="*/ 65880 h 2233800"/>
              <a:gd name="textAreaBottom" fmla="*/ 1675440 h 223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1" action="ppaction://hlinksldjump"/>
              </a:rPr>
              <a:t>1.Беж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Круглая лента лицом вверх 10"/>
          <p:cNvSpPr/>
          <p:nvPr/>
        </p:nvSpPr>
        <p:spPr>
          <a:xfrm>
            <a:off x="4572000" y="1628640"/>
            <a:ext cx="4248000" cy="2232000"/>
          </a:xfrm>
          <a:custGeom>
            <a:avLst/>
            <a:gdLst>
              <a:gd name="textAreaLeft" fmla="*/ 1062000 w 4248000"/>
              <a:gd name="textAreaRight" fmla="*/ 3186000 w 4248000"/>
              <a:gd name="textAreaTop" fmla="*/ 65880 h 2232000"/>
              <a:gd name="textAreaBottom" fmla="*/ 16740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2" action="ppaction://hlinksldjump"/>
              </a:rPr>
              <a:t>2. Махать </a:t>
            </a: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3" action="ppaction://hlinksldjump"/>
              </a:rPr>
              <a:t>ру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Круглая лента лицом вверх 11"/>
          <p:cNvSpPr/>
          <p:nvPr/>
        </p:nvSpPr>
        <p:spPr>
          <a:xfrm>
            <a:off x="2124000" y="4076640"/>
            <a:ext cx="4176720" cy="2305080"/>
          </a:xfrm>
          <a:custGeom>
            <a:avLst/>
            <a:gdLst>
              <a:gd name="textAreaLeft" fmla="*/ 1044000 w 4176720"/>
              <a:gd name="textAreaRight" fmla="*/ 3132720 w 4176720"/>
              <a:gd name="textAreaTop" fmla="*/ 68040 h 2305080"/>
              <a:gd name="textAreaBottom" fmla="*/ 1729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4" action="ppaction://hlinksldjump"/>
              </a:rPr>
              <a:t>3. Дует </a:t>
            </a: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5" action="ppaction://hlinksldjump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6" descr="1673.gif"/>
          <p:cNvPicPr/>
          <p:nvPr/>
        </p:nvPicPr>
        <p:blipFill>
          <a:blip r:embed="rId1"/>
          <a:stretch/>
        </p:blipFill>
        <p:spPr>
          <a:xfrm>
            <a:off x="4067280" y="1989000"/>
            <a:ext cx="2305080" cy="2805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бежать 4.jpg"/>
          <p:cNvPicPr/>
          <p:nvPr/>
        </p:nvPicPr>
        <p:blipFill>
          <a:blip r:embed="rId2"/>
          <a:stretch/>
        </p:blipFill>
        <p:spPr>
          <a:xfrm>
            <a:off x="395280" y="3429000"/>
            <a:ext cx="3384720" cy="2708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бежать 5.jpg"/>
          <p:cNvPicPr/>
          <p:nvPr/>
        </p:nvPicPr>
        <p:blipFill>
          <a:blip r:embed="rId3"/>
          <a:stretch/>
        </p:blipFill>
        <p:spPr>
          <a:xfrm>
            <a:off x="6588000" y="1052640"/>
            <a:ext cx="1913040" cy="249696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возврат 8">
            <a:hlinkClick r:id="rId4" action="ppaction://hlinksldjump"/>
          </p:cNvPr>
          <p:cNvSpPr/>
          <p:nvPr/>
        </p:nvSpPr>
        <p:spPr>
          <a:xfrm>
            <a:off x="0" y="6308640"/>
            <a:ext cx="609480" cy="549360"/>
          </a:xfrm>
          <a:custGeom>
            <a:avLst/>
            <a:gdLst>
              <a:gd name="textAreaLeft" fmla="*/ 35280 w 609480"/>
              <a:gd name="textAreaRight" fmla="*/ 574200 w 6094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3962" h="21600">
                <a:moveTo>
                  <a:pt x="0" y="0"/>
                </a:moveTo>
                <a:lnTo>
                  <a:pt x="23962" y="0"/>
                </a:lnTo>
                <a:lnTo>
                  <a:pt x="23962" y="21600"/>
                </a:lnTo>
                <a:lnTo>
                  <a:pt x="0" y="21600"/>
                </a:lnTo>
                <a:close/>
              </a:path>
              <a:path fill="lightenLess" w="23962" h="21600">
                <a:moveTo>
                  <a:pt x="0" y="0"/>
                </a:moveTo>
                <a:lnTo>
                  <a:pt x="23962" y="0"/>
                </a:lnTo>
                <a:lnTo>
                  <a:pt x="22562" y="1400"/>
                </a:lnTo>
                <a:lnTo>
                  <a:pt x="1400" y="1400"/>
                </a:lnTo>
                <a:close/>
              </a:path>
              <a:path fill="darken" w="23962" h="21600">
                <a:moveTo>
                  <a:pt x="23962" y="0"/>
                </a:moveTo>
                <a:lnTo>
                  <a:pt x="23962" y="21600"/>
                </a:lnTo>
                <a:lnTo>
                  <a:pt x="22562" y="20200"/>
                </a:lnTo>
                <a:lnTo>
                  <a:pt x="22562" y="1400"/>
                </a:lnTo>
                <a:close/>
              </a:path>
              <a:path fill="darkenLess" w="23962" h="21600">
                <a:moveTo>
                  <a:pt x="23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2" y="20200"/>
                </a:lnTo>
                <a:close/>
              </a:path>
              <a:path fill="lighten" w="23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2" h="21600">
                <a:moveTo>
                  <a:pt x="4975" y="7493"/>
                </a:moveTo>
                <a:lnTo>
                  <a:pt x="8482" y="7493"/>
                </a:lnTo>
                <a:lnTo>
                  <a:pt x="8482" y="12828"/>
                </a:lnTo>
                <a:cubicBezTo>
                  <a:pt x="8482" y="13751"/>
                  <a:pt x="9283" y="14482"/>
                  <a:pt x="10319" y="14482"/>
                </a:cubicBezTo>
                <a:lnTo>
                  <a:pt x="11981" y="14482"/>
                </a:lnTo>
                <a:cubicBezTo>
                  <a:pt x="13017" y="14482"/>
                  <a:pt x="13818" y="13751"/>
                  <a:pt x="13818" y="12828"/>
                </a:cubicBezTo>
                <a:lnTo>
                  <a:pt x="13818" y="7493"/>
                </a:lnTo>
                <a:lnTo>
                  <a:pt x="11981" y="7493"/>
                </a:lnTo>
                <a:lnTo>
                  <a:pt x="15489" y="3985"/>
                </a:lnTo>
                <a:lnTo>
                  <a:pt x="19162" y="7493"/>
                </a:lnTo>
                <a:lnTo>
                  <a:pt x="17325" y="7493"/>
                </a:lnTo>
                <a:lnTo>
                  <a:pt x="17325" y="12828"/>
                </a:lnTo>
                <a:cubicBezTo>
                  <a:pt x="17325" y="15596"/>
                  <a:pt x="14749" y="18155"/>
                  <a:pt x="11981" y="18155"/>
                </a:cubicBezTo>
                <a:lnTo>
                  <a:pt x="10319" y="18155"/>
                </a:lnTo>
                <a:cubicBezTo>
                  <a:pt x="7551" y="18155"/>
                  <a:pt x="4975" y="15596"/>
                  <a:pt x="4975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хать ру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4" descr="махать руками.jpg"/>
          <p:cNvPicPr/>
          <p:nvPr/>
        </p:nvPicPr>
        <p:blipFill>
          <a:blip r:embed="rId1"/>
          <a:stretch/>
        </p:blipFill>
        <p:spPr>
          <a:xfrm>
            <a:off x="2627280" y="4292640"/>
            <a:ext cx="367344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2303640" cy="323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724360" y="1484280"/>
            <a:ext cx="2341800" cy="288288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возврат 8">
            <a:hlinkClick r:id="rId4" action="ppaction://hlinksldjump"/>
          </p:cNvPr>
          <p:cNvSpPr/>
          <p:nvPr/>
        </p:nvSpPr>
        <p:spPr>
          <a:xfrm>
            <a:off x="0" y="6281640"/>
            <a:ext cx="609480" cy="57636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840" h="21600">
                <a:moveTo>
                  <a:pt x="0" y="0"/>
                </a:moveTo>
                <a:lnTo>
                  <a:pt x="22840" y="0"/>
                </a:lnTo>
                <a:lnTo>
                  <a:pt x="22840" y="21600"/>
                </a:lnTo>
                <a:lnTo>
                  <a:pt x="0" y="21600"/>
                </a:lnTo>
                <a:close/>
              </a:path>
              <a:path fill="lightenLess" w="22840" h="21600">
                <a:moveTo>
                  <a:pt x="0" y="0"/>
                </a:moveTo>
                <a:lnTo>
                  <a:pt x="22840" y="0"/>
                </a:lnTo>
                <a:lnTo>
                  <a:pt x="21440" y="1400"/>
                </a:lnTo>
                <a:lnTo>
                  <a:pt x="1400" y="1400"/>
                </a:lnTo>
                <a:close/>
              </a:path>
              <a:path fill="darken" w="22840" h="21600">
                <a:moveTo>
                  <a:pt x="22840" y="0"/>
                </a:moveTo>
                <a:lnTo>
                  <a:pt x="22840" y="21600"/>
                </a:lnTo>
                <a:lnTo>
                  <a:pt x="21440" y="20200"/>
                </a:lnTo>
                <a:lnTo>
                  <a:pt x="21440" y="1400"/>
                </a:lnTo>
                <a:close/>
              </a:path>
              <a:path fill="darkenLess" w="22840" h="21600">
                <a:moveTo>
                  <a:pt x="22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0" y="20200"/>
                </a:lnTo>
                <a:close/>
              </a:path>
              <a:path fill="lighten" w="22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0" h="21600">
                <a:moveTo>
                  <a:pt x="4414" y="7493"/>
                </a:moveTo>
                <a:lnTo>
                  <a:pt x="7921" y="7493"/>
                </a:lnTo>
                <a:lnTo>
                  <a:pt x="7921" y="12828"/>
                </a:lnTo>
                <a:cubicBezTo>
                  <a:pt x="7921" y="13751"/>
                  <a:pt x="8722" y="14482"/>
                  <a:pt x="9758" y="14482"/>
                </a:cubicBezTo>
                <a:lnTo>
                  <a:pt x="11420" y="14482"/>
                </a:lnTo>
                <a:cubicBezTo>
                  <a:pt x="12456" y="14482"/>
                  <a:pt x="13257" y="13751"/>
                  <a:pt x="13257" y="12828"/>
                </a:cubicBezTo>
                <a:lnTo>
                  <a:pt x="13257" y="7493"/>
                </a:lnTo>
                <a:lnTo>
                  <a:pt x="11420" y="7493"/>
                </a:lnTo>
                <a:lnTo>
                  <a:pt x="14928" y="3985"/>
                </a:lnTo>
                <a:lnTo>
                  <a:pt x="18601" y="7493"/>
                </a:lnTo>
                <a:lnTo>
                  <a:pt x="16764" y="7493"/>
                </a:lnTo>
                <a:lnTo>
                  <a:pt x="16764" y="12828"/>
                </a:lnTo>
                <a:cubicBezTo>
                  <a:pt x="16764" y="15596"/>
                  <a:pt x="14188" y="18155"/>
                  <a:pt x="11420" y="18155"/>
                </a:cubicBezTo>
                <a:lnTo>
                  <a:pt x="9758" y="18155"/>
                </a:lnTo>
                <a:cubicBezTo>
                  <a:pt x="6990" y="18155"/>
                  <a:pt x="4414" y="15596"/>
                  <a:pt x="441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ует вет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what the wind blew in"/>
          <p:cNvPicPr/>
          <p:nvPr/>
        </p:nvPicPr>
        <p:blipFill>
          <a:blip r:embed="rId1"/>
          <a:srcRect l="0" t="0" r="0" b="60743"/>
          <a:stretch/>
        </p:blipFill>
        <p:spPr>
          <a:xfrm>
            <a:off x="4716360" y="1197000"/>
            <a:ext cx="3797280" cy="2303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дует ветер 3.jpg"/>
          <p:cNvPicPr/>
          <p:nvPr/>
        </p:nvPicPr>
        <p:blipFill>
          <a:blip r:embed="rId2"/>
          <a:stretch/>
        </p:blipFill>
        <p:spPr>
          <a:xfrm>
            <a:off x="539640" y="1268280"/>
            <a:ext cx="3095640" cy="4199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i (1).jpg"/>
          <p:cNvPicPr/>
          <p:nvPr/>
        </p:nvPicPr>
        <p:blipFill>
          <a:blip r:embed="rId3"/>
          <a:stretch/>
        </p:blipFill>
        <p:spPr>
          <a:xfrm>
            <a:off x="4284720" y="3789360"/>
            <a:ext cx="30956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начение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hh"/>
          <p:cNvPicPr/>
          <p:nvPr/>
        </p:nvPicPr>
        <p:blipFill>
          <a:blip r:embed="rId1"/>
          <a:stretch/>
        </p:blipFill>
        <p:spPr>
          <a:xfrm>
            <a:off x="1547640" y="1341360"/>
            <a:ext cx="6359760" cy="34210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75" name="Управляющая кнопка: звук 4"/>
          <p:cNvSpPr/>
          <p:nvPr/>
        </p:nvSpPr>
        <p:spPr>
          <a:xfrm>
            <a:off x="4284720" y="522936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8421"/>
                </a:moveTo>
                <a:lnTo>
                  <a:pt x="8224" y="8421"/>
                </a:lnTo>
                <a:lnTo>
                  <a:pt x="12645" y="3808"/>
                </a:lnTo>
                <a:lnTo>
                  <a:pt x="12645" y="17821"/>
                </a:lnTo>
                <a:lnTo>
                  <a:pt x="8224" y="13208"/>
                </a:lnTo>
                <a:lnTo>
                  <a:pt x="3794" y="13208"/>
                </a:lnTo>
                <a:close/>
              </a:path>
              <a:path fill="darken" w="21600" h="21630">
                <a:moveTo>
                  <a:pt x="14299" y="10815"/>
                </a:moveTo>
                <a:lnTo>
                  <a:pt x="17806" y="10815"/>
                </a:lnTo>
              </a:path>
              <a:path fill="darken" w="21600" h="21630">
                <a:moveTo>
                  <a:pt x="14299" y="8421"/>
                </a:moveTo>
                <a:lnTo>
                  <a:pt x="17806" y="5654"/>
                </a:lnTo>
              </a:path>
              <a:path fill="darken" w="21600" h="21630">
                <a:moveTo>
                  <a:pt x="14299" y="13208"/>
                </a:moveTo>
                <a:lnTo>
                  <a:pt x="17806" y="15976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став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Диаграмма 4" descr=""/>
          <p:cNvPicPr/>
          <p:nvPr/>
        </p:nvPicPr>
        <p:blipFill>
          <a:blip r:embed="rId1"/>
          <a:stretch/>
        </p:blipFill>
        <p:spPr>
          <a:xfrm>
            <a:off x="272880" y="1074600"/>
            <a:ext cx="8526600" cy="550080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звук 5">
            <a:hlinkClick r:id="rId2"/>
          </p:cNvPr>
          <p:cNvSpPr/>
          <p:nvPr/>
        </p:nvSpPr>
        <p:spPr>
          <a:xfrm>
            <a:off x="324000" y="333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8412"/>
                </a:moveTo>
                <a:lnTo>
                  <a:pt x="8224" y="8412"/>
                </a:lnTo>
                <a:lnTo>
                  <a:pt x="12645" y="3799"/>
                </a:lnTo>
                <a:lnTo>
                  <a:pt x="12645" y="17812"/>
                </a:lnTo>
                <a:lnTo>
                  <a:pt x="8224" y="13199"/>
                </a:lnTo>
                <a:lnTo>
                  <a:pt x="3794" y="13199"/>
                </a:lnTo>
                <a:close/>
              </a:path>
              <a:path fill="darken" w="21600" h="21611">
                <a:moveTo>
                  <a:pt x="14299" y="10805"/>
                </a:moveTo>
                <a:lnTo>
                  <a:pt x="17806" y="10805"/>
                </a:lnTo>
              </a:path>
              <a:path fill="darken" w="21600" h="21611">
                <a:moveTo>
                  <a:pt x="14299" y="8412"/>
                </a:moveTo>
                <a:lnTo>
                  <a:pt x="17806" y="5644"/>
                </a:lnTo>
              </a:path>
              <a:path fill="darken" w="21600" h="21611">
                <a:moveTo>
                  <a:pt x="14299" y="13199"/>
                </a:moveTo>
                <a:lnTo>
                  <a:pt x="17806" y="15967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Ольга</cp:lastModifiedBy>
  <dcterms:modified xsi:type="dcterms:W3CDTF">2012-10-21T13:25:45Z</dcterms:modified>
  <cp:revision>39</cp:revision>
  <dc:subject/>
  <dc:title>Слайд 1</dc:title>
</cp:coreProperties>
</file>