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B2AC-0FA5-4A6E-824D-2457D4DA5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3F76-BF3E-40A5-84E9-7773887A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ABE2-E9BA-4303-B25F-A76AD6917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B94F-5FC8-4DD6-BF90-614101B66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134A-4D4D-4B39-A4B5-8D50E2AC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E3E7-BFEA-41EC-A59D-47650855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D761-7B6C-4DE9-BBFF-B4F1C551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B124-D9D5-48FA-8FC3-B88E29CF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11DB-2BD0-435F-9FF6-F920A744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42E8-ECFB-4929-B66D-F8D5869D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F07E-59A7-4B61-8192-6B90A0A2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FDE6-DA9E-4895-8014-4A99528E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CC28-A33C-4BB0-BCC7-AE9F32C89E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hyperlink" Target="file:///usr/lib/libreoffice/share/gallery/sounds/applause.wav" TargetMode="External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тельное учреждение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«Излучинская образовательная начальная школа № 2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79280" y="2276640"/>
            <a:ext cx="5327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КРУЖАЮЩИЙ МИ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ема: «Про воздух…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250920" y="4292640"/>
            <a:ext cx="36734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готовили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ник 2 класса 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кулов Андр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ма Акулова О.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3393720" y="609300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злучинск 2012 г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Что загрязняет возду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Рисунок 3" descr="bez-imeni-2_17.jpg"/>
          <p:cNvPicPr/>
          <p:nvPr/>
        </p:nvPicPr>
        <p:blipFill>
          <a:blip r:embed="rId1"/>
          <a:stretch/>
        </p:blipFill>
        <p:spPr>
          <a:xfrm>
            <a:off x="4356000" y="2492280"/>
            <a:ext cx="3168720" cy="21700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4" descr="truby mal.jpg"/>
          <p:cNvPicPr/>
          <p:nvPr/>
        </p:nvPicPr>
        <p:blipFill>
          <a:blip r:embed="rId2"/>
          <a:stretch/>
        </p:blipFill>
        <p:spPr>
          <a:xfrm>
            <a:off x="633240" y="4221000"/>
            <a:ext cx="3222720" cy="216072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5" descr="0_11a1b_423087b6_XL.jpg"/>
          <p:cNvPicPr/>
          <p:nvPr/>
        </p:nvPicPr>
        <p:blipFill>
          <a:blip r:embed="rId3"/>
          <a:stretch/>
        </p:blipFill>
        <p:spPr>
          <a:xfrm>
            <a:off x="395280" y="1341360"/>
            <a:ext cx="3552840" cy="2664000"/>
          </a:xfrm>
          <a:prstGeom prst="rect">
            <a:avLst/>
          </a:prstGeom>
          <a:ln w="0">
            <a:noFill/>
          </a:ln>
        </p:spPr>
      </p:pic>
      <p:sp>
        <p:nvSpPr>
          <p:cNvPr id="83" name="Управляющая кнопка: звук 6"/>
          <p:cNvSpPr/>
          <p:nvPr/>
        </p:nvSpPr>
        <p:spPr>
          <a:xfrm>
            <a:off x="5364000" y="5229360"/>
            <a:ext cx="754200" cy="792000"/>
          </a:xfrm>
          <a:custGeom>
            <a:avLst/>
            <a:gdLst>
              <a:gd name="textAreaLeft" fmla="*/ 48600 w 754200"/>
              <a:gd name="textAreaRight" fmla="*/ 705600 w 754200"/>
              <a:gd name="textAreaTop" fmla="*/ 48600 h 792000"/>
              <a:gd name="textAreaBottom" fmla="*/ 743400 h 792000"/>
            </a:gdLst>
            <a:ahLst/>
            <a:rect l="textAreaLeft" t="textAreaTop" r="textAreaRight" b="textAreaBottom"/>
            <a:pathLst>
              <a:path w="21600" h="22682">
                <a:moveTo>
                  <a:pt x="0" y="0"/>
                </a:moveTo>
                <a:lnTo>
                  <a:pt x="21600" y="0"/>
                </a:lnTo>
                <a:lnTo>
                  <a:pt x="21600" y="22682"/>
                </a:lnTo>
                <a:lnTo>
                  <a:pt x="0" y="22682"/>
                </a:lnTo>
                <a:close/>
              </a:path>
              <a:path fill="lightenLess" w="21600" h="226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82">
                <a:moveTo>
                  <a:pt x="21600" y="0"/>
                </a:moveTo>
                <a:lnTo>
                  <a:pt x="21600" y="22682"/>
                </a:lnTo>
                <a:lnTo>
                  <a:pt x="20200" y="21282"/>
                </a:lnTo>
                <a:lnTo>
                  <a:pt x="20200" y="1400"/>
                </a:lnTo>
                <a:close/>
              </a:path>
              <a:path fill="darkenLess" w="21600" h="22682">
                <a:moveTo>
                  <a:pt x="21600" y="22682"/>
                </a:moveTo>
                <a:lnTo>
                  <a:pt x="0" y="22682"/>
                </a:lnTo>
                <a:lnTo>
                  <a:pt x="1400" y="21282"/>
                </a:lnTo>
                <a:lnTo>
                  <a:pt x="20200" y="21282"/>
                </a:lnTo>
                <a:close/>
              </a:path>
              <a:path fill="lighten" w="21600" h="22682">
                <a:moveTo>
                  <a:pt x="0" y="226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82"/>
                </a:lnTo>
                <a:close/>
              </a:path>
              <a:path fill="darken" w="21600" h="22682">
                <a:moveTo>
                  <a:pt x="3794" y="8948"/>
                </a:moveTo>
                <a:lnTo>
                  <a:pt x="8224" y="8948"/>
                </a:lnTo>
                <a:lnTo>
                  <a:pt x="12645" y="4335"/>
                </a:lnTo>
                <a:lnTo>
                  <a:pt x="12645" y="18348"/>
                </a:lnTo>
                <a:lnTo>
                  <a:pt x="8224" y="13735"/>
                </a:lnTo>
                <a:lnTo>
                  <a:pt x="3794" y="13735"/>
                </a:lnTo>
                <a:close/>
              </a:path>
              <a:path fill="darken" w="21600" h="22682">
                <a:moveTo>
                  <a:pt x="14299" y="11341"/>
                </a:moveTo>
                <a:lnTo>
                  <a:pt x="17806" y="11341"/>
                </a:lnTo>
              </a:path>
              <a:path fill="darken" w="21600" h="22682">
                <a:moveTo>
                  <a:pt x="14299" y="8948"/>
                </a:moveTo>
                <a:lnTo>
                  <a:pt x="17806" y="6180"/>
                </a:lnTo>
              </a:path>
              <a:path fill="darken" w="21600" h="22682">
                <a:moveTo>
                  <a:pt x="14299" y="13735"/>
                </a:moveTo>
                <a:lnTo>
                  <a:pt x="17806" y="16502"/>
                </a:lnTo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пы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5"/>
          <p:cNvPicPr/>
          <p:nvPr/>
        </p:nvPicPr>
        <p:blipFill>
          <a:blip r:embed="rId1"/>
          <a:stretch/>
        </p:blipFill>
        <p:spPr>
          <a:xfrm>
            <a:off x="2830680" y="1413000"/>
            <a:ext cx="3254040" cy="18097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86" name="Управляющая кнопка: звук 4">
            <a:hlinkClick r:id="rId2"/>
          </p:cNvPr>
          <p:cNvSpPr/>
          <p:nvPr/>
        </p:nvSpPr>
        <p:spPr>
          <a:xfrm>
            <a:off x="6372360" y="1484280"/>
            <a:ext cx="466560" cy="50472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504720"/>
              <a:gd name="textAreaBottom" fmla="*/ 474480 h 504720"/>
            </a:gdLst>
            <a:ahLst/>
            <a:rect l="textAreaLeft" t="textAreaTop" r="textAreaRight" b="textAreaBottom"/>
            <a:pathLst>
              <a:path w="21600" h="23365">
                <a:moveTo>
                  <a:pt x="0" y="0"/>
                </a:moveTo>
                <a:lnTo>
                  <a:pt x="21600" y="0"/>
                </a:lnTo>
                <a:lnTo>
                  <a:pt x="21600" y="23365"/>
                </a:lnTo>
                <a:lnTo>
                  <a:pt x="0" y="23365"/>
                </a:lnTo>
                <a:close/>
              </a:path>
              <a:path fill="lightenLess" w="21600" h="233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65">
                <a:moveTo>
                  <a:pt x="21600" y="0"/>
                </a:moveTo>
                <a:lnTo>
                  <a:pt x="21600" y="23365"/>
                </a:lnTo>
                <a:lnTo>
                  <a:pt x="20200" y="21965"/>
                </a:lnTo>
                <a:lnTo>
                  <a:pt x="20200" y="1400"/>
                </a:lnTo>
                <a:close/>
              </a:path>
              <a:path fill="darkenLess" w="21600" h="23365">
                <a:moveTo>
                  <a:pt x="21600" y="23365"/>
                </a:moveTo>
                <a:lnTo>
                  <a:pt x="0" y="23365"/>
                </a:lnTo>
                <a:lnTo>
                  <a:pt x="1400" y="21965"/>
                </a:lnTo>
                <a:lnTo>
                  <a:pt x="20200" y="21965"/>
                </a:lnTo>
                <a:close/>
              </a:path>
              <a:path fill="lighten" w="21600" h="23365">
                <a:moveTo>
                  <a:pt x="0" y="233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65"/>
                </a:lnTo>
                <a:close/>
              </a:path>
              <a:path fill="darken" w="21600" h="23365">
                <a:moveTo>
                  <a:pt x="3794" y="9289"/>
                </a:moveTo>
                <a:lnTo>
                  <a:pt x="8224" y="9289"/>
                </a:lnTo>
                <a:lnTo>
                  <a:pt x="12645" y="4676"/>
                </a:lnTo>
                <a:lnTo>
                  <a:pt x="12645" y="18689"/>
                </a:lnTo>
                <a:lnTo>
                  <a:pt x="8224" y="14076"/>
                </a:lnTo>
                <a:lnTo>
                  <a:pt x="3794" y="14076"/>
                </a:lnTo>
                <a:close/>
              </a:path>
              <a:path fill="darken" w="21600" h="23365">
                <a:moveTo>
                  <a:pt x="14299" y="11683"/>
                </a:moveTo>
                <a:lnTo>
                  <a:pt x="17806" y="11683"/>
                </a:lnTo>
              </a:path>
              <a:path fill="darken" w="21600" h="23365">
                <a:moveTo>
                  <a:pt x="14299" y="9289"/>
                </a:moveTo>
                <a:lnTo>
                  <a:pt x="17806" y="6521"/>
                </a:lnTo>
              </a:path>
              <a:path fill="darken" w="21600" h="23365">
                <a:moveTo>
                  <a:pt x="14299" y="14076"/>
                </a:moveTo>
                <a:lnTo>
                  <a:pt x="17806" y="16844"/>
                </a:lnTo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Прямоугольник 6" descr=""/>
          <p:cNvPicPr/>
          <p:nvPr/>
        </p:nvPicPr>
        <p:blipFill>
          <a:blip r:embed="rId3"/>
          <a:stretch/>
        </p:blipFill>
        <p:spPr>
          <a:xfrm>
            <a:off x="1828800" y="1450800"/>
            <a:ext cx="858960" cy="67644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7" descr=""/>
          <p:cNvPicPr/>
          <p:nvPr/>
        </p:nvPicPr>
        <p:blipFill>
          <a:blip r:embed="rId4"/>
          <a:stretch/>
        </p:blipFill>
        <p:spPr>
          <a:xfrm>
            <a:off x="5864400" y="3249720"/>
            <a:ext cx="853920" cy="67608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8" descr=""/>
          <p:cNvPicPr/>
          <p:nvPr/>
        </p:nvPicPr>
        <p:blipFill>
          <a:blip r:embed="rId5"/>
          <a:stretch/>
        </p:blipFill>
        <p:spPr>
          <a:xfrm>
            <a:off x="1974960" y="3249720"/>
            <a:ext cx="853920" cy="676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lab-02"/>
          <p:cNvPicPr/>
          <p:nvPr/>
        </p:nvPicPr>
        <p:blipFill>
          <a:blip r:embed="rId6"/>
          <a:stretch/>
        </p:blipFill>
        <p:spPr>
          <a:xfrm>
            <a:off x="1042920" y="3716280"/>
            <a:ext cx="3475080" cy="2087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91" name="Рисунок 12" descr="lab-04.gif"/>
          <p:cNvPicPr/>
          <p:nvPr/>
        </p:nvPicPr>
        <p:blipFill>
          <a:blip r:embed="rId7"/>
          <a:stretch/>
        </p:blipFill>
        <p:spPr>
          <a:xfrm>
            <a:off x="5003640" y="3716280"/>
            <a:ext cx="2400480" cy="19972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92" name="Управляющая кнопка: звук 13">
            <a:hlinkClick r:id="rId8"/>
          </p:cNvPr>
          <p:cNvSpPr/>
          <p:nvPr/>
        </p:nvSpPr>
        <p:spPr>
          <a:xfrm>
            <a:off x="6084720" y="580536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Прямоугольник 2" descr=""/>
          <p:cNvPicPr/>
          <p:nvPr/>
        </p:nvPicPr>
        <p:blipFill>
          <a:blip r:embed="rId1"/>
          <a:stretch/>
        </p:blipFill>
        <p:spPr>
          <a:xfrm>
            <a:off x="841320" y="1474920"/>
            <a:ext cx="7809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Что такое ветер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ете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- это перемещение воздуха в горизонтальном направлении из области высокого атмосферного давления в область низког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Рисунок 3" descr="i.jpg"/>
          <p:cNvPicPr/>
          <p:nvPr/>
        </p:nvPicPr>
        <p:blipFill>
          <a:blip r:embed="rId1"/>
          <a:stretch/>
        </p:blipFill>
        <p:spPr>
          <a:xfrm>
            <a:off x="611280" y="3789360"/>
            <a:ext cx="2665440" cy="17762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4" descr="i (1).jpg"/>
          <p:cNvPicPr/>
          <p:nvPr/>
        </p:nvPicPr>
        <p:blipFill>
          <a:blip r:embed="rId2"/>
          <a:stretch/>
        </p:blipFill>
        <p:spPr>
          <a:xfrm>
            <a:off x="2987640" y="4797360"/>
            <a:ext cx="2448000" cy="16858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5" descr="0_11a1b_423087b6_XL.jpg"/>
          <p:cNvPicPr/>
          <p:nvPr/>
        </p:nvPicPr>
        <p:blipFill>
          <a:blip r:embed="rId3"/>
          <a:stretch/>
        </p:blipFill>
        <p:spPr>
          <a:xfrm>
            <a:off x="5219640" y="3860640"/>
            <a:ext cx="24004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зду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971640" y="1341360"/>
            <a:ext cx="3600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 – прозрачный невидимк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егкий и бесцветный газ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весомою косынк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 окутывает на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 в лесу – густой, душистый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хнет свежестью смолистой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хнет дубом и сосно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007960" y="3429000"/>
            <a:ext cx="296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етом он бывает тёплым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ет холодом зимой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гда иней красит стек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лежит на них каймой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ы о нём не говори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сто мы его вдыхаем 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 ведь нам необходим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Рисунок 6" descr="Sunshine.jpg"/>
          <p:cNvPicPr/>
          <p:nvPr/>
        </p:nvPicPr>
        <p:blipFill>
          <a:blip r:embed="rId1"/>
          <a:stretch/>
        </p:blipFill>
        <p:spPr>
          <a:xfrm>
            <a:off x="1332000" y="3716280"/>
            <a:ext cx="2952720" cy="22147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0_a219_c1f891b2_XL.jpg"/>
          <p:cNvPicPr/>
          <p:nvPr/>
        </p:nvPicPr>
        <p:blipFill>
          <a:blip r:embed="rId2"/>
          <a:stretch/>
        </p:blipFill>
        <p:spPr>
          <a:xfrm>
            <a:off x="5076720" y="1484280"/>
            <a:ext cx="254340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чувствовать воздух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жно есл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Круглая лента лицом вверх 9"/>
          <p:cNvSpPr/>
          <p:nvPr/>
        </p:nvSpPr>
        <p:spPr>
          <a:xfrm>
            <a:off x="468360" y="1628640"/>
            <a:ext cx="4030560" cy="2233800"/>
          </a:xfrm>
          <a:custGeom>
            <a:avLst/>
            <a:gdLst>
              <a:gd name="textAreaLeft" fmla="*/ 1007640 w 4030560"/>
              <a:gd name="textAreaRight" fmla="*/ 3022920 w 4030560"/>
              <a:gd name="textAreaTop" fmla="*/ 65880 h 2233800"/>
              <a:gd name="textAreaBottom" fmla="*/ 1675440 h 2233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a50021"/>
                </a:solidFill>
                <a:uFillTx/>
                <a:latin typeface="Times New Roman"/>
                <a:hlinkClick r:id="rId1" action="ppaction://hlinksldjump"/>
              </a:rPr>
              <a:t>1.Бежа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Круглая лента лицом вверх 10"/>
          <p:cNvSpPr/>
          <p:nvPr/>
        </p:nvSpPr>
        <p:spPr>
          <a:xfrm>
            <a:off x="4572000" y="1628640"/>
            <a:ext cx="4248000" cy="2232000"/>
          </a:xfrm>
          <a:custGeom>
            <a:avLst/>
            <a:gdLst>
              <a:gd name="textAreaLeft" fmla="*/ 1062000 w 4248000"/>
              <a:gd name="textAreaRight" fmla="*/ 3186000 w 4248000"/>
              <a:gd name="textAreaTop" fmla="*/ 65880 h 2232000"/>
              <a:gd name="textAreaBottom" fmla="*/ 167400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a50021"/>
                </a:solidFill>
                <a:uFillTx/>
                <a:latin typeface="Times New Roman"/>
                <a:hlinkClick r:id="rId2" action="ppaction://hlinksldjump"/>
              </a:rPr>
              <a:t>2. Махать </a:t>
            </a:r>
            <a:r>
              <a:rPr b="0" lang="ru-RU" sz="2800" spc="-1" strike="noStrike" u="sng">
                <a:solidFill>
                  <a:srgbClr val="a50021"/>
                </a:solidFill>
                <a:uFillTx/>
                <a:latin typeface="Times New Roman"/>
                <a:hlinkClick r:id="rId3" action="ppaction://hlinksldjump"/>
              </a:rPr>
              <a:t>рук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Круглая лента лицом вверх 11"/>
          <p:cNvSpPr/>
          <p:nvPr/>
        </p:nvSpPr>
        <p:spPr>
          <a:xfrm>
            <a:off x="2124000" y="4076640"/>
            <a:ext cx="4176720" cy="2305080"/>
          </a:xfrm>
          <a:custGeom>
            <a:avLst/>
            <a:gdLst>
              <a:gd name="textAreaLeft" fmla="*/ 1044000 w 4176720"/>
              <a:gd name="textAreaRight" fmla="*/ 3132720 w 4176720"/>
              <a:gd name="textAreaTop" fmla="*/ 68040 h 2305080"/>
              <a:gd name="textAreaBottom" fmla="*/ 172908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a50021"/>
                </a:solidFill>
                <a:uFillTx/>
                <a:latin typeface="Times New Roman"/>
                <a:hlinkClick r:id="rId4" action="ppaction://hlinksldjump"/>
              </a:rPr>
              <a:t>3. Дует </a:t>
            </a:r>
            <a:r>
              <a:rPr b="0" lang="ru-RU" sz="2800" spc="-1" strike="noStrike" u="sng">
                <a:solidFill>
                  <a:srgbClr val="a50021"/>
                </a:solidFill>
                <a:uFillTx/>
                <a:latin typeface="Times New Roman"/>
                <a:hlinkClick r:id="rId5" action="ppaction://hlinksldjump"/>
              </a:rPr>
              <a:t>вете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Бежа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Рисунок 6" descr="1673.gif"/>
          <p:cNvPicPr/>
          <p:nvPr/>
        </p:nvPicPr>
        <p:blipFill>
          <a:blip r:embed="rId1"/>
          <a:stretch/>
        </p:blipFill>
        <p:spPr>
          <a:xfrm>
            <a:off x="4067280" y="1989000"/>
            <a:ext cx="2305080" cy="28051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6" descr="бежать 4.jpg"/>
          <p:cNvPicPr/>
          <p:nvPr/>
        </p:nvPicPr>
        <p:blipFill>
          <a:blip r:embed="rId2"/>
          <a:stretch/>
        </p:blipFill>
        <p:spPr>
          <a:xfrm>
            <a:off x="395280" y="3429000"/>
            <a:ext cx="3384720" cy="27082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7" descr="бежать 5.jpg"/>
          <p:cNvPicPr/>
          <p:nvPr/>
        </p:nvPicPr>
        <p:blipFill>
          <a:blip r:embed="rId3"/>
          <a:stretch/>
        </p:blipFill>
        <p:spPr>
          <a:xfrm>
            <a:off x="6588000" y="1052640"/>
            <a:ext cx="1913040" cy="2496960"/>
          </a:xfrm>
          <a:prstGeom prst="rect">
            <a:avLst/>
          </a:prstGeom>
          <a:ln w="0">
            <a:noFill/>
          </a:ln>
        </p:spPr>
      </p:pic>
      <p:sp>
        <p:nvSpPr>
          <p:cNvPr id="63" name="Управляющая кнопка: возврат 8">
            <a:hlinkClick r:id="rId4" action="ppaction://hlinksldjump"/>
          </p:cNvPr>
          <p:cNvSpPr/>
          <p:nvPr/>
        </p:nvSpPr>
        <p:spPr>
          <a:xfrm>
            <a:off x="0" y="6308640"/>
            <a:ext cx="609480" cy="549360"/>
          </a:xfrm>
          <a:custGeom>
            <a:avLst/>
            <a:gdLst>
              <a:gd name="textAreaLeft" fmla="*/ 35280 w 609480"/>
              <a:gd name="textAreaRight" fmla="*/ 574200 w 6094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3962" h="21600">
                <a:moveTo>
                  <a:pt x="0" y="0"/>
                </a:moveTo>
                <a:lnTo>
                  <a:pt x="23962" y="0"/>
                </a:lnTo>
                <a:lnTo>
                  <a:pt x="23962" y="21600"/>
                </a:lnTo>
                <a:lnTo>
                  <a:pt x="0" y="21600"/>
                </a:lnTo>
                <a:close/>
              </a:path>
              <a:path fill="lightenLess" w="23962" h="21600">
                <a:moveTo>
                  <a:pt x="0" y="0"/>
                </a:moveTo>
                <a:lnTo>
                  <a:pt x="23962" y="0"/>
                </a:lnTo>
                <a:lnTo>
                  <a:pt x="22562" y="1400"/>
                </a:lnTo>
                <a:lnTo>
                  <a:pt x="1400" y="1400"/>
                </a:lnTo>
                <a:close/>
              </a:path>
              <a:path fill="darken" w="23962" h="21600">
                <a:moveTo>
                  <a:pt x="23962" y="0"/>
                </a:moveTo>
                <a:lnTo>
                  <a:pt x="23962" y="21600"/>
                </a:lnTo>
                <a:lnTo>
                  <a:pt x="22562" y="20200"/>
                </a:lnTo>
                <a:lnTo>
                  <a:pt x="22562" y="1400"/>
                </a:lnTo>
                <a:close/>
              </a:path>
              <a:path fill="darkenLess" w="23962" h="21600">
                <a:moveTo>
                  <a:pt x="239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62" y="20200"/>
                </a:lnTo>
                <a:close/>
              </a:path>
              <a:path fill="lighten" w="239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62" h="21600">
                <a:moveTo>
                  <a:pt x="4975" y="7493"/>
                </a:moveTo>
                <a:lnTo>
                  <a:pt x="8482" y="7493"/>
                </a:lnTo>
                <a:lnTo>
                  <a:pt x="8482" y="12828"/>
                </a:lnTo>
                <a:cubicBezTo>
                  <a:pt x="8482" y="13751"/>
                  <a:pt x="9283" y="14482"/>
                  <a:pt x="10319" y="14482"/>
                </a:cubicBezTo>
                <a:lnTo>
                  <a:pt x="11981" y="14482"/>
                </a:lnTo>
                <a:cubicBezTo>
                  <a:pt x="13017" y="14482"/>
                  <a:pt x="13818" y="13751"/>
                  <a:pt x="13818" y="12828"/>
                </a:cubicBezTo>
                <a:lnTo>
                  <a:pt x="13818" y="7493"/>
                </a:lnTo>
                <a:lnTo>
                  <a:pt x="11981" y="7493"/>
                </a:lnTo>
                <a:lnTo>
                  <a:pt x="15489" y="3985"/>
                </a:lnTo>
                <a:lnTo>
                  <a:pt x="19162" y="7493"/>
                </a:lnTo>
                <a:lnTo>
                  <a:pt x="17325" y="7493"/>
                </a:lnTo>
                <a:lnTo>
                  <a:pt x="17325" y="12828"/>
                </a:lnTo>
                <a:cubicBezTo>
                  <a:pt x="17325" y="15596"/>
                  <a:pt x="14749" y="18155"/>
                  <a:pt x="11981" y="18155"/>
                </a:cubicBezTo>
                <a:lnTo>
                  <a:pt x="10319" y="18155"/>
                </a:lnTo>
                <a:cubicBezTo>
                  <a:pt x="7551" y="18155"/>
                  <a:pt x="4975" y="15596"/>
                  <a:pt x="4975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ахать рукам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Рисунок 4" descr="махать руками.jpg"/>
          <p:cNvPicPr/>
          <p:nvPr/>
        </p:nvPicPr>
        <p:blipFill>
          <a:blip r:embed="rId1"/>
          <a:stretch/>
        </p:blipFill>
        <p:spPr>
          <a:xfrm>
            <a:off x="2627280" y="4292640"/>
            <a:ext cx="3673440" cy="2232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900000" y="1125360"/>
            <a:ext cx="2303640" cy="3233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3"/>
          <a:stretch/>
        </p:blipFill>
        <p:spPr>
          <a:xfrm>
            <a:off x="5724360" y="1484280"/>
            <a:ext cx="2341800" cy="2882880"/>
          </a:xfrm>
          <a:prstGeom prst="rect">
            <a:avLst/>
          </a:prstGeom>
          <a:ln w="0">
            <a:noFill/>
          </a:ln>
        </p:spPr>
      </p:pic>
      <p:sp>
        <p:nvSpPr>
          <p:cNvPr id="68" name="Управляющая кнопка: возврат 8">
            <a:hlinkClick r:id="rId4" action="ppaction://hlinksldjump"/>
          </p:cNvPr>
          <p:cNvSpPr/>
          <p:nvPr/>
        </p:nvSpPr>
        <p:spPr>
          <a:xfrm>
            <a:off x="0" y="6281640"/>
            <a:ext cx="609480" cy="576360"/>
          </a:xfrm>
          <a:custGeom>
            <a:avLst/>
            <a:gdLst>
              <a:gd name="textAreaLeft" fmla="*/ 37080 w 609480"/>
              <a:gd name="textAreaRight" fmla="*/ 572400 w 6094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2840" h="21600">
                <a:moveTo>
                  <a:pt x="0" y="0"/>
                </a:moveTo>
                <a:lnTo>
                  <a:pt x="22840" y="0"/>
                </a:lnTo>
                <a:lnTo>
                  <a:pt x="22840" y="21600"/>
                </a:lnTo>
                <a:lnTo>
                  <a:pt x="0" y="21600"/>
                </a:lnTo>
                <a:close/>
              </a:path>
              <a:path fill="lightenLess" w="22840" h="21600">
                <a:moveTo>
                  <a:pt x="0" y="0"/>
                </a:moveTo>
                <a:lnTo>
                  <a:pt x="22840" y="0"/>
                </a:lnTo>
                <a:lnTo>
                  <a:pt x="21440" y="1400"/>
                </a:lnTo>
                <a:lnTo>
                  <a:pt x="1400" y="1400"/>
                </a:lnTo>
                <a:close/>
              </a:path>
              <a:path fill="darken" w="22840" h="21600">
                <a:moveTo>
                  <a:pt x="22840" y="0"/>
                </a:moveTo>
                <a:lnTo>
                  <a:pt x="22840" y="21600"/>
                </a:lnTo>
                <a:lnTo>
                  <a:pt x="21440" y="20200"/>
                </a:lnTo>
                <a:lnTo>
                  <a:pt x="21440" y="1400"/>
                </a:lnTo>
                <a:close/>
              </a:path>
              <a:path fill="darkenLess" w="22840" h="21600">
                <a:moveTo>
                  <a:pt x="228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40" y="20200"/>
                </a:lnTo>
                <a:close/>
              </a:path>
              <a:path fill="lighten" w="228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40" h="21600">
                <a:moveTo>
                  <a:pt x="4414" y="7493"/>
                </a:moveTo>
                <a:lnTo>
                  <a:pt x="7921" y="7493"/>
                </a:lnTo>
                <a:lnTo>
                  <a:pt x="7921" y="12828"/>
                </a:lnTo>
                <a:cubicBezTo>
                  <a:pt x="7921" y="13751"/>
                  <a:pt x="8722" y="14482"/>
                  <a:pt x="9758" y="14482"/>
                </a:cubicBezTo>
                <a:lnTo>
                  <a:pt x="11420" y="14482"/>
                </a:lnTo>
                <a:cubicBezTo>
                  <a:pt x="12456" y="14482"/>
                  <a:pt x="13257" y="13751"/>
                  <a:pt x="13257" y="12828"/>
                </a:cubicBezTo>
                <a:lnTo>
                  <a:pt x="13257" y="7493"/>
                </a:lnTo>
                <a:lnTo>
                  <a:pt x="11420" y="7493"/>
                </a:lnTo>
                <a:lnTo>
                  <a:pt x="14928" y="3985"/>
                </a:lnTo>
                <a:lnTo>
                  <a:pt x="18601" y="7493"/>
                </a:lnTo>
                <a:lnTo>
                  <a:pt x="16764" y="7493"/>
                </a:lnTo>
                <a:lnTo>
                  <a:pt x="16764" y="12828"/>
                </a:lnTo>
                <a:cubicBezTo>
                  <a:pt x="16764" y="15596"/>
                  <a:pt x="14188" y="18155"/>
                  <a:pt x="11420" y="18155"/>
                </a:cubicBezTo>
                <a:lnTo>
                  <a:pt x="9758" y="18155"/>
                </a:lnTo>
                <a:cubicBezTo>
                  <a:pt x="6990" y="18155"/>
                  <a:pt x="4414" y="15596"/>
                  <a:pt x="4414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ует вет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" descr="what the wind blew in"/>
          <p:cNvPicPr/>
          <p:nvPr/>
        </p:nvPicPr>
        <p:blipFill>
          <a:blip r:embed="rId1"/>
          <a:srcRect l="0" t="0" r="0" b="60743"/>
          <a:stretch/>
        </p:blipFill>
        <p:spPr>
          <a:xfrm>
            <a:off x="4716360" y="1197000"/>
            <a:ext cx="3797280" cy="23032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дует ветер 3.jpg"/>
          <p:cNvPicPr/>
          <p:nvPr/>
        </p:nvPicPr>
        <p:blipFill>
          <a:blip r:embed="rId2"/>
          <a:stretch/>
        </p:blipFill>
        <p:spPr>
          <a:xfrm>
            <a:off x="539640" y="1268280"/>
            <a:ext cx="3095640" cy="41990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5" descr="i (1).jpg"/>
          <p:cNvPicPr/>
          <p:nvPr/>
        </p:nvPicPr>
        <p:blipFill>
          <a:blip r:embed="rId3"/>
          <a:stretch/>
        </p:blipFill>
        <p:spPr>
          <a:xfrm>
            <a:off x="4284720" y="3789360"/>
            <a:ext cx="309564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начение воздух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5" descr="hh"/>
          <p:cNvPicPr/>
          <p:nvPr/>
        </p:nvPicPr>
        <p:blipFill>
          <a:blip r:embed="rId1"/>
          <a:stretch/>
        </p:blipFill>
        <p:spPr>
          <a:xfrm>
            <a:off x="1547640" y="1341360"/>
            <a:ext cx="6359760" cy="342108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sp>
        <p:nvSpPr>
          <p:cNvPr id="75" name="Управляющая кнопка: звук 4"/>
          <p:cNvSpPr/>
          <p:nvPr/>
        </p:nvSpPr>
        <p:spPr>
          <a:xfrm>
            <a:off x="4284720" y="5229360"/>
            <a:ext cx="1041480" cy="1042920"/>
          </a:xfrm>
          <a:custGeom>
            <a:avLst/>
            <a:gdLst>
              <a:gd name="textAreaLeft" fmla="*/ 67320 w 1041480"/>
              <a:gd name="textAreaRight" fmla="*/ 974160 w 10414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30">
                <a:moveTo>
                  <a:pt x="0" y="0"/>
                </a:moveTo>
                <a:lnTo>
                  <a:pt x="21600" y="0"/>
                </a:lnTo>
                <a:lnTo>
                  <a:pt x="21600" y="21630"/>
                </a:lnTo>
                <a:lnTo>
                  <a:pt x="0" y="21630"/>
                </a:lnTo>
                <a:close/>
              </a:path>
              <a:path fill="lightenLess" w="21600" h="2163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0">
                <a:moveTo>
                  <a:pt x="21600" y="0"/>
                </a:moveTo>
                <a:lnTo>
                  <a:pt x="21600" y="21630"/>
                </a:lnTo>
                <a:lnTo>
                  <a:pt x="20200" y="20230"/>
                </a:lnTo>
                <a:lnTo>
                  <a:pt x="20200" y="1400"/>
                </a:lnTo>
                <a:close/>
              </a:path>
              <a:path fill="darkenLess" w="21600" h="21630">
                <a:moveTo>
                  <a:pt x="21600" y="21630"/>
                </a:moveTo>
                <a:lnTo>
                  <a:pt x="0" y="21630"/>
                </a:lnTo>
                <a:lnTo>
                  <a:pt x="1400" y="20230"/>
                </a:lnTo>
                <a:lnTo>
                  <a:pt x="20200" y="20230"/>
                </a:lnTo>
                <a:close/>
              </a:path>
              <a:path fill="lighten" w="21600" h="21630">
                <a:moveTo>
                  <a:pt x="0" y="2163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0"/>
                </a:lnTo>
                <a:close/>
              </a:path>
              <a:path fill="darken" w="21600" h="21630">
                <a:moveTo>
                  <a:pt x="3794" y="8421"/>
                </a:moveTo>
                <a:lnTo>
                  <a:pt x="8224" y="8421"/>
                </a:lnTo>
                <a:lnTo>
                  <a:pt x="12645" y="3808"/>
                </a:lnTo>
                <a:lnTo>
                  <a:pt x="12645" y="17821"/>
                </a:lnTo>
                <a:lnTo>
                  <a:pt x="8224" y="13208"/>
                </a:lnTo>
                <a:lnTo>
                  <a:pt x="3794" y="13208"/>
                </a:lnTo>
                <a:close/>
              </a:path>
              <a:path fill="darken" w="21600" h="21630">
                <a:moveTo>
                  <a:pt x="14299" y="10815"/>
                </a:moveTo>
                <a:lnTo>
                  <a:pt x="17806" y="10815"/>
                </a:lnTo>
              </a:path>
              <a:path fill="darken" w="21600" h="21630">
                <a:moveTo>
                  <a:pt x="14299" y="8421"/>
                </a:moveTo>
                <a:lnTo>
                  <a:pt x="17806" y="5654"/>
                </a:lnTo>
              </a:path>
              <a:path fill="darken" w="21600" h="21630">
                <a:moveTo>
                  <a:pt x="14299" y="13208"/>
                </a:moveTo>
                <a:lnTo>
                  <a:pt x="17806" y="15976"/>
                </a:lnTo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остав воздух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Диаграмма 4" descr=""/>
          <p:cNvPicPr/>
          <p:nvPr/>
        </p:nvPicPr>
        <p:blipFill>
          <a:blip r:embed="rId1"/>
          <a:stretch/>
        </p:blipFill>
        <p:spPr>
          <a:xfrm>
            <a:off x="272880" y="1074600"/>
            <a:ext cx="8526600" cy="5500800"/>
          </a:xfrm>
          <a:prstGeom prst="rect">
            <a:avLst/>
          </a:prstGeom>
          <a:ln w="0">
            <a:noFill/>
          </a:ln>
        </p:spPr>
      </p:pic>
      <p:sp>
        <p:nvSpPr>
          <p:cNvPr id="78" name="Управляющая кнопка: звук 5">
            <a:hlinkClick r:id="rId2"/>
          </p:cNvPr>
          <p:cNvSpPr/>
          <p:nvPr/>
        </p:nvSpPr>
        <p:spPr>
          <a:xfrm>
            <a:off x="324000" y="333360"/>
            <a:ext cx="718920" cy="71928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3794" y="8412"/>
                </a:moveTo>
                <a:lnTo>
                  <a:pt x="8224" y="8412"/>
                </a:lnTo>
                <a:lnTo>
                  <a:pt x="12645" y="3799"/>
                </a:lnTo>
                <a:lnTo>
                  <a:pt x="12645" y="17812"/>
                </a:lnTo>
                <a:lnTo>
                  <a:pt x="8224" y="13199"/>
                </a:lnTo>
                <a:lnTo>
                  <a:pt x="3794" y="13199"/>
                </a:lnTo>
                <a:close/>
              </a:path>
              <a:path fill="darken" w="21600" h="21611">
                <a:moveTo>
                  <a:pt x="14299" y="10805"/>
                </a:moveTo>
                <a:lnTo>
                  <a:pt x="17806" y="10805"/>
                </a:lnTo>
              </a:path>
              <a:path fill="darken" w="21600" h="21611">
                <a:moveTo>
                  <a:pt x="14299" y="8412"/>
                </a:moveTo>
                <a:lnTo>
                  <a:pt x="17806" y="5644"/>
                </a:lnTo>
              </a:path>
              <a:path fill="darken" w="21600" h="21611">
                <a:moveTo>
                  <a:pt x="14299" y="13199"/>
                </a:moveTo>
                <a:lnTo>
                  <a:pt x="17806" y="15967"/>
                </a:lnTo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9:05:21Z</dcterms:created>
  <dc:creator>Елена</dc:creator>
  <dc:description/>
  <dc:language>en-US</dc:language>
  <cp:lastModifiedBy>Ольга</cp:lastModifiedBy>
  <dcterms:modified xsi:type="dcterms:W3CDTF">2012-10-21T13:25:45Z</dcterms:modified>
  <cp:revision>39</cp:revision>
  <dc:subject/>
  <dc:title>Слайд 1</dc:title>
</cp:coreProperties>
</file>