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D3E-FA88-4EBB-A9D5-ACAEEC1B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C619-DA11-442C-82FF-BF02B46B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CA1-2B20-4EB3-8228-73A22066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90C-0270-4857-8576-7E8BF79C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BC2A-5AFB-4C76-A60F-4C15AE23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0180-4965-4F2E-9B6E-3B74F8FB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7681-B942-491A-A4BF-B5ADC14D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2ED1-94F0-4C77-B94C-4BE6A299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A790-549B-49F8-9243-088448EF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FDC2-0CA4-4DF6-8B8E-5C147C87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CD9B-E7E1-4ECA-AD76-85E2F638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8CF0-622C-4800-BDE2-9CA0B289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2B4F-4CE1-45BD-AE5B-925AA879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6BDD-7D2F-4B99-BC00-38FF23A9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1B6A-3AAC-4295-8487-52576858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47A6-8590-465D-89C9-1787903C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A877-CCB5-482F-B624-6EA6719C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F8447-DE58-47D6-B18F-9EBA85E3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F4825-2C21-44C5-BB5F-59CBB02A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6D762-D8D4-493A-90E8-186DAADD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C294B-AD01-4444-B2D3-523FBAC6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C94BA-505F-4EE1-96F6-4CB8ADF3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894-3E9F-42F8-9396-B1AF45CC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6E594-A577-4612-B1DA-4E426F43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19024-2593-4B9B-B4FB-268BAB25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B3B5F-2019-4478-9241-447B8986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1C3BB-0183-4CFF-B984-C4DBB8E9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238C8-39AE-4995-8F5A-E25EF231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78653-E7A1-41D8-A3F2-4E6ECEFD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424DF-213C-46CE-9818-9F5432BA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C2998-5FBD-48B8-B6F1-24810636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C6272-7A70-4E40-97C3-DC749C2F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10799-6484-4BB7-B377-8D5917C8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B8DA-F1F1-4B70-AC99-0C40A9EB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C59DB-0081-4963-B4DC-545F629C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CEF50-EEB8-44DA-86AF-7E6790B9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97510-F963-43EA-9DB9-256C1BFD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E05D5-5143-471C-942B-C8FDB291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6F231-F024-4E8E-A219-5E760FF0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ED5B6-7E89-4FD0-BA0C-FA6168C9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CD1AE-AA52-43C2-9191-F1CBB675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7C2A1-A4FD-4E30-BA38-1D2B4B32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BE65C-79FB-4C2F-AA1D-2453E360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60A9E-20C8-4AEA-AD61-9E86D338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559-9588-456E-BCF0-9190FF99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9B9CF-F563-469F-AFA1-076AFBB3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11D52-F1F1-4803-A527-74730E01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642CD-7ECF-4A16-A740-4E2D0BAF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006D4-7FF5-4368-9FDC-E11A17CB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21EE5-F8E6-4D1C-B2C9-8B422D90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E90B3-29DE-4269-A9A1-D067AE56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25BFD-9FB1-4719-A839-78BD58BD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4FCBC-4BD5-40B0-9039-9327352F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5AF5E-9676-4C66-8864-F2C5A816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7AC88-A0FA-4CA9-BFB1-6838CDCE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2E6E-DEC6-4872-BE22-08604265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42B78-16C4-482E-B210-B6688762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D3A7E-5D13-466E-89E2-C093D24A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8F20B-4B18-49D8-8DD1-C03FF497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B1D84-E25F-49E9-8289-8336D4CB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18233-A00C-4F79-94EE-28DAA1E0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24CC9-EF03-4C16-9610-26921F8B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EAFA0-80DC-4CA3-9984-0E4CE3B7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8885A-3B64-4CF8-811D-1F8029E4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B8883-5DB6-4B44-ABD4-7D75015A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FA833-590F-45A4-9DE2-FBC0B88A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2BD4-E089-493C-93E4-AC881FE2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3481E-23F3-4D3B-911E-29B4F7DD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65446-7464-4876-86C2-FA181002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E43E7-EBEB-40AE-A5B8-205A33FA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E2380-EE7F-4CAF-954F-2D534FA8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FBDF1-88B3-413C-83B5-27559B09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2D589-C6F0-4D5D-A808-D8510DA6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36A3F-CA7C-44C2-B316-764EE07E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07940-292E-48CD-8A86-06BD94A0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B3BD5-5B0A-43C7-BD4B-C3C273C0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CFB3F-9ED4-43F8-BD8D-075F9203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787-CA31-4499-917C-FC0170B7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79272-D5B8-4875-9C4E-500BCEBC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53B41-3751-40F0-AB40-FC233FAA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C6A6A-151E-47A9-8596-02AED86F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8607C-673A-4DD4-AC39-872A042F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1CFE3-D94A-47B4-86DB-31341968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37B26-32D4-43EC-ADA0-C2151C43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D21C1-6C50-492B-8992-D9D9B1F8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CF6E9-5623-4779-8C0D-DAAE19D5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16BBE-81C8-46F3-B799-A4C124CA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41D76-6DF9-4AFE-B62D-22C584DD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774-E941-4001-9D09-CFB9CC7A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20B0A-FA9A-4F57-817A-36251B7C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0F3BB-A52D-41FE-99F3-7199049E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4839E-5B18-4D88-BADA-8EFD7475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B734D-B6BE-4C74-A2EB-6B6354D3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D3BCC-23DF-4C7C-B395-7B5EFF00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21094-11A3-4336-B353-217EC6C5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7F706-E647-40F9-80E6-AA70CD36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E6D1-F86C-4E32-94EA-68B0826CC844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8A7F-B39B-4E82-A349-7BFD016E4B32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38A7-8306-459A-987B-D815FF5BAB45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1477-06BF-46E9-A5DF-D931C430B1D0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EA17-7BE1-4F33-A360-4E999BBB0525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0915-1DC1-4EF5-A3B7-A92F5DBD31EA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3FE2-3EEC-4D42-B7E9-0F145C505DF6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F70D-9F27-445D-B27A-DFFDF261F2EB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4280" y="371448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Глобальная география: введение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85920" y="514332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4653"/>
                </a:solidFill>
                <a:latin typeface="Cambria"/>
              </a:rPr>
              <a:t>Автор: учитель МБОУ СОШ № 102 г</a:t>
            </a:r>
            <a:r>
              <a:rPr b="0" lang="en-US" sz="1600" spc="-1" strike="noStrike">
                <a:solidFill>
                  <a:srgbClr val="464653"/>
                </a:solidFill>
                <a:latin typeface="Bookman Old Style"/>
              </a:rPr>
              <a:t>. </a:t>
            </a:r>
            <a:r>
              <a:rPr b="0" lang="ru-RU" sz="1600" spc="-1" strike="noStrike">
                <a:solidFill>
                  <a:srgbClr val="464653"/>
                </a:solidFill>
                <a:latin typeface="Cambria"/>
              </a:rPr>
              <a:t>Екатеринбурга</a:t>
            </a:r>
            <a:r>
              <a:rPr b="0" lang="en-US" sz="1600" spc="-1" strike="noStrike">
                <a:solidFill>
                  <a:srgbClr val="464653"/>
                </a:solidFill>
                <a:latin typeface="Bookman Old Style"/>
              </a:rPr>
              <a:t>,</a:t>
            </a:r>
            <a:r>
              <a:rPr b="0" lang="ru-RU" sz="1600" spc="-1" strike="noStrike">
                <a:solidFill>
                  <a:srgbClr val="464653"/>
                </a:solidFill>
                <a:latin typeface="Cambria"/>
              </a:rPr>
              <a:t> Сидельникова Н</a:t>
            </a:r>
            <a:r>
              <a:rPr b="0" lang="en-US" sz="1600" spc="-1" strike="noStrike">
                <a:solidFill>
                  <a:srgbClr val="464653"/>
                </a:solidFill>
                <a:latin typeface="Bookman Old Style"/>
              </a:rPr>
              <a:t>. C</a:t>
            </a:r>
            <a:r>
              <a:rPr b="0" lang="en-US" sz="1900" spc="-1" strike="noStrike">
                <a:solidFill>
                  <a:srgbClr val="464653"/>
                </a:solidFill>
                <a:latin typeface="Bookman Old Styl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000240" y="142920"/>
            <a:ext cx="2643480" cy="355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06200"/>
          </a:xfrm>
          <a:prstGeom prst="rect">
            <a:avLst/>
          </a:prstGeom>
          <a:ln w="0">
            <a:noFill/>
          </a:ln>
        </p:spPr>
      </p:pic>
      <p:pic>
        <p:nvPicPr>
          <p:cNvPr id="356" name="Содержимое 2" descr=""/>
          <p:cNvPicPr/>
          <p:nvPr/>
        </p:nvPicPr>
        <p:blipFill>
          <a:blip r:embed="rId2"/>
          <a:stretch/>
        </p:blipFill>
        <p:spPr>
          <a:xfrm>
            <a:off x="390600" y="1152360"/>
            <a:ext cx="8302680" cy="50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062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владение системой знаний о глобальных проблемах современности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е глобального мышления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к общечеловеческим проблемам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е у учащихся умения самостоятельно «добывать» знания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ильное понимание места и роли России в мире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311040" y="79200"/>
            <a:ext cx="8382240" cy="1073160"/>
          </a:xfrm>
          <a:prstGeom prst="rect">
            <a:avLst/>
          </a:prstGeom>
          <a:ln w="0">
            <a:noFill/>
          </a:ln>
        </p:spPr>
      </p:pic>
      <p:pic>
        <p:nvPicPr>
          <p:cNvPr id="360" name="Содержимое 2" descr=""/>
          <p:cNvPicPr/>
          <p:nvPr/>
        </p:nvPicPr>
        <p:blipFill>
          <a:blip r:embed="rId2"/>
          <a:stretch/>
        </p:blipFill>
        <p:spPr>
          <a:xfrm>
            <a:off x="396720" y="1212840"/>
            <a:ext cx="829656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311040" y="79200"/>
            <a:ext cx="8382240" cy="10731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сновные черты ХХ век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1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ир как бы «сузился»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ложились устойчивые экономические связи между странами мира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- международное « поле»               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-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транснациональное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поле»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3.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Формирование разветвленной системы коммуникаций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 сферы информационной техники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97800" cy="1006200"/>
          </a:xfrm>
          <a:prstGeom prst="rect">
            <a:avLst/>
          </a:prstGeom>
          <a:ln w="0">
            <a:noFill/>
          </a:ln>
        </p:spPr>
      </p:pic>
      <p:pic>
        <p:nvPicPr>
          <p:cNvPr id="364" name="Содержимое 2" descr=""/>
          <p:cNvPicPr/>
          <p:nvPr/>
        </p:nvPicPr>
        <p:blipFill>
          <a:blip r:embed="rId2"/>
          <a:stretch/>
        </p:blipFill>
        <p:spPr>
          <a:xfrm>
            <a:off x="219240" y="1073160"/>
            <a:ext cx="847404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311040" y="79200"/>
            <a:ext cx="8382240" cy="10731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ъект исследова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– всю геосферу или географическую оболочку Земли: т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литосферу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гидросферу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тмосферу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биосферу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социосферу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06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ланетарный подх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еждисциплинарный подх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еографический взгля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одинаковое проявление глобальных проблем в разных точках Зем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062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раница 3 – 10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0:31:25Z</dcterms:created>
  <dc:creator>I</dc:creator>
  <dc:description/>
  <dc:language>en-US</dc:language>
  <cp:lastModifiedBy>I</cp:lastModifiedBy>
  <dcterms:modified xsi:type="dcterms:W3CDTF">2012-10-02T13:24:52Z</dcterms:modified>
  <cp:revision>11</cp:revision>
  <dc:subject/>
  <dc:title>Глобальная география: введение</dc:title>
</cp:coreProperties>
</file>