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1DB-945C-4526-AEA8-4455B4F5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5FE-109C-44DB-A0BA-9E65AA1E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A32-EFD5-4FB6-BB7B-584BDD1A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D77-0CA8-4F05-AD29-59E4B03C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EF08-7AD3-4BCB-94AF-0A81B964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93F2-C5E2-4F2D-BD95-2A29A796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164E-DDBC-4AB4-950F-2CF246E6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CCC6-B655-40DC-8AA8-A52B626B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59B4-DBA5-4B88-A50B-EA62993F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F74C-D2BA-439A-83EE-E8266B58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E09B-53BC-4E64-B703-51FD5B02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8D3-7823-4774-9AD7-17B96DEB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91D4-F58F-460D-BF65-11F30FD4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E469-5D19-4905-991D-6D051521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F4A0-5FE6-4DD8-8180-CEE6BFDC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1F52-0E42-4B1D-A9F9-9A561D97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21AD-8129-406C-8C2B-96862D05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38A6D-9E76-4974-9FA1-AF4064C6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E3FB1-2DA9-44D4-AA88-2052EE94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AE682-AEF0-4614-82FC-DB741C91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603DC-3FCA-4242-A345-935B6EBA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68BDB-40D9-4B9D-8071-695A0145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F2F-4804-4200-8B91-7DC07794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EC680-95B1-482D-9713-8D2CE234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150B7-DEE7-40AF-8DEF-3684A033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29B11-A3F8-4C3C-B727-7C8564F6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56C72-6A1D-427A-A120-7E569AC8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ED7AA-FD0A-4BCA-A5D6-138462BE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F5402-A711-479A-9E60-A0DFFBDC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BEDAF-A57E-4D3A-8FE3-33DA06B5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B2A9D-4B3E-4119-9DA5-9A2CFD99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E72A7-1CB6-4958-92CA-1B9F7027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925D5-8705-429A-A18A-F9D05B99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B45-D5A5-48C5-A610-279C206F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3ACF-020D-4DA1-AADA-601C907B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0AF79-F5D1-4D86-8787-D6B22457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981AF-1AE8-4D60-AD2D-C0A40E64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66A99-AD23-4738-978C-831B1D6E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657A4-90F2-48CC-AF46-677B1FDC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526EB-6DE0-46E6-9C1B-6E3A4B77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E4EC2-8375-41EF-93D0-99C8DB62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E37F3-CF6C-48E8-9102-DE720750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5F393-50FB-4799-8764-F34ABFBC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7DDEB-7AD8-45B9-A16B-38F30221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486-6BA9-49C5-B9D9-D7081184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D09F3-6359-4DAC-831C-9F2AE10E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A480C-C77F-4030-8F81-008FC31A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0EE71-BC4F-4406-9C2D-0DE7EB85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585EA-D8C1-40DA-BF12-26595236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631AA-0835-4194-B63B-5695E4B9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762DD-6173-4FE3-A77A-E5541CAD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A9795-3684-4D7F-8370-FF51FD3E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7B0A4-9E3C-4B52-966D-3590D876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D2031-5070-4D10-86D2-7A1C8C16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C83D7-D02D-4BEA-9E31-B88D0FD2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653-B074-42A9-B60A-BBCF2C7E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1822B-C05E-4E8C-924E-F870BB20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3F160-7C82-481F-92EF-9BA648F3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2BDFD-CA8F-4448-B162-8B5B2C31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0EFD0-9C1E-47FA-99F8-0C27D727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1FD29-81F6-4A1C-9B99-FF641C04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ED00B-ED0A-4EB9-86BE-9514B4A7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A81BA-668A-4182-9FD7-5D7D6D66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3AA86-E434-4700-9A18-EFC70F9E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5F889-A01E-4B1C-874A-E80BC573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EDD25-D40C-4472-ADBC-F9EA442B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AAB-91CF-45D5-826D-BDD07D83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18455-CD23-4AF0-B540-54941B5C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4C5A2-917D-4D12-918A-E84E9FDB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E7689-D633-4037-8ACD-D4489B89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517BF-2787-412D-BAE6-064B0908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376DE-2DCB-4012-A2F2-3750CD61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2696D-BD79-4772-B2C9-15B8712B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8FDC0-B3F5-4839-9E21-40962C43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5EB15-B331-4A3C-BE13-6B146AA3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9199D-65AD-41FC-A283-BA8BEB49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880A2-C86D-429D-AE54-8C7C9A3E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535-CBFD-41FA-8A94-63D72E90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1EF88-A768-4D05-B0A5-CC9EB082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BF4D2-5673-45FA-A8B3-DFC5DFCF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D8CCD-1F0F-4774-BE1B-3C7E7252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9545B-9A3A-408B-A96F-AD44C31A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A2F74-59CF-4CB6-9671-FEFDAA0F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EA636-C19F-40BE-93AC-1D1D9575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512B5-B26A-4C0C-A41F-3A4DD53F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94DF1-0FF3-42DF-B64B-F0082F73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8687D-92AC-4D19-B2FA-459504D1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A0105-8457-4A22-8C1C-C3E75FBE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6EC-7236-460C-B846-A753E078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399A3-6CD4-4A0B-8CD7-0C4B63B6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2902E-C300-4200-B392-4A72C121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D55CA-86E6-430F-87FA-CCAAF720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0F0E5-99CD-406D-9145-3657659E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95D1B-3AB7-4B28-94CB-F5FEEC3F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6975A-97C9-4A2F-B933-5A5EA32D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D8488-9FD6-4AA3-B945-12DE6D20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A503-FFB5-4E1C-8C6F-67757DAEEF2E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6CA8-2023-4FE3-8793-B7834C8124DC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E3D7-0C1D-46F3-8CEE-068BEC3D65CF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F7C1-82D2-417E-BD0F-CBCC565AB830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1CE9-0550-4332-85D2-251877675151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38C6-6E8C-4940-AEBE-4490497279D0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52E5-D22B-43E9-B241-6761119E8B5A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AFD4-2380-4EBD-A108-11CB72F06665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4280" y="371448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Глобальная география: введение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85920" y="514332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53"/>
                </a:solidFill>
                <a:latin typeface="Cambria"/>
              </a:rPr>
              <a:t>Автор: учитель МБОУ СОШ № 102 г</a:t>
            </a:r>
            <a:r>
              <a:rPr b="0" lang="en-US" sz="1600" spc="-1" strike="noStrike">
                <a:solidFill>
                  <a:srgbClr val="464653"/>
                </a:solidFill>
                <a:latin typeface="Bookman Old Style"/>
              </a:rPr>
              <a:t>. </a:t>
            </a:r>
            <a:r>
              <a:rPr b="0" lang="ru-RU" sz="1600" spc="-1" strike="noStrike">
                <a:solidFill>
                  <a:srgbClr val="464653"/>
                </a:solidFill>
                <a:latin typeface="Cambria"/>
              </a:rPr>
              <a:t>Екатеринбурга</a:t>
            </a:r>
            <a:r>
              <a:rPr b="0" lang="en-US" sz="1600" spc="-1" strike="noStrike">
                <a:solidFill>
                  <a:srgbClr val="464653"/>
                </a:solidFill>
                <a:latin typeface="Bookman Old Style"/>
              </a:rPr>
              <a:t>,</a:t>
            </a:r>
            <a:r>
              <a:rPr b="0" lang="ru-RU" sz="1600" spc="-1" strike="noStrike">
                <a:solidFill>
                  <a:srgbClr val="464653"/>
                </a:solidFill>
                <a:latin typeface="Cambria"/>
              </a:rPr>
              <a:t> Сидельникова Н</a:t>
            </a:r>
            <a:r>
              <a:rPr b="0" lang="en-US" sz="1600" spc="-1" strike="noStrike">
                <a:solidFill>
                  <a:srgbClr val="464653"/>
                </a:solidFill>
                <a:latin typeface="Bookman Old Style"/>
              </a:rPr>
              <a:t>. C</a:t>
            </a:r>
            <a:r>
              <a:rPr b="0" lang="en-US" sz="1900" spc="-1" strike="noStrike">
                <a:solidFill>
                  <a:srgbClr val="464653"/>
                </a:solidFill>
                <a:latin typeface="Bookman Old Styl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000240" y="142920"/>
            <a:ext cx="2643480" cy="355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06200"/>
          </a:xfrm>
          <a:prstGeom prst="rect">
            <a:avLst/>
          </a:prstGeom>
          <a:ln w="0">
            <a:noFill/>
          </a:ln>
        </p:spPr>
      </p:pic>
      <p:pic>
        <p:nvPicPr>
          <p:cNvPr id="356" name="Содержимое 2" descr=""/>
          <p:cNvPicPr/>
          <p:nvPr/>
        </p:nvPicPr>
        <p:blipFill>
          <a:blip r:embed="rId2"/>
          <a:stretch/>
        </p:blipFill>
        <p:spPr>
          <a:xfrm>
            <a:off x="390600" y="1152360"/>
            <a:ext cx="830268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062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владение системой знаний о глобальных проблемах современности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глобального мышления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к общечеловеческим проблемам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у учащихся умения самостоятельно «добывать» знания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ильное понимание места и роли России в мире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311040" y="79200"/>
            <a:ext cx="8382240" cy="1073160"/>
          </a:xfrm>
          <a:prstGeom prst="rect">
            <a:avLst/>
          </a:prstGeom>
          <a:ln w="0">
            <a:noFill/>
          </a:ln>
        </p:spPr>
      </p:pic>
      <p:pic>
        <p:nvPicPr>
          <p:cNvPr id="360" name="Содержимое 2" descr=""/>
          <p:cNvPicPr/>
          <p:nvPr/>
        </p:nvPicPr>
        <p:blipFill>
          <a:blip r:embed="rId2"/>
          <a:stretch/>
        </p:blipFill>
        <p:spPr>
          <a:xfrm>
            <a:off x="396720" y="1212840"/>
            <a:ext cx="82965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311040" y="79200"/>
            <a:ext cx="8382240" cy="10731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сновные черты ХХ век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ир как бы «сузился»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ложились устойчивые экономические связи между странами мира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- международное « поле»               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-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ранснациональное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поле»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3.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Формирование разветвленной системы коммуникаций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 сферы информационной техники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97800" cy="1006200"/>
          </a:xfrm>
          <a:prstGeom prst="rect">
            <a:avLst/>
          </a:prstGeom>
          <a:ln w="0">
            <a:noFill/>
          </a:ln>
        </p:spPr>
      </p:pic>
      <p:pic>
        <p:nvPicPr>
          <p:cNvPr id="364" name="Содержимое 2" descr=""/>
          <p:cNvPicPr/>
          <p:nvPr/>
        </p:nvPicPr>
        <p:blipFill>
          <a:blip r:embed="rId2"/>
          <a:stretch/>
        </p:blipFill>
        <p:spPr>
          <a:xfrm>
            <a:off x="219240" y="1073160"/>
            <a:ext cx="847404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311040" y="79200"/>
            <a:ext cx="8382240" cy="10731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ъект исследова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– всю геосферу или географическую оболочку Земли: т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литосферу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гидросферу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тмосферу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биосферу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социосферу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06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анетарный подх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еждисциплинарный подх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еографический взгля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одинаковое проявление глобальных проблем в разных точках Зем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062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раница 3 – 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0:31:25Z</dcterms:created>
  <dc:creator>I</dc:creator>
  <dc:description/>
  <dc:language>en-US</dc:language>
  <cp:lastModifiedBy>I</cp:lastModifiedBy>
  <dcterms:modified xsi:type="dcterms:W3CDTF">2012-10-02T13:24:52Z</dcterms:modified>
  <cp:revision>11</cp:revision>
  <dc:subject/>
  <dc:title>Глобальная география: введение</dc:title>
</cp:coreProperties>
</file>