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F3A-7673-484F-B9C5-E2418EA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59A-52EA-4649-B99F-6F751C40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837-2121-4544-854B-C2FAA2A1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839-14DA-4D41-AB06-388D5161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B587-F810-45A2-B315-BF3252F0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D145-74F6-433F-922A-CEF85941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8386-B92D-4170-B838-92FFC73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999-E02F-426A-918F-D12BFBF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43A9-A299-4B37-BF39-396265E6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CF37-66F6-48D7-85BD-3F10194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FEBD-46E1-4ACD-8510-D02FD4D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AC1-AB80-4DBE-96F3-2AF0388D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937C-B6D9-4DD2-896B-B35FBEC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828-93B1-4593-842E-EE40A40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340-B4E4-4152-A46E-92D88D0C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C78B-BA82-4A84-959F-7A8C7D70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A8A-826A-4B8C-ACF5-2CFC8EB0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A49-A23B-4F8B-8310-36E5D9D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107-FF23-4189-8B7F-829411F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BE6-3883-4F6E-8AF1-BF5DA19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FE1-E8BC-4DC8-8D84-28F13C8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9BC-F80E-42BB-A6C0-74108F9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657-E293-4A3A-80C2-DF9153A6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97D-198A-405B-99A1-368C5DF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85C8-CB84-404C-8149-CDCCB02AE415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1F2-C493-4123-94D3-2D8A093ACE96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Arial Black"/>
              </a:rPr>
              <a:t>Адаптация первоклассников на первом этапе обучения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Адаптация - естественное состояние человека, которое проявляется в приспособлении (привыкании) к новым условиям жизни, новой деятельности, новым социальным контактам, новым социальным ролям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Адаптация детей к школе проходит по-разному и может длиться от одного месяца до одного года в зависимости от уровня готовности к школе, здоровья и психологических особенностей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Основная задача родителей и учителей на первом  этапе адаптации — сохранить у ребенка положительное отношение к жизни, в том числе к школьной жизни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6" name="Picture 4" descr="children_0033"/>
          <p:cNvPicPr/>
          <p:nvPr/>
        </p:nvPicPr>
        <p:blipFill>
          <a:blip r:embed="rId1"/>
          <a:stretch/>
        </p:blipFill>
        <p:spPr>
          <a:xfrm>
            <a:off x="6300720" y="4203720"/>
            <a:ext cx="218304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1.  Не ругайте. Чаще хвалите, особенно, когда ребенок что-нибудь делает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8" name="Picture 9" descr="children_0126"/>
          <p:cNvPicPr/>
          <p:nvPr/>
        </p:nvPicPr>
        <p:blipFill>
          <a:blip r:embed="rId1"/>
          <a:stretch/>
        </p:blipFill>
        <p:spPr>
          <a:xfrm>
            <a:off x="1476360" y="3429000"/>
            <a:ext cx="21272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1988640"/>
            <a:ext cx="79246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2. Не сравнивайте с другими детьми. Но постоянно обращайте внимание на улучшение собственных результатов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0" name="Picture 5" descr="children_0061"/>
          <p:cNvPicPr/>
          <p:nvPr/>
        </p:nvPicPr>
        <p:blipFill>
          <a:blip r:embed="rId1"/>
          <a:stretch/>
        </p:blipFill>
        <p:spPr>
          <a:xfrm>
            <a:off x="5292720" y="4076640"/>
            <a:ext cx="2664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3. Постоянно напоминайте ребенку, что его любят не за хорошую учебу, а за то, что он наш и вопреки всему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2" name="Picture 4" descr="children_0078"/>
          <p:cNvPicPr/>
          <p:nvPr/>
        </p:nvPicPr>
        <p:blipFill>
          <a:blip r:embed="rId1"/>
          <a:stretch/>
        </p:blipFill>
        <p:spPr>
          <a:xfrm>
            <a:off x="3438360" y="3789360"/>
            <a:ext cx="20750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557360"/>
            <a:ext cx="77835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4. Соблюдайте режим дня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Примерный режим дня для младшего школьника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3716280"/>
          <a:ext cx="9144000" cy="3292560"/>
        </p:xfrm>
        <a:graphic>
          <a:graphicData uri="http://schemas.openxmlformats.org/drawingml/2006/table">
            <a:tbl>
              <a:tblPr/>
              <a:tblGrid>
                <a:gridCol w="4122720"/>
                <a:gridCol w="5021280"/>
              </a:tblGrid>
              <a:tr h="36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00              пробуждени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00 – 7.30 утренняя      гимнастика, 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30 – 7.50     умывание, завтрак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50 – 8.30     дорога в школу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8.30 – 12.30   занятия в школ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2.30 – 13.00  дорога из школы 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3.00 – 13.30   обед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3.30 – 14.20     дневной сон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4.30 – 16.00     пребывание на воздух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6.00 – 17.00     приготовление уроков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7.30 – 19.00     пребывание на воздухе, занятия в кружках 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9.00 – 20.00   ужин, свободные занятия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20.30 – 7.00       сон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50" descr="children_0043"/>
          <p:cNvPicPr/>
          <p:nvPr/>
        </p:nvPicPr>
        <p:blipFill>
          <a:blip r:embed="rId1"/>
          <a:stretch/>
        </p:blipFill>
        <p:spPr>
          <a:xfrm>
            <a:off x="6948360" y="1171440"/>
            <a:ext cx="2087640" cy="16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48392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Ухудшение общего состояния у ребенка, снижение работоспособности, трудности с концентрацией внимания, резкие перепады настроения могут говорить о возникающей сильной перегрузке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5:21:40Z</dcterms:created>
  <dc:creator>.</dc:creator>
  <dc:description/>
  <dc:language>en-US</dc:language>
  <cp:lastModifiedBy>Любовь</cp:lastModifiedBy>
  <dcterms:modified xsi:type="dcterms:W3CDTF">2012-10-23T16:25:24Z</dcterms:modified>
  <cp:revision>9</cp:revision>
  <dc:subject/>
  <dc:title>Адаптация первоклассников на первом этапе обучения</dc:title>
</cp:coreProperties>
</file>