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8C68-F4DA-4161-9004-7B3EB48CE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05C0-4A60-4F10-801F-35AAC557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F738-8ADF-4E6C-ACF3-4728522E2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264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2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264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2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0D2A-3B38-406D-A6D4-BB84D84C2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3B208-1AC9-4711-B9B2-D2F33550B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D69E-63AD-4315-BFB7-C85F74C7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887F-9049-421C-903A-6C6660B3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227B5-941C-436B-83A3-D12E1B45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201B-BD9E-40B1-B35D-F0C7B5DC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867960"/>
            <a:ext cx="79246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C51C-8140-4B40-9FBF-962D7F02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CFA72-6F71-472C-B0CA-9C41F252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1D81-F6DB-4472-87AB-DE70FF06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88067-19F9-478C-BC14-AA8F2372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4EEE-8F72-427B-97EB-FDA69442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F70F-A8BF-4E21-AEC7-E365292F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3086D-0C77-45BE-B350-CC8B47C76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264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92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264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92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7362-5EB9-42AD-B4D7-0C80B4596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C6C5-7E2F-4B01-BA53-62C83D6E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941C-3FCD-43C2-9CF4-6AE97439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D1FC-CCA6-434E-929F-F33814C0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867960"/>
            <a:ext cx="79246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6F4B-6D89-4CD1-8442-49B345AF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D604-6F23-4F33-82F2-20EB6464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B851-3068-4BE6-AC55-27B94BD0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42C6-6746-4C1C-8643-D406B139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9c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A01E9-BB54-4105-AE42-AD1A566AE240}" type="slidenum">
              <a:rPr b="0" lang="ru-RU" sz="1000" spc="-1" strike="noStrike">
                <a:solidFill>
                  <a:srgbClr val="fff9c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5D39-8BFB-4EAA-96C0-30B3460C9B9D}" type="slidenum">
              <a:rPr b="0" lang="ru-RU" sz="1000" spc="-1" strike="noStrike">
                <a:solidFill>
                  <a:srgbClr val="cc9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3933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cc"/>
                </a:solidFill>
                <a:latin typeface="Arial Black"/>
              </a:rPr>
              <a:t>Адаптация первоклассников на первом этапе обучения</a:t>
            </a:r>
            <a:br>
              <a:rPr sz="4400"/>
            </a:br>
            <a:endParaRPr b="0" lang="en-US" sz="4400" spc="-1" strike="noStrike">
              <a:solidFill>
                <a:srgbClr val="9966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39640" y="2060280"/>
            <a:ext cx="822960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Адаптация - естественное состояние человека, которое проявляется в приспособлении (привыкании) к новым условиям жизни, новой деятельности, новым социальным контактам, новым социальным ролям.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Адаптация детей к школе проходит по-разному и может длиться от одного месяца до одного года в зависимости от уровня готовности к школе, здоровья и психологических особенностей.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Основная задача родителей и учителей на первом  этапе адаптации — сохранить у ребенка положительное отношение к жизни, в том числе к школьной жизни!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pic>
        <p:nvPicPr>
          <p:cNvPr id="86" name="Picture 4" descr="children_0033"/>
          <p:cNvPicPr/>
          <p:nvPr/>
        </p:nvPicPr>
        <p:blipFill>
          <a:blip r:embed="rId1"/>
          <a:stretch/>
        </p:blipFill>
        <p:spPr>
          <a:xfrm>
            <a:off x="6300720" y="4203720"/>
            <a:ext cx="2183040" cy="265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33160" y="1915920"/>
            <a:ext cx="79246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1.  Не ругайте. Чаще хвалите, особенно, когда ребенок что-нибудь делает.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pic>
        <p:nvPicPr>
          <p:cNvPr id="88" name="Picture 9" descr="children_0126"/>
          <p:cNvPicPr/>
          <p:nvPr/>
        </p:nvPicPr>
        <p:blipFill>
          <a:blip r:embed="rId1"/>
          <a:stretch/>
        </p:blipFill>
        <p:spPr>
          <a:xfrm>
            <a:off x="1476360" y="3429000"/>
            <a:ext cx="2127240" cy="29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3160" y="1988640"/>
            <a:ext cx="792468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2. Не сравнивайте с другими детьми. Но постоянно обращайте внимание на улучшение собственных результатов.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pic>
        <p:nvPicPr>
          <p:cNvPr id="90" name="Picture 5" descr="children_0061"/>
          <p:cNvPicPr/>
          <p:nvPr/>
        </p:nvPicPr>
        <p:blipFill>
          <a:blip r:embed="rId1"/>
          <a:stretch/>
        </p:blipFill>
        <p:spPr>
          <a:xfrm>
            <a:off x="5292720" y="4076640"/>
            <a:ext cx="266400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3160" y="1915920"/>
            <a:ext cx="79246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3. Постоянно напоминайте ребенку, что его любят не за хорошую учебу, а за то, что он наш и вопреки всему.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pic>
        <p:nvPicPr>
          <p:cNvPr id="92" name="Picture 4" descr="children_0078"/>
          <p:cNvPicPr/>
          <p:nvPr/>
        </p:nvPicPr>
        <p:blipFill>
          <a:blip r:embed="rId1"/>
          <a:stretch/>
        </p:blipFill>
        <p:spPr>
          <a:xfrm>
            <a:off x="3438360" y="3789360"/>
            <a:ext cx="207504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3160" y="1557360"/>
            <a:ext cx="778356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00"/>
                </a:solidFill>
                <a:latin typeface="Arial"/>
              </a:rPr>
              <a:t>4. Соблюдайте режим дня.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00"/>
                </a:solidFill>
                <a:latin typeface="Arial"/>
              </a:rPr>
              <a:t>Примерный режим дня для младшего школьника: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3716280"/>
          <a:ext cx="9144000" cy="3292560"/>
        </p:xfrm>
        <a:graphic>
          <a:graphicData uri="http://schemas.openxmlformats.org/drawingml/2006/table">
            <a:tbl>
              <a:tblPr/>
              <a:tblGrid>
                <a:gridCol w="4122720"/>
                <a:gridCol w="5021280"/>
              </a:tblGrid>
              <a:tr h="3614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cc9900"/>
                          </a:solidFill>
                          <a:latin typeface="Arial"/>
                          <a:ea typeface="Times New Roman"/>
                        </a:rPr>
                        <a:t>7.00              пробуждение</a:t>
                      </a:r>
                      <a:endParaRPr b="0" lang="en-US" sz="2100" spc="-1" strike="noStrike">
                        <a:solidFill>
                          <a:srgbClr val="cc99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cc9900"/>
                          </a:solidFill>
                          <a:latin typeface="Arial"/>
                          <a:ea typeface="Times New Roman"/>
                        </a:rPr>
                        <a:t>7.00 – 7.30 утренняя      гимнастика, </a:t>
                      </a:r>
                      <a:endParaRPr b="0" lang="en-US" sz="2100" spc="-1" strike="noStrike">
                        <a:solidFill>
                          <a:srgbClr val="cc99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cc9900"/>
                          </a:solidFill>
                          <a:latin typeface="Arial"/>
                          <a:ea typeface="Times New Roman"/>
                        </a:rPr>
                        <a:t>7.30 – 7.50     умывание, завтрак</a:t>
                      </a:r>
                      <a:endParaRPr b="0" lang="en-US" sz="2100" spc="-1" strike="noStrike">
                        <a:solidFill>
                          <a:srgbClr val="cc99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cc9900"/>
                          </a:solidFill>
                          <a:latin typeface="Arial"/>
                          <a:ea typeface="Times New Roman"/>
                        </a:rPr>
                        <a:t>7.50 – 8.30     дорога в школу</a:t>
                      </a:r>
                      <a:endParaRPr b="0" lang="en-US" sz="2100" spc="-1" strike="noStrike">
                        <a:solidFill>
                          <a:srgbClr val="cc99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cc9900"/>
                          </a:solidFill>
                          <a:latin typeface="Arial"/>
                          <a:ea typeface="Times New Roman"/>
                        </a:rPr>
                        <a:t>8.30 – 12.30   занятия в школе</a:t>
                      </a:r>
                      <a:endParaRPr b="0" lang="en-US" sz="2100" spc="-1" strike="noStrike">
                        <a:solidFill>
                          <a:srgbClr val="cc99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cc9900"/>
                          </a:solidFill>
                          <a:latin typeface="Arial"/>
                          <a:ea typeface="Times New Roman"/>
                        </a:rPr>
                        <a:t>12.30 – 13.00  дорога из школы </a:t>
                      </a:r>
                      <a:endParaRPr b="0" lang="en-US" sz="2100" spc="-1" strike="noStrike">
                        <a:solidFill>
                          <a:srgbClr val="cc99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cc9900"/>
                          </a:solidFill>
                          <a:latin typeface="Arial"/>
                          <a:ea typeface="Times New Roman"/>
                        </a:rPr>
                        <a:t>13.00 – 13.30   обед</a:t>
                      </a:r>
                      <a:endParaRPr b="0" lang="en-US" sz="2100" spc="-1" strike="noStrike">
                        <a:solidFill>
                          <a:srgbClr val="cc99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cc9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cc9900"/>
                          </a:solidFill>
                          <a:latin typeface="Arial"/>
                          <a:ea typeface="Times New Roman"/>
                        </a:rPr>
                        <a:t>13.30 – 14.20     дневной сон</a:t>
                      </a:r>
                      <a:endParaRPr b="0" lang="en-US" sz="2100" spc="-1" strike="noStrike">
                        <a:solidFill>
                          <a:srgbClr val="cc99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cc9900"/>
                          </a:solidFill>
                          <a:latin typeface="Arial"/>
                          <a:ea typeface="Times New Roman"/>
                        </a:rPr>
                        <a:t>14.30 – 16.00     пребывание на воздухе</a:t>
                      </a:r>
                      <a:endParaRPr b="0" lang="en-US" sz="2100" spc="-1" strike="noStrike">
                        <a:solidFill>
                          <a:srgbClr val="cc99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cc9900"/>
                          </a:solidFill>
                          <a:latin typeface="Arial"/>
                          <a:ea typeface="Times New Roman"/>
                        </a:rPr>
                        <a:t>16.00 – 17.00     приготовление уроков</a:t>
                      </a:r>
                      <a:endParaRPr b="0" lang="en-US" sz="2100" spc="-1" strike="noStrike">
                        <a:solidFill>
                          <a:srgbClr val="cc99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cc9900"/>
                          </a:solidFill>
                          <a:latin typeface="Arial"/>
                          <a:ea typeface="Times New Roman"/>
                        </a:rPr>
                        <a:t>17.30 – 19.00     пребывание на воздухе, занятия в кружках </a:t>
                      </a:r>
                      <a:endParaRPr b="0" lang="en-US" sz="2100" spc="-1" strike="noStrike">
                        <a:solidFill>
                          <a:srgbClr val="cc99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cc9900"/>
                          </a:solidFill>
                          <a:latin typeface="Arial"/>
                          <a:ea typeface="Times New Roman"/>
                        </a:rPr>
                        <a:t>19.00 – 20.00   ужин, свободные занятия</a:t>
                      </a:r>
                      <a:endParaRPr b="0" lang="en-US" sz="2100" spc="-1" strike="noStrike">
                        <a:solidFill>
                          <a:srgbClr val="cc99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cc9900"/>
                          </a:solidFill>
                          <a:latin typeface="Arial"/>
                          <a:ea typeface="Times New Roman"/>
                        </a:rPr>
                        <a:t>20.30 – 7.00       сон</a:t>
                      </a:r>
                      <a:endParaRPr b="0" lang="en-US" sz="2100" spc="-1" strike="noStrike">
                        <a:solidFill>
                          <a:srgbClr val="cc9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5" name="Picture 50" descr="children_0043"/>
          <p:cNvPicPr/>
          <p:nvPr/>
        </p:nvPicPr>
        <p:blipFill>
          <a:blip r:embed="rId1"/>
          <a:stretch/>
        </p:blipFill>
        <p:spPr>
          <a:xfrm>
            <a:off x="6948360" y="1171440"/>
            <a:ext cx="2087640" cy="164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33160" y="1483920"/>
            <a:ext cx="79246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Ухудшение общего состояния у ребенка, снижение работоспособности, трудности с концентрацией внимания, резкие перепады настроения могут говорить о возникающей сильной перегрузке. 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9900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7T05:21:40Z</dcterms:created>
  <dc:creator>.</dc:creator>
  <dc:description/>
  <dc:language>en-US</dc:language>
  <cp:lastModifiedBy>Любовь</cp:lastModifiedBy>
  <dcterms:modified xsi:type="dcterms:W3CDTF">2012-10-23T16:25:24Z</dcterms:modified>
  <cp:revision>9</cp:revision>
  <dc:subject/>
  <dc:title>Адаптация первоклассников на первом этапе обучения</dc:title>
</cp:coreProperties>
</file>