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FB3-22F7-41CD-A527-E5F43D09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FA4-BE8D-49E8-8085-73DE5467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E15-DD49-4C24-972A-050EC35F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B0D-C2E9-4244-B0EB-EBD246DB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AB67-5AD2-40CC-AC4B-9A394A0F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DA21-6500-4C82-B5A9-0AB689F3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BE39-BB4A-4284-AC13-9A2F5454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340-E3AE-4A74-95B1-12F8E7DD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F1D9-7834-42ED-B6F6-A5B3EA8E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4000-8400-432C-BC54-C2D7951F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E14C-1338-4D57-B75A-CEEBDFAF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ABC-5781-4E7B-9ADF-AEB6BD44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A0DA-A8D9-426F-854D-4B360E4F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A1FC-6145-4C4D-A8C0-483C007F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9A29-C075-4E26-84C5-8FCD90E5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36D9-A6EE-4896-A039-552D56CF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DE22-673F-4372-A3BE-65168A52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0FF-D581-4D21-804C-C2D2B774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213-247A-4E5D-B279-C043845F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2F3-C80C-4571-8CE4-1F3239A3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7D2-68FB-4D0A-BC9C-C88CBB34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A15-B6E6-4D94-82D9-BB231A4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C41-CFB7-429F-A6CC-4CAF13FB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9AD-3A17-42C6-9993-327988F3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00E3-7114-4068-AF78-C25468B2BC14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C53F-5CA4-49E9-812F-3D5C0A0038DF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ифференцированный подход в обучении младших школьников, страдающих ДЦП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Учитель: Хромова Л.В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-1405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Диктант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838080" y="1219320"/>
            <a:ext cx="6586560" cy="1461960"/>
            <a:chOff x="838080" y="1219320"/>
            <a:chExt cx="6586560" cy="1461960"/>
          </a:xfrm>
        </p:grpSpPr>
        <p:grpSp>
          <p:nvGrpSpPr>
            <p:cNvPr id="330" name=""/>
            <p:cNvGrpSpPr/>
            <p:nvPr/>
          </p:nvGrpSpPr>
          <p:grpSpPr>
            <a:xfrm>
              <a:off x="838080" y="1219320"/>
              <a:ext cx="2197080" cy="639720"/>
              <a:chOff x="838080" y="1219320"/>
              <a:chExt cx="2197080" cy="63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838080" y="1219320"/>
                <a:ext cx="219708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838080" y="1219320"/>
                <a:ext cx="2197080" cy="639720"/>
                <a:chOff x="838080" y="1219320"/>
                <a:chExt cx="2197080" cy="6397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863640" y="1219320"/>
                  <a:ext cx="21463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00"/>
                      </a:solidFill>
                      <a:latin typeface="Times New Roman"/>
                      <a:ea typeface="Times New Roman"/>
                    </a:rPr>
                    <a:t>1-ый уровен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38080" y="1219320"/>
                  <a:ext cx="219708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3035160" y="1219320"/>
              <a:ext cx="2181240" cy="639720"/>
              <a:chOff x="3035160" y="1219320"/>
              <a:chExt cx="2181240" cy="63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035160" y="1219320"/>
                <a:ext cx="218124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3035160" y="1219320"/>
                <a:ext cx="2181240" cy="639720"/>
                <a:chOff x="3035160" y="1219320"/>
                <a:chExt cx="2181240" cy="63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060720" y="1219320"/>
                  <a:ext cx="2130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035160" y="1219320"/>
                  <a:ext cx="218124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216400" y="1219320"/>
              <a:ext cx="2208240" cy="639720"/>
              <a:chOff x="5216400" y="1219320"/>
              <a:chExt cx="2208240" cy="639720"/>
            </a:xfrm>
          </p:grpSpPr>
          <p:sp>
            <p:nvSpPr>
              <p:cNvPr id="341" name=""/>
              <p:cNvSpPr/>
              <p:nvPr/>
            </p:nvSpPr>
            <p:spPr>
              <a:xfrm>
                <a:off x="5216400" y="1219320"/>
                <a:ext cx="220824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5216400" y="1219320"/>
                <a:ext cx="2208240" cy="639720"/>
                <a:chOff x="5216400" y="1219320"/>
                <a:chExt cx="2208240" cy="6397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241960" y="1219320"/>
                  <a:ext cx="2157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-ий уровен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216400" y="1219320"/>
                  <a:ext cx="220824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838080" y="1859040"/>
              <a:ext cx="2197080" cy="822240"/>
              <a:chOff x="838080" y="1859040"/>
              <a:chExt cx="2197080" cy="822240"/>
            </a:xfrm>
          </p:grpSpPr>
          <p:sp>
            <p:nvSpPr>
              <p:cNvPr id="346" name=""/>
              <p:cNvSpPr/>
              <p:nvPr/>
            </p:nvSpPr>
            <p:spPr>
              <a:xfrm>
                <a:off x="838080" y="1859040"/>
                <a:ext cx="2197080" cy="822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838080" y="1859040"/>
                <a:ext cx="2197080" cy="822240"/>
                <a:chOff x="838080" y="1859040"/>
                <a:chExt cx="2197080" cy="8222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863640" y="1859040"/>
                  <a:ext cx="2146320" cy="82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ишут диктант самостоятельно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38080" y="1859040"/>
                  <a:ext cx="2197080" cy="82224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3035160" y="1859040"/>
              <a:ext cx="2181240" cy="822240"/>
              <a:chOff x="3035160" y="1859040"/>
              <a:chExt cx="2181240" cy="822240"/>
            </a:xfrm>
          </p:grpSpPr>
          <p:sp>
            <p:nvSpPr>
              <p:cNvPr id="351" name=""/>
              <p:cNvSpPr/>
              <p:nvPr/>
            </p:nvSpPr>
            <p:spPr>
              <a:xfrm>
                <a:off x="3035160" y="1859040"/>
                <a:ext cx="2181240" cy="822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3035160" y="1859040"/>
                <a:ext cx="2181240" cy="822240"/>
                <a:chOff x="3035160" y="1859040"/>
                <a:chExt cx="2181240" cy="8222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060720" y="1859040"/>
                  <a:ext cx="2130120" cy="82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035160" y="1859040"/>
                  <a:ext cx="2181240" cy="82224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"/>
            <p:cNvGrpSpPr/>
            <p:nvPr/>
          </p:nvGrpSpPr>
          <p:grpSpPr>
            <a:xfrm>
              <a:off x="5216400" y="1859040"/>
              <a:ext cx="2208240" cy="822240"/>
              <a:chOff x="5216400" y="1859040"/>
              <a:chExt cx="2208240" cy="822240"/>
            </a:xfrm>
          </p:grpSpPr>
          <p:sp>
            <p:nvSpPr>
              <p:cNvPr id="356" name=""/>
              <p:cNvSpPr/>
              <p:nvPr/>
            </p:nvSpPr>
            <p:spPr>
              <a:xfrm>
                <a:off x="5216400" y="1859040"/>
                <a:ext cx="2208240" cy="822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5216400" y="1859040"/>
                <a:ext cx="2208240" cy="822240"/>
                <a:chOff x="5216400" y="1859040"/>
                <a:chExt cx="2208240" cy="822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241960" y="1859040"/>
                  <a:ext cx="2157120" cy="82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216400" y="1859040"/>
                  <a:ext cx="2208240" cy="82224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0" name=""/>
          <p:cNvSpPr/>
          <p:nvPr/>
        </p:nvSpPr>
        <p:spPr>
          <a:xfrm>
            <a:off x="2971800" y="1828800"/>
            <a:ext cx="5029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Накануне проводится пропедевтическая работа. Дети читают текст диктанта, находят знакомые орфограммы. Объясняют их и выписывают, подбирают проверочные слова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38080" y="2514600"/>
            <a:ext cx="6593040" cy="2557440"/>
            <a:chOff x="838080" y="2514600"/>
            <a:chExt cx="6593040" cy="2557440"/>
          </a:xfrm>
        </p:grpSpPr>
        <p:grpSp>
          <p:nvGrpSpPr>
            <p:cNvPr id="362" name=""/>
            <p:cNvGrpSpPr/>
            <p:nvPr/>
          </p:nvGrpSpPr>
          <p:grpSpPr>
            <a:xfrm>
              <a:off x="838080" y="2514600"/>
              <a:ext cx="2193840" cy="639720"/>
              <a:chOff x="838080" y="2514600"/>
              <a:chExt cx="2193840" cy="639720"/>
            </a:xfrm>
          </p:grpSpPr>
          <p:sp>
            <p:nvSpPr>
              <p:cNvPr id="363" name=""/>
              <p:cNvSpPr/>
              <p:nvPr/>
            </p:nvSpPr>
            <p:spPr>
              <a:xfrm>
                <a:off x="838080" y="2514600"/>
                <a:ext cx="219384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838080" y="2514600"/>
                <a:ext cx="2193840" cy="639720"/>
                <a:chOff x="838080" y="2514600"/>
                <a:chExt cx="2193840" cy="63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863640" y="2514600"/>
                  <a:ext cx="214308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38080" y="2514600"/>
                  <a:ext cx="219384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3031920" y="2514600"/>
              <a:ext cx="2187720" cy="639720"/>
              <a:chOff x="3031920" y="2514600"/>
              <a:chExt cx="2187720" cy="639720"/>
            </a:xfrm>
          </p:grpSpPr>
          <p:sp>
            <p:nvSpPr>
              <p:cNvPr id="368" name=""/>
              <p:cNvSpPr/>
              <p:nvPr/>
            </p:nvSpPr>
            <p:spPr>
              <a:xfrm>
                <a:off x="3031920" y="2514600"/>
                <a:ext cx="218772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3031920" y="2514600"/>
                <a:ext cx="2187720" cy="639720"/>
                <a:chOff x="3031920" y="2514600"/>
                <a:chExt cx="2187720" cy="6397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057480" y="2514600"/>
                  <a:ext cx="213660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031920" y="2514600"/>
                  <a:ext cx="218772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219640" y="2514600"/>
              <a:ext cx="2211480" cy="639720"/>
              <a:chOff x="5219640" y="2514600"/>
              <a:chExt cx="2211480" cy="639720"/>
            </a:xfrm>
          </p:grpSpPr>
          <p:sp>
            <p:nvSpPr>
              <p:cNvPr id="373" name=""/>
              <p:cNvSpPr/>
              <p:nvPr/>
            </p:nvSpPr>
            <p:spPr>
              <a:xfrm>
                <a:off x="5219640" y="2514600"/>
                <a:ext cx="221148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5219640" y="2514600"/>
                <a:ext cx="2211480" cy="639720"/>
                <a:chOff x="5219640" y="2514600"/>
                <a:chExt cx="2211480" cy="6397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244840" y="2514600"/>
                  <a:ext cx="21607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219640" y="2514600"/>
                  <a:ext cx="221148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838080" y="3154320"/>
              <a:ext cx="2193840" cy="1917720"/>
              <a:chOff x="838080" y="3154320"/>
              <a:chExt cx="2193840" cy="1917720"/>
            </a:xfrm>
          </p:grpSpPr>
          <p:sp>
            <p:nvSpPr>
              <p:cNvPr id="378" name=""/>
              <p:cNvSpPr/>
              <p:nvPr/>
            </p:nvSpPr>
            <p:spPr>
              <a:xfrm>
                <a:off x="838080" y="3154320"/>
                <a:ext cx="2193840" cy="191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838080" y="3154320"/>
                <a:ext cx="2193840" cy="1917720"/>
                <a:chOff x="838080" y="3154320"/>
                <a:chExt cx="2193840" cy="1917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63640" y="3154320"/>
                  <a:ext cx="2143080" cy="191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38080" y="3154320"/>
                  <a:ext cx="2193840" cy="1917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3031920" y="3154320"/>
              <a:ext cx="2187720" cy="1917720"/>
              <a:chOff x="3031920" y="3154320"/>
              <a:chExt cx="2187720" cy="1917720"/>
            </a:xfrm>
          </p:grpSpPr>
          <p:sp>
            <p:nvSpPr>
              <p:cNvPr id="383" name=""/>
              <p:cNvSpPr/>
              <p:nvPr/>
            </p:nvSpPr>
            <p:spPr>
              <a:xfrm>
                <a:off x="3031920" y="3154320"/>
                <a:ext cx="2187720" cy="191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3031920" y="3154320"/>
                <a:ext cx="2187720" cy="1917720"/>
                <a:chOff x="3031920" y="3154320"/>
                <a:chExt cx="2187720" cy="19177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057480" y="3154320"/>
                  <a:ext cx="2136600" cy="191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ишут с опорой на запись в тетради, сделанную накануне. (Орфографическая работа)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31920" y="3154320"/>
                  <a:ext cx="2187720" cy="1917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5219640" y="3154320"/>
              <a:ext cx="2211480" cy="1917720"/>
              <a:chOff x="5219640" y="3154320"/>
              <a:chExt cx="2211480" cy="1917720"/>
            </a:xfrm>
          </p:grpSpPr>
          <p:sp>
            <p:nvSpPr>
              <p:cNvPr id="388" name=""/>
              <p:cNvSpPr/>
              <p:nvPr/>
            </p:nvSpPr>
            <p:spPr>
              <a:xfrm>
                <a:off x="5219640" y="3154320"/>
                <a:ext cx="2211480" cy="191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5219640" y="3154320"/>
                <a:ext cx="2211480" cy="1917720"/>
                <a:chOff x="5219640" y="3154320"/>
                <a:chExt cx="2211480" cy="19177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44840" y="3154320"/>
                  <a:ext cx="2160720" cy="191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Работают       на       карточке: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вставляют  в  текст диктанта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ропущенные орфограммы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Используют зрительную опору</a:t>
                  </a:r>
                  <a:r>
                    <a:rPr b="0" lang="ru-RU" sz="10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пись</a:t>
                  </a:r>
                  <a:r>
                    <a:rPr b="0" lang="ru-RU" sz="12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в тетради,   сделаннук</a:t>
                  </a:r>
                  <a:r>
                    <a:rPr b="0" lang="ru-RU" sz="10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накануне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9640" y="3154320"/>
                  <a:ext cx="2211480" cy="1917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2" name=""/>
          <p:cNvSpPr/>
          <p:nvPr/>
        </p:nvSpPr>
        <p:spPr>
          <a:xfrm>
            <a:off x="0" y="7655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3760" y="12952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ff6600"/>
                </a:solidFill>
                <a:latin typeface="Times New Roman"/>
              </a:rPr>
              <a:t>ой</a:t>
            </a:r>
            <a:r>
              <a:rPr b="0" lang="en-US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уровень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Диктант.</a:t>
            </a:r>
            <a:r>
              <a:rPr b="0" lang="en-US" sz="11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0880" y="38088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Задани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е к диктанту: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) разберите по членам предложения, начертите схему предложения</a:t>
            </a: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уравли летели над лесами, полями, шумными городами.»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) Во второй части текста определите падеж имён существительных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2743200"/>
            <a:ext cx="6857280" cy="3450240"/>
            <a:chOff x="914400" y="2743200"/>
            <a:chExt cx="6857280" cy="3450240"/>
          </a:xfrm>
        </p:grpSpPr>
        <p:grpSp>
          <p:nvGrpSpPr>
            <p:cNvPr id="397" name=""/>
            <p:cNvGrpSpPr/>
            <p:nvPr/>
          </p:nvGrpSpPr>
          <p:grpSpPr>
            <a:xfrm>
              <a:off x="914400" y="2743200"/>
              <a:ext cx="2285280" cy="848880"/>
              <a:chOff x="914400" y="2743200"/>
              <a:chExt cx="2285280" cy="848880"/>
            </a:xfrm>
          </p:grpSpPr>
          <p:sp>
            <p:nvSpPr>
              <p:cNvPr id="398" name=""/>
              <p:cNvSpPr/>
              <p:nvPr/>
            </p:nvSpPr>
            <p:spPr>
              <a:xfrm>
                <a:off x="914400" y="2743200"/>
                <a:ext cx="2285280" cy="84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914400" y="2743200"/>
                <a:ext cx="2284920" cy="848520"/>
                <a:chOff x="914400" y="2743200"/>
                <a:chExt cx="2284920" cy="848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940680" y="2743200"/>
                  <a:ext cx="2232360" cy="848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9900"/>
                      </a:solidFill>
                      <a:latin typeface="Times New Roman"/>
                      <a:ea typeface="Times New Roman"/>
                    </a:rPr>
                    <a:t>1-ый уровень</a:t>
                  </a:r>
                  <a:endParaRPr b="0" lang="en-US" sz="19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914400" y="2743200"/>
                  <a:ext cx="2284920" cy="84852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3200040" y="2743200"/>
              <a:ext cx="2275560" cy="848880"/>
              <a:chOff x="3200040" y="2743200"/>
              <a:chExt cx="2275560" cy="848880"/>
            </a:xfrm>
          </p:grpSpPr>
          <p:sp>
            <p:nvSpPr>
              <p:cNvPr id="403" name=""/>
              <p:cNvSpPr/>
              <p:nvPr/>
            </p:nvSpPr>
            <p:spPr>
              <a:xfrm>
                <a:off x="3200040" y="2743200"/>
                <a:ext cx="2275560" cy="84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200040" y="2743200"/>
                <a:ext cx="2275200" cy="848520"/>
                <a:chOff x="3200040" y="2743200"/>
                <a:chExt cx="2275200" cy="84852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3226320" y="2743200"/>
                  <a:ext cx="2222280" cy="848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6600"/>
                      </a:solidFill>
                      <a:latin typeface="Times New Roman"/>
                      <a:ea typeface="Times New Roman"/>
                    </a:rPr>
                    <a:t>2-ой уровень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200040" y="2743200"/>
                  <a:ext cx="2275200" cy="84852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5476320" y="2743200"/>
              <a:ext cx="2295360" cy="848880"/>
              <a:chOff x="5476320" y="2743200"/>
              <a:chExt cx="2295360" cy="848880"/>
            </a:xfrm>
          </p:grpSpPr>
          <p:sp>
            <p:nvSpPr>
              <p:cNvPr id="408" name=""/>
              <p:cNvSpPr/>
              <p:nvPr/>
            </p:nvSpPr>
            <p:spPr>
              <a:xfrm>
                <a:off x="5476320" y="2743200"/>
                <a:ext cx="2295360" cy="84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5476320" y="2743200"/>
                <a:ext cx="2295000" cy="848520"/>
                <a:chOff x="5476320" y="2743200"/>
                <a:chExt cx="2295000" cy="8485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502240" y="2743200"/>
                  <a:ext cx="2242800" cy="848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-ий уровень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476320" y="2743200"/>
                  <a:ext cx="2295000" cy="84852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914400" y="3592440"/>
              <a:ext cx="2285280" cy="2601000"/>
              <a:chOff x="914400" y="3592440"/>
              <a:chExt cx="2285280" cy="2601000"/>
            </a:xfrm>
          </p:grpSpPr>
          <p:sp>
            <p:nvSpPr>
              <p:cNvPr id="413" name=""/>
              <p:cNvSpPr/>
              <p:nvPr/>
            </p:nvSpPr>
            <p:spPr>
              <a:xfrm>
                <a:off x="914400" y="3592440"/>
                <a:ext cx="2285280" cy="260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914400" y="3592440"/>
                <a:ext cx="2284920" cy="2600640"/>
                <a:chOff x="914400" y="3592440"/>
                <a:chExt cx="2284920" cy="26006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940680" y="3592440"/>
                  <a:ext cx="2232360" cy="26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Работают самостоятельно. Задания выполняют в полном объёме.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14400" y="3592440"/>
                  <a:ext cx="2284920" cy="260064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7" name=""/>
            <p:cNvGrpSpPr/>
            <p:nvPr/>
          </p:nvGrpSpPr>
          <p:grpSpPr>
            <a:xfrm>
              <a:off x="3200040" y="3592440"/>
              <a:ext cx="2275560" cy="2601000"/>
              <a:chOff x="3200040" y="3592440"/>
              <a:chExt cx="2275560" cy="2601000"/>
            </a:xfrm>
          </p:grpSpPr>
          <p:sp>
            <p:nvSpPr>
              <p:cNvPr id="418" name=""/>
              <p:cNvSpPr/>
              <p:nvPr/>
            </p:nvSpPr>
            <p:spPr>
              <a:xfrm>
                <a:off x="3200040" y="3592440"/>
                <a:ext cx="2275560" cy="260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3200040" y="3592440"/>
                <a:ext cx="2275200" cy="2600640"/>
                <a:chOff x="3200040" y="3592440"/>
                <a:chExt cx="2275200" cy="26006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226320" y="3592440"/>
                  <a:ext cx="2222280" cy="26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ервое  задание выполняют,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используя памятку. Второе   задание   сокращается: предлагается определить падеж лмён      существительных в первых двух предложениях.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200040" y="3592440"/>
                  <a:ext cx="2275200" cy="260064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"/>
            <p:cNvGrpSpPr/>
            <p:nvPr/>
          </p:nvGrpSpPr>
          <p:grpSpPr>
            <a:xfrm>
              <a:off x="5476320" y="3592440"/>
              <a:ext cx="2295360" cy="2601000"/>
              <a:chOff x="5476320" y="3592440"/>
              <a:chExt cx="2295360" cy="2601000"/>
            </a:xfrm>
          </p:grpSpPr>
          <p:sp>
            <p:nvSpPr>
              <p:cNvPr id="423" name=""/>
              <p:cNvSpPr/>
              <p:nvPr/>
            </p:nvSpPr>
            <p:spPr>
              <a:xfrm>
                <a:off x="5476320" y="3592440"/>
                <a:ext cx="2295360" cy="260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5476320" y="3592440"/>
                <a:ext cx="2295000" cy="2600640"/>
                <a:chOff x="5476320" y="3592440"/>
                <a:chExt cx="2295000" cy="26006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502240" y="3592440"/>
                  <a:ext cx="2242800" cy="26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ервое задание выполняют под руководством учителя. Второе задание сокращается: предлагается          определить падеж имён существительных в первом предложении. Пользуются      памяткой      с вопросами падежей.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476320" y="3592440"/>
                  <a:ext cx="2295000" cy="260064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7" name=""/>
          <p:cNvSpPr/>
          <p:nvPr/>
        </p:nvSpPr>
        <p:spPr>
          <a:xfrm>
            <a:off x="0" y="4861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Формы ДЦП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Гиперкенетическа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838080"/>
            <a:ext cx="5105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грубые нарушения движений, насильственные движения, речевые расстройства. Интеллект сохранный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Спастическая диплегия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1905120"/>
            <a:ext cx="5791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ahoma"/>
              </a:rPr>
              <a:t>двигательные нарушения различной степени, пространственные нарушения, снижения психических процессов. Интеллект сохранный. Наиболее благоприятна для массового обучения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6576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Атонически-ататическая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3657600"/>
            <a:ext cx="5791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ялость мышечного тонуса, быстрая утомляемость, низкая работоспособность, нарушение мыслительных операций, снижение интеллекта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18148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Гемипаретическая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533412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5105520"/>
            <a:ext cx="5562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двигательные нарушения, вызванные поражением левой (правой) половины тела, нарушение ориентировок в пространстве, речевые расстройства, снижение психических процессов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75840" y="990720"/>
            <a:ext cx="659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Дифференцированный подход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осуществляется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168720"/>
            <a:ext cx="236232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 уроках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648320"/>
            <a:ext cx="4114800" cy="9471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 индивидуальных коррекционных занятиях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124080"/>
            <a:ext cx="4419720" cy="9471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предлагаемых учащимся домашних заданиях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71240" y="2209680"/>
            <a:ext cx="2895480" cy="838440"/>
          </a:xfrm>
          <a:prstGeom prst="line">
            <a:avLst/>
          </a:prstGeom>
          <a:ln w="15840">
            <a:solidFill>
              <a:srgbClr val="660066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209680"/>
            <a:ext cx="0" cy="2362320"/>
          </a:xfrm>
          <a:prstGeom prst="line">
            <a:avLst/>
          </a:prstGeom>
          <a:ln w="15840">
            <a:solidFill>
              <a:srgbClr val="660066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209680"/>
            <a:ext cx="2514600" cy="838440"/>
          </a:xfrm>
          <a:prstGeom prst="line">
            <a:avLst/>
          </a:prstGeom>
          <a:ln w="15840">
            <a:solidFill>
              <a:srgbClr val="660066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ифференцированный подход на разных этапах уро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1. Объяснение новой тем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2. Этап закрепления материала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Дифференциация заданий для самостоятельной работы: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                                          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- по уровням сложности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 объему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 способу выполнения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Разноуровневые карточки                                                       с заданиями по русскому языку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67440" cy="2362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Задание.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45472"/>
                </a:solidFill>
                <a:latin typeface="Times New Roman"/>
              </a:rPr>
              <a:t>Найди и выпиши слова с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45472"/>
                </a:solidFill>
                <a:latin typeface="Times New Roman"/>
              </a:rPr>
              <a:t>безударной гласной «А».                                   Подбери к ним проверочные слова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Тр . ва, тр . па, хор . ши, ч . сок,                         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с . довник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809880"/>
            <a:ext cx="4191120" cy="23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Задание.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 словам 1-го столбика подбери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однокоренные слова из 2-го столбик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Цвет                                        л . нтяй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вист                                     зар . дил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Лень                                       св . сток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Заряд                                     цв . тник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733920"/>
            <a:ext cx="4267080" cy="243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Задание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иши, вставляя пропущенные буквы.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дели корень, поставь знак ударения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ар – варить, глаз – гл . зок, мир – м . рить,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нос – н . совой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066680"/>
            <a:ext cx="4419720" cy="2362320"/>
          </a:xfrm>
          <a:prstGeom prst="rect">
            <a:avLst/>
          </a:prstGeom>
          <a:solidFill>
            <a:srgbClr val="c7c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Задание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45472"/>
                </a:solidFill>
                <a:latin typeface="Times New Roman"/>
              </a:rPr>
              <a:t>Выпиши слова с безударной гласной «е»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472"/>
                </a:solidFill>
                <a:latin typeface="Times New Roman"/>
              </a:rPr>
              <a:t>Мелок, мел, белый, ребята, земля,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472"/>
                </a:solidFill>
                <a:latin typeface="Times New Roman"/>
              </a:rPr>
              <a:t>весело, спелый, тепло, лесной, лебеди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685800"/>
            <a:ext cx="914400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Административная контрольная работа по математике за 1 четверть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4 классе.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. Задача.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Из 32 метров ткани сшили 8 одинаковых платьев. Сколько таких платьев можно</a:t>
            </a:r>
            <a:endParaRPr b="0" lang="en-US" sz="1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сшить из 60 метров ткани?</a:t>
            </a:r>
            <a:endParaRPr b="0" lang="en-US" sz="1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38080" y="2438280"/>
            <a:ext cx="6324480" cy="3543120"/>
            <a:chOff x="838080" y="2438280"/>
            <a:chExt cx="6324480" cy="354312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2438280"/>
              <a:ext cx="2104560" cy="555120"/>
              <a:chOff x="838080" y="2438280"/>
              <a:chExt cx="2104560" cy="555120"/>
            </a:xfrm>
          </p:grpSpPr>
          <p:sp>
            <p:nvSpPr>
              <p:cNvPr id="165" name=""/>
              <p:cNvSpPr/>
              <p:nvPr/>
            </p:nvSpPr>
            <p:spPr>
              <a:xfrm>
                <a:off x="838080" y="2438280"/>
                <a:ext cx="2104560" cy="55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838080" y="2438280"/>
                <a:ext cx="2104560" cy="555120"/>
                <a:chOff x="838080" y="2438280"/>
                <a:chExt cx="2104560" cy="555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62560" y="2438280"/>
                  <a:ext cx="205560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ff00"/>
                      </a:solidFill>
                      <a:latin typeface="Times New Roman"/>
                      <a:ea typeface="Times New Roman"/>
                    </a:rPr>
                    <a:t>1-ы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38080" y="2438280"/>
                  <a:ext cx="2104560" cy="5551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2942640" y="2438280"/>
              <a:ext cx="2095560" cy="555120"/>
              <a:chOff x="2942640" y="2438280"/>
              <a:chExt cx="2095560" cy="555120"/>
            </a:xfrm>
          </p:grpSpPr>
          <p:sp>
            <p:nvSpPr>
              <p:cNvPr id="170" name=""/>
              <p:cNvSpPr/>
              <p:nvPr/>
            </p:nvSpPr>
            <p:spPr>
              <a:xfrm>
                <a:off x="2942640" y="2438280"/>
                <a:ext cx="2095560" cy="55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2942640" y="2438280"/>
                <a:ext cx="2095560" cy="555120"/>
                <a:chOff x="2942640" y="2438280"/>
                <a:chExt cx="2095560" cy="55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967120" y="2438280"/>
                  <a:ext cx="204660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f6600"/>
                      </a:solidFill>
                      <a:latin typeface="Times New Roman"/>
                      <a:ea typeface="Times New Roman"/>
                    </a:rPr>
                    <a:t>2-о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42640" y="2438280"/>
                  <a:ext cx="2095560" cy="5551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5038200" y="2438280"/>
              <a:ext cx="2124360" cy="555120"/>
              <a:chOff x="5038200" y="2438280"/>
              <a:chExt cx="2124360" cy="555120"/>
            </a:xfrm>
          </p:grpSpPr>
          <p:sp>
            <p:nvSpPr>
              <p:cNvPr id="175" name=""/>
              <p:cNvSpPr/>
              <p:nvPr/>
            </p:nvSpPr>
            <p:spPr>
              <a:xfrm>
                <a:off x="5038200" y="2438280"/>
                <a:ext cx="2124360" cy="55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5038200" y="2438280"/>
                <a:ext cx="2124360" cy="555120"/>
                <a:chOff x="5038200" y="2438280"/>
                <a:chExt cx="2124360" cy="5551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62320" y="2438280"/>
                  <a:ext cx="207540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-и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038200" y="2438280"/>
                  <a:ext cx="2124360" cy="5551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838080" y="2993400"/>
              <a:ext cx="2104560" cy="2988000"/>
              <a:chOff x="838080" y="2993400"/>
              <a:chExt cx="2104560" cy="298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838080" y="2993400"/>
                <a:ext cx="2104560" cy="298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838080" y="2993400"/>
                <a:ext cx="2104560" cy="2988000"/>
                <a:chOff x="838080" y="2993400"/>
                <a:chExt cx="2104560" cy="29880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862560" y="2993400"/>
                  <a:ext cx="2055600" cy="298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амостоятельное решение задачи учащимися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8080" y="2993400"/>
                  <a:ext cx="2104560" cy="2988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2942640" y="2993400"/>
              <a:ext cx="2095560" cy="2988000"/>
              <a:chOff x="2942640" y="2993400"/>
              <a:chExt cx="2095560" cy="2988000"/>
            </a:xfrm>
          </p:grpSpPr>
          <p:sp>
            <p:nvSpPr>
              <p:cNvPr id="185" name=""/>
              <p:cNvSpPr/>
              <p:nvPr/>
            </p:nvSpPr>
            <p:spPr>
              <a:xfrm>
                <a:off x="2942640" y="2993400"/>
                <a:ext cx="2095560" cy="298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942640" y="2993400"/>
                <a:ext cx="2095560" cy="2988000"/>
                <a:chOff x="2942640" y="2993400"/>
                <a:chExt cx="2095560" cy="29880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967120" y="2993400"/>
                  <a:ext cx="2046600" cy="298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 помощью вопросов учител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омогает ученикам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роанализировать условие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дачи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Даётся готовая запись условия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дачи: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32м - 8 п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60м - ? п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42640" y="2993400"/>
                  <a:ext cx="2095560" cy="2988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5038200" y="2993400"/>
              <a:ext cx="2124360" cy="2988000"/>
              <a:chOff x="5038200" y="2993400"/>
              <a:chExt cx="2124360" cy="2988000"/>
            </a:xfrm>
          </p:grpSpPr>
          <p:sp>
            <p:nvSpPr>
              <p:cNvPr id="190" name=""/>
              <p:cNvSpPr/>
              <p:nvPr/>
            </p:nvSpPr>
            <p:spPr>
              <a:xfrm>
                <a:off x="5038200" y="2993400"/>
                <a:ext cx="2124360" cy="298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038200" y="2993400"/>
                <a:ext cx="2124360" cy="2988000"/>
                <a:chOff x="5038200" y="2993400"/>
                <a:chExt cx="2124360" cy="2988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62320" y="2993400"/>
                  <a:ext cx="2075400" cy="298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 помощью вопросов учител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омогает ученикам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роанализировать условие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дачи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Оказание помощи в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оставлении плана решения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дачи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Даётся готовая запись условия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дачи: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32м - 8 п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60м - ? п. и готовый план решения: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1)</a:t>
                  </a: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2)</a:t>
                  </a: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;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038200" y="2993400"/>
                  <a:ext cx="2124360" cy="2988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4" name=""/>
          <p:cNvSpPr/>
          <p:nvPr/>
        </p:nvSpPr>
        <p:spPr>
          <a:xfrm>
            <a:off x="0" y="77659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304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 и контроль знаний учащихс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914400"/>
            <a:ext cx="9219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. Примеры.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407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*2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*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462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Arial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278*3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Arial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706-428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Courier New"/>
              </a:rPr>
              <a:t>812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Courier New"/>
              </a:rPr>
              <a:t>2   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Courier New"/>
              </a:rPr>
              <a:t>537:8   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Courier New"/>
              </a:rPr>
              <a:t>774:2  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Courier New"/>
              </a:rPr>
              <a:t> 246 + 479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09480" y="3200400"/>
            <a:ext cx="6602400" cy="2055960"/>
            <a:chOff x="609480" y="3200400"/>
            <a:chExt cx="6602400" cy="2055960"/>
          </a:xfrm>
        </p:grpSpPr>
        <p:grpSp>
          <p:nvGrpSpPr>
            <p:cNvPr id="198" name=""/>
            <p:cNvGrpSpPr/>
            <p:nvPr/>
          </p:nvGrpSpPr>
          <p:grpSpPr>
            <a:xfrm>
              <a:off x="609480" y="3200400"/>
              <a:ext cx="2197080" cy="685800"/>
              <a:chOff x="609480" y="3200400"/>
              <a:chExt cx="2197080" cy="685800"/>
            </a:xfrm>
          </p:grpSpPr>
          <p:sp>
            <p:nvSpPr>
              <p:cNvPr id="199" name=""/>
              <p:cNvSpPr/>
              <p:nvPr/>
            </p:nvSpPr>
            <p:spPr>
              <a:xfrm>
                <a:off x="609480" y="3200400"/>
                <a:ext cx="219708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609480" y="3200400"/>
                <a:ext cx="2197080" cy="685800"/>
                <a:chOff x="609480" y="3200400"/>
                <a:chExt cx="2197080" cy="6858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35040" y="3200400"/>
                  <a:ext cx="214632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ff00"/>
                      </a:solidFill>
                      <a:latin typeface="Times New Roman"/>
                      <a:ea typeface="Times New Roman"/>
                    </a:rPr>
                    <a:t>1-ы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9480" y="3200400"/>
                  <a:ext cx="2197080" cy="6858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2806560" y="3200400"/>
              <a:ext cx="2190600" cy="685800"/>
              <a:chOff x="2806560" y="3200400"/>
              <a:chExt cx="2190600" cy="685800"/>
            </a:xfrm>
          </p:grpSpPr>
          <p:sp>
            <p:nvSpPr>
              <p:cNvPr id="204" name=""/>
              <p:cNvSpPr/>
              <p:nvPr/>
            </p:nvSpPr>
            <p:spPr>
              <a:xfrm>
                <a:off x="2806560" y="3200400"/>
                <a:ext cx="21906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2806560" y="3200400"/>
                <a:ext cx="2190600" cy="685800"/>
                <a:chOff x="2806560" y="3200400"/>
                <a:chExt cx="2190600" cy="685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832120" y="3200400"/>
                  <a:ext cx="213984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6600"/>
                      </a:solidFill>
                      <a:latin typeface="Times New Roman"/>
                      <a:ea typeface="Times New Roman"/>
                    </a:rPr>
                    <a:t>2-ой уровен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806560" y="3200400"/>
                  <a:ext cx="2190600" cy="6858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997160" y="3200400"/>
              <a:ext cx="2214720" cy="685800"/>
              <a:chOff x="4997160" y="3200400"/>
              <a:chExt cx="2214720" cy="685800"/>
            </a:xfrm>
          </p:grpSpPr>
          <p:sp>
            <p:nvSpPr>
              <p:cNvPr id="209" name=""/>
              <p:cNvSpPr/>
              <p:nvPr/>
            </p:nvSpPr>
            <p:spPr>
              <a:xfrm>
                <a:off x="4997160" y="3200400"/>
                <a:ext cx="22147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997160" y="3200400"/>
                <a:ext cx="2214720" cy="685800"/>
                <a:chOff x="4997160" y="3200400"/>
                <a:chExt cx="2214720" cy="6858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022720" y="3200400"/>
                  <a:ext cx="216360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 -ий уровен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997160" y="3200400"/>
                  <a:ext cx="2214720" cy="6858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09480" y="3886200"/>
              <a:ext cx="2197080" cy="1370160"/>
              <a:chOff x="609480" y="3886200"/>
              <a:chExt cx="2197080" cy="1370160"/>
            </a:xfrm>
          </p:grpSpPr>
          <p:sp>
            <p:nvSpPr>
              <p:cNvPr id="214" name=""/>
              <p:cNvSpPr/>
              <p:nvPr/>
            </p:nvSpPr>
            <p:spPr>
              <a:xfrm>
                <a:off x="609480" y="3886200"/>
                <a:ext cx="2197080" cy="13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09480" y="3886200"/>
                <a:ext cx="2197080" cy="1370160"/>
                <a:chOff x="609480" y="3886200"/>
                <a:chExt cx="2197080" cy="13701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35040" y="3886200"/>
                  <a:ext cx="2146320" cy="13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Учащиеся самостоятельно списывают примеры с доски и решают их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09480" y="3886200"/>
                  <a:ext cx="2197080" cy="1370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2806560" y="3886200"/>
              <a:ext cx="2190600" cy="1370160"/>
              <a:chOff x="2806560" y="3886200"/>
              <a:chExt cx="2190600" cy="1370160"/>
            </a:xfrm>
          </p:grpSpPr>
          <p:sp>
            <p:nvSpPr>
              <p:cNvPr id="219" name=""/>
              <p:cNvSpPr/>
              <p:nvPr/>
            </p:nvSpPr>
            <p:spPr>
              <a:xfrm>
                <a:off x="2806560" y="3886200"/>
                <a:ext cx="2190600" cy="13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806560" y="3886200"/>
                <a:ext cx="2190600" cy="1370160"/>
                <a:chOff x="2806560" y="3886200"/>
                <a:chExt cx="2190600" cy="13701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832120" y="3886200"/>
                  <a:ext cx="2139840" cy="13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ократить количество примеров (2- ой столбик примеров исключить)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06560" y="3886200"/>
                  <a:ext cx="2190600" cy="1370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4997160" y="3886200"/>
              <a:ext cx="2214720" cy="1370160"/>
              <a:chOff x="4997160" y="3886200"/>
              <a:chExt cx="2214720" cy="1370160"/>
            </a:xfrm>
          </p:grpSpPr>
          <p:sp>
            <p:nvSpPr>
              <p:cNvPr id="224" name=""/>
              <p:cNvSpPr/>
              <p:nvPr/>
            </p:nvSpPr>
            <p:spPr>
              <a:xfrm>
                <a:off x="4997160" y="3886200"/>
                <a:ext cx="2214720" cy="13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4997160" y="3886200"/>
                <a:ext cx="2214720" cy="1370160"/>
                <a:chOff x="4997160" y="3886200"/>
                <a:chExt cx="2214720" cy="13701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22720" y="3886200"/>
                  <a:ext cx="2163600" cy="13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ократить количество примеров (2- ой столбик примеров исключить). Дать готовую запись столбиков примеров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97160" y="3886200"/>
                  <a:ext cx="2214720" cy="1370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ждение периметра и площади прямоугольника.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 периметр и площадь прямоугольника со сторонами 8 см и 6 см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90720" y="1523880"/>
            <a:ext cx="6592320" cy="4788000"/>
            <a:chOff x="990720" y="1523880"/>
            <a:chExt cx="6592320" cy="4788000"/>
          </a:xfrm>
        </p:grpSpPr>
        <p:grpSp>
          <p:nvGrpSpPr>
            <p:cNvPr id="230" name=""/>
            <p:cNvGrpSpPr/>
            <p:nvPr/>
          </p:nvGrpSpPr>
          <p:grpSpPr>
            <a:xfrm>
              <a:off x="990720" y="2209680"/>
              <a:ext cx="2193480" cy="655560"/>
              <a:chOff x="990720" y="2209680"/>
              <a:chExt cx="2193480" cy="655560"/>
            </a:xfrm>
          </p:grpSpPr>
          <p:sp>
            <p:nvSpPr>
              <p:cNvPr id="231" name=""/>
              <p:cNvSpPr/>
              <p:nvPr/>
            </p:nvSpPr>
            <p:spPr>
              <a:xfrm>
                <a:off x="990720" y="2209680"/>
                <a:ext cx="219348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15920" y="2209680"/>
                <a:ext cx="21427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Учащиеся работают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184200" y="2209680"/>
              <a:ext cx="2187360" cy="655560"/>
              <a:chOff x="3184200" y="2209680"/>
              <a:chExt cx="2187360" cy="655560"/>
            </a:xfrm>
          </p:grpSpPr>
          <p:sp>
            <p:nvSpPr>
              <p:cNvPr id="234" name=""/>
              <p:cNvSpPr/>
              <p:nvPr/>
            </p:nvSpPr>
            <p:spPr>
              <a:xfrm>
                <a:off x="3184200" y="2209680"/>
                <a:ext cx="2187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09400" y="2209680"/>
                <a:ext cx="213624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Помощь учителя: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371920" y="2209680"/>
              <a:ext cx="2211120" cy="655560"/>
              <a:chOff x="5371920" y="2209680"/>
              <a:chExt cx="2211120" cy="655560"/>
            </a:xfrm>
          </p:grpSpPr>
          <p:sp>
            <p:nvSpPr>
              <p:cNvPr id="237" name=""/>
              <p:cNvSpPr/>
              <p:nvPr/>
            </p:nvSpPr>
            <p:spPr>
              <a:xfrm>
                <a:off x="5371920" y="2209680"/>
                <a:ext cx="22111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396760" y="2209680"/>
                <a:ext cx="2160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Помощь учителя: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990720" y="2865240"/>
              <a:ext cx="2193480" cy="655920"/>
              <a:chOff x="990720" y="2865240"/>
              <a:chExt cx="2193480" cy="655920"/>
            </a:xfrm>
          </p:grpSpPr>
          <p:sp>
            <p:nvSpPr>
              <p:cNvPr id="240" name=""/>
              <p:cNvSpPr/>
              <p:nvPr/>
            </p:nvSpPr>
            <p:spPr>
              <a:xfrm>
                <a:off x="990720" y="2865240"/>
                <a:ext cx="219348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15920" y="2865240"/>
                <a:ext cx="214272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545472"/>
                    </a:solidFill>
                    <a:latin typeface="Times New Roman"/>
                  </a:rPr>
                  <a:t>с</a:t>
                </a: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амостоятельно.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184200" y="2865240"/>
              <a:ext cx="2187360" cy="655920"/>
              <a:chOff x="3184200" y="2865240"/>
              <a:chExt cx="2187360" cy="655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184200" y="2865240"/>
                <a:ext cx="218736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9400" y="2865240"/>
                <a:ext cx="213624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Устно уточнить знания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371920" y="2865240"/>
              <a:ext cx="2211120" cy="655920"/>
              <a:chOff x="5371920" y="2865240"/>
              <a:chExt cx="2211120" cy="655920"/>
            </a:xfrm>
          </p:grpSpPr>
          <p:sp>
            <p:nvSpPr>
              <p:cNvPr id="246" name=""/>
              <p:cNvSpPr/>
              <p:nvPr/>
            </p:nvSpPr>
            <p:spPr>
              <a:xfrm>
                <a:off x="5371920" y="2865240"/>
                <a:ext cx="221112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96760" y="2865240"/>
                <a:ext cx="216036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Устно уточнить знания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990720" y="3521160"/>
              <a:ext cx="2193480" cy="655560"/>
              <a:chOff x="990720" y="3521160"/>
              <a:chExt cx="2193480" cy="655560"/>
            </a:xfrm>
          </p:grpSpPr>
          <p:sp>
            <p:nvSpPr>
              <p:cNvPr id="249" name=""/>
              <p:cNvSpPr/>
              <p:nvPr/>
            </p:nvSpPr>
            <p:spPr>
              <a:xfrm>
                <a:off x="990720" y="3521160"/>
                <a:ext cx="219348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15920" y="3521160"/>
                <a:ext cx="21427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184200" y="3521160"/>
              <a:ext cx="2187360" cy="655560"/>
              <a:chOff x="3184200" y="3521160"/>
              <a:chExt cx="2187360" cy="655560"/>
            </a:xfrm>
          </p:grpSpPr>
          <p:sp>
            <p:nvSpPr>
              <p:cNvPr id="252" name=""/>
              <p:cNvSpPr/>
              <p:nvPr/>
            </p:nvSpPr>
            <p:spPr>
              <a:xfrm>
                <a:off x="3184200" y="3521160"/>
                <a:ext cx="2187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09400" y="3521160"/>
                <a:ext cx="213624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учащихся о нахождении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5371920" y="3521160"/>
              <a:ext cx="2211120" cy="655560"/>
              <a:chOff x="5371920" y="3521160"/>
              <a:chExt cx="2211120" cy="655560"/>
            </a:xfrm>
          </p:grpSpPr>
          <p:sp>
            <p:nvSpPr>
              <p:cNvPr id="255" name=""/>
              <p:cNvSpPr/>
              <p:nvPr/>
            </p:nvSpPr>
            <p:spPr>
              <a:xfrm>
                <a:off x="5371920" y="3521160"/>
                <a:ext cx="22111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96760" y="3521160"/>
                <a:ext cx="2160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учащихся о нахождении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990720" y="4176720"/>
              <a:ext cx="2193480" cy="655560"/>
              <a:chOff x="990720" y="4176720"/>
              <a:chExt cx="2193480" cy="655560"/>
            </a:xfrm>
          </p:grpSpPr>
          <p:sp>
            <p:nvSpPr>
              <p:cNvPr id="258" name=""/>
              <p:cNvSpPr/>
              <p:nvPr/>
            </p:nvSpPr>
            <p:spPr>
              <a:xfrm>
                <a:off x="990720" y="4176720"/>
                <a:ext cx="219348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15920" y="4176720"/>
                <a:ext cx="21427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184200" y="4176720"/>
              <a:ext cx="2187360" cy="655560"/>
              <a:chOff x="3184200" y="4176720"/>
              <a:chExt cx="2187360" cy="655560"/>
            </a:xfrm>
          </p:grpSpPr>
          <p:sp>
            <p:nvSpPr>
              <p:cNvPr id="261" name=""/>
              <p:cNvSpPr/>
              <p:nvPr/>
            </p:nvSpPr>
            <p:spPr>
              <a:xfrm>
                <a:off x="3184200" y="4176720"/>
                <a:ext cx="2187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209400" y="4176720"/>
                <a:ext cx="213624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периметра и площади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371920" y="4176720"/>
              <a:ext cx="2211120" cy="655560"/>
              <a:chOff x="5371920" y="4176720"/>
              <a:chExt cx="2211120" cy="655560"/>
            </a:xfrm>
          </p:grpSpPr>
          <p:sp>
            <p:nvSpPr>
              <p:cNvPr id="264" name=""/>
              <p:cNvSpPr/>
              <p:nvPr/>
            </p:nvSpPr>
            <p:spPr>
              <a:xfrm>
                <a:off x="5371920" y="4176720"/>
                <a:ext cx="22111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96760" y="4176720"/>
                <a:ext cx="2160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периметра и площади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990720" y="1523880"/>
              <a:ext cx="2193480" cy="685800"/>
              <a:chOff x="990720" y="1523880"/>
              <a:chExt cx="2193480" cy="685800"/>
            </a:xfrm>
          </p:grpSpPr>
          <p:sp>
            <p:nvSpPr>
              <p:cNvPr id="267" name=""/>
              <p:cNvSpPr/>
              <p:nvPr/>
            </p:nvSpPr>
            <p:spPr>
              <a:xfrm>
                <a:off x="990720" y="1523880"/>
                <a:ext cx="21934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990720" y="1523880"/>
                <a:ext cx="2193480" cy="685800"/>
                <a:chOff x="990720" y="1523880"/>
                <a:chExt cx="2193480" cy="6858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015920" y="1523880"/>
                  <a:ext cx="2142720" cy="685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9900"/>
                      </a:solidFill>
                      <a:latin typeface="Times New Roman"/>
                      <a:ea typeface="Times New Roman"/>
                    </a:rPr>
                    <a:t>1 -ы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90720" y="1523880"/>
                  <a:ext cx="2193480" cy="6858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184200" y="1523880"/>
              <a:ext cx="2187360" cy="685800"/>
              <a:chOff x="3184200" y="1523880"/>
              <a:chExt cx="2187360" cy="685800"/>
            </a:xfrm>
          </p:grpSpPr>
          <p:sp>
            <p:nvSpPr>
              <p:cNvPr id="272" name=""/>
              <p:cNvSpPr/>
              <p:nvPr/>
            </p:nvSpPr>
            <p:spPr>
              <a:xfrm>
                <a:off x="3184200" y="1523880"/>
                <a:ext cx="21873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184200" y="1523880"/>
                <a:ext cx="2187360" cy="685800"/>
                <a:chOff x="3184200" y="1523880"/>
                <a:chExt cx="2187360" cy="6858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209400" y="1523880"/>
                  <a:ext cx="2136240" cy="685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6600"/>
                      </a:solidFill>
                      <a:latin typeface="Times New Roman"/>
                      <a:ea typeface="Times New Roman"/>
                    </a:rPr>
                    <a:t>2-ой уровень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184200" y="1523880"/>
                  <a:ext cx="2187360" cy="6858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5371920" y="1523880"/>
              <a:ext cx="2211120" cy="685800"/>
              <a:chOff x="5371920" y="1523880"/>
              <a:chExt cx="2211120" cy="685800"/>
            </a:xfrm>
          </p:grpSpPr>
          <p:sp>
            <p:nvSpPr>
              <p:cNvPr id="277" name=""/>
              <p:cNvSpPr/>
              <p:nvPr/>
            </p:nvSpPr>
            <p:spPr>
              <a:xfrm>
                <a:off x="5371920" y="1523880"/>
                <a:ext cx="221112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5371920" y="1523880"/>
                <a:ext cx="2211120" cy="685800"/>
                <a:chOff x="5371920" y="1523880"/>
                <a:chExt cx="2211120" cy="685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396760" y="1523880"/>
                  <a:ext cx="2160360" cy="685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 -ий уровень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371920" y="1523880"/>
                  <a:ext cx="2211120" cy="6858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" name=""/>
            <p:cNvGrpSpPr/>
            <p:nvPr/>
          </p:nvGrpSpPr>
          <p:grpSpPr>
            <a:xfrm>
              <a:off x="990720" y="4832280"/>
              <a:ext cx="2193480" cy="1479600"/>
              <a:chOff x="990720" y="4832280"/>
              <a:chExt cx="2193480" cy="1479600"/>
            </a:xfrm>
          </p:grpSpPr>
          <p:sp>
            <p:nvSpPr>
              <p:cNvPr id="282" name=""/>
              <p:cNvSpPr/>
              <p:nvPr/>
            </p:nvSpPr>
            <p:spPr>
              <a:xfrm>
                <a:off x="990720" y="4832280"/>
                <a:ext cx="2193480" cy="1479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990720" y="4832280"/>
                <a:ext cx="2193480" cy="1479600"/>
                <a:chOff x="990720" y="4832280"/>
                <a:chExt cx="2193480" cy="14796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015920" y="4832280"/>
                  <a:ext cx="2142720" cy="147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990720" y="4832280"/>
                  <a:ext cx="2193480" cy="14796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6" name=""/>
            <p:cNvGrpSpPr/>
            <p:nvPr/>
          </p:nvGrpSpPr>
          <p:grpSpPr>
            <a:xfrm>
              <a:off x="3184200" y="4832280"/>
              <a:ext cx="2187360" cy="1479600"/>
              <a:chOff x="3184200" y="4832280"/>
              <a:chExt cx="2187360" cy="1479600"/>
            </a:xfrm>
          </p:grpSpPr>
          <p:sp>
            <p:nvSpPr>
              <p:cNvPr id="287" name=""/>
              <p:cNvSpPr/>
              <p:nvPr/>
            </p:nvSpPr>
            <p:spPr>
              <a:xfrm>
                <a:off x="3184200" y="4832280"/>
                <a:ext cx="2187360" cy="1479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3184200" y="4832280"/>
                <a:ext cx="2187360" cy="1479600"/>
                <a:chOff x="3184200" y="4832280"/>
                <a:chExt cx="2187360" cy="14796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209400" y="4832280"/>
                  <a:ext cx="2136240" cy="147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рямоугольника.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184200" y="4832280"/>
                  <a:ext cx="2187360" cy="14796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5371920" y="4832280"/>
              <a:ext cx="2211120" cy="1479600"/>
              <a:chOff x="5371920" y="4832280"/>
              <a:chExt cx="2211120" cy="1479600"/>
            </a:xfrm>
          </p:grpSpPr>
          <p:sp>
            <p:nvSpPr>
              <p:cNvPr id="292" name=""/>
              <p:cNvSpPr/>
              <p:nvPr/>
            </p:nvSpPr>
            <p:spPr>
              <a:xfrm>
                <a:off x="5371920" y="4832280"/>
                <a:ext cx="2211120" cy="1479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371920" y="4832280"/>
                <a:ext cx="2211120" cy="1479600"/>
                <a:chOff x="5371920" y="4832280"/>
                <a:chExt cx="2211120" cy="1479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396760" y="4832280"/>
                  <a:ext cx="2160360" cy="147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рямоугольника. Предложить работать, используя готовые формулы.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Р = (а</a:t>
                  </a:r>
                  <a:r>
                    <a:rPr b="0" lang="ru-RU" sz="1500" spc="-1" strike="noStrike">
                      <a:solidFill>
                        <a:srgbClr val="545472"/>
                      </a:solidFill>
                      <a:latin typeface="Times New Roman"/>
                    </a:rPr>
                    <a:t>+</a:t>
                  </a:r>
                  <a:r>
                    <a:rPr b="0" lang="en-US" sz="15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в)*2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371920" y="4832280"/>
                  <a:ext cx="2211120" cy="14796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1371600"/>
            <a:ext cx="9144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57400"/>
                <a:tab algn="l" pos="4700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пиши числа, которые содержат:</a:t>
            </a:r>
            <a:endParaRPr b="0" lang="en-US" sz="2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2057400"/>
                <a:tab algn="l" pos="4700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2057400"/>
                <a:tab algn="l" pos="4700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тыс. 2 ед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 тыс. 20 ед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тыс. 80 ед.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2057400"/>
                <a:tab algn="l" pos="4700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2057400"/>
                <a:tab algn="l" pos="4700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838080" y="2819520"/>
            <a:ext cx="6599160" cy="1936800"/>
            <a:chOff x="838080" y="2819520"/>
            <a:chExt cx="6599160" cy="1936800"/>
          </a:xfrm>
        </p:grpSpPr>
        <p:grpSp>
          <p:nvGrpSpPr>
            <p:cNvPr id="298" name=""/>
            <p:cNvGrpSpPr/>
            <p:nvPr/>
          </p:nvGrpSpPr>
          <p:grpSpPr>
            <a:xfrm>
              <a:off x="838080" y="2819520"/>
              <a:ext cx="2197080" cy="685800"/>
              <a:chOff x="838080" y="2819520"/>
              <a:chExt cx="2197080" cy="685800"/>
            </a:xfrm>
          </p:grpSpPr>
          <p:sp>
            <p:nvSpPr>
              <p:cNvPr id="299" name=""/>
              <p:cNvSpPr/>
              <p:nvPr/>
            </p:nvSpPr>
            <p:spPr>
              <a:xfrm>
                <a:off x="838080" y="2819520"/>
                <a:ext cx="219708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838080" y="2819520"/>
                <a:ext cx="2197080" cy="685800"/>
                <a:chOff x="838080" y="2819520"/>
                <a:chExt cx="2197080" cy="6858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63640" y="2819520"/>
                  <a:ext cx="214632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9900"/>
                      </a:solidFill>
                      <a:latin typeface="Times New Roman"/>
                      <a:ea typeface="Times New Roman"/>
                    </a:rPr>
                    <a:t>1-ы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38080" y="2819520"/>
                  <a:ext cx="2197080" cy="6858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3" name=""/>
            <p:cNvGrpSpPr/>
            <p:nvPr/>
          </p:nvGrpSpPr>
          <p:grpSpPr>
            <a:xfrm>
              <a:off x="3035160" y="2819520"/>
              <a:ext cx="2190600" cy="685800"/>
              <a:chOff x="3035160" y="2819520"/>
              <a:chExt cx="2190600" cy="685800"/>
            </a:xfrm>
          </p:grpSpPr>
          <p:sp>
            <p:nvSpPr>
              <p:cNvPr id="304" name=""/>
              <p:cNvSpPr/>
              <p:nvPr/>
            </p:nvSpPr>
            <p:spPr>
              <a:xfrm>
                <a:off x="3035160" y="2819520"/>
                <a:ext cx="21906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3035160" y="2819520"/>
                <a:ext cx="2190600" cy="685800"/>
                <a:chOff x="3035160" y="2819520"/>
                <a:chExt cx="2190600" cy="6858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060720" y="2819520"/>
                  <a:ext cx="213984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6600"/>
                      </a:solidFill>
                      <a:latin typeface="Times New Roman"/>
                      <a:ea typeface="Times New Roman"/>
                    </a:rPr>
                    <a:t>2-ой уровень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035160" y="2819520"/>
                  <a:ext cx="2190600" cy="6858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5225760" y="2819520"/>
              <a:ext cx="2211480" cy="685800"/>
              <a:chOff x="5225760" y="2819520"/>
              <a:chExt cx="221148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5225760" y="2819520"/>
                <a:ext cx="221148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5225760" y="2819520"/>
                <a:ext cx="2211480" cy="685800"/>
                <a:chOff x="5225760" y="2819520"/>
                <a:chExt cx="2211480" cy="6858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251320" y="2819520"/>
                  <a:ext cx="216072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 -ий уровень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225760" y="2819520"/>
                  <a:ext cx="2211480" cy="6858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838080" y="3505320"/>
              <a:ext cx="2197080" cy="1251000"/>
              <a:chOff x="838080" y="3505320"/>
              <a:chExt cx="2197080" cy="1251000"/>
            </a:xfrm>
          </p:grpSpPr>
          <p:sp>
            <p:nvSpPr>
              <p:cNvPr id="314" name=""/>
              <p:cNvSpPr/>
              <p:nvPr/>
            </p:nvSpPr>
            <p:spPr>
              <a:xfrm>
                <a:off x="838080" y="3505320"/>
                <a:ext cx="2197080" cy="125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838080" y="3505320"/>
                <a:ext cx="2197080" cy="1251000"/>
                <a:chOff x="838080" y="3505320"/>
                <a:chExt cx="2197080" cy="12510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863640" y="3505320"/>
                  <a:ext cx="2146320" cy="125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Учащиеся работают самостоятельно.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38080" y="3505320"/>
                  <a:ext cx="2197080" cy="12510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3035160" y="3505320"/>
              <a:ext cx="2190600" cy="1251000"/>
              <a:chOff x="3035160" y="3505320"/>
              <a:chExt cx="2190600" cy="1251000"/>
            </a:xfrm>
          </p:grpSpPr>
          <p:sp>
            <p:nvSpPr>
              <p:cNvPr id="319" name=""/>
              <p:cNvSpPr/>
              <p:nvPr/>
            </p:nvSpPr>
            <p:spPr>
              <a:xfrm>
                <a:off x="3035160" y="3505320"/>
                <a:ext cx="2190600" cy="125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3035160" y="3505320"/>
                <a:ext cx="2190600" cy="1251000"/>
                <a:chOff x="3035160" y="3505320"/>
                <a:chExt cx="2190600" cy="12510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060720" y="3505320"/>
                  <a:ext cx="2139840" cy="125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ократить количество примеров до двух.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035160" y="3505320"/>
                  <a:ext cx="2190600" cy="12510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5225760" y="3505320"/>
              <a:ext cx="2211480" cy="1251000"/>
              <a:chOff x="5225760" y="3505320"/>
              <a:chExt cx="2211480" cy="1251000"/>
            </a:xfrm>
          </p:grpSpPr>
          <p:sp>
            <p:nvSpPr>
              <p:cNvPr id="324" name=""/>
              <p:cNvSpPr/>
              <p:nvPr/>
            </p:nvSpPr>
            <p:spPr>
              <a:xfrm>
                <a:off x="5225760" y="3505320"/>
                <a:ext cx="2211480" cy="125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5225760" y="3505320"/>
                <a:ext cx="2211480" cy="1251000"/>
                <a:chOff x="5225760" y="3505320"/>
                <a:chExt cx="2211480" cy="12510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251320" y="3505320"/>
                  <a:ext cx="2160720" cy="125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ократить количество примеров до двух. Дать таблицу разрядов и классов.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225760" y="3505320"/>
                  <a:ext cx="2211480" cy="12510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0:22:45Z</dcterms:created>
  <dc:creator>Пользователь</dc:creator>
  <dc:description/>
  <dc:language>en-US</dc:language>
  <cp:lastModifiedBy>Пользователь</cp:lastModifiedBy>
  <dcterms:modified xsi:type="dcterms:W3CDTF">2008-09-17T03:01:33Z</dcterms:modified>
  <cp:revision>18</cp:revision>
  <dc:subject/>
  <dc:title>Дифференцированный подход в обучении младших школьников, страдающих ДЦП</dc:title>
</cp:coreProperties>
</file>