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D53-7F44-4AFA-A15C-52D33673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824-064B-4EC3-8FDC-1AECE1E7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17C-32FE-42F9-A7E0-08DAECA6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445-0553-4398-A464-5F07A1F5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308B-B7E3-46AF-AE74-228D01C4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13DA-E978-4C04-9636-35733FC2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CA8C-8873-42BD-82DC-D8324B65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027F-8AD3-410A-AE66-C1C0D96D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8240-1A32-4A01-B383-2CD49980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45B5-2F0B-4B86-898E-792D0836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E59E-BD67-46F9-AE1B-712657C3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CE76-A170-4D4F-94AB-11D8DEE6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B518-74CC-4E24-A7B7-A6E8722E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39BE-EC79-4D4D-816F-DF8E1E86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E331-EA8E-4BD3-8337-6EF21891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2B45-FB0A-486C-AABF-8D2F1565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312D-8E3F-4974-901C-0E66FDC3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4BF-A64B-48F9-B8A3-8EF2FD16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2B70-EE93-419E-88AD-90DB9CB9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E835-2E65-4505-956C-E11D0B15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DCD-7181-42A5-A608-0D95B2DC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AA58-FF7A-4EC8-B458-D04FF912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5B5-F805-4188-9762-A15C81A2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45A-03DF-4BD7-9056-62A5FDD1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3B76-11EE-485D-9F23-7F2C121654FF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4FE0-3E1F-462F-BB23-7C1A39C48E3F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ифференцированный подход в обучении младших школьников, страдающих ДЦП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Учитель: Хромова Л.В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-14050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Диктант.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838080" y="1219320"/>
            <a:ext cx="6586560" cy="1461960"/>
            <a:chOff x="838080" y="1219320"/>
            <a:chExt cx="6586560" cy="1461960"/>
          </a:xfrm>
        </p:grpSpPr>
        <p:grpSp>
          <p:nvGrpSpPr>
            <p:cNvPr id="330" name=""/>
            <p:cNvGrpSpPr/>
            <p:nvPr/>
          </p:nvGrpSpPr>
          <p:grpSpPr>
            <a:xfrm>
              <a:off x="838080" y="1219320"/>
              <a:ext cx="2197080" cy="639720"/>
              <a:chOff x="838080" y="1219320"/>
              <a:chExt cx="2197080" cy="63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838080" y="1219320"/>
                <a:ext cx="2197080" cy="63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838080" y="1219320"/>
                <a:ext cx="2197080" cy="639720"/>
                <a:chOff x="838080" y="1219320"/>
                <a:chExt cx="2197080" cy="6397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863640" y="1219320"/>
                  <a:ext cx="21463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9900"/>
                      </a:solidFill>
                      <a:latin typeface="Times New Roman"/>
                      <a:ea typeface="Times New Roman"/>
                    </a:rPr>
                    <a:t>1-ый уровень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838080" y="1219320"/>
                  <a:ext cx="2197080" cy="63972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3035160" y="1219320"/>
              <a:ext cx="2181240" cy="639720"/>
              <a:chOff x="3035160" y="1219320"/>
              <a:chExt cx="2181240" cy="639720"/>
            </a:xfrm>
          </p:grpSpPr>
          <p:sp>
            <p:nvSpPr>
              <p:cNvPr id="336" name=""/>
              <p:cNvSpPr/>
              <p:nvPr/>
            </p:nvSpPr>
            <p:spPr>
              <a:xfrm>
                <a:off x="3035160" y="1219320"/>
                <a:ext cx="2181240" cy="63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3035160" y="1219320"/>
                <a:ext cx="2181240" cy="639720"/>
                <a:chOff x="3035160" y="1219320"/>
                <a:chExt cx="2181240" cy="6397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3060720" y="1219320"/>
                  <a:ext cx="2130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035160" y="1219320"/>
                  <a:ext cx="2181240" cy="63972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5216400" y="1219320"/>
              <a:ext cx="2208240" cy="639720"/>
              <a:chOff x="5216400" y="1219320"/>
              <a:chExt cx="2208240" cy="639720"/>
            </a:xfrm>
          </p:grpSpPr>
          <p:sp>
            <p:nvSpPr>
              <p:cNvPr id="341" name=""/>
              <p:cNvSpPr/>
              <p:nvPr/>
            </p:nvSpPr>
            <p:spPr>
              <a:xfrm>
                <a:off x="5216400" y="1219320"/>
                <a:ext cx="2208240" cy="63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5216400" y="1219320"/>
                <a:ext cx="2208240" cy="639720"/>
                <a:chOff x="5216400" y="1219320"/>
                <a:chExt cx="2208240" cy="6397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5241960" y="1219320"/>
                  <a:ext cx="2157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3-ий уровень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216400" y="1219320"/>
                  <a:ext cx="2208240" cy="63972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5" name=""/>
            <p:cNvGrpSpPr/>
            <p:nvPr/>
          </p:nvGrpSpPr>
          <p:grpSpPr>
            <a:xfrm>
              <a:off x="838080" y="1859040"/>
              <a:ext cx="2197080" cy="822240"/>
              <a:chOff x="838080" y="1859040"/>
              <a:chExt cx="2197080" cy="822240"/>
            </a:xfrm>
          </p:grpSpPr>
          <p:sp>
            <p:nvSpPr>
              <p:cNvPr id="346" name=""/>
              <p:cNvSpPr/>
              <p:nvPr/>
            </p:nvSpPr>
            <p:spPr>
              <a:xfrm>
                <a:off x="838080" y="1859040"/>
                <a:ext cx="2197080" cy="822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838080" y="1859040"/>
                <a:ext cx="2197080" cy="822240"/>
                <a:chOff x="838080" y="1859040"/>
                <a:chExt cx="2197080" cy="8222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863640" y="1859040"/>
                  <a:ext cx="2146320" cy="822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Пишут диктант самостоятельно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38080" y="1859040"/>
                  <a:ext cx="2197080" cy="82224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3035160" y="1859040"/>
              <a:ext cx="2181240" cy="822240"/>
              <a:chOff x="3035160" y="1859040"/>
              <a:chExt cx="2181240" cy="822240"/>
            </a:xfrm>
          </p:grpSpPr>
          <p:sp>
            <p:nvSpPr>
              <p:cNvPr id="351" name=""/>
              <p:cNvSpPr/>
              <p:nvPr/>
            </p:nvSpPr>
            <p:spPr>
              <a:xfrm>
                <a:off x="3035160" y="1859040"/>
                <a:ext cx="2181240" cy="822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3035160" y="1859040"/>
                <a:ext cx="2181240" cy="822240"/>
                <a:chOff x="3035160" y="1859040"/>
                <a:chExt cx="2181240" cy="82224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3060720" y="1859040"/>
                  <a:ext cx="2130120" cy="822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035160" y="1859040"/>
                  <a:ext cx="2181240" cy="82224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5" name=""/>
            <p:cNvGrpSpPr/>
            <p:nvPr/>
          </p:nvGrpSpPr>
          <p:grpSpPr>
            <a:xfrm>
              <a:off x="5216400" y="1859040"/>
              <a:ext cx="2208240" cy="822240"/>
              <a:chOff x="5216400" y="1859040"/>
              <a:chExt cx="2208240" cy="822240"/>
            </a:xfrm>
          </p:grpSpPr>
          <p:sp>
            <p:nvSpPr>
              <p:cNvPr id="356" name=""/>
              <p:cNvSpPr/>
              <p:nvPr/>
            </p:nvSpPr>
            <p:spPr>
              <a:xfrm>
                <a:off x="5216400" y="1859040"/>
                <a:ext cx="2208240" cy="822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5216400" y="1859040"/>
                <a:ext cx="2208240" cy="822240"/>
                <a:chOff x="5216400" y="1859040"/>
                <a:chExt cx="2208240" cy="8222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5241960" y="1859040"/>
                  <a:ext cx="2157120" cy="822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216400" y="1859040"/>
                  <a:ext cx="2208240" cy="82224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0" name=""/>
          <p:cNvSpPr/>
          <p:nvPr/>
        </p:nvSpPr>
        <p:spPr>
          <a:xfrm>
            <a:off x="2971800" y="1828800"/>
            <a:ext cx="5029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Накануне проводится пропедевтическая работа. Дети читают текст диктанта, находят знакомые орфограммы. Объясняют их и выписывают, подбирают проверочные слова.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838080" y="2514600"/>
            <a:ext cx="6593040" cy="2557440"/>
            <a:chOff x="838080" y="2514600"/>
            <a:chExt cx="6593040" cy="2557440"/>
          </a:xfrm>
        </p:grpSpPr>
        <p:grpSp>
          <p:nvGrpSpPr>
            <p:cNvPr id="362" name=""/>
            <p:cNvGrpSpPr/>
            <p:nvPr/>
          </p:nvGrpSpPr>
          <p:grpSpPr>
            <a:xfrm>
              <a:off x="838080" y="2514600"/>
              <a:ext cx="2193840" cy="639720"/>
              <a:chOff x="838080" y="2514600"/>
              <a:chExt cx="2193840" cy="639720"/>
            </a:xfrm>
          </p:grpSpPr>
          <p:sp>
            <p:nvSpPr>
              <p:cNvPr id="363" name=""/>
              <p:cNvSpPr/>
              <p:nvPr/>
            </p:nvSpPr>
            <p:spPr>
              <a:xfrm>
                <a:off x="838080" y="2514600"/>
                <a:ext cx="2193840" cy="63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838080" y="2514600"/>
                <a:ext cx="2193840" cy="639720"/>
                <a:chOff x="838080" y="2514600"/>
                <a:chExt cx="2193840" cy="639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863640" y="2514600"/>
                  <a:ext cx="214308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38080" y="2514600"/>
                  <a:ext cx="2193840" cy="63972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7" name=""/>
            <p:cNvGrpSpPr/>
            <p:nvPr/>
          </p:nvGrpSpPr>
          <p:grpSpPr>
            <a:xfrm>
              <a:off x="3031920" y="2514600"/>
              <a:ext cx="2187720" cy="639720"/>
              <a:chOff x="3031920" y="2514600"/>
              <a:chExt cx="2187720" cy="639720"/>
            </a:xfrm>
          </p:grpSpPr>
          <p:sp>
            <p:nvSpPr>
              <p:cNvPr id="368" name=""/>
              <p:cNvSpPr/>
              <p:nvPr/>
            </p:nvSpPr>
            <p:spPr>
              <a:xfrm>
                <a:off x="3031920" y="2514600"/>
                <a:ext cx="2187720" cy="63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3031920" y="2514600"/>
                <a:ext cx="2187720" cy="639720"/>
                <a:chOff x="3031920" y="2514600"/>
                <a:chExt cx="2187720" cy="6397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3057480" y="2514600"/>
                  <a:ext cx="213660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031920" y="2514600"/>
                  <a:ext cx="2187720" cy="63972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5219640" y="2514600"/>
              <a:ext cx="2211480" cy="639720"/>
              <a:chOff x="5219640" y="2514600"/>
              <a:chExt cx="2211480" cy="639720"/>
            </a:xfrm>
          </p:grpSpPr>
          <p:sp>
            <p:nvSpPr>
              <p:cNvPr id="373" name=""/>
              <p:cNvSpPr/>
              <p:nvPr/>
            </p:nvSpPr>
            <p:spPr>
              <a:xfrm>
                <a:off x="5219640" y="2514600"/>
                <a:ext cx="2211480" cy="63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5219640" y="2514600"/>
                <a:ext cx="2211480" cy="639720"/>
                <a:chOff x="5219640" y="2514600"/>
                <a:chExt cx="2211480" cy="6397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5244840" y="2514600"/>
                  <a:ext cx="21607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219640" y="2514600"/>
                  <a:ext cx="2211480" cy="63972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7" name=""/>
            <p:cNvGrpSpPr/>
            <p:nvPr/>
          </p:nvGrpSpPr>
          <p:grpSpPr>
            <a:xfrm>
              <a:off x="838080" y="3154320"/>
              <a:ext cx="2193840" cy="1917720"/>
              <a:chOff x="838080" y="3154320"/>
              <a:chExt cx="2193840" cy="1917720"/>
            </a:xfrm>
          </p:grpSpPr>
          <p:sp>
            <p:nvSpPr>
              <p:cNvPr id="378" name=""/>
              <p:cNvSpPr/>
              <p:nvPr/>
            </p:nvSpPr>
            <p:spPr>
              <a:xfrm>
                <a:off x="838080" y="3154320"/>
                <a:ext cx="2193840" cy="191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838080" y="3154320"/>
                <a:ext cx="2193840" cy="1917720"/>
                <a:chOff x="838080" y="3154320"/>
                <a:chExt cx="2193840" cy="19177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863640" y="3154320"/>
                  <a:ext cx="2143080" cy="191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838080" y="3154320"/>
                  <a:ext cx="2193840" cy="191772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3031920" y="3154320"/>
              <a:ext cx="2187720" cy="1917720"/>
              <a:chOff x="3031920" y="3154320"/>
              <a:chExt cx="2187720" cy="1917720"/>
            </a:xfrm>
          </p:grpSpPr>
          <p:sp>
            <p:nvSpPr>
              <p:cNvPr id="383" name=""/>
              <p:cNvSpPr/>
              <p:nvPr/>
            </p:nvSpPr>
            <p:spPr>
              <a:xfrm>
                <a:off x="3031920" y="3154320"/>
                <a:ext cx="2187720" cy="191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3031920" y="3154320"/>
                <a:ext cx="2187720" cy="1917720"/>
                <a:chOff x="3031920" y="3154320"/>
                <a:chExt cx="2187720" cy="19177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057480" y="3154320"/>
                  <a:ext cx="2136600" cy="191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Пишут с опорой на запись в тетради, сделанную накануне. (Орфографическая работа)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031920" y="3154320"/>
                  <a:ext cx="2187720" cy="191772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7" name=""/>
            <p:cNvGrpSpPr/>
            <p:nvPr/>
          </p:nvGrpSpPr>
          <p:grpSpPr>
            <a:xfrm>
              <a:off x="5219640" y="3154320"/>
              <a:ext cx="2211480" cy="1917720"/>
              <a:chOff x="5219640" y="3154320"/>
              <a:chExt cx="2211480" cy="1917720"/>
            </a:xfrm>
          </p:grpSpPr>
          <p:sp>
            <p:nvSpPr>
              <p:cNvPr id="388" name=""/>
              <p:cNvSpPr/>
              <p:nvPr/>
            </p:nvSpPr>
            <p:spPr>
              <a:xfrm>
                <a:off x="5219640" y="3154320"/>
                <a:ext cx="2211480" cy="1917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5219640" y="3154320"/>
                <a:ext cx="2211480" cy="1917720"/>
                <a:chOff x="5219640" y="3154320"/>
                <a:chExt cx="2211480" cy="191772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244840" y="3154320"/>
                  <a:ext cx="2160720" cy="1917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Работают       на       карточке: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вставляют  в  текст диктанта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пропущенные орфограммы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Используют зрительную опору</a:t>
                  </a:r>
                  <a:r>
                    <a:rPr b="0" lang="ru-RU" sz="1000" spc="-1" strike="noStrike">
                      <a:solidFill>
                        <a:srgbClr val="545472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запись</a:t>
                  </a:r>
                  <a:r>
                    <a:rPr b="0" lang="ru-RU" sz="1200" spc="-1" strike="noStrike">
                      <a:solidFill>
                        <a:srgbClr val="545472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в тетради,   сделаннук</a:t>
                  </a:r>
                  <a:r>
                    <a:rPr b="0" lang="ru-RU" sz="1000" spc="-1" strike="noStrike">
                      <a:solidFill>
                        <a:srgbClr val="545472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накануне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219640" y="3154320"/>
                  <a:ext cx="2211480" cy="191772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92" name=""/>
          <p:cNvSpPr/>
          <p:nvPr/>
        </p:nvSpPr>
        <p:spPr>
          <a:xfrm>
            <a:off x="0" y="76550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3760" y="129528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ff6600"/>
                </a:solidFill>
                <a:latin typeface="Times New Roman"/>
              </a:rPr>
              <a:t>ой</a:t>
            </a:r>
            <a:r>
              <a:rPr b="0" lang="en-US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уровень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2120" y="533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Диктант.</a:t>
            </a:r>
            <a:r>
              <a:rPr b="0" lang="en-US" sz="11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80880" y="380880"/>
            <a:ext cx="9144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Задани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е к диктанту: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1) разберите по членам предложения, начертите схему предложения</a:t>
            </a: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Журавли летели над лесами, полями, шумными городами.»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2) Во второй части текста определите падеж имён существительных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2743200"/>
            <a:ext cx="6857280" cy="3450240"/>
            <a:chOff x="914400" y="2743200"/>
            <a:chExt cx="6857280" cy="3450240"/>
          </a:xfrm>
        </p:grpSpPr>
        <p:grpSp>
          <p:nvGrpSpPr>
            <p:cNvPr id="397" name=""/>
            <p:cNvGrpSpPr/>
            <p:nvPr/>
          </p:nvGrpSpPr>
          <p:grpSpPr>
            <a:xfrm>
              <a:off x="914400" y="2743200"/>
              <a:ext cx="2285280" cy="848880"/>
              <a:chOff x="914400" y="2743200"/>
              <a:chExt cx="2285280" cy="848880"/>
            </a:xfrm>
          </p:grpSpPr>
          <p:sp>
            <p:nvSpPr>
              <p:cNvPr id="398" name=""/>
              <p:cNvSpPr/>
              <p:nvPr/>
            </p:nvSpPr>
            <p:spPr>
              <a:xfrm>
                <a:off x="914400" y="2743200"/>
                <a:ext cx="2285280" cy="84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914400" y="2743200"/>
                <a:ext cx="2284920" cy="848520"/>
                <a:chOff x="914400" y="2743200"/>
                <a:chExt cx="2284920" cy="8485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940680" y="2743200"/>
                  <a:ext cx="2232360" cy="848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009900"/>
                      </a:solidFill>
                      <a:latin typeface="Times New Roman"/>
                      <a:ea typeface="Times New Roman"/>
                    </a:rPr>
                    <a:t>1-ый уровень</a:t>
                  </a:r>
                  <a:endParaRPr b="0" lang="en-US" sz="19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9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914400" y="2743200"/>
                  <a:ext cx="2284920" cy="848520"/>
                </a:xfrm>
                <a:prstGeom prst="rect">
                  <a:avLst/>
                </a:prstGeom>
                <a:noFill/>
                <a:ln w="0">
                  <a:solidFill>
                    <a:srgbClr val="00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2" name=""/>
            <p:cNvGrpSpPr/>
            <p:nvPr/>
          </p:nvGrpSpPr>
          <p:grpSpPr>
            <a:xfrm>
              <a:off x="3200040" y="2743200"/>
              <a:ext cx="2275560" cy="848880"/>
              <a:chOff x="3200040" y="2743200"/>
              <a:chExt cx="2275560" cy="848880"/>
            </a:xfrm>
          </p:grpSpPr>
          <p:sp>
            <p:nvSpPr>
              <p:cNvPr id="403" name=""/>
              <p:cNvSpPr/>
              <p:nvPr/>
            </p:nvSpPr>
            <p:spPr>
              <a:xfrm>
                <a:off x="3200040" y="2743200"/>
                <a:ext cx="2275560" cy="84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3200040" y="2743200"/>
                <a:ext cx="2275200" cy="848520"/>
                <a:chOff x="3200040" y="2743200"/>
                <a:chExt cx="2275200" cy="84852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3226320" y="2743200"/>
                  <a:ext cx="2222280" cy="848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6600"/>
                      </a:solidFill>
                      <a:latin typeface="Times New Roman"/>
                      <a:ea typeface="Times New Roman"/>
                    </a:rPr>
                    <a:t>2-ой уровень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200040" y="2743200"/>
                  <a:ext cx="2275200" cy="848520"/>
                </a:xfrm>
                <a:prstGeom prst="rect">
                  <a:avLst/>
                </a:prstGeom>
                <a:noFill/>
                <a:ln w="0">
                  <a:solidFill>
                    <a:srgbClr val="00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7" name=""/>
            <p:cNvGrpSpPr/>
            <p:nvPr/>
          </p:nvGrpSpPr>
          <p:grpSpPr>
            <a:xfrm>
              <a:off x="5476320" y="2743200"/>
              <a:ext cx="2295360" cy="848880"/>
              <a:chOff x="5476320" y="2743200"/>
              <a:chExt cx="2295360" cy="848880"/>
            </a:xfrm>
          </p:grpSpPr>
          <p:sp>
            <p:nvSpPr>
              <p:cNvPr id="408" name=""/>
              <p:cNvSpPr/>
              <p:nvPr/>
            </p:nvSpPr>
            <p:spPr>
              <a:xfrm>
                <a:off x="5476320" y="2743200"/>
                <a:ext cx="2295360" cy="84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5476320" y="2743200"/>
                <a:ext cx="2295000" cy="848520"/>
                <a:chOff x="5476320" y="2743200"/>
                <a:chExt cx="2295000" cy="8485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5502240" y="2743200"/>
                  <a:ext cx="2242800" cy="848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3-ий уровень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476320" y="2743200"/>
                  <a:ext cx="2295000" cy="848520"/>
                </a:xfrm>
                <a:prstGeom prst="rect">
                  <a:avLst/>
                </a:prstGeom>
                <a:noFill/>
                <a:ln w="0">
                  <a:solidFill>
                    <a:srgbClr val="00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914400" y="3592440"/>
              <a:ext cx="2285280" cy="2601000"/>
              <a:chOff x="914400" y="3592440"/>
              <a:chExt cx="2285280" cy="2601000"/>
            </a:xfrm>
          </p:grpSpPr>
          <p:sp>
            <p:nvSpPr>
              <p:cNvPr id="413" name=""/>
              <p:cNvSpPr/>
              <p:nvPr/>
            </p:nvSpPr>
            <p:spPr>
              <a:xfrm>
                <a:off x="914400" y="3592440"/>
                <a:ext cx="2285280" cy="2601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414" name=""/>
              <p:cNvGrpSpPr/>
              <p:nvPr/>
            </p:nvGrpSpPr>
            <p:grpSpPr>
              <a:xfrm>
                <a:off x="914400" y="3592440"/>
                <a:ext cx="2284920" cy="2600640"/>
                <a:chOff x="914400" y="3592440"/>
                <a:chExt cx="2284920" cy="260064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940680" y="3592440"/>
                  <a:ext cx="2232360" cy="2600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Работают самостоятельно. Задания выполняют в полном объёме.</a:t>
                  </a: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14400" y="3592440"/>
                  <a:ext cx="2284920" cy="2600640"/>
                </a:xfrm>
                <a:prstGeom prst="rect">
                  <a:avLst/>
                </a:prstGeom>
                <a:noFill/>
                <a:ln w="0">
                  <a:solidFill>
                    <a:srgbClr val="00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7" name=""/>
            <p:cNvGrpSpPr/>
            <p:nvPr/>
          </p:nvGrpSpPr>
          <p:grpSpPr>
            <a:xfrm>
              <a:off x="3200040" y="3592440"/>
              <a:ext cx="2275560" cy="2601000"/>
              <a:chOff x="3200040" y="3592440"/>
              <a:chExt cx="2275560" cy="2601000"/>
            </a:xfrm>
          </p:grpSpPr>
          <p:sp>
            <p:nvSpPr>
              <p:cNvPr id="418" name=""/>
              <p:cNvSpPr/>
              <p:nvPr/>
            </p:nvSpPr>
            <p:spPr>
              <a:xfrm>
                <a:off x="3200040" y="3592440"/>
                <a:ext cx="2275560" cy="2601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3200040" y="3592440"/>
                <a:ext cx="2275200" cy="2600640"/>
                <a:chOff x="3200040" y="3592440"/>
                <a:chExt cx="2275200" cy="26006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3226320" y="3592440"/>
                  <a:ext cx="2222280" cy="2600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Первое  задание выполняют,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используя памятку. Второе   задание   сокращается: предлагается определить падеж лмён      существительных в первых двух предложениях.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200040" y="3592440"/>
                  <a:ext cx="2275200" cy="2600640"/>
                </a:xfrm>
                <a:prstGeom prst="rect">
                  <a:avLst/>
                </a:prstGeom>
                <a:noFill/>
                <a:ln w="0">
                  <a:solidFill>
                    <a:srgbClr val="00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2" name=""/>
            <p:cNvGrpSpPr/>
            <p:nvPr/>
          </p:nvGrpSpPr>
          <p:grpSpPr>
            <a:xfrm>
              <a:off x="5476320" y="3592440"/>
              <a:ext cx="2295360" cy="2601000"/>
              <a:chOff x="5476320" y="3592440"/>
              <a:chExt cx="2295360" cy="2601000"/>
            </a:xfrm>
          </p:grpSpPr>
          <p:sp>
            <p:nvSpPr>
              <p:cNvPr id="423" name=""/>
              <p:cNvSpPr/>
              <p:nvPr/>
            </p:nvSpPr>
            <p:spPr>
              <a:xfrm>
                <a:off x="5476320" y="3592440"/>
                <a:ext cx="2295360" cy="2601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5476320" y="3592440"/>
                <a:ext cx="2295000" cy="2600640"/>
                <a:chOff x="5476320" y="3592440"/>
                <a:chExt cx="2295000" cy="260064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5502240" y="3592440"/>
                  <a:ext cx="2242800" cy="2600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Первое задание выполняют под руководством учителя. Второе задание сокращается: предлагается          определить падеж имён существительных в первом предложении. Пользуются      памяткой      с вопросами падежей.</a:t>
                  </a: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476320" y="3592440"/>
                  <a:ext cx="2295000" cy="2600640"/>
                </a:xfrm>
                <a:prstGeom prst="rect">
                  <a:avLst/>
                </a:prstGeom>
                <a:noFill/>
                <a:ln w="0">
                  <a:solidFill>
                    <a:srgbClr val="0099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7" name=""/>
          <p:cNvSpPr/>
          <p:nvPr/>
        </p:nvSpPr>
        <p:spPr>
          <a:xfrm>
            <a:off x="0" y="4861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Формы ДЦП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Гиперкенетическая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657600" y="838080"/>
            <a:ext cx="5105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грубые нарушения движений, насильственные движения, речевые расстройства. Интеллект сохранный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98108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Tahoma"/>
              </a:rPr>
              <a:t>Спастическая диплегия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1905120"/>
            <a:ext cx="5791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Tahoma"/>
              </a:rPr>
              <a:t>двигательные нарушения различной степени, пространственные нарушения, снижения психических процессов. Интеллект сохранный. Наиболее благоприятна для массового обучения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657600"/>
            <a:ext cx="2819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Атонически-ататическая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3657600"/>
            <a:ext cx="5791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вялость мышечного тонуса, быстрая утомляемость, низкая работоспособность, нарушение мыслительных операций, снижение интеллекта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181480"/>
            <a:ext cx="4191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ahoma"/>
              </a:rPr>
              <a:t>Гемипаретическая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5334120"/>
            <a:ext cx="5790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5105520"/>
            <a:ext cx="5562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двигательные нарушения, вызванные поражением левой (правой) половины тела, нарушение ориентировок в пространстве, речевые расстройства, снижение психических процессов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75840" y="990720"/>
            <a:ext cx="659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Дифференцированный подход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осуществляется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3168720"/>
            <a:ext cx="2362320" cy="5205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а уроках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4648320"/>
            <a:ext cx="4114800" cy="9471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а индивидуальных коррекционных занятиях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124080"/>
            <a:ext cx="4419720" cy="94716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 предлагаемых учащимся домашних заданиях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371240" y="2209680"/>
            <a:ext cx="2895480" cy="838440"/>
          </a:xfrm>
          <a:prstGeom prst="line">
            <a:avLst/>
          </a:prstGeom>
          <a:ln w="15840">
            <a:solidFill>
              <a:srgbClr val="660066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209680"/>
            <a:ext cx="0" cy="2362320"/>
          </a:xfrm>
          <a:prstGeom prst="line">
            <a:avLst/>
          </a:prstGeom>
          <a:ln w="15840">
            <a:solidFill>
              <a:srgbClr val="660066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2209680"/>
            <a:ext cx="2514600" cy="838440"/>
          </a:xfrm>
          <a:prstGeom prst="line">
            <a:avLst/>
          </a:prstGeom>
          <a:ln w="15840">
            <a:solidFill>
              <a:srgbClr val="660066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ифференцированный подход на разных этапах уро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1. Объяснение новой тем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2. Этап закрепления материала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545472"/>
                </a:solidFill>
                <a:latin typeface="Tahoma"/>
              </a:rPr>
              <a:t>Дифференциация заданий для самостоятельной работы: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                                            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- по уровням сложности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о объему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о способу выполнения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Разноуровневые карточки                                                       с заданиями по русскому языку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67440" cy="23623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Задание.</a:t>
            </a:r>
            <a:r>
              <a:rPr b="0" lang="ru-RU" sz="16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545472"/>
                </a:solidFill>
                <a:latin typeface="Times New Roman"/>
              </a:rPr>
              <a:t>Найди и выпиши слова с     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45472"/>
                </a:solidFill>
                <a:latin typeface="Times New Roman"/>
              </a:rPr>
              <a:t>безударной гласной «А».                                   Подбери к ним проверочные слова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Тр . ва, тр . па, хор . ши, ч . сок,                         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с . довник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3809880"/>
            <a:ext cx="4191120" cy="236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Задание.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К словам 1-го столбика подбери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однокоренные слова из 2-го столбика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Цвет                                        л . нтяй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вист                                     зар . дил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Лень                                       св . сток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Заряд                                     цв . тник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733920"/>
            <a:ext cx="4267080" cy="24382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Задание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пиши, вставляя пропущенные буквы.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дели корень, поставь знак ударения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ар – варить, глаз – гл . зок, мир – м . рить,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нос – н . совой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1066680"/>
            <a:ext cx="4419720" cy="2362320"/>
          </a:xfrm>
          <a:prstGeom prst="rect">
            <a:avLst/>
          </a:prstGeom>
          <a:solidFill>
            <a:srgbClr val="c7c7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Задание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45472"/>
                </a:solidFill>
                <a:latin typeface="Times New Roman"/>
              </a:rPr>
              <a:t>Выпиши слова с безударной гласной «е»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5472"/>
                </a:solidFill>
                <a:latin typeface="Times New Roman"/>
              </a:rPr>
              <a:t>Мелок, мел, белый, ребята, земля,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5472"/>
                </a:solidFill>
                <a:latin typeface="Times New Roman"/>
              </a:rPr>
              <a:t>весело, спелый, тепло, лесной, лебеди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04920" y="685800"/>
            <a:ext cx="9144000" cy="16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Административная контрольная работа по математике за 1 четверть</a:t>
            </a: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в 4 классе.</a:t>
            </a:r>
            <a:endParaRPr b="0" lang="en-US" sz="2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1. Задача.</a:t>
            </a:r>
            <a:endParaRPr b="0" lang="en-US" sz="2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Из 32 метров ткани сшили 8 одинаковых платьев. Сколько таких платьев можно</a:t>
            </a:r>
            <a:endParaRPr b="0" lang="en-US" sz="1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сшить из 60 метров ткани?</a:t>
            </a:r>
            <a:endParaRPr b="0" lang="en-US" sz="19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838080" y="2438280"/>
            <a:ext cx="6324480" cy="3543120"/>
            <a:chOff x="838080" y="2438280"/>
            <a:chExt cx="6324480" cy="3543120"/>
          </a:xfrm>
        </p:grpSpPr>
        <p:grpSp>
          <p:nvGrpSpPr>
            <p:cNvPr id="164" name=""/>
            <p:cNvGrpSpPr/>
            <p:nvPr/>
          </p:nvGrpSpPr>
          <p:grpSpPr>
            <a:xfrm>
              <a:off x="838080" y="2438280"/>
              <a:ext cx="2104560" cy="555120"/>
              <a:chOff x="838080" y="2438280"/>
              <a:chExt cx="2104560" cy="555120"/>
            </a:xfrm>
          </p:grpSpPr>
          <p:sp>
            <p:nvSpPr>
              <p:cNvPr id="165" name=""/>
              <p:cNvSpPr/>
              <p:nvPr/>
            </p:nvSpPr>
            <p:spPr>
              <a:xfrm>
                <a:off x="838080" y="2438280"/>
                <a:ext cx="2104560" cy="55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838080" y="2438280"/>
                <a:ext cx="2104560" cy="555120"/>
                <a:chOff x="838080" y="2438280"/>
                <a:chExt cx="2104560" cy="555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862560" y="2438280"/>
                  <a:ext cx="2055600" cy="55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ff00"/>
                      </a:solidFill>
                      <a:latin typeface="Times New Roman"/>
                      <a:ea typeface="Times New Roman"/>
                    </a:rPr>
                    <a:t>1-ый уровень</a:t>
                  </a: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38080" y="2438280"/>
                  <a:ext cx="2104560" cy="5551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9" name=""/>
            <p:cNvGrpSpPr/>
            <p:nvPr/>
          </p:nvGrpSpPr>
          <p:grpSpPr>
            <a:xfrm>
              <a:off x="2942640" y="2438280"/>
              <a:ext cx="2095560" cy="555120"/>
              <a:chOff x="2942640" y="2438280"/>
              <a:chExt cx="2095560" cy="555120"/>
            </a:xfrm>
          </p:grpSpPr>
          <p:sp>
            <p:nvSpPr>
              <p:cNvPr id="170" name=""/>
              <p:cNvSpPr/>
              <p:nvPr/>
            </p:nvSpPr>
            <p:spPr>
              <a:xfrm>
                <a:off x="2942640" y="2438280"/>
                <a:ext cx="2095560" cy="55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2942640" y="2438280"/>
                <a:ext cx="2095560" cy="555120"/>
                <a:chOff x="2942640" y="2438280"/>
                <a:chExt cx="2095560" cy="5551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967120" y="2438280"/>
                  <a:ext cx="2046600" cy="55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f6600"/>
                      </a:solidFill>
                      <a:latin typeface="Times New Roman"/>
                      <a:ea typeface="Times New Roman"/>
                    </a:rPr>
                    <a:t>2-ой уровень</a:t>
                  </a: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942640" y="2438280"/>
                  <a:ext cx="2095560" cy="5551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" name=""/>
            <p:cNvGrpSpPr/>
            <p:nvPr/>
          </p:nvGrpSpPr>
          <p:grpSpPr>
            <a:xfrm>
              <a:off x="5038200" y="2438280"/>
              <a:ext cx="2124360" cy="555120"/>
              <a:chOff x="5038200" y="2438280"/>
              <a:chExt cx="2124360" cy="555120"/>
            </a:xfrm>
          </p:grpSpPr>
          <p:sp>
            <p:nvSpPr>
              <p:cNvPr id="175" name=""/>
              <p:cNvSpPr/>
              <p:nvPr/>
            </p:nvSpPr>
            <p:spPr>
              <a:xfrm>
                <a:off x="5038200" y="2438280"/>
                <a:ext cx="2124360" cy="555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5038200" y="2438280"/>
                <a:ext cx="2124360" cy="555120"/>
                <a:chOff x="5038200" y="2438280"/>
                <a:chExt cx="2124360" cy="55512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062320" y="2438280"/>
                  <a:ext cx="2075400" cy="555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3-ий уровень</a:t>
                  </a: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038200" y="2438280"/>
                  <a:ext cx="2124360" cy="5551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" name=""/>
            <p:cNvGrpSpPr/>
            <p:nvPr/>
          </p:nvGrpSpPr>
          <p:grpSpPr>
            <a:xfrm>
              <a:off x="838080" y="2993400"/>
              <a:ext cx="2104560" cy="2988000"/>
              <a:chOff x="838080" y="2993400"/>
              <a:chExt cx="2104560" cy="2988000"/>
            </a:xfrm>
          </p:grpSpPr>
          <p:sp>
            <p:nvSpPr>
              <p:cNvPr id="180" name=""/>
              <p:cNvSpPr/>
              <p:nvPr/>
            </p:nvSpPr>
            <p:spPr>
              <a:xfrm>
                <a:off x="838080" y="2993400"/>
                <a:ext cx="2104560" cy="2988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838080" y="2993400"/>
                <a:ext cx="2104560" cy="2988000"/>
                <a:chOff x="838080" y="2993400"/>
                <a:chExt cx="2104560" cy="298800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862560" y="2993400"/>
                  <a:ext cx="2055600" cy="298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Самостоятельное решение задачи учащимися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38080" y="2993400"/>
                  <a:ext cx="2104560" cy="29880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2942640" y="2993400"/>
              <a:ext cx="2095560" cy="2988000"/>
              <a:chOff x="2942640" y="2993400"/>
              <a:chExt cx="2095560" cy="2988000"/>
            </a:xfrm>
          </p:grpSpPr>
          <p:sp>
            <p:nvSpPr>
              <p:cNvPr id="185" name=""/>
              <p:cNvSpPr/>
              <p:nvPr/>
            </p:nvSpPr>
            <p:spPr>
              <a:xfrm>
                <a:off x="2942640" y="2993400"/>
                <a:ext cx="2095560" cy="2988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2942640" y="2993400"/>
                <a:ext cx="2095560" cy="2988000"/>
                <a:chOff x="2942640" y="2993400"/>
                <a:chExt cx="2095560" cy="29880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967120" y="2993400"/>
                  <a:ext cx="2046600" cy="298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С помощью вопросов учитель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помогает ученикам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проанализировать условие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задачи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Даётся готовая запись условия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задачи: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32м - 8 п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60м - ? п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942640" y="2993400"/>
                  <a:ext cx="2095560" cy="29880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5038200" y="2993400"/>
              <a:ext cx="2124360" cy="2988000"/>
              <a:chOff x="5038200" y="2993400"/>
              <a:chExt cx="2124360" cy="2988000"/>
            </a:xfrm>
          </p:grpSpPr>
          <p:sp>
            <p:nvSpPr>
              <p:cNvPr id="190" name=""/>
              <p:cNvSpPr/>
              <p:nvPr/>
            </p:nvSpPr>
            <p:spPr>
              <a:xfrm>
                <a:off x="5038200" y="2993400"/>
                <a:ext cx="2124360" cy="2988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5038200" y="2993400"/>
                <a:ext cx="2124360" cy="2988000"/>
                <a:chOff x="5038200" y="2993400"/>
                <a:chExt cx="2124360" cy="2988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062320" y="2993400"/>
                  <a:ext cx="2075400" cy="298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С помощью вопросов учитель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помогает ученикам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проанализировать условие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задачи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Оказание помощи в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составлении плана решения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задачи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Даётся готовая запись условия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задачи: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32м - 8 п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60м - ? п. и готовый план решения: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1)</a:t>
                  </a:r>
                  <a:r>
                    <a:rPr b="0" lang="en-US" sz="13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3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:</a:t>
                  </a: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2)</a:t>
                  </a: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;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5364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038200" y="2993400"/>
                  <a:ext cx="2124360" cy="29880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4" name=""/>
          <p:cNvSpPr/>
          <p:nvPr/>
        </p:nvSpPr>
        <p:spPr>
          <a:xfrm>
            <a:off x="0" y="77659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3049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т и контроль знаний учащихся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3520" y="914400"/>
            <a:ext cx="92199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12680"/>
                <a:tab algn="l" pos="1938240"/>
                <a:tab algn="l" pos="287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2. Примеры.</a:t>
            </a:r>
            <a:endParaRPr b="0" lang="en-US" sz="2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1012680"/>
                <a:tab algn="l" pos="1938240"/>
                <a:tab algn="l" pos="287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1938240"/>
                <a:tab algn="l" pos="287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45472"/>
                </a:solidFill>
                <a:latin typeface="Arial Unicode MS"/>
              </a:rPr>
              <a:t>407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Times New Roman"/>
              </a:rPr>
              <a:t>*2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Arial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545472"/>
                </a:solidFill>
                <a:latin typeface="Arial Unicode MS"/>
              </a:rPr>
              <a:t>*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Times New Roman"/>
              </a:rPr>
              <a:t>462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Arial"/>
              </a:rPr>
              <a:t>	</a:t>
            </a:r>
            <a:r>
              <a:rPr b="0" lang="ru-RU" sz="2000" spc="-1" strike="noStrike">
                <a:solidFill>
                  <a:srgbClr val="545472"/>
                </a:solidFill>
                <a:latin typeface="Arial Unicode MS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Times New Roman"/>
              </a:rPr>
              <a:t>278*3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Arial"/>
              </a:rPr>
              <a:t>	</a:t>
            </a:r>
            <a:r>
              <a:rPr b="0" lang="ru-RU" sz="2000" spc="-1" strike="noStrike">
                <a:solidFill>
                  <a:srgbClr val="545472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Times New Roman"/>
              </a:rPr>
              <a:t>706-428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1938240"/>
                <a:tab algn="l" pos="287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Courier New"/>
              </a:rPr>
              <a:t>812</a:t>
            </a:r>
            <a:r>
              <a:rPr b="0" lang="ru-RU" sz="2000" spc="-1" strike="noStrike">
                <a:solidFill>
                  <a:srgbClr val="545472"/>
                </a:solidFill>
                <a:latin typeface="Tahoma"/>
              </a:rPr>
              <a:t>*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Courier New"/>
              </a:rPr>
              <a:t>2   </a:t>
            </a:r>
            <a:r>
              <a:rPr b="0" lang="ru-RU" sz="2000" spc="-1" strike="noStrike">
                <a:solidFill>
                  <a:srgbClr val="545472"/>
                </a:solidFill>
                <a:latin typeface="Arial Unicode MS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Courier New"/>
              </a:rPr>
              <a:t>537:8   </a:t>
            </a:r>
            <a:r>
              <a:rPr b="0" lang="ru-RU" sz="2000" spc="-1" strike="noStrike">
                <a:solidFill>
                  <a:srgbClr val="545472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Courier New"/>
              </a:rPr>
              <a:t>774:2  </a:t>
            </a:r>
            <a:r>
              <a:rPr b="0" lang="ru-RU" sz="2000" spc="-1" strike="noStrike">
                <a:solidFill>
                  <a:srgbClr val="545472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545472"/>
                </a:solidFill>
                <a:latin typeface="Arial Unicode MS"/>
                <a:ea typeface="Courier New"/>
              </a:rPr>
              <a:t> 246 + 479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1938240"/>
                <a:tab algn="l" pos="287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5472"/>
                </a:solidFill>
                <a:latin typeface="Arial Unicode MS"/>
                <a:ea typeface="Times New Roman"/>
              </a:rPr>
              <a:t> 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2680"/>
                <a:tab algn="l" pos="1938240"/>
                <a:tab algn="l" pos="287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09480" y="3200400"/>
            <a:ext cx="6602400" cy="2055960"/>
            <a:chOff x="609480" y="3200400"/>
            <a:chExt cx="6602400" cy="2055960"/>
          </a:xfrm>
        </p:grpSpPr>
        <p:grpSp>
          <p:nvGrpSpPr>
            <p:cNvPr id="198" name=""/>
            <p:cNvGrpSpPr/>
            <p:nvPr/>
          </p:nvGrpSpPr>
          <p:grpSpPr>
            <a:xfrm>
              <a:off x="609480" y="3200400"/>
              <a:ext cx="2197080" cy="685800"/>
              <a:chOff x="609480" y="3200400"/>
              <a:chExt cx="2197080" cy="685800"/>
            </a:xfrm>
          </p:grpSpPr>
          <p:sp>
            <p:nvSpPr>
              <p:cNvPr id="199" name=""/>
              <p:cNvSpPr/>
              <p:nvPr/>
            </p:nvSpPr>
            <p:spPr>
              <a:xfrm>
                <a:off x="609480" y="3200400"/>
                <a:ext cx="219708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609480" y="3200400"/>
                <a:ext cx="2197080" cy="685800"/>
                <a:chOff x="609480" y="3200400"/>
                <a:chExt cx="2197080" cy="6858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635040" y="3200400"/>
                  <a:ext cx="2146320" cy="68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ff00"/>
                      </a:solidFill>
                      <a:latin typeface="Times New Roman"/>
                      <a:ea typeface="Times New Roman"/>
                    </a:rPr>
                    <a:t>1-ый уровень</a:t>
                  </a: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09480" y="3200400"/>
                  <a:ext cx="2197080" cy="6858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2806560" y="3200400"/>
              <a:ext cx="2190600" cy="685800"/>
              <a:chOff x="2806560" y="3200400"/>
              <a:chExt cx="2190600" cy="685800"/>
            </a:xfrm>
          </p:grpSpPr>
          <p:sp>
            <p:nvSpPr>
              <p:cNvPr id="204" name=""/>
              <p:cNvSpPr/>
              <p:nvPr/>
            </p:nvSpPr>
            <p:spPr>
              <a:xfrm>
                <a:off x="2806560" y="3200400"/>
                <a:ext cx="219060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2806560" y="3200400"/>
                <a:ext cx="2190600" cy="685800"/>
                <a:chOff x="2806560" y="3200400"/>
                <a:chExt cx="2190600" cy="685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832120" y="3200400"/>
                  <a:ext cx="2139840" cy="68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6600"/>
                      </a:solidFill>
                      <a:latin typeface="Times New Roman"/>
                      <a:ea typeface="Times New Roman"/>
                    </a:rPr>
                    <a:t>2-ой уровень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806560" y="3200400"/>
                  <a:ext cx="2190600" cy="6858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997160" y="3200400"/>
              <a:ext cx="2214720" cy="685800"/>
              <a:chOff x="4997160" y="3200400"/>
              <a:chExt cx="2214720" cy="685800"/>
            </a:xfrm>
          </p:grpSpPr>
          <p:sp>
            <p:nvSpPr>
              <p:cNvPr id="209" name=""/>
              <p:cNvSpPr/>
              <p:nvPr/>
            </p:nvSpPr>
            <p:spPr>
              <a:xfrm>
                <a:off x="4997160" y="3200400"/>
                <a:ext cx="221472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997160" y="3200400"/>
                <a:ext cx="2214720" cy="685800"/>
                <a:chOff x="4997160" y="3200400"/>
                <a:chExt cx="2214720" cy="6858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022720" y="3200400"/>
                  <a:ext cx="2163600" cy="68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3 -ий уровень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997160" y="3200400"/>
                  <a:ext cx="2214720" cy="6858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09480" y="3886200"/>
              <a:ext cx="2197080" cy="1370160"/>
              <a:chOff x="609480" y="3886200"/>
              <a:chExt cx="2197080" cy="1370160"/>
            </a:xfrm>
          </p:grpSpPr>
          <p:sp>
            <p:nvSpPr>
              <p:cNvPr id="214" name=""/>
              <p:cNvSpPr/>
              <p:nvPr/>
            </p:nvSpPr>
            <p:spPr>
              <a:xfrm>
                <a:off x="609480" y="3886200"/>
                <a:ext cx="2197080" cy="13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09480" y="3886200"/>
                <a:ext cx="2197080" cy="1370160"/>
                <a:chOff x="609480" y="3886200"/>
                <a:chExt cx="2197080" cy="13701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35040" y="3886200"/>
                  <a:ext cx="2146320" cy="13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Учащиеся самостоятельно списывают примеры с доски и решают их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09480" y="3886200"/>
                  <a:ext cx="2197080" cy="13701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8" name=""/>
            <p:cNvGrpSpPr/>
            <p:nvPr/>
          </p:nvGrpSpPr>
          <p:grpSpPr>
            <a:xfrm>
              <a:off x="2806560" y="3886200"/>
              <a:ext cx="2190600" cy="1370160"/>
              <a:chOff x="2806560" y="3886200"/>
              <a:chExt cx="2190600" cy="1370160"/>
            </a:xfrm>
          </p:grpSpPr>
          <p:sp>
            <p:nvSpPr>
              <p:cNvPr id="219" name=""/>
              <p:cNvSpPr/>
              <p:nvPr/>
            </p:nvSpPr>
            <p:spPr>
              <a:xfrm>
                <a:off x="2806560" y="3886200"/>
                <a:ext cx="2190600" cy="13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2806560" y="3886200"/>
                <a:ext cx="2190600" cy="1370160"/>
                <a:chOff x="2806560" y="3886200"/>
                <a:chExt cx="2190600" cy="13701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2832120" y="3886200"/>
                  <a:ext cx="2139840" cy="13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Сократить количество примеров (2- ой столбик примеров исключить)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806560" y="3886200"/>
                  <a:ext cx="2190600" cy="13701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4997160" y="3886200"/>
              <a:ext cx="2214720" cy="1370160"/>
              <a:chOff x="4997160" y="3886200"/>
              <a:chExt cx="2214720" cy="1370160"/>
            </a:xfrm>
          </p:grpSpPr>
          <p:sp>
            <p:nvSpPr>
              <p:cNvPr id="224" name=""/>
              <p:cNvSpPr/>
              <p:nvPr/>
            </p:nvSpPr>
            <p:spPr>
              <a:xfrm>
                <a:off x="4997160" y="3886200"/>
                <a:ext cx="2214720" cy="13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4997160" y="3886200"/>
                <a:ext cx="2214720" cy="1370160"/>
                <a:chOff x="4997160" y="3886200"/>
                <a:chExt cx="2214720" cy="13701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022720" y="3886200"/>
                  <a:ext cx="2163600" cy="13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Сократить количество примеров (2- ой столбик примеров исключить). Дать готовую запись столбиков примеров.</a:t>
                  </a: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997160" y="3886200"/>
                  <a:ext cx="2214720" cy="137016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533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ждение периметра и площади прямоугольника.</a:t>
            </a:r>
            <a:endParaRPr b="0" lang="en-US" sz="2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 периметр и площадь прямоугольника со сторонами 8 см и 6 см</a:t>
            </a:r>
            <a:endParaRPr b="0" lang="en-US" sz="2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90720" y="1523880"/>
            <a:ext cx="6592320" cy="4788000"/>
            <a:chOff x="990720" y="1523880"/>
            <a:chExt cx="6592320" cy="4788000"/>
          </a:xfrm>
        </p:grpSpPr>
        <p:grpSp>
          <p:nvGrpSpPr>
            <p:cNvPr id="230" name=""/>
            <p:cNvGrpSpPr/>
            <p:nvPr/>
          </p:nvGrpSpPr>
          <p:grpSpPr>
            <a:xfrm>
              <a:off x="990720" y="2209680"/>
              <a:ext cx="2193480" cy="655560"/>
              <a:chOff x="990720" y="2209680"/>
              <a:chExt cx="2193480" cy="655560"/>
            </a:xfrm>
          </p:grpSpPr>
          <p:sp>
            <p:nvSpPr>
              <p:cNvPr id="231" name=""/>
              <p:cNvSpPr/>
              <p:nvPr/>
            </p:nvSpPr>
            <p:spPr>
              <a:xfrm>
                <a:off x="990720" y="2209680"/>
                <a:ext cx="219348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015920" y="2209680"/>
                <a:ext cx="214272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Учащиеся работают</a:t>
                </a: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184200" y="2209680"/>
              <a:ext cx="2187360" cy="655560"/>
              <a:chOff x="3184200" y="2209680"/>
              <a:chExt cx="2187360" cy="655560"/>
            </a:xfrm>
          </p:grpSpPr>
          <p:sp>
            <p:nvSpPr>
              <p:cNvPr id="234" name=""/>
              <p:cNvSpPr/>
              <p:nvPr/>
            </p:nvSpPr>
            <p:spPr>
              <a:xfrm>
                <a:off x="3184200" y="2209680"/>
                <a:ext cx="218736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209400" y="2209680"/>
                <a:ext cx="213624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Помощь учителя:</a:t>
                </a: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371920" y="2209680"/>
              <a:ext cx="2211120" cy="655560"/>
              <a:chOff x="5371920" y="2209680"/>
              <a:chExt cx="2211120" cy="655560"/>
            </a:xfrm>
          </p:grpSpPr>
          <p:sp>
            <p:nvSpPr>
              <p:cNvPr id="237" name=""/>
              <p:cNvSpPr/>
              <p:nvPr/>
            </p:nvSpPr>
            <p:spPr>
              <a:xfrm>
                <a:off x="5371920" y="2209680"/>
                <a:ext cx="221112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396760" y="2209680"/>
                <a:ext cx="216036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Помощь учителя:</a:t>
                </a: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990720" y="2865240"/>
              <a:ext cx="2193480" cy="655920"/>
              <a:chOff x="990720" y="2865240"/>
              <a:chExt cx="2193480" cy="655920"/>
            </a:xfrm>
          </p:grpSpPr>
          <p:sp>
            <p:nvSpPr>
              <p:cNvPr id="240" name=""/>
              <p:cNvSpPr/>
              <p:nvPr/>
            </p:nvSpPr>
            <p:spPr>
              <a:xfrm>
                <a:off x="990720" y="2865240"/>
                <a:ext cx="2193480" cy="655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015920" y="2865240"/>
                <a:ext cx="2142720" cy="655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300" spc="-1" strike="noStrike">
                    <a:solidFill>
                      <a:srgbClr val="545472"/>
                    </a:solidFill>
                    <a:latin typeface="Times New Roman"/>
                  </a:rPr>
                  <a:t>с</a:t>
                </a:r>
                <a:r>
                  <a:rPr b="0" lang="en-US" sz="13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амостоятельно.</a:t>
                </a: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184200" y="2865240"/>
              <a:ext cx="2187360" cy="655920"/>
              <a:chOff x="3184200" y="2865240"/>
              <a:chExt cx="2187360" cy="655920"/>
            </a:xfrm>
          </p:grpSpPr>
          <p:sp>
            <p:nvSpPr>
              <p:cNvPr id="243" name=""/>
              <p:cNvSpPr/>
              <p:nvPr/>
            </p:nvSpPr>
            <p:spPr>
              <a:xfrm>
                <a:off x="3184200" y="2865240"/>
                <a:ext cx="2187360" cy="655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09400" y="2865240"/>
                <a:ext cx="2136240" cy="655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Устно уточнить знания</a:t>
                </a: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371920" y="2865240"/>
              <a:ext cx="2211120" cy="655920"/>
              <a:chOff x="5371920" y="2865240"/>
              <a:chExt cx="2211120" cy="655920"/>
            </a:xfrm>
          </p:grpSpPr>
          <p:sp>
            <p:nvSpPr>
              <p:cNvPr id="246" name=""/>
              <p:cNvSpPr/>
              <p:nvPr/>
            </p:nvSpPr>
            <p:spPr>
              <a:xfrm>
                <a:off x="5371920" y="2865240"/>
                <a:ext cx="2211120" cy="655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396760" y="2865240"/>
                <a:ext cx="2160360" cy="655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Устно уточнить знания</a:t>
                </a: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990720" y="3521160"/>
              <a:ext cx="2193480" cy="655560"/>
              <a:chOff x="990720" y="3521160"/>
              <a:chExt cx="2193480" cy="655560"/>
            </a:xfrm>
          </p:grpSpPr>
          <p:sp>
            <p:nvSpPr>
              <p:cNvPr id="249" name=""/>
              <p:cNvSpPr/>
              <p:nvPr/>
            </p:nvSpPr>
            <p:spPr>
              <a:xfrm>
                <a:off x="990720" y="3521160"/>
                <a:ext cx="219348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015920" y="3521160"/>
                <a:ext cx="214272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3184200" y="3521160"/>
              <a:ext cx="2187360" cy="655560"/>
              <a:chOff x="3184200" y="3521160"/>
              <a:chExt cx="2187360" cy="655560"/>
            </a:xfrm>
          </p:grpSpPr>
          <p:sp>
            <p:nvSpPr>
              <p:cNvPr id="252" name=""/>
              <p:cNvSpPr/>
              <p:nvPr/>
            </p:nvSpPr>
            <p:spPr>
              <a:xfrm>
                <a:off x="3184200" y="3521160"/>
                <a:ext cx="218736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09400" y="3521160"/>
                <a:ext cx="213624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учащихся о нахождении</a:t>
                </a: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5371920" y="3521160"/>
              <a:ext cx="2211120" cy="655560"/>
              <a:chOff x="5371920" y="3521160"/>
              <a:chExt cx="2211120" cy="655560"/>
            </a:xfrm>
          </p:grpSpPr>
          <p:sp>
            <p:nvSpPr>
              <p:cNvPr id="255" name=""/>
              <p:cNvSpPr/>
              <p:nvPr/>
            </p:nvSpPr>
            <p:spPr>
              <a:xfrm>
                <a:off x="5371920" y="3521160"/>
                <a:ext cx="221112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396760" y="3521160"/>
                <a:ext cx="216036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учащихся о нахождении</a:t>
                </a: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990720" y="4176720"/>
              <a:ext cx="2193480" cy="655560"/>
              <a:chOff x="990720" y="4176720"/>
              <a:chExt cx="2193480" cy="655560"/>
            </a:xfrm>
          </p:grpSpPr>
          <p:sp>
            <p:nvSpPr>
              <p:cNvPr id="258" name=""/>
              <p:cNvSpPr/>
              <p:nvPr/>
            </p:nvSpPr>
            <p:spPr>
              <a:xfrm>
                <a:off x="990720" y="4176720"/>
                <a:ext cx="219348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015920" y="4176720"/>
                <a:ext cx="214272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0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3184200" y="4176720"/>
              <a:ext cx="2187360" cy="655560"/>
              <a:chOff x="3184200" y="4176720"/>
              <a:chExt cx="2187360" cy="655560"/>
            </a:xfrm>
          </p:grpSpPr>
          <p:sp>
            <p:nvSpPr>
              <p:cNvPr id="261" name=""/>
              <p:cNvSpPr/>
              <p:nvPr/>
            </p:nvSpPr>
            <p:spPr>
              <a:xfrm>
                <a:off x="3184200" y="4176720"/>
                <a:ext cx="218736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209400" y="4176720"/>
                <a:ext cx="213624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периметра и площади</a:t>
                </a: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371920" y="4176720"/>
              <a:ext cx="2211120" cy="655560"/>
              <a:chOff x="5371920" y="4176720"/>
              <a:chExt cx="2211120" cy="655560"/>
            </a:xfrm>
          </p:grpSpPr>
          <p:sp>
            <p:nvSpPr>
              <p:cNvPr id="264" name=""/>
              <p:cNvSpPr/>
              <p:nvPr/>
            </p:nvSpPr>
            <p:spPr>
              <a:xfrm>
                <a:off x="5371920" y="4176720"/>
                <a:ext cx="221112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396760" y="4176720"/>
                <a:ext cx="2160360" cy="655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545472"/>
                    </a:solidFill>
                    <a:latin typeface="Times New Roman"/>
                    <a:ea typeface="Times New Roman"/>
                  </a:rPr>
                  <a:t>периметра и площади</a:t>
                </a: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990720" y="1523880"/>
              <a:ext cx="2193480" cy="685800"/>
              <a:chOff x="990720" y="1523880"/>
              <a:chExt cx="2193480" cy="685800"/>
            </a:xfrm>
          </p:grpSpPr>
          <p:sp>
            <p:nvSpPr>
              <p:cNvPr id="267" name=""/>
              <p:cNvSpPr/>
              <p:nvPr/>
            </p:nvSpPr>
            <p:spPr>
              <a:xfrm>
                <a:off x="990720" y="1523880"/>
                <a:ext cx="219348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990720" y="1523880"/>
                <a:ext cx="2193480" cy="685800"/>
                <a:chOff x="990720" y="1523880"/>
                <a:chExt cx="2193480" cy="6858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1015920" y="1523880"/>
                  <a:ext cx="2142720" cy="685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9900"/>
                      </a:solidFill>
                      <a:latin typeface="Times New Roman"/>
                      <a:ea typeface="Times New Roman"/>
                    </a:rPr>
                    <a:t>1 -ый уровень</a:t>
                  </a: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990720" y="1523880"/>
                  <a:ext cx="2193480" cy="685800"/>
                </a:xfrm>
                <a:prstGeom prst="rect">
                  <a:avLst/>
                </a:prstGeom>
                <a:noFill/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184200" y="1523880"/>
              <a:ext cx="2187360" cy="685800"/>
              <a:chOff x="3184200" y="1523880"/>
              <a:chExt cx="2187360" cy="685800"/>
            </a:xfrm>
          </p:grpSpPr>
          <p:sp>
            <p:nvSpPr>
              <p:cNvPr id="272" name=""/>
              <p:cNvSpPr/>
              <p:nvPr/>
            </p:nvSpPr>
            <p:spPr>
              <a:xfrm>
                <a:off x="3184200" y="1523880"/>
                <a:ext cx="218736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184200" y="1523880"/>
                <a:ext cx="2187360" cy="685800"/>
                <a:chOff x="3184200" y="1523880"/>
                <a:chExt cx="2187360" cy="6858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209400" y="1523880"/>
                  <a:ext cx="2136240" cy="685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6600"/>
                      </a:solidFill>
                      <a:latin typeface="Times New Roman"/>
                      <a:ea typeface="Times New Roman"/>
                    </a:rPr>
                    <a:t>2-ой уровень</a:t>
                  </a: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184200" y="1523880"/>
                  <a:ext cx="2187360" cy="685800"/>
                </a:xfrm>
                <a:prstGeom prst="rect">
                  <a:avLst/>
                </a:prstGeom>
                <a:noFill/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5371920" y="1523880"/>
              <a:ext cx="2211120" cy="685800"/>
              <a:chOff x="5371920" y="1523880"/>
              <a:chExt cx="2211120" cy="685800"/>
            </a:xfrm>
          </p:grpSpPr>
          <p:sp>
            <p:nvSpPr>
              <p:cNvPr id="277" name=""/>
              <p:cNvSpPr/>
              <p:nvPr/>
            </p:nvSpPr>
            <p:spPr>
              <a:xfrm>
                <a:off x="5371920" y="1523880"/>
                <a:ext cx="221112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5371920" y="1523880"/>
                <a:ext cx="2211120" cy="685800"/>
                <a:chOff x="5371920" y="1523880"/>
                <a:chExt cx="2211120" cy="6858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5396760" y="1523880"/>
                  <a:ext cx="2160360" cy="685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3 -ий уровень</a:t>
                  </a: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371920" y="1523880"/>
                  <a:ext cx="2211120" cy="685800"/>
                </a:xfrm>
                <a:prstGeom prst="rect">
                  <a:avLst/>
                </a:prstGeom>
                <a:noFill/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1" name=""/>
            <p:cNvGrpSpPr/>
            <p:nvPr/>
          </p:nvGrpSpPr>
          <p:grpSpPr>
            <a:xfrm>
              <a:off x="990720" y="4832280"/>
              <a:ext cx="2193480" cy="1479600"/>
              <a:chOff x="990720" y="4832280"/>
              <a:chExt cx="2193480" cy="1479600"/>
            </a:xfrm>
          </p:grpSpPr>
          <p:sp>
            <p:nvSpPr>
              <p:cNvPr id="282" name=""/>
              <p:cNvSpPr/>
              <p:nvPr/>
            </p:nvSpPr>
            <p:spPr>
              <a:xfrm>
                <a:off x="990720" y="4832280"/>
                <a:ext cx="2193480" cy="1479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990720" y="4832280"/>
                <a:ext cx="2193480" cy="1479600"/>
                <a:chOff x="990720" y="4832280"/>
                <a:chExt cx="2193480" cy="14796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1015920" y="4832280"/>
                  <a:ext cx="2142720" cy="1479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990720" y="4832280"/>
                  <a:ext cx="2193480" cy="1479600"/>
                </a:xfrm>
                <a:prstGeom prst="rect">
                  <a:avLst/>
                </a:prstGeom>
                <a:noFill/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6" name=""/>
            <p:cNvGrpSpPr/>
            <p:nvPr/>
          </p:nvGrpSpPr>
          <p:grpSpPr>
            <a:xfrm>
              <a:off x="3184200" y="4832280"/>
              <a:ext cx="2187360" cy="1479600"/>
              <a:chOff x="3184200" y="4832280"/>
              <a:chExt cx="2187360" cy="1479600"/>
            </a:xfrm>
          </p:grpSpPr>
          <p:sp>
            <p:nvSpPr>
              <p:cNvPr id="287" name=""/>
              <p:cNvSpPr/>
              <p:nvPr/>
            </p:nvSpPr>
            <p:spPr>
              <a:xfrm>
                <a:off x="3184200" y="4832280"/>
                <a:ext cx="2187360" cy="1479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3184200" y="4832280"/>
                <a:ext cx="2187360" cy="1479600"/>
                <a:chOff x="3184200" y="4832280"/>
                <a:chExt cx="2187360" cy="14796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209400" y="4832280"/>
                  <a:ext cx="2136240" cy="1479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прямоугольника.</a:t>
                  </a: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184200" y="4832280"/>
                  <a:ext cx="2187360" cy="1479600"/>
                </a:xfrm>
                <a:prstGeom prst="rect">
                  <a:avLst/>
                </a:prstGeom>
                <a:noFill/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1" name=""/>
            <p:cNvGrpSpPr/>
            <p:nvPr/>
          </p:nvGrpSpPr>
          <p:grpSpPr>
            <a:xfrm>
              <a:off x="5371920" y="4832280"/>
              <a:ext cx="2211120" cy="1479600"/>
              <a:chOff x="5371920" y="4832280"/>
              <a:chExt cx="2211120" cy="1479600"/>
            </a:xfrm>
          </p:grpSpPr>
          <p:sp>
            <p:nvSpPr>
              <p:cNvPr id="292" name=""/>
              <p:cNvSpPr/>
              <p:nvPr/>
            </p:nvSpPr>
            <p:spPr>
              <a:xfrm>
                <a:off x="5371920" y="4832280"/>
                <a:ext cx="2211120" cy="1479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5371920" y="4832280"/>
                <a:ext cx="2211120" cy="1479600"/>
                <a:chOff x="5371920" y="4832280"/>
                <a:chExt cx="2211120" cy="14796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396760" y="4832280"/>
                  <a:ext cx="2160360" cy="1479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прямоугольника. Предложить работать, используя готовые формулы.</a:t>
                  </a: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Р = (а</a:t>
                  </a:r>
                  <a:r>
                    <a:rPr b="0" lang="ru-RU" sz="1500" spc="-1" strike="noStrike">
                      <a:solidFill>
                        <a:srgbClr val="545472"/>
                      </a:solidFill>
                      <a:latin typeface="Times New Roman"/>
                    </a:rPr>
                    <a:t>+</a:t>
                  </a:r>
                  <a:r>
                    <a:rPr b="0" lang="en-US" sz="15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в)*2</a:t>
                  </a: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371920" y="4832280"/>
                  <a:ext cx="2211120" cy="1479600"/>
                </a:xfrm>
                <a:prstGeom prst="rect">
                  <a:avLst/>
                </a:prstGeom>
                <a:noFill/>
                <a:ln w="0">
                  <a:solidFill>
                    <a:srgbClr val="000066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838080" y="1371600"/>
            <a:ext cx="91440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057400"/>
                <a:tab algn="l" pos="4700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пиши числа, которые содержат:</a:t>
            </a:r>
            <a:endParaRPr b="0" lang="en-US" sz="25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2057400"/>
                <a:tab algn="l" pos="4700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2057400"/>
                <a:tab algn="l" pos="4700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тыс. 2 ед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2 тыс. 20 ед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тыс. 80 ед.</a:t>
            </a:r>
            <a:endParaRPr b="0" lang="en-US" sz="2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2057400"/>
                <a:tab algn="l" pos="4700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2057400"/>
                <a:tab algn="l" pos="4700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838080" y="2819520"/>
            <a:ext cx="6599160" cy="1936800"/>
            <a:chOff x="838080" y="2819520"/>
            <a:chExt cx="6599160" cy="1936800"/>
          </a:xfrm>
        </p:grpSpPr>
        <p:grpSp>
          <p:nvGrpSpPr>
            <p:cNvPr id="298" name=""/>
            <p:cNvGrpSpPr/>
            <p:nvPr/>
          </p:nvGrpSpPr>
          <p:grpSpPr>
            <a:xfrm>
              <a:off x="838080" y="2819520"/>
              <a:ext cx="2197080" cy="685800"/>
              <a:chOff x="838080" y="2819520"/>
              <a:chExt cx="2197080" cy="685800"/>
            </a:xfrm>
          </p:grpSpPr>
          <p:sp>
            <p:nvSpPr>
              <p:cNvPr id="299" name=""/>
              <p:cNvSpPr/>
              <p:nvPr/>
            </p:nvSpPr>
            <p:spPr>
              <a:xfrm>
                <a:off x="838080" y="2819520"/>
                <a:ext cx="219708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838080" y="2819520"/>
                <a:ext cx="2197080" cy="685800"/>
                <a:chOff x="838080" y="2819520"/>
                <a:chExt cx="2197080" cy="6858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863640" y="2819520"/>
                  <a:ext cx="2146320" cy="68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9900"/>
                      </a:solidFill>
                      <a:latin typeface="Times New Roman"/>
                      <a:ea typeface="Times New Roman"/>
                    </a:rPr>
                    <a:t>1-ый уровень</a:t>
                  </a: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38080" y="2819520"/>
                  <a:ext cx="2197080" cy="68580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3" name=""/>
            <p:cNvGrpSpPr/>
            <p:nvPr/>
          </p:nvGrpSpPr>
          <p:grpSpPr>
            <a:xfrm>
              <a:off x="3035160" y="2819520"/>
              <a:ext cx="2190600" cy="685800"/>
              <a:chOff x="3035160" y="2819520"/>
              <a:chExt cx="2190600" cy="685800"/>
            </a:xfrm>
          </p:grpSpPr>
          <p:sp>
            <p:nvSpPr>
              <p:cNvPr id="304" name=""/>
              <p:cNvSpPr/>
              <p:nvPr/>
            </p:nvSpPr>
            <p:spPr>
              <a:xfrm>
                <a:off x="3035160" y="2819520"/>
                <a:ext cx="219060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3035160" y="2819520"/>
                <a:ext cx="2190600" cy="685800"/>
                <a:chOff x="3035160" y="2819520"/>
                <a:chExt cx="2190600" cy="6858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3060720" y="2819520"/>
                  <a:ext cx="2139840" cy="68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6600"/>
                      </a:solidFill>
                      <a:latin typeface="Times New Roman"/>
                      <a:ea typeface="Times New Roman"/>
                    </a:rPr>
                    <a:t>2-ой уровень</a:t>
                  </a: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035160" y="2819520"/>
                  <a:ext cx="2190600" cy="68580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8" name=""/>
            <p:cNvGrpSpPr/>
            <p:nvPr/>
          </p:nvGrpSpPr>
          <p:grpSpPr>
            <a:xfrm>
              <a:off x="5225760" y="2819520"/>
              <a:ext cx="2211480" cy="685800"/>
              <a:chOff x="5225760" y="2819520"/>
              <a:chExt cx="2211480" cy="685800"/>
            </a:xfrm>
          </p:grpSpPr>
          <p:sp>
            <p:nvSpPr>
              <p:cNvPr id="309" name=""/>
              <p:cNvSpPr/>
              <p:nvPr/>
            </p:nvSpPr>
            <p:spPr>
              <a:xfrm>
                <a:off x="5225760" y="2819520"/>
                <a:ext cx="221148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5225760" y="2819520"/>
                <a:ext cx="2211480" cy="685800"/>
                <a:chOff x="5225760" y="2819520"/>
                <a:chExt cx="2211480" cy="68580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251320" y="2819520"/>
                  <a:ext cx="2160720" cy="68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3 -ий уровень</a:t>
                  </a: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225760" y="2819520"/>
                  <a:ext cx="2211480" cy="68580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3" name=""/>
            <p:cNvGrpSpPr/>
            <p:nvPr/>
          </p:nvGrpSpPr>
          <p:grpSpPr>
            <a:xfrm>
              <a:off x="838080" y="3505320"/>
              <a:ext cx="2197080" cy="1251000"/>
              <a:chOff x="838080" y="3505320"/>
              <a:chExt cx="2197080" cy="1251000"/>
            </a:xfrm>
          </p:grpSpPr>
          <p:sp>
            <p:nvSpPr>
              <p:cNvPr id="314" name=""/>
              <p:cNvSpPr/>
              <p:nvPr/>
            </p:nvSpPr>
            <p:spPr>
              <a:xfrm>
                <a:off x="838080" y="3505320"/>
                <a:ext cx="2197080" cy="1251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838080" y="3505320"/>
                <a:ext cx="2197080" cy="1251000"/>
                <a:chOff x="838080" y="3505320"/>
                <a:chExt cx="2197080" cy="12510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863640" y="3505320"/>
                  <a:ext cx="2146320" cy="1251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Учащиеся работают самостоятельно.</a:t>
                  </a: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838080" y="3505320"/>
                  <a:ext cx="2197080" cy="125100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8" name=""/>
            <p:cNvGrpSpPr/>
            <p:nvPr/>
          </p:nvGrpSpPr>
          <p:grpSpPr>
            <a:xfrm>
              <a:off x="3035160" y="3505320"/>
              <a:ext cx="2190600" cy="1251000"/>
              <a:chOff x="3035160" y="3505320"/>
              <a:chExt cx="2190600" cy="1251000"/>
            </a:xfrm>
          </p:grpSpPr>
          <p:sp>
            <p:nvSpPr>
              <p:cNvPr id="319" name=""/>
              <p:cNvSpPr/>
              <p:nvPr/>
            </p:nvSpPr>
            <p:spPr>
              <a:xfrm>
                <a:off x="3035160" y="3505320"/>
                <a:ext cx="2190600" cy="1251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3035160" y="3505320"/>
                <a:ext cx="2190600" cy="1251000"/>
                <a:chOff x="3035160" y="3505320"/>
                <a:chExt cx="2190600" cy="125100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3060720" y="3505320"/>
                  <a:ext cx="2139840" cy="1251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Сократить количество примеров до двух.</a:t>
                  </a: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035160" y="3505320"/>
                  <a:ext cx="2190600" cy="125100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3" name=""/>
            <p:cNvGrpSpPr/>
            <p:nvPr/>
          </p:nvGrpSpPr>
          <p:grpSpPr>
            <a:xfrm>
              <a:off x="5225760" y="3505320"/>
              <a:ext cx="2211480" cy="1251000"/>
              <a:chOff x="5225760" y="3505320"/>
              <a:chExt cx="2211480" cy="1251000"/>
            </a:xfrm>
          </p:grpSpPr>
          <p:sp>
            <p:nvSpPr>
              <p:cNvPr id="324" name=""/>
              <p:cNvSpPr/>
              <p:nvPr/>
            </p:nvSpPr>
            <p:spPr>
              <a:xfrm>
                <a:off x="5225760" y="3505320"/>
                <a:ext cx="2211480" cy="1251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5225760" y="3505320"/>
                <a:ext cx="2211480" cy="1251000"/>
                <a:chOff x="5225760" y="3505320"/>
                <a:chExt cx="2211480" cy="125100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251320" y="3505320"/>
                  <a:ext cx="2160720" cy="1251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545472"/>
                      </a:solidFill>
                      <a:latin typeface="Times New Roman"/>
                      <a:ea typeface="Times New Roman"/>
                    </a:rPr>
                    <a:t>Сократить количество примеров до двух. Дать таблицу разрядов и классов.</a:t>
                  </a: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225760" y="3505320"/>
                  <a:ext cx="2211480" cy="1251000"/>
                </a:xfrm>
                <a:prstGeom prst="rect">
                  <a:avLst/>
                </a:prstGeom>
                <a:noFill/>
                <a:ln w="0">
                  <a:solidFill>
                    <a:srgbClr val="9900c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0:22:45Z</dcterms:created>
  <dc:creator>Пользователь</dc:creator>
  <dc:description/>
  <dc:language>en-US</dc:language>
  <cp:lastModifiedBy>Пользователь</cp:lastModifiedBy>
  <dcterms:modified xsi:type="dcterms:W3CDTF">2008-09-17T03:01:33Z</dcterms:modified>
  <cp:revision>18</cp:revision>
  <dc:subject/>
  <dc:title>Дифференцированный подход в обучении младших школьников, страдающих ДЦП</dc:title>
</cp:coreProperties>
</file>